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5.wmf" ContentType="image/x-wmf"/>
  <Override PartName="/ppt/media/image6.jpeg" ContentType="image/jpe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3E318D-B74F-4F2C-8A20-6DBA5ADA2D7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D82229-65EE-4059-977F-4FDF0C59BFA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DAC9D3-54D0-4F30-BD35-A8D954029EA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D0BC9F-90CD-41A6-8645-90E1A12037F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400BFF-0510-41B7-B9F5-E887C948436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42A6CA-1DF9-4AD9-8340-A95DA0B49A0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BA6752-377A-4780-A5ED-1FD4A85685D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E4040C-5397-448D-B85F-20A5F3EE91E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83393A-108C-4C28-AD3E-3B716887B28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9C96F7-F054-4510-885F-BD0F4E8AB6A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BE71FB-CBE7-47DA-BB81-08467F799D5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40A220-59B2-4B99-B410-2796872420D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F4C51D-039A-4915-98C3-6D58055D10D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673E04-61DB-4D19-A4C3-78D8BAE30F6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52C70D-B6A5-4B0D-A381-46AC0FA5DC8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872E66-9C7B-4F0E-AA16-4A14868106C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FDCFD1-6A91-4D9A-A5F4-B49A248D4A9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A443C1-1C17-47BB-8EDE-C437013BEC7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4AB263-6BBB-4710-85BE-E5D2BD1258F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A6B021-8F21-4534-8B28-29136FA8699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10A287-DB7C-4A2A-96CB-A7C952BADD4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D3992B-5DB2-4420-97AA-C8B8E4192B2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C3BBD3-8231-4692-90DF-1ABDA40A91D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C049EB-73F5-4C36-AD9D-9837D59F7D7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75AE2E-94B1-4A5D-A23A-A9A328415A8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4FF72F-287D-4E42-B88D-E27815E3C1A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2BA867-8FC6-47AA-804B-5D0AB7E19EF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E99364-544E-48E9-B799-14CD6B13CA9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D83F62-60FE-480F-BB18-795179064C5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8281B0-B3EC-491E-B344-BC274969941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7CF270-0ACA-482A-88D6-4BDF35A4CE7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80893F-5EFB-426A-9E70-85D899D7E15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A12818-9B67-4C6F-83B9-0D0AF7FF098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36CC1F-51C8-4A50-B3E6-FF746AEA618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CBFF7A-8759-4C50-8BB1-97A3F66707A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A51917-86D1-423A-80BB-25BE917728B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CB9-7F94-4AB0-A4C9-C0463F78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559-EA8A-40EA-9E2B-03B000B5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6E0-52B6-4C8F-A0D5-C9B7CD98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EA0-2451-4F34-B81C-8D8C5278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E96-C029-4496-A369-08A14678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CCAB-6470-4D87-B4D9-E381F7C5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097-EFC1-4962-8942-9F311085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F9D-9D84-4B16-80D5-619CECE9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C98E-79C7-4D45-9DBC-05FE23EE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0EC-5B91-4467-A5B5-3253193E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F98-E2F9-497C-8B5B-4F7EEE40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1FB-C104-448B-9F5A-6C17E293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A891-7ABA-4280-96CD-1CFAC2E58C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cfm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29718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71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cfm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5977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 41C HIDR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400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00"/>
                </a:solidFill>
                <a:latin typeface="Tahoma"/>
              </a:rPr>
              <a:t>CAPÍ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26920" y="4869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8"/>
          <p:cNvSpPr/>
          <p:nvPr/>
        </p:nvSpPr>
        <p:spPr>
          <a:xfrm>
            <a:off x="4067280" y="5950080"/>
            <a:ext cx="3529080" cy="90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56564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cap="sq"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7"/>
          <p:cNvSpPr/>
          <p:nvPr/>
        </p:nvSpPr>
        <p:spPr>
          <a:xfrm>
            <a:off x="609480" y="4556160"/>
            <a:ext cx="2968920" cy="20732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7025040" y="49528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cap="sq"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95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5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AutoShape 12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AutoShape 15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33" name="Group 5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134" name="Freeform 6"/>
              <p:cNvSpPr/>
              <p:nvPr/>
            </p:nvSpPr>
            <p:spPr>
              <a:xfrm>
                <a:off x="682560" y="3798720"/>
                <a:ext cx="1582920" cy="951120"/>
              </a:xfrm>
              <a:prstGeom prst="pie">
                <a:avLst/>
              </a:prstGeom>
              <a:noFill/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>
                <a:off x="2362320" y="4724280"/>
                <a:ext cx="1582560" cy="951120"/>
              </a:xfrm>
              <a:prstGeom prst="pie">
                <a:avLst/>
              </a:prstGeom>
              <a:noFill/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8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9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0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Freeform 11"/>
            <p:cNvSpPr/>
            <p:nvPr/>
          </p:nvSpPr>
          <p:spPr>
            <a:xfrm>
              <a:off x="914400" y="4114800"/>
              <a:ext cx="2743200" cy="1143000"/>
            </a:xfrm>
            <a:prstGeom prst="pie">
              <a:avLst/>
            </a:prstGeom>
            <a:solidFill>
              <a:srgbClr val="ccecff">
                <a:alpha val="50000"/>
              </a:srgbClr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12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0" name="Text Box 9"/>
          <p:cNvSpPr/>
          <p:nvPr/>
        </p:nvSpPr>
        <p:spPr>
          <a:xfrm>
            <a:off x="936720" y="5804280"/>
            <a:ext cx="7520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3"/>
          <p:cNvSpPr/>
          <p:nvPr/>
        </p:nvSpPr>
        <p:spPr>
          <a:xfrm>
            <a:off x="684360" y="4653000"/>
            <a:ext cx="828036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"/>
          <p:cNvSpPr/>
          <p:nvPr/>
        </p:nvSpPr>
        <p:spPr>
          <a:xfrm>
            <a:off x="1447920" y="787320"/>
            <a:ext cx="6794280" cy="2095560"/>
          </a:xfrm>
          <a:prstGeom prst="pie">
            <a:avLst/>
          </a:prstGeom>
          <a:noFill/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1676520" y="1459080"/>
            <a:ext cx="6984720" cy="1423800"/>
          </a:xfrm>
          <a:prstGeom prst="pie">
            <a:avLst/>
          </a:pr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4"/>
          <p:cNvSpPr/>
          <p:nvPr/>
        </p:nvSpPr>
        <p:spPr>
          <a:xfrm>
            <a:off x="1752480" y="762120"/>
            <a:ext cx="3429000" cy="2120760"/>
          </a:xfrm>
          <a:prstGeom prst="pie">
            <a:avLst/>
          </a:prstGeom>
          <a:solidFill>
            <a:srgbClr val="ccec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5168880" y="1504800"/>
            <a:ext cx="3517920" cy="1162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4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165" name="Line 15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168" name="Line 18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9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Line 20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21"/>
          <p:cNvSpPr/>
          <p:nvPr/>
        </p:nvSpPr>
        <p:spPr>
          <a:xfrm>
            <a:off x="1676520" y="3187800"/>
            <a:ext cx="7086600" cy="186696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2"/>
          <p:cNvSpPr/>
          <p:nvPr/>
        </p:nvSpPr>
        <p:spPr>
          <a:xfrm>
            <a:off x="1676520" y="5207040"/>
            <a:ext cx="7010280" cy="13460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536400" y="317016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4"/>
          <p:cNvSpPr/>
          <p:nvPr/>
        </p:nvSpPr>
        <p:spPr>
          <a:xfrm>
            <a:off x="1752480" y="3649680"/>
            <a:ext cx="1711440" cy="846000"/>
          </a:xfrm>
          <a:prstGeom prst="pie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Line 26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1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2"/>
          <p:cNvSpPr/>
          <p:nvPr/>
        </p:nvSpPr>
        <p:spPr>
          <a:xfrm>
            <a:off x="1676520" y="3809880"/>
            <a:ext cx="1600200" cy="609840"/>
          </a:xfrm>
          <a:prstGeom prst="pie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4724280" y="3505320"/>
            <a:ext cx="1600200" cy="30456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5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3510720" y="6171120"/>
            <a:ext cx="412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7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8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2936880" y="2246760"/>
            <a:ext cx="3821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000"/>
                            </p:stCondLst>
                            <p:childTnLst>
                              <p:par>
                                <p:cTn id="6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000"/>
                            </p:stCondLst>
                            <p:childTnLst>
                              <p:par>
                                <p:cTn id="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500"/>
                            </p:stCondLst>
                            <p:childTnLst>
                              <p:par>
                                <p:cTn id="70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7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500"/>
                            </p:stCondLst>
                            <p:childTnLst>
                              <p:par>
                                <p:cTn id="7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6000"/>
                            </p:stCondLst>
                            <p:childTnLst>
                              <p:par>
                                <p:cTn id="7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62792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110600" y="3034080"/>
            <a:ext cx="707220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" name="Text Box 6"/>
          <p:cNvSpPr/>
          <p:nvPr/>
        </p:nvSpPr>
        <p:spPr>
          <a:xfrm>
            <a:off x="3124080" y="5227560"/>
            <a:ext cx="3124440" cy="579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4" name="Line 5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8"/>
          <p:cNvSpPr/>
          <p:nvPr/>
        </p:nvSpPr>
        <p:spPr>
          <a:xfrm>
            <a:off x="1371600" y="4635360"/>
            <a:ext cx="3594240" cy="1765440"/>
          </a:xfrm>
          <a:prstGeom prst="pie">
            <a:avLst/>
          </a:prstGeom>
          <a:noFill/>
          <a:ln cap="sq"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000"/>
                            </p:stCondLst>
                            <p:childTnLst>
                              <p:par>
                                <p:cTn id="8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00"/>
                            </p:stCondLst>
                            <p:childTnLst>
                              <p:par>
                                <p:cTn id="8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500"/>
                            </p:stCondLst>
                            <p:childTnLst>
                              <p:par>
                                <p:cTn id="84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80880" y="1557360"/>
            <a:ext cx="8763120" cy="5300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74320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4"/>
          <p:cNvGrpSpPr/>
          <p:nvPr/>
        </p:nvGrpSpPr>
        <p:grpSpPr>
          <a:xfrm>
            <a:off x="2682360" y="3796200"/>
            <a:ext cx="5224320" cy="2266560"/>
            <a:chOff x="2682360" y="3796200"/>
            <a:chExt cx="5224320" cy="2266560"/>
          </a:xfrm>
        </p:grpSpPr>
        <p:sp>
          <p:nvSpPr>
            <p:cNvPr id="225" name="Rectangle 5"/>
            <p:cNvSpPr/>
            <p:nvPr/>
          </p:nvSpPr>
          <p:spPr>
            <a:xfrm rot="20677800">
              <a:off x="2627280" y="4932360"/>
              <a:ext cx="5334120" cy="304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 rot="1384800">
              <a:off x="6513480" y="3789360"/>
              <a:ext cx="15264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 rot="409800">
              <a:off x="3008160" y="5694120"/>
              <a:ext cx="2361960" cy="228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2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8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9" descr="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9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500"/>
                            </p:stCondLst>
                            <p:childTnLst>
                              <p:par>
                                <p:cTn id="9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244" name="Rectangle 4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6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AutoShape 7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0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2500"/>
                            </p:stCondLst>
                            <p:childTnLst>
                              <p:par>
                                <p:cTn id="9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500"/>
                            </p:stCondLst>
                            <p:childTnLst>
                              <p:par>
                                <p:cTn id="98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255" name="Rectangle 3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4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5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AutoShape 6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1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3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8" name="Picture 12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0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Text Box 5"/>
          <p:cNvSpPr/>
          <p:nvPr/>
        </p:nvSpPr>
        <p:spPr>
          <a:xfrm>
            <a:off x="1791360" y="55897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116400" y="57150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≥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0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5"/>
          <p:cNvSpPr/>
          <p:nvPr/>
        </p:nvSpPr>
        <p:spPr>
          <a:xfrm>
            <a:off x="1143000" y="4267080"/>
            <a:ext cx="1371600" cy="17528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Text Box 7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2612880" y="4419720"/>
            <a:ext cx="1349640" cy="1616040"/>
          </a:xfrm>
          <a:prstGeom prst="pie">
            <a:avLst/>
          </a:pr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/K   velocidad de la on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 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/(2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ubdividir el tramo en n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K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28600" y="434340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 puede aplicarse a lechos de gran pendiente pues no se consideran efectos de energía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K,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características del tram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iempo de viaje de la onda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K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=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0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TROS 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K=L/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≈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½ v/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/v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,67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,44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,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uc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tangular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abólic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ria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nch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n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62120" y="5181480"/>
                <a:ext cx="205740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3" name="Text Box 4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 = tiempo entre C.G. de los hidrogramas de entrada y salida del tramo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empo entre Q máx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6" name="Line 4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Text Box 7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8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0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bbe0e3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4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5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6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7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8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9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0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1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2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3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4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1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500"/>
                            </p:stCondLst>
                            <p:childTnLst>
                              <p:par>
                                <p:cTn id="13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2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30" name="Group 5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31" name="AutoShape 6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2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3" name="AutoShape 8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AutoShape 10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337" name="AutoShape 12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3"/>
          <p:cNvSpPr/>
          <p:nvPr/>
        </p:nvSpPr>
        <p:spPr>
          <a:xfrm rot="4537200">
            <a:off x="2933280" y="3695400"/>
            <a:ext cx="1143000" cy="152388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4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340" name="AutoShape 15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6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0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00"/>
                            </p:stCondLst>
                            <p:childTnLst>
                              <p:par>
                                <p:cTn id="14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907920"/>
            <a:ext cx="9144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ermite reproducir el hidrograma de una crecida en diversos puntos de un río en base  a predicción  de variación del movimiento y cambio de forma de la onda de crecida a medida que ésta se propaga hacia aguas  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05960" y="31417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2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3207960" y="61992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AutoShape 7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9999"/>
              </a:gs>
              <a:gs pos="50000">
                <a:srgbClr val="004747"/>
              </a:gs>
              <a:gs pos="100000">
                <a:srgbClr val="009999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"/>
          <p:cNvSpPr/>
          <p:nvPr/>
        </p:nvSpPr>
        <p:spPr>
          <a:xfrm>
            <a:off x="2057400" y="4419720"/>
            <a:ext cx="1371600" cy="1066680"/>
          </a:xfrm>
          <a:prstGeom prst="pie">
            <a:avLst/>
          </a:pr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1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2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3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5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6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7"/>
          <p:cNvSpPr/>
          <p:nvPr/>
        </p:nvSpPr>
        <p:spPr>
          <a:xfrm>
            <a:off x="2286000" y="5410080"/>
            <a:ext cx="533520" cy="10188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8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2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3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26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9"/>
          <p:cNvSpPr/>
          <p:nvPr/>
        </p:nvSpPr>
        <p:spPr>
          <a:xfrm>
            <a:off x="3429000" y="3809880"/>
            <a:ext cx="380880" cy="609840"/>
          </a:xfrm>
          <a:prstGeom prst="pie">
            <a:avLst/>
          </a:pr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0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1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32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33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4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35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5296320" y="6338160"/>
            <a:ext cx="308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8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9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0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41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2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3" descr="0722A00803_3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0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500"/>
                            </p:stCondLst>
                            <p:childTnLst>
                              <p:par>
                                <p:cTn id="149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500"/>
                            </p:stCondLst>
                            <p:childTnLst>
                              <p:par>
                                <p:cTn id="15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00"/>
                            </p:stCondLst>
                            <p:childTnLst>
                              <p:par>
                                <p:cTn id="16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500"/>
                            </p:stCondLst>
                            <p:childTnLst>
                              <p:par>
                                <p:cTn id="17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500"/>
                            </p:stCondLst>
                            <p:childTnLst>
                              <p:par>
                                <p:cTn id="17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reeform 2"/>
          <p:cNvSpPr/>
          <p:nvPr/>
        </p:nvSpPr>
        <p:spPr>
          <a:xfrm>
            <a:off x="914400" y="2971800"/>
            <a:ext cx="5715000" cy="2286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4"/>
          <p:cNvSpPr/>
          <p:nvPr/>
        </p:nvSpPr>
        <p:spPr>
          <a:xfrm>
            <a:off x="6095880" y="3124080"/>
            <a:ext cx="1752840" cy="2438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12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395" name="Line 13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5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8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9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20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21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2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3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4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5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6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7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8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Freeform 29"/>
          <p:cNvSpPr/>
          <p:nvPr/>
        </p:nvSpPr>
        <p:spPr>
          <a:xfrm>
            <a:off x="1231920" y="3097080"/>
            <a:ext cx="5149800" cy="246564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0"/>
          <p:cNvSpPr/>
          <p:nvPr/>
        </p:nvSpPr>
        <p:spPr>
          <a:xfrm>
            <a:off x="152280" y="2590920"/>
            <a:ext cx="7010640" cy="83808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1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2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5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5"/>
          <p:cNvSpPr/>
          <p:nvPr/>
        </p:nvSpPr>
        <p:spPr>
          <a:xfrm>
            <a:off x="2362320" y="1968480"/>
            <a:ext cx="5105160" cy="20700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6"/>
          <p:cNvSpPr/>
          <p:nvPr/>
        </p:nvSpPr>
        <p:spPr>
          <a:xfrm>
            <a:off x="2895480" y="2774880"/>
            <a:ext cx="5334120" cy="118764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7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21" name="Line 8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9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23" name="Line 10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11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12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13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4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WordArt 15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9" name="WordArt 16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0" name="AutoShape 17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fill="hold">
                      <p:stCondLst>
                        <p:cond delay="0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500"/>
                            </p:stCondLst>
                            <p:childTnLst>
                              <p:par>
                                <p:cTn id="1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684360" y="83664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4" name="AutoShape 5"/>
          <p:cNvSpPr/>
          <p:nvPr/>
        </p:nvSpPr>
        <p:spPr>
          <a:xfrm rot="8759400">
            <a:off x="5638680" y="2895120"/>
            <a:ext cx="1447920" cy="6098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9" dur="indefinite" restart="never" nodeType="tmRoot">
          <p:childTnLst>
            <p:seq>
              <p:cTn id="1870" dur="indefinite" nodeType="mainSeq">
                <p:childTnLst>
                  <p:par>
                    <p:cTn id="1871" fill="hold">
                      <p:stCondLst>
                        <p:cond delay="0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7" name="Line 4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5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6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7"/>
          <p:cNvSpPr/>
          <p:nvPr/>
        </p:nvSpPr>
        <p:spPr>
          <a:xfrm>
            <a:off x="990720" y="1066680"/>
            <a:ext cx="3809880" cy="32767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8"/>
          <p:cNvSpPr/>
          <p:nvPr/>
        </p:nvSpPr>
        <p:spPr>
          <a:xfrm>
            <a:off x="1066680" y="990720"/>
            <a:ext cx="5181840" cy="3352680"/>
          </a:xfrm>
          <a:prstGeom prst="pie">
            <a:avLst/>
          </a:pr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9"/>
          <p:cNvSpPr/>
          <p:nvPr/>
        </p:nvSpPr>
        <p:spPr>
          <a:xfrm>
            <a:off x="1066680" y="685800"/>
            <a:ext cx="6946920" cy="36576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685800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009999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333399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3333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333399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3333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6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7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9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0099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1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333399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2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3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4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5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3333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fill="hold">
                      <p:stCondLst>
                        <p:cond delay="0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500"/>
                            </p:stCondLst>
                            <p:childTnLst>
                              <p:par>
                                <p:cTn id="18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500"/>
                            </p:stCondLst>
                            <p:childTnLst>
                              <p:par>
                                <p:cTn id="19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500"/>
                            </p:stCondLst>
                            <p:childTnLst>
                              <p:par>
                                <p:cTn id="19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"/>
                            </p:stCondLst>
                            <p:childTnLst>
                              <p:par>
                                <p:cTn id="19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500"/>
                            </p:stCondLst>
                            <p:childTnLst>
                              <p:par>
                                <p:cTn id="198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"/>
          <p:cNvSpPr/>
          <p:nvPr/>
        </p:nvSpPr>
        <p:spPr>
          <a:xfrm>
            <a:off x="914400" y="2514600"/>
            <a:ext cx="1752480" cy="2438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4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462" name="Freeform 5"/>
            <p:cNvSpPr/>
            <p:nvPr/>
          </p:nvSpPr>
          <p:spPr>
            <a:xfrm>
              <a:off x="914400" y="1905120"/>
              <a:ext cx="266760" cy="533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6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464" name="Line 7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8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9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0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11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Freeform 12"/>
          <p:cNvSpPr/>
          <p:nvPr/>
        </p:nvSpPr>
        <p:spPr>
          <a:xfrm>
            <a:off x="5715000" y="2438280"/>
            <a:ext cx="1752480" cy="2438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4"/>
          <p:cNvSpPr/>
          <p:nvPr/>
        </p:nvSpPr>
        <p:spPr>
          <a:xfrm>
            <a:off x="4724280" y="2209680"/>
            <a:ext cx="2438640" cy="533520"/>
          </a:xfrm>
          <a:prstGeom prst="pie">
            <a:avLst/>
          </a:pr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5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6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8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9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0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1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0" name="Line 23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4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6" dur="indefinite" restart="never" nodeType="tmRoot">
          <p:childTnLst>
            <p:seq>
              <p:cTn id="2007" dur="indefinite" nodeType="mainSeq">
                <p:childTnLst>
                  <p:par>
                    <p:cTn id="2008" fill="hold">
                      <p:stCondLst>
                        <p:cond delay="0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500"/>
                            </p:stCondLst>
                            <p:childTnLst>
                              <p:par>
                                <p:cTn id="20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500"/>
                            </p:stCondLst>
                            <p:childTnLst>
                              <p:par>
                                <p:cTn id="20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Imagen 1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483" name="Imagen 2" descr=""/>
          <p:cNvPicPr/>
          <p:nvPr/>
        </p:nvPicPr>
        <p:blipFill>
          <a:blip r:embed="rId2"/>
          <a:stretch/>
        </p:blipFill>
        <p:spPr>
          <a:xfrm>
            <a:off x="4952880" y="1619280"/>
            <a:ext cx="3942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ff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184120" y="6172200"/>
            <a:ext cx="4344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reci1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70" name="Picture 3" descr="crec2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reci1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72" name="Picture 3" descr="crec3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7956720" y="0"/>
            <a:ext cx="11872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reci1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75" name="Picture 3" descr="crec4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AutoShape 5"/>
          <p:cNvSpPr/>
          <p:nvPr/>
        </p:nvSpPr>
        <p:spPr>
          <a:xfrm>
            <a:off x="1523880" y="5105520"/>
            <a:ext cx="1067040" cy="533160"/>
          </a:xfrm>
          <a:prstGeom prst="pie">
            <a:avLst/>
          </a:prstGeom>
          <a:solidFill>
            <a:srgbClr val="bbe0e3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4680" y="4979160"/>
            <a:ext cx="1570680" cy="1015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AutoShape 8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1564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87" name="Freeform 6"/>
            <p:cNvSpPr/>
            <p:nvPr/>
          </p:nvSpPr>
          <p:spPr>
            <a:xfrm>
              <a:off x="1295280" y="3467160"/>
              <a:ext cx="6794640" cy="2095560"/>
            </a:xfrm>
            <a:prstGeom prst="pie">
              <a:avLst/>
            </a:pr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7"/>
            <p:cNvSpPr/>
            <p:nvPr/>
          </p:nvSpPr>
          <p:spPr>
            <a:xfrm>
              <a:off x="1523880" y="4138560"/>
              <a:ext cx="6985080" cy="1424160"/>
            </a:xfrm>
            <a:prstGeom prst="pie">
              <a:avLst/>
            </a:pr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8"/>
            <p:cNvSpPr/>
            <p:nvPr/>
          </p:nvSpPr>
          <p:spPr>
            <a:xfrm>
              <a:off x="1600200" y="3441600"/>
              <a:ext cx="3429000" cy="2121120"/>
            </a:xfrm>
            <a:prstGeom prst="pie">
              <a:avLst/>
            </a:prstGeom>
            <a:solidFill>
              <a:srgbClr val="ccec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0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15:35Z</dcterms:created>
  <dc:creator>X. Vargas</dc:creator>
  <dc:description/>
  <dc:language>en-US</dc:language>
  <cp:lastModifiedBy>James McPhee</cp:lastModifiedBy>
  <dcterms:modified xsi:type="dcterms:W3CDTF">2009-11-09T15:14:51Z</dcterms:modified>
  <cp:revision>38</cp:revision>
  <dc:subject/>
  <dc:title>titulo</dc:title>
</cp:coreProperties>
</file>