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07D3FA-4E0A-4BA7-AFFF-0F1FF938673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1E49BC-D1A7-4490-B96B-990D777CD49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1B662B-A53E-40E5-A825-E698781A571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F1D82C-22D2-4D40-A631-99EFF8564D5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C34DDF-CBF5-4EB6-B3CE-4A79E1279E8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927931-0C06-4F02-AE44-1BE05F26279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68A7CF-639A-4A75-93B1-5BB5CF0AE3B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70E6B1-00E7-45D7-A55C-65BEE0DC611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C6757E-04D1-40F7-9F80-DA9380F4D8C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B41B11-B793-4664-B306-405642C1EA0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1AE38B-7D4D-49C5-8F5F-4488FD83AA4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FF1439-F363-4519-8522-83BBFF14B66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60EF58-03F0-46C6-A309-314410AD384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945E2C-7756-406F-9E8F-E6B0FD77117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E7BA60-887D-4CAA-807E-843F908CDB7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CFF12D-276C-4769-A39C-BCA09CEF70D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A1BF00-B9B8-474D-84E1-8B7081ED60A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F0CA8A-6602-4A89-8564-51927157551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6EAA9D-1868-42A8-A71C-022ADBD4BEC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E12165-9F16-4848-8322-A5312E20B2F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D3DAC9-4361-4F9D-B173-CD1EF3E822B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13551F-6962-4FC4-88C2-47177020990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61F339-6F24-401E-84F3-D26C6F5C940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977D85-8E96-4B89-98F6-042378E6C95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39A574-AEA7-45ED-B349-2CFD21E90AE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6D9982-B78F-4300-A918-4ADD9A736AC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ED43AD-CF14-46FD-A705-389E517C940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486B34-A8B1-4AAE-8FC2-45C13420054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C9DD02-DADE-4442-B092-DD1BCA8EF34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B86E39-D89E-452F-966F-78F3AB0A8E6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1C3748-FD6A-43E6-BD59-58688D2A17A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2B068B-F795-4455-83B3-25D3C0896F0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61985C-23FB-4487-A483-6E13358521A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E3AD4B-E9F7-4FD9-B309-794B9717861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8FADF3-EB67-4E2A-AA26-0E9C804C1E7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949574-AD8A-4BC8-8C27-72629F39F6B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024-1079-4859-9E74-1B0C261C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444-C50B-4FD2-825A-689DB3CA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FEC-D758-4854-9A6D-4E8CB16E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AC3-C83C-4C13-8815-725B9130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CA3-7BD2-46A1-A2A9-C26CDDC1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C84-B3D4-45A0-8CC2-A5169F04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90E-5EAD-4D45-AA08-A6D3BB32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F83-3C1C-4D7B-A017-3F2AEE75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21F-925A-4550-9ED9-63445E5C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558-B82A-4796-86F9-E8954899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F30-D457-4E23-A61F-3ED8F6B8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333-1B7E-45A5-B79D-7B654081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FA4D-CCBF-426A-A7F9-1B4B22B1E8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8"/>
          <p:cNvSpPr/>
          <p:nvPr/>
        </p:nvSpPr>
        <p:spPr>
          <a:xfrm>
            <a:off x="4067280" y="5950080"/>
            <a:ext cx="3529080" cy="90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56564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cap="sq"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7"/>
          <p:cNvSpPr/>
          <p:nvPr/>
        </p:nvSpPr>
        <p:spPr>
          <a:xfrm>
            <a:off x="609480" y="4556160"/>
            <a:ext cx="2968920" cy="20732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7025040" y="49528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cap="sq"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9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AutoShape 12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AutoShape 15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33" name="Group 5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682560" y="3798720"/>
                <a:ext cx="1582920" cy="951120"/>
              </a:xfrm>
              <a:prstGeom prst="pie">
                <a:avLst/>
              </a:prstGeom>
              <a:noFill/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2362320" y="4724280"/>
                <a:ext cx="1582560" cy="951120"/>
              </a:xfrm>
              <a:prstGeom prst="pie">
                <a:avLst/>
              </a:prstGeom>
              <a:noFill/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8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9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0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Freeform 11"/>
            <p:cNvSpPr/>
            <p:nvPr/>
          </p:nvSpPr>
          <p:spPr>
            <a:xfrm>
              <a:off x="914400" y="4114800"/>
              <a:ext cx="2743200" cy="1143000"/>
            </a:xfrm>
            <a:prstGeom prst="pie">
              <a:avLst/>
            </a:prstGeom>
            <a:solidFill>
              <a:srgbClr val="ccecff">
                <a:alpha val="50000"/>
              </a:srgbClr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2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0" name="Text Box 9"/>
          <p:cNvSpPr/>
          <p:nvPr/>
        </p:nvSpPr>
        <p:spPr>
          <a:xfrm>
            <a:off x="936720" y="5804280"/>
            <a:ext cx="752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3"/>
          <p:cNvSpPr/>
          <p:nvPr/>
        </p:nvSpPr>
        <p:spPr>
          <a:xfrm>
            <a:off x="684360" y="4653000"/>
            <a:ext cx="828036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"/>
          <p:cNvSpPr/>
          <p:nvPr/>
        </p:nvSpPr>
        <p:spPr>
          <a:xfrm>
            <a:off x="1447920" y="787320"/>
            <a:ext cx="6794280" cy="2095560"/>
          </a:xfrm>
          <a:prstGeom prst="pie">
            <a:avLst/>
          </a:pr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1676520" y="1459080"/>
            <a:ext cx="6984720" cy="1423800"/>
          </a:xfrm>
          <a:prstGeom prst="pie">
            <a:avLst/>
          </a:pr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4"/>
          <p:cNvSpPr/>
          <p:nvPr/>
        </p:nvSpPr>
        <p:spPr>
          <a:xfrm>
            <a:off x="1752480" y="762120"/>
            <a:ext cx="3429000" cy="2120760"/>
          </a:xfrm>
          <a:prstGeom prst="pie">
            <a:avLst/>
          </a:prstGeom>
          <a:solidFill>
            <a:srgbClr val="cce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5168880" y="1504800"/>
            <a:ext cx="3517920" cy="1162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4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165" name="Line 15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168" name="Line 18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20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1"/>
          <p:cNvSpPr/>
          <p:nvPr/>
        </p:nvSpPr>
        <p:spPr>
          <a:xfrm>
            <a:off x="1676520" y="3187800"/>
            <a:ext cx="7086600" cy="186696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2"/>
          <p:cNvSpPr/>
          <p:nvPr/>
        </p:nvSpPr>
        <p:spPr>
          <a:xfrm>
            <a:off x="1676520" y="5207040"/>
            <a:ext cx="7010280" cy="13460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536400" y="31701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4"/>
          <p:cNvSpPr/>
          <p:nvPr/>
        </p:nvSpPr>
        <p:spPr>
          <a:xfrm>
            <a:off x="1752480" y="3649680"/>
            <a:ext cx="1711440" cy="846000"/>
          </a:xfrm>
          <a:prstGeom prst="pie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Line 26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1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2"/>
          <p:cNvSpPr/>
          <p:nvPr/>
        </p:nvSpPr>
        <p:spPr>
          <a:xfrm>
            <a:off x="1676520" y="3809880"/>
            <a:ext cx="1600200" cy="609840"/>
          </a:xfrm>
          <a:prstGeom prst="pie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4724280" y="3505320"/>
            <a:ext cx="1600200" cy="30456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510720" y="6171120"/>
            <a:ext cx="412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7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8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2936880" y="2246760"/>
            <a:ext cx="3821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00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500"/>
                            </p:stCondLst>
                            <p:childTnLst>
                              <p:par>
                                <p:cTn id="70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7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500"/>
                            </p:stCondLst>
                            <p:childTnLst>
                              <p:par>
                                <p:cTn id="7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6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62792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110600" y="3034080"/>
            <a:ext cx="70722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Text Box 6"/>
          <p:cNvSpPr/>
          <p:nvPr/>
        </p:nvSpPr>
        <p:spPr>
          <a:xfrm>
            <a:off x="3124080" y="5227560"/>
            <a:ext cx="3124440" cy="579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Line 5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8"/>
          <p:cNvSpPr/>
          <p:nvPr/>
        </p:nvSpPr>
        <p:spPr>
          <a:xfrm>
            <a:off x="1371600" y="4635360"/>
            <a:ext cx="3594240" cy="1765440"/>
          </a:xfrm>
          <a:prstGeom prst="pie">
            <a:avLst/>
          </a:prstGeom>
          <a:noFill/>
          <a:ln cap="sq"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80880" y="1557360"/>
            <a:ext cx="8763120" cy="5300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74320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4"/>
          <p:cNvGrpSpPr/>
          <p:nvPr/>
        </p:nvGrpSpPr>
        <p:grpSpPr>
          <a:xfrm>
            <a:off x="2682360" y="3796200"/>
            <a:ext cx="5224320" cy="2266560"/>
            <a:chOff x="2682360" y="3796200"/>
            <a:chExt cx="5224320" cy="2266560"/>
          </a:xfrm>
        </p:grpSpPr>
        <p:sp>
          <p:nvSpPr>
            <p:cNvPr id="225" name="Rectangle 5"/>
            <p:cNvSpPr/>
            <p:nvPr/>
          </p:nvSpPr>
          <p:spPr>
            <a:xfrm rot="20677800">
              <a:off x="2627280" y="4932360"/>
              <a:ext cx="533412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 rot="1384800">
              <a:off x="6513480" y="3789360"/>
              <a:ext cx="15264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 rot="409800">
              <a:off x="3008160" y="5694120"/>
              <a:ext cx="2361960" cy="228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2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8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9" descr="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244" name="Rectangle 4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6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AutoShape 7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0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2500"/>
                            </p:stCondLst>
                            <p:childTnLst>
                              <p:par>
                                <p:cTn id="9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255" name="Rectangle 3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5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AutoShape 6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Picture 12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Text Box 5"/>
          <p:cNvSpPr/>
          <p:nvPr/>
        </p:nvSpPr>
        <p:spPr>
          <a:xfrm>
            <a:off x="1791360" y="55897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116400" y="57150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≥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5"/>
          <p:cNvSpPr/>
          <p:nvPr/>
        </p:nvSpPr>
        <p:spPr>
          <a:xfrm>
            <a:off x="1143000" y="4267080"/>
            <a:ext cx="1371600" cy="17528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Text Box 7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2612880" y="4419720"/>
            <a:ext cx="1349640" cy="1616040"/>
          </a:xfrm>
          <a:prstGeom prst="pie">
            <a:avLst/>
          </a:pr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/K   velocidad de la on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 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/(2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ubdividir el tramo en n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K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28600" y="434340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puede aplicarse a lechos de gran pendiente pues no se consideran efectos de energía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K,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características del tram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empo de viaje de la onda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K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=c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TROS 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K=L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½ v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ahoma"/>
              </a:rPr>
              <a:t>w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/v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67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44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,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uc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tangular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abólic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ri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ncho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n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62120" y="5181480"/>
                <a:ext cx="205740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Text Box 4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 = tiempo entre C.G. de los hidrogramas de entrada y salida del tramo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empo entre Q máx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6" name="Line 4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Text Box 7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8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0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bbe0e3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4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5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7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8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9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0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1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2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3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4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1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"/>
                            </p:stCondLst>
                            <p:childTnLst>
                              <p:par>
                                <p:cTn id="1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2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0" name="Group 5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31" name="AutoShape 6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3" name="AutoShape 8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AutoShape 10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337" name="AutoShape 12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3"/>
          <p:cNvSpPr/>
          <p:nvPr/>
        </p:nvSpPr>
        <p:spPr>
          <a:xfrm rot="4537200">
            <a:off x="2933280" y="3695400"/>
            <a:ext cx="1143000" cy="152388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340" name="AutoShape 15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6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0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907920"/>
            <a:ext cx="9144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ermite reproducir el hidrograma de una crecida en diversos puntos de un río en base  a predicción  de variación del movimiento y cambio de forma de la onda de crecida a medida que ésta se propaga hacia aguas  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05960" y="31417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2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3207960" y="61992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AutoShape 7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"/>
          <p:cNvSpPr/>
          <p:nvPr/>
        </p:nvSpPr>
        <p:spPr>
          <a:xfrm>
            <a:off x="2057400" y="4419720"/>
            <a:ext cx="1371600" cy="1066680"/>
          </a:xfrm>
          <a:prstGeom prst="pie">
            <a:avLst/>
          </a:pr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1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2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3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6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7"/>
          <p:cNvSpPr/>
          <p:nvPr/>
        </p:nvSpPr>
        <p:spPr>
          <a:xfrm>
            <a:off x="2286000" y="5410080"/>
            <a:ext cx="533520" cy="10188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2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3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26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9"/>
          <p:cNvSpPr/>
          <p:nvPr/>
        </p:nvSpPr>
        <p:spPr>
          <a:xfrm>
            <a:off x="3429000" y="3809880"/>
            <a:ext cx="380880" cy="609840"/>
          </a:xfrm>
          <a:prstGeom prst="pie">
            <a:avLst/>
          </a:pr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0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2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33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4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35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5296320" y="6338160"/>
            <a:ext cx="308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8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41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3" descr="0722A00803_3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0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"/>
                            </p:stCondLst>
                            <p:childTnLst>
                              <p:par>
                                <p:cTn id="149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500"/>
                            </p:stCondLst>
                            <p:childTnLst>
                              <p:par>
                                <p:cTn id="15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500"/>
                            </p:stCondLst>
                            <p:childTnLst>
                              <p:par>
                                <p:cTn id="17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reeform 2"/>
          <p:cNvSpPr/>
          <p:nvPr/>
        </p:nvSpPr>
        <p:spPr>
          <a:xfrm>
            <a:off x="914400" y="2971800"/>
            <a:ext cx="5715000" cy="2286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6095880" y="3124080"/>
            <a:ext cx="1752840" cy="2438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12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395" name="Line 13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9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20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1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2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3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4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5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6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7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8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Freeform 29"/>
          <p:cNvSpPr/>
          <p:nvPr/>
        </p:nvSpPr>
        <p:spPr>
          <a:xfrm>
            <a:off x="1231920" y="3097080"/>
            <a:ext cx="5149800" cy="246564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0"/>
          <p:cNvSpPr/>
          <p:nvPr/>
        </p:nvSpPr>
        <p:spPr>
          <a:xfrm>
            <a:off x="152280" y="2590920"/>
            <a:ext cx="7010640" cy="83808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1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2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5"/>
          <p:cNvSpPr/>
          <p:nvPr/>
        </p:nvSpPr>
        <p:spPr>
          <a:xfrm>
            <a:off x="2362320" y="1968480"/>
            <a:ext cx="5105160" cy="20700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6"/>
          <p:cNvSpPr/>
          <p:nvPr/>
        </p:nvSpPr>
        <p:spPr>
          <a:xfrm>
            <a:off x="2895480" y="2774880"/>
            <a:ext cx="5334120" cy="118764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7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21" name="Line 8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9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23" name="Line 10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11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12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13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4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WordArt 15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9" name="WordArt 16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0" name="AutoShape 17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0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500"/>
                            </p:stCondLst>
                            <p:childTnLst>
                              <p:par>
                                <p:cTn id="1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684360" y="8366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4" name="AutoShape 5"/>
          <p:cNvSpPr/>
          <p:nvPr/>
        </p:nvSpPr>
        <p:spPr>
          <a:xfrm rot="8759400">
            <a:off x="5638680" y="2895120"/>
            <a:ext cx="1447920" cy="6098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fill="hold">
                      <p:stCondLst>
                        <p:cond delay="0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7" name="Line 4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5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6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7"/>
          <p:cNvSpPr/>
          <p:nvPr/>
        </p:nvSpPr>
        <p:spPr>
          <a:xfrm>
            <a:off x="990720" y="1066680"/>
            <a:ext cx="3809880" cy="32767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8"/>
          <p:cNvSpPr/>
          <p:nvPr/>
        </p:nvSpPr>
        <p:spPr>
          <a:xfrm>
            <a:off x="1066680" y="990720"/>
            <a:ext cx="5181840" cy="3352680"/>
          </a:xfrm>
          <a:prstGeom prst="pie">
            <a:avLst/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9"/>
          <p:cNvSpPr/>
          <p:nvPr/>
        </p:nvSpPr>
        <p:spPr>
          <a:xfrm>
            <a:off x="1066680" y="685800"/>
            <a:ext cx="6946920" cy="36576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685800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7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9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333399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2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3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4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5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fill="hold">
                      <p:stCondLst>
                        <p:cond delay="0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500"/>
                            </p:stCondLst>
                            <p:childTnLst>
                              <p:par>
                                <p:cTn id="18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500"/>
                            </p:stCondLst>
                            <p:childTnLst>
                              <p:par>
                                <p:cTn id="1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500"/>
                            </p:stCondLst>
                            <p:childTnLst>
                              <p:par>
                                <p:cTn id="19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"/>
                            </p:stCondLst>
                            <p:childTnLst>
                              <p:par>
                                <p:cTn id="19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500"/>
                            </p:stCondLst>
                            <p:childTnLst>
                              <p:par>
                                <p:cTn id="198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"/>
          <p:cNvSpPr/>
          <p:nvPr/>
        </p:nvSpPr>
        <p:spPr>
          <a:xfrm>
            <a:off x="914400" y="2514600"/>
            <a:ext cx="1752480" cy="2438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4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462" name="Freeform 5"/>
            <p:cNvSpPr/>
            <p:nvPr/>
          </p:nvSpPr>
          <p:spPr>
            <a:xfrm>
              <a:off x="914400" y="1905120"/>
              <a:ext cx="266760" cy="533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6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464" name="Line 7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8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9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0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11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Freeform 12"/>
          <p:cNvSpPr/>
          <p:nvPr/>
        </p:nvSpPr>
        <p:spPr>
          <a:xfrm>
            <a:off x="5715000" y="2438280"/>
            <a:ext cx="1752480" cy="2438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4"/>
          <p:cNvSpPr/>
          <p:nvPr/>
        </p:nvSpPr>
        <p:spPr>
          <a:xfrm>
            <a:off x="4724280" y="2209680"/>
            <a:ext cx="2438640" cy="533520"/>
          </a:xfrm>
          <a:prstGeom prst="pie">
            <a:avLst/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6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8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9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0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1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0" name="Line 23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6" dur="indefinite" restart="never" nodeType="tmRoot">
          <p:childTnLst>
            <p:seq>
              <p:cTn id="2007" dur="indefinite" nodeType="mainSeq">
                <p:childTnLst>
                  <p:par>
                    <p:cTn id="2008" fill="hold">
                      <p:stCondLst>
                        <p:cond delay="0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500"/>
                            </p:stCondLst>
                            <p:childTnLst>
                              <p:par>
                                <p:cTn id="20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500"/>
                            </p:stCondLst>
                            <p:childTnLst>
                              <p:par>
                                <p:cTn id="20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Imagen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483" name="Imagen 2" descr=""/>
          <p:cNvPicPr/>
          <p:nvPr/>
        </p:nvPicPr>
        <p:blipFill>
          <a:blip r:embed="rId2"/>
          <a:stretch/>
        </p:blipFill>
        <p:spPr>
          <a:xfrm>
            <a:off x="4952880" y="1619280"/>
            <a:ext cx="3942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ff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184120" y="6172200"/>
            <a:ext cx="434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reci1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0" name="Picture 3" descr="crec2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reci1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2" name="Picture 3" descr="crec3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reci1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5" name="Picture 3" descr="crec4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AutoShape 5"/>
          <p:cNvSpPr/>
          <p:nvPr/>
        </p:nvSpPr>
        <p:spPr>
          <a:xfrm>
            <a:off x="1523880" y="5105520"/>
            <a:ext cx="1067040" cy="533160"/>
          </a:xfrm>
          <a:prstGeom prst="pie">
            <a:avLst/>
          </a:prstGeom>
          <a:solidFill>
            <a:srgbClr val="bbe0e3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4680" y="4979160"/>
            <a:ext cx="1570680" cy="1015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AutoShape 8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1564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87" name="Freeform 6"/>
            <p:cNvSpPr/>
            <p:nvPr/>
          </p:nvSpPr>
          <p:spPr>
            <a:xfrm>
              <a:off x="1295280" y="3467160"/>
              <a:ext cx="6794640" cy="2095560"/>
            </a:xfrm>
            <a:prstGeom prst="pie">
              <a:avLst/>
            </a:pr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"/>
            <p:cNvSpPr/>
            <p:nvPr/>
          </p:nvSpPr>
          <p:spPr>
            <a:xfrm>
              <a:off x="1523880" y="4138560"/>
              <a:ext cx="6985080" cy="1424160"/>
            </a:xfrm>
            <a:prstGeom prst="pie">
              <a:avLst/>
            </a:pr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8"/>
            <p:cNvSpPr/>
            <p:nvPr/>
          </p:nvSpPr>
          <p:spPr>
            <a:xfrm>
              <a:off x="1600200" y="3441600"/>
              <a:ext cx="3429000" cy="2121120"/>
            </a:xfrm>
            <a:prstGeom prst="pie">
              <a:avLst/>
            </a:prstGeom>
            <a:solidFill>
              <a:srgbClr val="ccec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0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15:35Z</dcterms:created>
  <dc:creator>X. Vargas</dc:creator>
  <dc:description/>
  <dc:language>en-US</dc:language>
  <cp:lastModifiedBy>James McPhee</cp:lastModifiedBy>
  <dcterms:modified xsi:type="dcterms:W3CDTF">2009-11-09T15:14:51Z</dcterms:modified>
  <cp:revision>38</cp:revision>
  <dc:subject/>
  <dc:title>titulo</dc:title>
</cp:coreProperties>
</file>