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4D03B4-5529-4E31-A1F2-9C792C36B08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BAB8DA-F444-4C18-BDC7-320EAF95814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43FC03-E6A1-415D-A9B6-A8F19CD93D8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731B72-0312-414A-A314-B02244E1527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B1D41A-38E3-4822-BA95-5E7A5DE6957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F7D07F-9609-4349-9756-691D61106BD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7C538E-5D30-4338-9D15-612499659BF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7F0674-779E-4346-BEBD-61E0C83B02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DF36CD-669E-45D8-8435-E454E8C74EB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D9A18B-E89A-41DB-A282-918E5C8191F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C327BF-5F48-4C36-AB6F-0F33C3220C9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8DDC56-CC6E-49A8-8967-DCD94FF5C8E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CF4D62-49C4-4CEF-935C-ED62C16E13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9696EE-7AB8-45DF-A9F5-16C5CE789F0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04F63E-D198-42FA-B325-F3DA2632EB0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8DFAE8-1E4D-4F73-BC98-C9DEDD421E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E67356-7B4D-442D-A11E-F1D7DB82B78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0927F0-D350-4489-9424-8B5062F246D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078C75-8E25-438B-BE19-E18906439C7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E72FFD-E258-4543-BC54-4CD0CF3F63A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8AADFA-FF1D-469F-8C72-CD04CFFFDCC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10FF5F-B122-41E0-8327-44FA4965424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E6BFA8-C1BA-40FE-A654-F9F8CAD255F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1DC7B3-B70C-48D6-85B0-7924BD03FCF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998E4D-0260-4F8D-ABAD-32BC882F93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930042-D3DB-4407-B72E-443ADC9ADBE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F315AE-2D45-4874-89E7-7D6110AE9B2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D36F3E-9F61-4282-AD33-D14FCD025DB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5B9E94-A026-41A6-9C0B-8AB7EB8D3AA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F5966A-4C7A-454B-BC7D-3BA140AF0D8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34A206-7B0E-419E-9EDB-D9AE5AB86E9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EFF32F-9D94-4760-B1E1-F390258BA19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3464E7-9C12-4EFB-8CCA-ED0FE57B519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853353-F8EB-4789-A0C4-ED1F415A92B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E96C8E-2F7D-4909-B68C-1F6C612245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898649-91A3-4FC3-AFF6-11C0F32D6C6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AFE-2AD2-43E4-95CF-AFE1F7C6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C14-386E-4339-9C5C-1BB2CFB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B02-4404-4312-9B71-ED7A1378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4B3-049E-407F-A4C8-75FE1D9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BB6-40FC-456E-BDCE-0ADEA464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968-48A6-45F3-95BF-362BD81C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29C-446E-47B5-9ABD-F6CCDE6C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575-811D-4DA4-BF4A-924F8069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F3A-93F1-4C83-9B90-8A08568B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955-7C54-4C0F-A515-FA4022F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0B9-AF26-435A-93B3-68E25F9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768-902D-4ECB-B7EB-50F5BF48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4ACA-813C-4D5B-84E2-2377647595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8"/>
          <p:cNvSpPr/>
          <p:nvPr/>
        </p:nvSpPr>
        <p:spPr>
          <a:xfrm>
            <a:off x="4067280" y="5950080"/>
            <a:ext cx="35290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56564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609480" y="4556160"/>
            <a:ext cx="2968920" cy="2073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025040" y="49528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AutoShape 12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AutoShape 15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33" name="Group 5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682560" y="3798720"/>
                <a:ext cx="158292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2362320" y="4724280"/>
                <a:ext cx="158256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0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>
              <a:off x="914400" y="4114800"/>
              <a:ext cx="2743200" cy="1143000"/>
            </a:xfrm>
            <a:prstGeom prst="pie">
              <a:avLst/>
            </a:prstGeom>
            <a:solidFill>
              <a:srgbClr val="ccec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2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Text Box 9"/>
          <p:cNvSpPr/>
          <p:nvPr/>
        </p:nvSpPr>
        <p:spPr>
          <a:xfrm>
            <a:off x="936720" y="5804280"/>
            <a:ext cx="752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3"/>
          <p:cNvSpPr/>
          <p:nvPr/>
        </p:nvSpPr>
        <p:spPr>
          <a:xfrm>
            <a:off x="684360" y="4653000"/>
            <a:ext cx="8280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1447920" y="787320"/>
            <a:ext cx="6794280" cy="2095560"/>
          </a:xfrm>
          <a:prstGeom prst="pie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676520" y="1459080"/>
            <a:ext cx="6984720" cy="1423800"/>
          </a:xfrm>
          <a:prstGeom prst="pie">
            <a:avLst/>
          </a:pr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752480" y="762120"/>
            <a:ext cx="3429000" cy="2120760"/>
          </a:xfrm>
          <a:prstGeom prst="pie">
            <a:avLst/>
          </a:prstGeom>
          <a:solidFill>
            <a:srgbClr val="cce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5168880" y="1504800"/>
            <a:ext cx="3517920" cy="1162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165" name="Line 15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168" name="Line 18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20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1"/>
          <p:cNvSpPr/>
          <p:nvPr/>
        </p:nvSpPr>
        <p:spPr>
          <a:xfrm>
            <a:off x="1676520" y="3187800"/>
            <a:ext cx="7086600" cy="186696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2"/>
          <p:cNvSpPr/>
          <p:nvPr/>
        </p:nvSpPr>
        <p:spPr>
          <a:xfrm>
            <a:off x="1676520" y="5207040"/>
            <a:ext cx="7010280" cy="13460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36400" y="31701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1752480" y="3649680"/>
            <a:ext cx="1711440" cy="84600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26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1676520" y="3809880"/>
            <a:ext cx="1600200" cy="60984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724280" y="3505320"/>
            <a:ext cx="1600200" cy="30456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510720" y="6171120"/>
            <a:ext cx="412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936880" y="2246760"/>
            <a:ext cx="382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62792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10600" y="3034080"/>
            <a:ext cx="70722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6"/>
          <p:cNvSpPr/>
          <p:nvPr/>
        </p:nvSpPr>
        <p:spPr>
          <a:xfrm>
            <a:off x="3124080" y="5227560"/>
            <a:ext cx="3124440" cy="57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Line 5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1371600" y="4635360"/>
            <a:ext cx="3594240" cy="1765440"/>
          </a:xfrm>
          <a:prstGeom prst="pie">
            <a:avLst/>
          </a:prstGeom>
          <a:noFill/>
          <a:ln cap="sq"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763120" cy="530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2682360" y="3796200"/>
            <a:ext cx="5224320" cy="2266560"/>
            <a:chOff x="2682360" y="3796200"/>
            <a:chExt cx="5224320" cy="2266560"/>
          </a:xfrm>
        </p:grpSpPr>
        <p:sp>
          <p:nvSpPr>
            <p:cNvPr id="225" name="Rectangle 5"/>
            <p:cNvSpPr/>
            <p:nvPr/>
          </p:nvSpPr>
          <p:spPr>
            <a:xfrm rot="20677800">
              <a:off x="2627280" y="493236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1384800">
              <a:off x="6513480" y="378936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409800">
              <a:off x="3008160" y="569412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244" name="Rectangle 4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255" name="Rectangle 3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6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1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5"/>
          <p:cNvSpPr/>
          <p:nvPr/>
        </p:nvSpPr>
        <p:spPr>
          <a:xfrm>
            <a:off x="1791360" y="55897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16400" y="5715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1143000" y="4267080"/>
            <a:ext cx="1371600" cy="17528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7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2612880" y="4419720"/>
            <a:ext cx="1349640" cy="1616040"/>
          </a:xfrm>
          <a:prstGeom prst="pie">
            <a:avLst/>
          </a:pr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/K   velocidad de la on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28600" y="43434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puede aplicarse a lechos de gran pendiente pues no se consideran efectos de energí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62120" y="5181480"/>
                <a:ext cx="20574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 Box 4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= tiempo entre C.G. de los hidrogramas de entrada y salida del tram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Line 4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7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1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0" name="Group 5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31" name="AutoShape 6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AutoShape 8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0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337" name="AutoShape 12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/>
          <p:cNvSpPr/>
          <p:nvPr/>
        </p:nvSpPr>
        <p:spPr>
          <a:xfrm rot="4537200">
            <a:off x="2933280" y="3695400"/>
            <a:ext cx="1143000" cy="152388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340" name="AutoShape 15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907920"/>
            <a:ext cx="914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ermite reproducir el hidrograma de una crecida en diversos puntos de un río en base  a predicción  de variación del movimiento y cambio de forma de la onda de crecida a medida que ésta se propaga hacia aguas 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05960" y="314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07960" y="61992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7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2057400" y="4419720"/>
            <a:ext cx="1371600" cy="106668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2286000" y="5410080"/>
            <a:ext cx="533520" cy="1018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2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3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3429000" y="3809880"/>
            <a:ext cx="380880" cy="60984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5296320" y="6338160"/>
            <a:ext cx="308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1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3" descr="0722A00803_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2"/>
          <p:cNvSpPr/>
          <p:nvPr/>
        </p:nvSpPr>
        <p:spPr>
          <a:xfrm>
            <a:off x="914400" y="2971800"/>
            <a:ext cx="5715000" cy="228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6095880" y="3124080"/>
            <a:ext cx="175284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395" name="Line 13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5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6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7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8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Freeform 29"/>
          <p:cNvSpPr/>
          <p:nvPr/>
        </p:nvSpPr>
        <p:spPr>
          <a:xfrm>
            <a:off x="1231920" y="3097080"/>
            <a:ext cx="5149800" cy="24656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0"/>
          <p:cNvSpPr/>
          <p:nvPr/>
        </p:nvSpPr>
        <p:spPr>
          <a:xfrm>
            <a:off x="152280" y="2590920"/>
            <a:ext cx="7010640" cy="838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2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2362320" y="1968480"/>
            <a:ext cx="5105160" cy="20700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895480" y="2774880"/>
            <a:ext cx="5334120" cy="11876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21" name="Line 8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9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23" name="Line 10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1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2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3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4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WordArt 15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16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AutoShape 17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84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AutoShape 5"/>
          <p:cNvSpPr/>
          <p:nvPr/>
        </p:nvSpPr>
        <p:spPr>
          <a:xfrm rot="8759400">
            <a:off x="5638680" y="2895120"/>
            <a:ext cx="144792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Line 4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7"/>
          <p:cNvSpPr/>
          <p:nvPr/>
        </p:nvSpPr>
        <p:spPr>
          <a:xfrm>
            <a:off x="990720" y="1066680"/>
            <a:ext cx="3809880" cy="32767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1066680" y="990720"/>
            <a:ext cx="5181840" cy="335268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1066680" y="685800"/>
            <a:ext cx="6946920" cy="3657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68580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914400" y="2514600"/>
            <a:ext cx="1752480" cy="2438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462" name="Freeform 5"/>
            <p:cNvSpPr/>
            <p:nvPr/>
          </p:nvSpPr>
          <p:spPr>
            <a:xfrm>
              <a:off x="914400" y="1905120"/>
              <a:ext cx="26676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464" name="Line 7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9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12"/>
          <p:cNvSpPr/>
          <p:nvPr/>
        </p:nvSpPr>
        <p:spPr>
          <a:xfrm>
            <a:off x="5715000" y="2438280"/>
            <a:ext cx="175248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4"/>
          <p:cNvSpPr/>
          <p:nvPr/>
        </p:nvSpPr>
        <p:spPr>
          <a:xfrm>
            <a:off x="4724280" y="2209680"/>
            <a:ext cx="2438640" cy="5335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0" name="Line 23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500"/>
                            </p:stCondLst>
                            <p:childTnLst>
                              <p:par>
                                <p:cTn id="2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Imagen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" descr=""/>
          <p:cNvPicPr/>
          <p:nvPr/>
        </p:nvPicPr>
        <p:blipFill>
          <a:blip r:embed="rId2"/>
          <a:stretch/>
        </p:blipFill>
        <p:spPr>
          <a:xfrm>
            <a:off x="4952880" y="1619280"/>
            <a:ext cx="394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184120" y="617220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reci1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0" name="Picture 3" descr="crec2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reci1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2" name="Picture 3" descr="crec3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eci1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3" descr="crec4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AutoShape 5"/>
          <p:cNvSpPr/>
          <p:nvPr/>
        </p:nvSpPr>
        <p:spPr>
          <a:xfrm>
            <a:off x="1523880" y="5105520"/>
            <a:ext cx="1067040" cy="533160"/>
          </a:xfrm>
          <a:prstGeom prst="pie">
            <a:avLst/>
          </a:prstGeom>
          <a:solidFill>
            <a:srgbClr val="bbe0e3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4680" y="4979160"/>
            <a:ext cx="1570680" cy="101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AutoShape 8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1564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87" name="Freeform 6"/>
            <p:cNvSpPr/>
            <p:nvPr/>
          </p:nvSpPr>
          <p:spPr>
            <a:xfrm>
              <a:off x="1295280" y="3467160"/>
              <a:ext cx="6794640" cy="2095560"/>
            </a:xfrm>
            <a:prstGeom prst="pie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1523880" y="4138560"/>
              <a:ext cx="6985080" cy="1424160"/>
            </a:xfrm>
            <a:prstGeom prst="pie">
              <a:avLst/>
            </a:pr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1600200" y="3441600"/>
              <a:ext cx="3429000" cy="2121120"/>
            </a:xfrm>
            <a:prstGeom prst="pie">
              <a:avLst/>
            </a:prstGeom>
            <a:solidFill>
              <a:srgbClr val="cce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0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5:35Z</dcterms:created>
  <dc:creator>X. Vargas</dc:creator>
  <dc:description/>
  <dc:language>en-US</dc:language>
  <cp:lastModifiedBy>James McPhee</cp:lastModifiedBy>
  <dcterms:modified xsi:type="dcterms:W3CDTF">2009-11-09T15:14:51Z</dcterms:modified>
  <cp:revision>38</cp:revision>
  <dc:subject/>
  <dc:title>titulo</dc:title>
</cp:coreProperties>
</file>