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CCE5DB-03BF-457D-848D-89B77BCE3F3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F3B29B-F566-4A93-80F9-1EFE0686801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776634-7BA6-4D1D-B45B-83409992570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EF8D58-325F-4743-8C0B-DA08F9591B8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030154-0EE6-4C00-B492-29566219A82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CFB67E-76B5-4B00-8908-ABA3EB0B13D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6EAC6F-781A-41D3-B9E2-B9029FBA27B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62A2CF-989A-44AD-9DDD-18DAE709EDE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96C40A-6527-4CDB-ADB8-8B917F483AA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CBC6AC-F46F-4222-AD6C-D4C33B85DD1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68B4B0-D837-4D5D-AD59-C0E354332DC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AD8662-3F48-4CEB-8C17-578DC27F899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9CCAB0-6FC6-49E9-AC62-FA1DBA6492B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89073C-32DE-4368-80F6-3875B177584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2A606F-9D78-4C42-88AC-A8A6DAA514A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E2F59E-E479-47D3-BE8A-5B4096CFD06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D89201-637C-4C0E-AFE1-C06B3845500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922AD0-9971-42DE-BAA0-2F0C06C362D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1CDBF3-EAF3-4DEB-8DE0-0254BB9044C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06F64F-445D-4660-A69B-6EDCE757FAB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A6AD24-4C1E-4957-9E2E-EFC1492115F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FCE-9582-4A51-8D49-75CA39E0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F4C-8BCD-491D-849D-698D4DD7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50D-70EC-4E15-B847-3A8999FB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240-5F09-48F2-A615-EFF0D17D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7FE-2E0B-42C6-B18F-0514C37C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E37-4584-4B12-8E9D-E708DF02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488-4AD4-4F9E-ABAC-718C49EF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D80-183E-4962-93A0-B9958CE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BD1-0FA8-4289-BB41-BC26B7DC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2C4-3F15-4DF1-A39F-97BD7622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B3A-4951-4FBE-BA9F-659B84D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5E1-9A1E-43A6-986F-8E06BDF9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9E0E-D784-47A9-907F-C52978D24F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 (Sherman, 19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eoría HU aplicable a sistema lineal con cualquier 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492360" y="260280"/>
            <a:ext cx="259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spac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Obtener HU para tormentas de corta duración (tiempo de desfase 1/4 o 1/3 a 1/5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2124000" y="1773360"/>
            <a:ext cx="4267080" cy="2476440"/>
            <a:chOff x="2124000" y="1773360"/>
            <a:chExt cx="4267080" cy="2476440"/>
          </a:xfrm>
        </p:grpSpPr>
        <p:sp>
          <p:nvSpPr>
            <p:cNvPr id="179" name="Line 4"/>
            <p:cNvSpPr/>
            <p:nvPr/>
          </p:nvSpPr>
          <p:spPr>
            <a:xfrm>
              <a:off x="2124000" y="2052360"/>
              <a:ext cx="0" cy="158184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2124000" y="3634560"/>
              <a:ext cx="4178160" cy="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2301480" y="2052360"/>
              <a:ext cx="266400" cy="185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2301480" y="2672640"/>
              <a:ext cx="2933640" cy="9615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457440" y="2052360"/>
              <a:ext cx="266400" cy="371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3457440" y="1773360"/>
              <a:ext cx="2933640" cy="18651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0"/>
            <p:cNvGrpSpPr/>
            <p:nvPr/>
          </p:nvGrpSpPr>
          <p:grpSpPr>
            <a:xfrm>
              <a:off x="2301480" y="3727440"/>
              <a:ext cx="2844360" cy="336240"/>
              <a:chOff x="2301480" y="3727440"/>
              <a:chExt cx="2844360" cy="336240"/>
            </a:xfrm>
          </p:grpSpPr>
          <p:sp>
            <p:nvSpPr>
              <p:cNvPr id="186" name="Text Box 11"/>
              <p:cNvSpPr/>
              <p:nvPr/>
            </p:nvSpPr>
            <p:spPr>
              <a:xfrm>
                <a:off x="3101400" y="372744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2"/>
              <p:cNvSpPr/>
              <p:nvPr/>
            </p:nvSpPr>
            <p:spPr>
              <a:xfrm flipH="1">
                <a:off x="2301480" y="391320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"/>
              <p:cNvSpPr/>
              <p:nvPr/>
            </p:nvSpPr>
            <p:spPr>
              <a:xfrm>
                <a:off x="3456720" y="391320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3546360" y="3913560"/>
              <a:ext cx="2844360" cy="336240"/>
              <a:chOff x="3546360" y="3913560"/>
              <a:chExt cx="2844360" cy="336240"/>
            </a:xfrm>
          </p:grpSpPr>
          <p:sp>
            <p:nvSpPr>
              <p:cNvPr id="190" name="Text Box 15"/>
              <p:cNvSpPr/>
              <p:nvPr/>
            </p:nvSpPr>
            <p:spPr>
              <a:xfrm>
                <a:off x="4346280" y="391356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6"/>
              <p:cNvSpPr/>
              <p:nvPr/>
            </p:nvSpPr>
            <p:spPr>
              <a:xfrm flipH="1">
                <a:off x="3546360" y="409932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4701600" y="409932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18"/>
          <p:cNvSpPr/>
          <p:nvPr/>
        </p:nvSpPr>
        <p:spPr>
          <a:xfrm>
            <a:off x="2581200" y="58118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Q(nΔ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5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6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213" name="Line 10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14"/>
          <p:cNvSpPr/>
          <p:nvPr/>
        </p:nvSpPr>
        <p:spPr>
          <a:xfrm>
            <a:off x="3200400" y="3505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9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1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2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AutoShape 25"/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4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nΔt]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1)Δt]+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Text Box 7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-m+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2895480" y="3797280"/>
            <a:ext cx="3962520" cy="1536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1219320" y="4495680"/>
            <a:ext cx="3962160" cy="851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1219320" y="784080"/>
            <a:ext cx="6553080" cy="4550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8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9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1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2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3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684360" y="836640"/>
            <a:ext cx="838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685800"/>
            <a:ext cx="7315200" cy="32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76520" y="4952880"/>
            <a:ext cx="22478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Obtención 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2971800" y="914400"/>
            <a:ext cx="1905120" cy="88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3436920" y="4332240"/>
            <a:ext cx="4732200" cy="2077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81360" y="33336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5105520"/>
                <a:ext cx="44956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4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6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248520" y="6019920"/>
            <a:ext cx="914400" cy="685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484360" y="404640"/>
            <a:ext cx="3886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94600" y="1166760"/>
                <a:ext cx="21715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468360" y="2276640"/>
            <a:ext cx="7696080" cy="36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2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2771640" y="1484280"/>
            <a:ext cx="637236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80" name="Rectangle 6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83" name="Line 9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13"/>
          <p:cNvSpPr/>
          <p:nvPr/>
        </p:nvSpPr>
        <p:spPr>
          <a:xfrm>
            <a:off x="3886200" y="2362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τ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/>
          <p:cNvSpPr/>
          <p:nvPr/>
        </p:nvSpPr>
        <p:spPr>
          <a:xfrm>
            <a:off x="1066680" y="4419720"/>
            <a:ext cx="3657600" cy="205740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1666800" y="4743360"/>
            <a:ext cx="3895920" cy="1758960"/>
          </a:xfrm>
          <a:prstGeom prst="pie">
            <a:avLst/>
          </a:pr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990720" y="2627280"/>
            <a:ext cx="4495680" cy="3875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2193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107" name="Oval 6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Text Box 10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0"/>
          <p:cNvSpPr/>
          <p:nvPr/>
        </p:nvSpPr>
        <p:spPr>
          <a:xfrm>
            <a:off x="6012000" y="639144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879560"/>
            <a:ext cx="7632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1803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012000" y="39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1143000" y="2362320"/>
            <a:ext cx="3657600" cy="1574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62120" y="411480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762120" y="6477120"/>
            <a:ext cx="541008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380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1"/>
          <p:cNvSpPr/>
          <p:nvPr/>
        </p:nvSpPr>
        <p:spPr>
          <a:xfrm>
            <a:off x="1143000" y="4419720"/>
            <a:ext cx="4740120" cy="2046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324480" y="18288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=1 para 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Text Box 32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Line 34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019920" y="4089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53" name="Line 13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Freeform 17"/>
          <p:cNvSpPr/>
          <p:nvPr/>
        </p:nvSpPr>
        <p:spPr>
          <a:xfrm>
            <a:off x="1143000" y="1905120"/>
            <a:ext cx="4740120" cy="2046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0 respuesta es g(t)/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2209680" y="1582560"/>
            <a:ext cx="4756320" cy="2368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3"/>
          <p:cNvSpPr/>
          <p:nvPr/>
        </p:nvSpPr>
        <p:spPr>
          <a:xfrm>
            <a:off x="1143000" y="4406760"/>
            <a:ext cx="3962520" cy="2070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0064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Line 25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1/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 para 0≤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≤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10:14Z</dcterms:created>
  <dc:creator>PUBLISIGA</dc:creator>
  <dc:description/>
  <dc:language>en-US</dc:language>
  <cp:lastModifiedBy>James McPhee</cp:lastModifiedBy>
  <dcterms:modified xsi:type="dcterms:W3CDTF">2008-11-10T14:55:34Z</dcterms:modified>
  <cp:revision>32</cp:revision>
  <dc:subject/>
  <dc:title>titulo</dc:title>
</cp:coreProperties>
</file>