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3F5726-8CCB-4A9A-878D-6179C01B13A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BD8E2C-EACC-4F92-B7B6-D19174267D1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6D69BF-F4FD-4D56-8970-9FFE3F7026A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48F871-EC7B-4E8E-AC41-D7253C38EC4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B8FBD1-7554-487B-8BC1-6BFDA2B81F6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227A08-550F-4F0A-9198-585D8874DE6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F683CB-D396-4FAE-AB63-E9D4A54F136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335349-B847-4681-B4FB-239E7399BC8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F8FD0B-19D7-41C4-8A26-B4147118AA3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1D458A-1148-4FDB-A977-86DF2D1C5D9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DD4BBC-3282-4D13-9190-ECD7933A5F2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BAC54B-5319-4148-AD18-B456C8247AC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92CEA8-0B3C-4288-964D-63F73FD2352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39B8E0-8F8E-4EEA-9BCD-F49C9CC6217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55C30A-CE17-424D-99C2-EB73A4945E1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EE115F-813E-4A10-B277-483708A7BE0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D464D6-DF67-4D72-9BE6-5802D18E6DE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93FB56-05B0-4FC7-B464-49FB1B22E5E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849976-74F1-4852-AB62-D8DE330049E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001CC3-2562-4920-8353-B09390E531B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D6CE26-303D-4D6D-80A4-2FE6C0FA486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D1C-BED4-40D8-8BC3-B8B845AD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61A-1279-465C-A136-346D2B23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85F-79AA-4475-B4F5-264F5A02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844-12C6-4A7F-A966-FF3ABBA6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DD3-A660-428B-A686-B7030048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E18-2729-44C9-8219-304C2999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B9C-55B4-43F8-A2F2-6DBCB288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0E5-2E81-463F-8906-02D82DF5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F41-58D0-4E4A-AE88-D83529F8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4B1-1713-4068-A1F8-821C17EE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029-3806-4930-BAEA-13F9E83A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8E1-5CA2-4C74-9FE0-6646DC07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EE04-6905-4657-8FF4-5792C45984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 (Sherman, 19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ED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Teoría HU aplicable a sistema lineal con cualquier 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492360" y="260280"/>
            <a:ext cx="2590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spaci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Obtener HU para tormentas de corta duración (tiempo de desfase 1/4 o 1/3 a 1/5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2124000" y="1773360"/>
            <a:ext cx="4267080" cy="2476440"/>
            <a:chOff x="2124000" y="1773360"/>
            <a:chExt cx="4267080" cy="2476440"/>
          </a:xfrm>
        </p:grpSpPr>
        <p:sp>
          <p:nvSpPr>
            <p:cNvPr id="179" name="Line 4"/>
            <p:cNvSpPr/>
            <p:nvPr/>
          </p:nvSpPr>
          <p:spPr>
            <a:xfrm>
              <a:off x="2124000" y="2052360"/>
              <a:ext cx="0" cy="158184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2124000" y="3634560"/>
              <a:ext cx="4178160" cy="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2301480" y="2052360"/>
              <a:ext cx="266400" cy="185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2301480" y="2672640"/>
              <a:ext cx="2933640" cy="9615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3457440" y="2052360"/>
              <a:ext cx="266400" cy="371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3457440" y="1773360"/>
              <a:ext cx="2933640" cy="18651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0"/>
            <p:cNvGrpSpPr/>
            <p:nvPr/>
          </p:nvGrpSpPr>
          <p:grpSpPr>
            <a:xfrm>
              <a:off x="2301480" y="3727440"/>
              <a:ext cx="2844360" cy="336240"/>
              <a:chOff x="2301480" y="3727440"/>
              <a:chExt cx="2844360" cy="336240"/>
            </a:xfrm>
          </p:grpSpPr>
          <p:sp>
            <p:nvSpPr>
              <p:cNvPr id="186" name="Text Box 11"/>
              <p:cNvSpPr/>
              <p:nvPr/>
            </p:nvSpPr>
            <p:spPr>
              <a:xfrm>
                <a:off x="3101400" y="372744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2"/>
              <p:cNvSpPr/>
              <p:nvPr/>
            </p:nvSpPr>
            <p:spPr>
              <a:xfrm flipH="1">
                <a:off x="2301480" y="391320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3"/>
              <p:cNvSpPr/>
              <p:nvPr/>
            </p:nvSpPr>
            <p:spPr>
              <a:xfrm>
                <a:off x="3456720" y="391320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4"/>
            <p:cNvGrpSpPr/>
            <p:nvPr/>
          </p:nvGrpSpPr>
          <p:grpSpPr>
            <a:xfrm>
              <a:off x="3546360" y="3913560"/>
              <a:ext cx="2844360" cy="336240"/>
              <a:chOff x="3546360" y="3913560"/>
              <a:chExt cx="2844360" cy="336240"/>
            </a:xfrm>
          </p:grpSpPr>
          <p:sp>
            <p:nvSpPr>
              <p:cNvPr id="190" name="Text Box 15"/>
              <p:cNvSpPr/>
              <p:nvPr/>
            </p:nvSpPr>
            <p:spPr>
              <a:xfrm>
                <a:off x="4346280" y="391356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6"/>
              <p:cNvSpPr/>
              <p:nvPr/>
            </p:nvSpPr>
            <p:spPr>
              <a:xfrm flipH="1">
                <a:off x="3546360" y="409932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4701600" y="409932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18"/>
          <p:cNvSpPr/>
          <p:nvPr/>
        </p:nvSpPr>
        <p:spPr>
          <a:xfrm>
            <a:off x="2581200" y="581184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Q(nΔ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5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6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213" name="Line 10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0000ff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Freeform 14"/>
          <p:cNvSpPr/>
          <p:nvPr/>
        </p:nvSpPr>
        <p:spPr>
          <a:xfrm>
            <a:off x="3200400" y="3505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9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1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2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AutoShape 25"/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4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nΔt]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1)Δt]+...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+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Text Box 7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-m+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"/>
          <p:cNvSpPr/>
          <p:nvPr/>
        </p:nvSpPr>
        <p:spPr>
          <a:xfrm>
            <a:off x="2895480" y="3797280"/>
            <a:ext cx="3962520" cy="1536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"/>
          <p:cNvSpPr/>
          <p:nvPr/>
        </p:nvSpPr>
        <p:spPr>
          <a:xfrm>
            <a:off x="1219320" y="4495680"/>
            <a:ext cx="3962160" cy="851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1219320" y="784080"/>
            <a:ext cx="6553080" cy="4550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6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7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8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9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1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2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3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684360" y="836640"/>
            <a:ext cx="838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685800"/>
            <a:ext cx="7315200" cy="32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676520" y="4952880"/>
            <a:ext cx="22478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Obtención HU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2971800" y="914400"/>
            <a:ext cx="1905120" cy="88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7"/>
          <p:cNvSpPr/>
          <p:nvPr/>
        </p:nvSpPr>
        <p:spPr>
          <a:xfrm>
            <a:off x="3436920" y="4332240"/>
            <a:ext cx="4732200" cy="2077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81360" y="33336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5105520"/>
                <a:ext cx="44956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4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 Box 6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248520" y="6019920"/>
            <a:ext cx="914400" cy="6858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484360" y="404640"/>
            <a:ext cx="38862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294600" y="1166760"/>
                <a:ext cx="21715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 Box 4"/>
          <p:cNvSpPr/>
          <p:nvPr/>
        </p:nvSpPr>
        <p:spPr>
          <a:xfrm>
            <a:off x="468360" y="2276640"/>
            <a:ext cx="7696080" cy="36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2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2771640" y="1484280"/>
            <a:ext cx="637236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80" name="Rectangle 6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83" name="Line 9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0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2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Freeform 13"/>
          <p:cNvSpPr/>
          <p:nvPr/>
        </p:nvSpPr>
        <p:spPr>
          <a:xfrm>
            <a:off x="3886200" y="2362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τ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"/>
          <p:cNvSpPr/>
          <p:nvPr/>
        </p:nvSpPr>
        <p:spPr>
          <a:xfrm>
            <a:off x="1066680" y="4419720"/>
            <a:ext cx="3657600" cy="205740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1666800" y="4743360"/>
            <a:ext cx="3895920" cy="1758960"/>
          </a:xfrm>
          <a:prstGeom prst="pie">
            <a:avLst/>
          </a:pr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"/>
          <p:cNvSpPr/>
          <p:nvPr/>
        </p:nvSpPr>
        <p:spPr>
          <a:xfrm>
            <a:off x="990720" y="2627280"/>
            <a:ext cx="4495680" cy="3875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219320" y="99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107" name="Oval 6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Text Box 10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0"/>
          <p:cNvSpPr/>
          <p:nvPr/>
        </p:nvSpPr>
        <p:spPr>
          <a:xfrm>
            <a:off x="6012000" y="639144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1879560"/>
            <a:ext cx="7632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1803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012000" y="39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1143000" y="2362320"/>
            <a:ext cx="3657600" cy="1574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62120" y="411480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762120" y="6477120"/>
            <a:ext cx="5410080" cy="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380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1"/>
          <p:cNvSpPr/>
          <p:nvPr/>
        </p:nvSpPr>
        <p:spPr>
          <a:xfrm>
            <a:off x="1143000" y="4419720"/>
            <a:ext cx="4740120" cy="2046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6324480" y="182880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)=1 para 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Text Box 32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Line 34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019920" y="4089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53" name="Line 13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Freeform 17"/>
          <p:cNvSpPr/>
          <p:nvPr/>
        </p:nvSpPr>
        <p:spPr>
          <a:xfrm>
            <a:off x="1143000" y="1905120"/>
            <a:ext cx="4740120" cy="20462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0 respuesta es g(t)/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1"/>
          <p:cNvSpPr/>
          <p:nvPr/>
        </p:nvSpPr>
        <p:spPr>
          <a:xfrm>
            <a:off x="2209680" y="1582560"/>
            <a:ext cx="4756320" cy="2368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3"/>
          <p:cNvSpPr/>
          <p:nvPr/>
        </p:nvSpPr>
        <p:spPr>
          <a:xfrm>
            <a:off x="1143000" y="4406760"/>
            <a:ext cx="3962520" cy="2070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0064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Line 25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1/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 para 0≤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≤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10:14Z</dcterms:created>
  <dc:creator>PUBLISIGA</dc:creator>
  <dc:description/>
  <dc:language>en-US</dc:language>
  <cp:lastModifiedBy>James McPhee</cp:lastModifiedBy>
  <dcterms:modified xsi:type="dcterms:W3CDTF">2008-11-10T14:55:34Z</dcterms:modified>
  <cp:revision>32</cp:revision>
  <dc:subject/>
  <dc:title>titulo</dc:title>
</cp:coreProperties>
</file>