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B6904-E739-4C03-BB13-4C61C5B01C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D7FF7-89F0-41EA-A04C-9B65271BF7E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86082-D4C5-42B7-80F5-F68EB29097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28CF9-3F16-4EF8-8AB0-0F68B4355C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BAF24-B93C-46DB-962A-E7C672FDD3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4E316-81C3-4B7D-8FC0-6E119F81C13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FAECD-7268-42A5-A05C-8E3BBFBC51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69EA8-300F-42C3-924B-AF9A4ABA46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FF9A9-552B-4256-AA9C-07FB7F2802D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86573-2322-4E4F-BF94-3606EFEA912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7A80C-61E3-4084-AC74-D0EBADB3258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62CAE-82EE-4669-A4CC-74285185BE5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616E8-0E8E-4DE1-895C-848A08C0DC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67FBC-562D-4C82-8059-DC6DEF1E9C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F279E-0BC0-4138-A15E-5EF19FA5C6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9C8F6-B527-4B69-A23C-612AC811040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F0F16-B5CD-4657-A0D5-E279FC1AA8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D4C02-CBB3-4F78-9476-96252FEE41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E0F-EED5-4D10-881C-FACFE51B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BE9-039D-468A-A657-D10D1827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07E-D487-42E5-9D93-37792C50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6A0-0A5E-4191-BF8D-F4ADC1A5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D12-3453-4B71-A501-040ED076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FF3-E57A-4729-B09F-3CEE54D6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792-3BC3-4850-B3F1-ABED618C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E0D-1015-4760-A1BE-28685511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8ED-5ABF-4434-B5C1-0A7FF1CA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9B4-3842-4133-A126-F724B1DA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E5C-4C5D-481C-BE04-832B9F3C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715-57A9-41AB-AC69-4117D802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F4209-766A-4385-8C82-4E407AF010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CD40D-AD64-4BDB-BE49-7C4002F605AB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I41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419640" y="90792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325600" y="1811160"/>
                <a:ext cx="51847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 Box 4"/>
          <p:cNvSpPr/>
          <p:nvPr/>
        </p:nvSpPr>
        <p:spPr>
          <a:xfrm>
            <a:off x="1066680" y="3809880"/>
            <a:ext cx="35053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Gum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20920" y="5005440"/>
                <a:ext cx="602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96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,1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14400" y="457200"/>
            <a:ext cx="792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Valor aproximado para fdp Pearson3 y L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1143000"/>
            <a:ext cx="36576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≤ B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≥ A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562720" y="1371600"/>
            <a:ext cx="3276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95280" y="3162240"/>
                <a:ext cx="25336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827600" y="2941560"/>
                <a:ext cx="29941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751280" y="4078440"/>
                <a:ext cx="2994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57200" y="4406760"/>
                <a:ext cx="216216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AutoShape 9">
            <a:hlinkClick r:id="rId1" action="ppaction://hlinksldjump"/>
          </p:cNvPr>
          <p:cNvSpPr/>
          <p:nvPr/>
        </p:nvSpPr>
        <p:spPr>
          <a:xfrm>
            <a:off x="8458200" y="5181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172200" y="533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267080" y="57150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=100 años y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419720" y="6172200"/>
            <a:ext cx="472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=297,3 y A=1563 m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9092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istribución normal y log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09480" y="1295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ntervalos exactos con distribución student t no cent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143000" y="2819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38080" y="2514600"/>
            <a:ext cx="73915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3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905120"/>
          <a:ext cx="8458200" cy="4260600"/>
        </p:xfrm>
        <a:graphic>
          <a:graphicData uri="http://schemas.openxmlformats.org/drawingml/2006/table">
            <a:tbl>
              <a:tblPr/>
              <a:tblGrid>
                <a:gridCol w="1600200"/>
                <a:gridCol w="6858000"/>
              </a:tblGrid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x(i) ordenados vs. z(pi), donde z(pi) es la variable normal estándar para p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-qi y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probabilidad de excedencia seg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n fórmula general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i – a)/(n + 1 – 2a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r a = 3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[x(i)] ordenados versus z(pi). Usar a = 3/8 para estimar probabilidad de exced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mbel y Weib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Gumbel 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ficar observaciones ordenadas x(i) versus variable reducida yi = -ln[-ln(1-qi)]. Usar posiciones de g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fico de Gringorten. Para Weibull graficar l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ln[-ln(qi)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observaciones ordenadas x(i)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. Papel lognormal también sirv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trucción de gráficos de prob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siciones de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2743200"/>
          <a:ext cx="6934320" cy="289548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goday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n + 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ngor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n + 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b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+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57"/>
          <p:cNvSpPr/>
          <p:nvPr/>
        </p:nvSpPr>
        <p:spPr>
          <a:xfrm>
            <a:off x="1391760" y="56386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ifornia: pi = i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19600" y="1417680"/>
                <a:ext cx="21621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27288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porac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ón de información histó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histó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ó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r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rcadores de crec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leo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illos de árb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ósitos de se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James McPhee.TOPANGA\My Documents\Docencia\ci41c_04_2\Mat_apoyo\Boulder-Creek-Damage_bw.jpg"/>
          <p:cNvPicPr/>
          <p:nvPr/>
        </p:nvPicPr>
        <p:blipFill>
          <a:blip r:embed="rId1"/>
          <a:stretch/>
        </p:blipFill>
        <p:spPr>
          <a:xfrm>
            <a:off x="457200" y="228600"/>
            <a:ext cx="4800600" cy="291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James McPhee.TOPANGA\My Documents\Docencia\ci41c_04_2\Mat_apoyo\flood.jpg"/>
          <p:cNvPicPr/>
          <p:nvPr/>
        </p:nvPicPr>
        <p:blipFill>
          <a:blip r:embed="rId2"/>
          <a:stretch/>
        </p:blipFill>
        <p:spPr>
          <a:xfrm>
            <a:off x="5867280" y="7632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James McPhee.TOPANGA\My Documents\Docencia\ci41c_04_2\Mat_apoyo\img004.jpg"/>
          <p:cNvPicPr/>
          <p:nvPr/>
        </p:nvPicPr>
        <p:blipFill>
          <a:blip r:embed="rId3"/>
          <a:stretch/>
        </p:blipFill>
        <p:spPr>
          <a:xfrm>
            <a:off x="76320" y="3257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Documents and Settings\James McPhee.TOPANGA\My Documents\Docencia\ci41c_04_2\Mat_apoyo\00180018.jpg"/>
          <p:cNvPicPr/>
          <p:nvPr/>
        </p:nvPicPr>
        <p:blipFill>
          <a:blip r:embed="rId4"/>
          <a:stretch/>
        </p:blipFill>
        <p:spPr>
          <a:xfrm>
            <a:off x="5772240" y="2209680"/>
            <a:ext cx="314316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C:\Documents and Settings\James McPhee.TOPANGA\My Documents\Docencia\ci41c_04_2\Mat_apoyo\img005.jpg"/>
          <p:cNvPicPr/>
          <p:nvPr/>
        </p:nvPicPr>
        <p:blipFill>
          <a:blip r:embed="rId5"/>
          <a:stretch/>
        </p:blipFill>
        <p:spPr>
          <a:xfrm>
            <a:off x="2286000" y="3848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James McPhee.TOPANGA\My Documents\Docencia\ci41c_04_2\Mat_apoyo\slackwater.jpg"/>
          <p:cNvPicPr/>
          <p:nvPr/>
        </p:nvPicPr>
        <p:blipFill>
          <a:blip r:embed="rId1"/>
          <a:stretch/>
        </p:blipFill>
        <p:spPr>
          <a:xfrm>
            <a:off x="4343400" y="3598920"/>
            <a:ext cx="4541760" cy="29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James McPhee.TOPANGA\My Documents\Docencia\ci41c_04_2\Mat_apoyo\img007.jpg"/>
          <p:cNvPicPr/>
          <p:nvPr/>
        </p:nvPicPr>
        <p:blipFill>
          <a:blip r:embed="rId2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Documents and Settings\James McPhee.TOPANGA\My Documents\Docencia\ci41c_04_2\Mat_apoyo\chiricahua flood scar.jpg"/>
          <p:cNvPicPr/>
          <p:nvPr/>
        </p:nvPicPr>
        <p:blipFill>
          <a:blip r:embed="rId3"/>
          <a:stretch/>
        </p:blipFill>
        <p:spPr>
          <a:xfrm>
            <a:off x="228600" y="1219320"/>
            <a:ext cx="4800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orporación info. histó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histórico de h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medido de s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íodo total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total de r crecidas supera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umbral de percepción” 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 es el número de crecidas medidas que superan el umbral de 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3809880"/>
          <a:ext cx="464832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9880"/>
                    <a:ext cx="46483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6440" y="5057640"/>
          <a:ext cx="774684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440" y="5057640"/>
                    <a:ext cx="77468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6"/>
          <p:cNvSpPr/>
          <p:nvPr/>
        </p:nvSpPr>
        <p:spPr>
          <a:xfrm>
            <a:off x="5181480" y="3352680"/>
            <a:ext cx="3505320" cy="14479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r/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404640"/>
            <a:ext cx="76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dato registro sistemático de longitud n es el mayor (m=1) en un periodo de r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609480" y="762120"/>
            <a:ext cx="381240" cy="1371600"/>
          </a:xfrm>
          <a:custGeom>
            <a:avLst/>
            <a:gdLst>
              <a:gd name="textAreaLeft" fmla="*/ 51120 w 381240"/>
              <a:gd name="textAreaRight" fmla="*/ 330120 w 38124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90720" y="1676520"/>
            <a:ext cx="3657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≥Q*)=1/(r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09480" y="2384280"/>
            <a:ext cx="8382240" cy="44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etermina un caudal máximo por las trazas dejadas en la rib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no se sabe lo sucedido en período intermedio (antes de iniciarse el registro sistemático), agregar como valor adicional en muestra. Se tiene n+1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sabe que es el mayor valor del período, agregar a la muestra insertándolo en el orden que corresponde. Todos los valores de mayor orden cambian su prob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fectos de análisis hidrológico, muchas veces es necesario estimar caudales cuyo período de retorno T es superior al período de regi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fortunadamente, se encuentra que las variables hidrológicas de interés se “distribuyen” de acuerdo a funciones conocidas de densidad de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324000" y="1557360"/>
            <a:ext cx="457200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371600" y="62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 Frecuencias de muestras con Valores N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684360" y="1823040"/>
            <a:ext cx="2739960" cy="195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spacio Mues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2843280" y="1801080"/>
            <a:ext cx="2057400" cy="19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ub conjunto valores  &gt;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335400" y="5056200"/>
                <a:ext cx="5214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vento</m:t>
                    </m:r>
                    <m:r>
                      <m:t xml:space="preserve">&gt;</m:t>
                    </m:r>
                    <m:r>
                      <m:t xml:space="preserve">x</m:t>
                    </m:r>
                    <m:f>
                      <m:fPr>
                        <m:type m:val="lin"/>
                      </m:fPr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eventos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AutoShape 7"/>
          <p:cNvSpPr/>
          <p:nvPr/>
        </p:nvSpPr>
        <p:spPr>
          <a:xfrm>
            <a:off x="4187160" y="1954080"/>
            <a:ext cx="5405760" cy="25164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 rot="2338800">
            <a:off x="4689000" y="27622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rot="3880800">
            <a:off x="5752800" y="4000320"/>
            <a:ext cx="1143000" cy="76212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 rot="16195200">
            <a:off x="6426360" y="3230280"/>
            <a:ext cx="380880" cy="3657600"/>
          </a:xfrm>
          <a:custGeom>
            <a:avLst/>
            <a:gdLst>
              <a:gd name="textAreaLeft" fmla="*/ 0 w 380880"/>
              <a:gd name="textAreaRight" fmla="*/ 13752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334800"/>
            <a:ext cx="86374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lisis de frecuencia series con valores n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ípico de regiones con clima semi-ar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aplica mismo criterio que en incorporación de info. histó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tal N observaciones, r son mayores que 0 (o algún otro límite de det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28600" y="5557680"/>
            <a:ext cx="1828800" cy="462240"/>
          </a:xfrm>
          <a:prstGeom prst="borderCallout2">
            <a:avLst>
              <a:gd name="adj1" fmla="val 18750"/>
              <a:gd name="adj2" fmla="val -8333"/>
              <a:gd name="adj3" fmla="val 24740"/>
              <a:gd name="adj4" fmla="val 125523"/>
              <a:gd name="adj5" fmla="val -112712"/>
              <a:gd name="adj6" fmla="val 147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hay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572000" y="5334120"/>
            <a:ext cx="4267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287"/>
              <a:gd name="adj5" fmla="val -46092"/>
              <a:gd name="adj6" fmla="val -10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excedencia dado que hubo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25560" y="4070520"/>
                <a:ext cx="3200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838080" y="609480"/>
            <a:ext cx="693432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Periodos de Retorno para el Diseño de Obras Hidráu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600200" y="2133720"/>
            <a:ext cx="6858000" cy="435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Principal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Secundaria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lcantar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90720" y="380880"/>
            <a:ext cx="6858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renaje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Grande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5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ero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ertederos de Presas sin Riesgo de Pérdida de Vidas Hu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Intermedi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&gt;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838080" y="60948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Pequeñ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7 a 12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Intermedi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2 a 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randes Presa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&gt;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523880" y="3200400"/>
            <a:ext cx="7010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existe riesgo de pérdida de vidas humanas se estima la crecida máxima probable (VLE) y el vertedero se diseña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50 a 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216000" y="914400"/>
            <a:ext cx="1307880" cy="4546440"/>
          </a:xfrm>
          <a:prstGeom prst="pie">
            <a:avLst/>
          </a:prstGeom>
          <a:noFill/>
          <a:ln w="7632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838080" y="11430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609480" y="1676520"/>
            <a:ext cx="914400" cy="412740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62120" y="762120"/>
            <a:ext cx="8001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Riesgo: estructura falla si Caudal de diseño se excede al menos 1 vez, durante la vida útil de la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819520"/>
            <a:ext cx="6553080" cy="78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R=1-[1-P(x≥x</a:t>
            </a:r>
            <a:r>
              <a:rPr b="1" lang="es-ES_tradnl" sz="40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)]</a:t>
            </a:r>
            <a:r>
              <a:rPr b="1" lang="es-ES_tradnl" sz="4000" spc="-1" strike="noStrike" baseline="30000">
                <a:solidFill>
                  <a:srgbClr val="000066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828800" y="5105520"/>
            <a:ext cx="44197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S=C/L     o     MS=C-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362320" y="3886200"/>
            <a:ext cx="220968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adop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419720" y="5867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2819160" y="4572000"/>
            <a:ext cx="228600" cy="6094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 flipH="1" flipV="1">
            <a:off x="5790960" y="5486400"/>
            <a:ext cx="152280" cy="4572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371600" y="30492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Análisi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3520" y="838080"/>
            <a:ext cx="78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determina el periodo de retorno óptimo que es aquel que minimiza los costos conjuntos de la inversión y los d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371600" y="2666880"/>
            <a:ext cx="716292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iseña para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, la estructura prevendrá de los daños para x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90720" y="472428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l costo esperado anual de daños se determina como el producto de la probabilidad f(x)dx de que ese evento ocurra en cualquier año y el daño D(x) que resultaria de ese e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276720" y="3581280"/>
            <a:ext cx="251460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7880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3"/>
          <p:cNvSpPr/>
          <p:nvPr/>
        </p:nvSpPr>
        <p:spPr>
          <a:xfrm>
            <a:off x="7086600" y="1600200"/>
            <a:ext cx="1219320" cy="44197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4114800" y="1981080"/>
            <a:ext cx="3581280" cy="1600200"/>
            <a:chOff x="4114800" y="1981080"/>
            <a:chExt cx="3581280" cy="160020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114800" y="1981080"/>
                  <a:ext cx="2476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≡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Line 6"/>
            <p:cNvSpPr/>
            <p:nvPr/>
          </p:nvSpPr>
          <p:spPr>
            <a:xfrm>
              <a:off x="6553080" y="2590920"/>
              <a:ext cx="1143000" cy="9903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3637080"/>
                <a:ext cx="52722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º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488880"/>
            <a:ext cx="82296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comienzo del curso repasamos algunas distribuciones probabilísticas contínuas que se usan en hidrolog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-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um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trema tipo I, II 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a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étodo del factor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o sab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T, si F es invertible, uno podría encontrar x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F rara vez es invertible! enton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52680" y="2286000"/>
                <a:ext cx="2057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505320" y="5276880"/>
                <a:ext cx="2057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Line Callout 2 5"/>
          <p:cNvSpPr/>
          <p:nvPr/>
        </p:nvSpPr>
        <p:spPr>
          <a:xfrm>
            <a:off x="5410080" y="59436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7861"/>
              <a:gd name="adj6" fmla="val -16467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frecuencia, varia dependiendo de la distribución u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14400" y="533520"/>
            <a:ext cx="594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Métodos de ajuste a una distribución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Verdana"/>
              </a:rPr>
              <a:t>Mo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43000" y="2057400"/>
            <a:ext cx="7162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omentos de fdp son iguales a los de la muestra (ej: distribución exponen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895480" y="3124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λ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78168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4037040"/>
                <a:ext cx="304812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λ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Text Box 8"/>
          <p:cNvSpPr/>
          <p:nvPr/>
        </p:nvSpPr>
        <p:spPr>
          <a:xfrm>
            <a:off x="586728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μ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/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5791320" y="5562720"/>
            <a:ext cx="1904760" cy="459720"/>
            <a:chOff x="5791320" y="5562720"/>
            <a:chExt cx="1904760" cy="459720"/>
          </a:xfrm>
        </p:grpSpPr>
        <p:sp>
          <p:nvSpPr>
            <p:cNvPr id="67" name="Text Box 10"/>
            <p:cNvSpPr/>
            <p:nvPr/>
          </p:nvSpPr>
          <p:spPr>
            <a:xfrm>
              <a:off x="5791320" y="55627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6858000" y="563868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067280" y="260280"/>
            <a:ext cx="4190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Máxima Verosimi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85640" y="914400"/>
            <a:ext cx="7772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ejor valor de los parámetros son aquellos que maximizan la probabilidad conjunta de ocurrencia de la mu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04760" y="2644920"/>
                <a:ext cx="291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limLow>
                          <m:e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Text Box 5"/>
          <p:cNvSpPr/>
          <p:nvPr/>
        </p:nvSpPr>
        <p:spPr>
          <a:xfrm>
            <a:off x="6095880" y="3306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</a:t>
            </a:r>
            <a:r>
              <a:rPr b="1" lang="es-ES_tradnl" sz="28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62120" y="4575240"/>
                <a:ext cx="327636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λ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48320" y="4575240"/>
                <a:ext cx="3200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AutoShape 8"/>
          <p:cNvSpPr/>
          <p:nvPr/>
        </p:nvSpPr>
        <p:spPr>
          <a:xfrm>
            <a:off x="4267080" y="5257800"/>
            <a:ext cx="304920" cy="1143000"/>
          </a:xfrm>
          <a:custGeom>
            <a:avLst/>
            <a:gdLst>
              <a:gd name="textAreaLeft" fmla="*/ 40680 w 304920"/>
              <a:gd name="textAreaRight" fmla="*/ 264240 w 3049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648320" y="6095880"/>
            <a:ext cx="1904760" cy="459720"/>
            <a:chOff x="4648320" y="6095880"/>
            <a:chExt cx="1904760" cy="459720"/>
          </a:xfrm>
        </p:grpSpPr>
        <p:sp>
          <p:nvSpPr>
            <p:cNvPr id="77" name="Text Box 10"/>
            <p:cNvSpPr/>
            <p:nvPr/>
          </p:nvSpPr>
          <p:spPr>
            <a:xfrm>
              <a:off x="4648320" y="6095880"/>
              <a:ext cx="1904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5715000" y="617184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Line Callout 2 11"/>
          <p:cNvSpPr/>
          <p:nvPr/>
        </p:nvSpPr>
        <p:spPr>
          <a:xfrm>
            <a:off x="2933640" y="20574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93291"/>
              <a:gd name="adj6" fmla="val -62574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ón de verosimi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371760" y="26028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ruebas de Bondad de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1600200"/>
            <a:ext cx="64771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hi cuadrado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: compara frecuencia relativa de muestra (f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 con valor teórico de distribución p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71560" y="3206880"/>
                <a:ext cx="3627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5486400" y="35812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e compara con fdp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2 con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grados de libertad y nivel de confianza 1-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38080" y="4648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m-p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04920" y="5638680"/>
            <a:ext cx="3429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parámetros de la f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1905120" y="5028840"/>
            <a:ext cx="15228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800600" y="5029200"/>
            <a:ext cx="4038480" cy="106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rechaza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&gt;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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952880" y="838080"/>
            <a:ext cx="403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olmogorov Smir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143000" y="4678200"/>
            <a:ext cx="380880" cy="46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0" y="4219560"/>
            <a:ext cx="342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interv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K, logramos ajustar una fdp, obtuvimos el factor de frecuencia, y calculamos x_T en función de los datos observados; cuál es el grado de confiabilidad que merecen nuestras estim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57200" y="53352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La precisión de resultados depende de la longitud de los registros dispo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219320" y="19051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de suponerse que la estimación tiene distribució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1640" y="3921120"/>
                <a:ext cx="3329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5105520" cy="39178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6"/>
          <p:cNvSpPr/>
          <p:nvPr/>
        </p:nvSpPr>
        <p:spPr>
          <a:xfrm>
            <a:off x="7620120" y="3733920"/>
            <a:ext cx="183960" cy="7617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51055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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7086600" y="3886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708660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7531200" y="3860640"/>
            <a:ext cx="253800" cy="62244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2209680" y="4114800"/>
            <a:ext cx="5410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12:51Z</dcterms:created>
  <dc:creator>James McPhee</dc:creator>
  <dc:description/>
  <dc:language>en-US</dc:language>
  <cp:lastModifiedBy>James McPhee</cp:lastModifiedBy>
  <cp:lastPrinted>2008-10-27T14:45:47Z</cp:lastPrinted>
  <dcterms:modified xsi:type="dcterms:W3CDTF">2009-10-05T15:34:12Z</dcterms:modified>
  <cp:revision>9</cp:revision>
  <dc:subject/>
  <dc:title>Análisis de Frecuencia</dc:title>
</cp:coreProperties>
</file>