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wmf" ContentType="image/x-wmf"/>
  <Override PartName="/ppt/media/image14.png" ContentType="image/png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EAD1A-DC0D-4C67-9A7E-156F234908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94051-7F66-422F-8A60-A0A61D0C1D6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20BD1-61AC-4FD6-AFC7-EFB1C3FF57F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1F0CB-ACBB-4DF1-8171-105F0C14B73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ECB655-BCD3-4B2E-9B6A-92E9AB27B2F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1D1C7E-77D8-48BD-9C28-141AC820E4F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26EA9-0307-44C9-832F-AD7B5B1A02A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C63A06-05AF-4435-9971-02663F75255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2947B-C28A-4512-9E92-D4D8FFCEA11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D2162-A971-466A-BA2E-A011A70B20D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419F4-A65D-43ED-8F37-8338A2DF917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AB5134-5490-4E39-9EAC-CE10A32A132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05120-21FF-4C25-A43D-DB1C6D23E4C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0CD151-3B6E-4C82-876C-2783D835A72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CC5915-D2DB-4A27-89AF-36F1B8D156A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15C46-337F-4CF5-BD4E-9EBC4F00AA8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C84E3-4075-43BD-8153-3AC748A1DC4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79F26-3FF3-4F2B-AA10-7A56E2BC57B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3EA2-FA82-498E-84E5-193ABF29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90F8-F799-44C1-AA18-1B7C2B3A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2C0C-51C3-44DC-B9CE-57E33E69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5633-5DDB-40A3-A062-D5320BFD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CD4-AD8C-4160-A206-DEF4BAC7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0F69-7440-4DE8-9E46-A927FEBA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1434-6955-4833-B77D-8548477B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A6D-B0F7-4704-8165-79B37FDF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059B-EC50-47A3-8FDC-9D971917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15C-A643-4E42-9042-C7920894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972C-845A-4F09-9C07-59F1BB5D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518B-AB69-4804-8A0E-EF5FDCEF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7B3B70-C6A7-4B1C-B734-217302ACC6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094AE-A6CE-4FDD-8711-C51B17CE2085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nálisis de Frecu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I41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imavera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419640" y="907920"/>
            <a:ext cx="3581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Valor aproximado fdp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325600" y="1811160"/>
                <a:ext cx="51847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Text Box 4"/>
          <p:cNvSpPr/>
          <p:nvPr/>
        </p:nvSpPr>
        <p:spPr>
          <a:xfrm>
            <a:off x="1066680" y="3809880"/>
            <a:ext cx="35053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Valor aproximado fdp Gum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320920" y="5005440"/>
                <a:ext cx="602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396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,1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914400" y="457200"/>
            <a:ext cx="7924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Valor aproximado para fdp Pearson3 y L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1143000"/>
            <a:ext cx="36576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(x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*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 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≤ B 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,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(x))=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(x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*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≥ A 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,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(x))=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562720" y="1371600"/>
            <a:ext cx="3276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Nivel de Confianza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β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295280" y="3162240"/>
                <a:ext cx="253368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827600" y="2941560"/>
                <a:ext cx="29941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rad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751280" y="4078440"/>
                <a:ext cx="29941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rad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357200" y="4406760"/>
                <a:ext cx="216216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" name="AutoShape 9">
            <a:hlinkClick r:id="rId1" action="ppaction://hlinksldjump"/>
          </p:cNvPr>
          <p:cNvSpPr/>
          <p:nvPr/>
        </p:nvSpPr>
        <p:spPr>
          <a:xfrm>
            <a:off x="8458200" y="5181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172200" y="5334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267080" y="571500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=100 años y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β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419720" y="6172200"/>
            <a:ext cx="4724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B=297,3 y A=1563 m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3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590920" y="765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Distribución normal y log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609480" y="12952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Intervalos exactos con distribución student t no cent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143000" y="28195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838080" y="2514600"/>
            <a:ext cx="73915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8137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04920" y="1905120"/>
          <a:ext cx="8458200" cy="4260600"/>
        </p:xfrm>
        <a:graphic>
          <a:graphicData uri="http://schemas.openxmlformats.org/drawingml/2006/table">
            <a:tbl>
              <a:tblPr/>
              <a:tblGrid>
                <a:gridCol w="1600200"/>
                <a:gridCol w="6858000"/>
              </a:tblGrid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ficar x(i) ordenados vs. z(pi), donde z(pi) es la variable normal estándar para p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-qi y q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probabilidad de excedencia seg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n fórmula general q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(i – a)/(n + 1 – 2a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r a = 3/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ficar log[x(i)] ordenados versus z(pi). Usar a = 3/8 para estimar probabilidad de exced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mbel y Weibu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Gumbel g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ficar observaciones ordenadas x(i) versus variable reducida yi = -ln[-ln(1-qi)]. Usar posiciones de gr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fico de Gringorten. Para Weibull graficar l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x(i)] versus ln[-ln(qi)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rson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ficar observaciones ordenadas x(i) versus Kpi(Cw) donde pi = 1 – qi. Usar a = 3/8. Cw es el coeficiente de asimetr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 Pearson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ficar log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x(i)] versus Kpi(Cw) donde pi = 1 – qi. Usar a = 3/8. Cw es el coeficiente de asimetr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ía. Papel lognormal también sirv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strucción de gráficos de prob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osiciones de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66680" y="2743200"/>
          <a:ext cx="6934320" cy="2895480"/>
        </p:xfrm>
        <a:graphic>
          <a:graphicData uri="http://schemas.openxmlformats.org/drawingml/2006/table">
            <a:tbl>
              <a:tblPr/>
              <a:tblGrid>
                <a:gridCol w="2311560"/>
                <a:gridCol w="2311200"/>
                <a:gridCol w="23115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godaye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3n + 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ngor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9n + 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b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+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57"/>
          <p:cNvSpPr/>
          <p:nvPr/>
        </p:nvSpPr>
        <p:spPr>
          <a:xfrm>
            <a:off x="1391760" y="5638680"/>
            <a:ext cx="21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lifornia: pi = i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819600" y="1417680"/>
                <a:ext cx="21621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27288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orporac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ón de información histó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gistro histó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iód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r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rcadores de crec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leocrec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illos de árb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pósitos de sed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Documents and Settings\James McPhee.TOPANGA\My Documents\Docencia\ci41c_04_2\Mat_apoyo\Boulder-Creek-Damage_bw.jpg"/>
          <p:cNvPicPr/>
          <p:nvPr/>
        </p:nvPicPr>
        <p:blipFill>
          <a:blip r:embed="rId1"/>
          <a:stretch/>
        </p:blipFill>
        <p:spPr>
          <a:xfrm>
            <a:off x="457200" y="228600"/>
            <a:ext cx="4800600" cy="2911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Documents and Settings\James McPhee.TOPANGA\My Documents\Docencia\ci41c_04_2\Mat_apoyo\flood.jpg"/>
          <p:cNvPicPr/>
          <p:nvPr/>
        </p:nvPicPr>
        <p:blipFill>
          <a:blip r:embed="rId2"/>
          <a:stretch/>
        </p:blipFill>
        <p:spPr>
          <a:xfrm>
            <a:off x="5867280" y="76320"/>
            <a:ext cx="2362320" cy="177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Documents and Settings\James McPhee.TOPANGA\My Documents\Docencia\ci41c_04_2\Mat_apoyo\img004.jpg"/>
          <p:cNvPicPr/>
          <p:nvPr/>
        </p:nvPicPr>
        <p:blipFill>
          <a:blip r:embed="rId3"/>
          <a:stretch/>
        </p:blipFill>
        <p:spPr>
          <a:xfrm>
            <a:off x="76320" y="32576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C:\Documents and Settings\James McPhee.TOPANGA\My Documents\Docencia\ci41c_04_2\Mat_apoyo\00180018.jpg"/>
          <p:cNvPicPr/>
          <p:nvPr/>
        </p:nvPicPr>
        <p:blipFill>
          <a:blip r:embed="rId4"/>
          <a:stretch/>
        </p:blipFill>
        <p:spPr>
          <a:xfrm>
            <a:off x="5772240" y="2209680"/>
            <a:ext cx="3143160" cy="3200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C:\Documents and Settings\James McPhee.TOPANGA\My Documents\Docencia\ci41c_04_2\Mat_apoyo\img005.jpg"/>
          <p:cNvPicPr/>
          <p:nvPr/>
        </p:nvPicPr>
        <p:blipFill>
          <a:blip r:embed="rId5"/>
          <a:stretch/>
        </p:blipFill>
        <p:spPr>
          <a:xfrm>
            <a:off x="2286000" y="38480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Documents and Settings\James McPhee.TOPANGA\My Documents\Docencia\ci41c_04_2\Mat_apoyo\slackwater.jpg"/>
          <p:cNvPicPr/>
          <p:nvPr/>
        </p:nvPicPr>
        <p:blipFill>
          <a:blip r:embed="rId1"/>
          <a:stretch/>
        </p:blipFill>
        <p:spPr>
          <a:xfrm>
            <a:off x="4343400" y="3598920"/>
            <a:ext cx="4541760" cy="2946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Documents and Settings\James McPhee.TOPANGA\My Documents\Docencia\ci41c_04_2\Mat_apoyo\img007.jpg"/>
          <p:cNvPicPr/>
          <p:nvPr/>
        </p:nvPicPr>
        <p:blipFill>
          <a:blip r:embed="rId2"/>
          <a:stretch/>
        </p:blipFill>
        <p:spPr>
          <a:xfrm>
            <a:off x="5105520" y="304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C:\Documents and Settings\James McPhee.TOPANGA\My Documents\Docencia\ci41c_04_2\Mat_apoyo\chiricahua flood scar.jpg"/>
          <p:cNvPicPr/>
          <p:nvPr/>
        </p:nvPicPr>
        <p:blipFill>
          <a:blip r:embed="rId3"/>
          <a:stretch/>
        </p:blipFill>
        <p:spPr>
          <a:xfrm>
            <a:off x="228600" y="1219320"/>
            <a:ext cx="48006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corporación info. histó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 histórico de h años de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 medido de s años de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íodo total 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s +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total de r crecidas superan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umbral de percepción” Q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 es el número de crecidas medidas que superan el umbral de per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80880" y="3809880"/>
          <a:ext cx="4648320" cy="9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9880"/>
                    <a:ext cx="464832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06440" y="5057640"/>
          <a:ext cx="7746840" cy="10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440" y="5057640"/>
                    <a:ext cx="77468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AutoShape 6"/>
          <p:cNvSpPr/>
          <p:nvPr/>
        </p:nvSpPr>
        <p:spPr>
          <a:xfrm>
            <a:off x="5181480" y="3352680"/>
            <a:ext cx="3505320" cy="14479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3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 r/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447920" y="404640"/>
            <a:ext cx="7696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dato registro sistemático de longitud n es el mayor (m=1) en un periodo de r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609480" y="762120"/>
            <a:ext cx="381240" cy="1371600"/>
          </a:xfrm>
          <a:custGeom>
            <a:avLst/>
            <a:gdLst>
              <a:gd name="textAreaLeft" fmla="*/ 51120 w 381240"/>
              <a:gd name="textAreaRight" fmla="*/ 330120 w 38124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990720" y="1676520"/>
            <a:ext cx="3657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(X≥Q*)=1/(r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09480" y="2384280"/>
            <a:ext cx="8382240" cy="449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se determina un caudal máximo por las trazas dejadas en la rib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no se sabe lo sucedido en período intermedio (antes de iniciarse el registro sistemático), agregar como valor adicional en muestra. Se tiene n+1 val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se sabe que es el mayor valor del período, agregar a la muestra insertándolo en el orden que corresponde. Todos los valores de mayor orden cambian su prob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efectos de análisis hidrológico, muchas veces es necesario estimar caudales cuyo período de retorno T es superior al período de regist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fortunadamente, se encuentra que las variables hidrológicas de interés se “distribuyen” de acuerdo a funciones conocidas de densidad de frecu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2"/>
          <p:cNvSpPr/>
          <p:nvPr/>
        </p:nvSpPr>
        <p:spPr>
          <a:xfrm>
            <a:off x="324000" y="1557360"/>
            <a:ext cx="4572000" cy="259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371600" y="6206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nálisis de Frecuencias de muestras con Valores N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684360" y="1823040"/>
            <a:ext cx="2739960" cy="1953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spacio Mues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N ev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2843280" y="1801080"/>
            <a:ext cx="2057400" cy="1916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Sub conjunto valores  &gt;x</a:t>
            </a:r>
            <a:r>
              <a:rPr b="1" lang="es-ES_tradnl" sz="2000" spc="-1" strike="noStrike" baseline="-25000">
                <a:solidFill>
                  <a:srgbClr val="000066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335400" y="5056200"/>
                <a:ext cx="5214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º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vento</m:t>
                    </m:r>
                    <m:r>
                      <m:t xml:space="preserve">&gt;</m:t>
                    </m:r>
                    <m:r>
                      <m:t xml:space="preserve">x</m:t>
                    </m:r>
                    <m:f>
                      <m:fPr>
                        <m:type m:val="lin"/>
                      </m:fPr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eventos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AutoShape 7"/>
          <p:cNvSpPr/>
          <p:nvPr/>
        </p:nvSpPr>
        <p:spPr>
          <a:xfrm>
            <a:off x="4187160" y="1954080"/>
            <a:ext cx="5405760" cy="2516400"/>
          </a:xfrm>
          <a:prstGeom prst="irregularSeal2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nálisi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fr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 rot="2338800">
            <a:off x="4689000" y="2762280"/>
            <a:ext cx="914400" cy="762120"/>
          </a:xfrm>
          <a:prstGeom prst="rightArrow">
            <a:avLst>
              <a:gd name="adj1" fmla="val 50000"/>
              <a:gd name="adj2" fmla="val 29995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 rot="3880800">
            <a:off x="5752800" y="4000320"/>
            <a:ext cx="1143000" cy="762120"/>
          </a:xfrm>
          <a:prstGeom prst="pi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 rot="16195200">
            <a:off x="6426360" y="3230280"/>
            <a:ext cx="380880" cy="3657600"/>
          </a:xfrm>
          <a:custGeom>
            <a:avLst/>
            <a:gdLst>
              <a:gd name="textAreaLeft" fmla="*/ 0 w 380880"/>
              <a:gd name="textAreaRight" fmla="*/ 137520 w 38088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7160" y="334800"/>
            <a:ext cx="86374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álisis de frecuencia series con valores n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ípico de regiones con clima semi-ar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aplica mismo criterio que en incorporación de info. histó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otal N observaciones, r son mayores que 0 (o algún otro límite de dete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228600" y="5557680"/>
            <a:ext cx="1828800" cy="462240"/>
          </a:xfrm>
          <a:prstGeom prst="borderCallout2">
            <a:avLst>
              <a:gd name="adj1" fmla="val 18750"/>
              <a:gd name="adj2" fmla="val -8333"/>
              <a:gd name="adj3" fmla="val 24740"/>
              <a:gd name="adj4" fmla="val 125523"/>
              <a:gd name="adj5" fmla="val -112712"/>
              <a:gd name="adj6" fmla="val 1476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(hay flu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4572000" y="5334120"/>
            <a:ext cx="42670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6287"/>
              <a:gd name="adj5" fmla="val -46092"/>
              <a:gd name="adj6" fmla="val -10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(excedencia dado que hubo flu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725560" y="4070520"/>
                <a:ext cx="32004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º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838080" y="609480"/>
            <a:ext cx="6934320" cy="9471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Periodos de Retorno para el Diseño de Obras Hidráu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600200" y="2133720"/>
            <a:ext cx="6858000" cy="435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ipo de Obra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 (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Principal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0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Secundaria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10-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lcantar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Alto Tráfic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0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Tráfico Intermedi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10-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Bajo Tráfic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990720" y="380880"/>
            <a:ext cx="6858000" cy="63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ipo de Obra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 (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Drenaje Urb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iudades Pequeñas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2-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iudades 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Grandes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25-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eropue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Alto Tráfic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0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Tráfico Intermedi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10-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Bajo Tráfic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Vertederos de Presas sin Riesgo de Pérdida de Vidas Hum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Presas Pequeñas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0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Presas Intermedias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&gt;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838080" y="609480"/>
            <a:ext cx="7620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mbalse Pequeño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7 a 12 m de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mbalse Intermedio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12 a 30 m de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Grandes Presas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&gt;30 m de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523880" y="3200400"/>
            <a:ext cx="7010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existe riesgo de pérdida de vidas humanas se estima la crecida máxima probable (VLE) y el vertedero se diseña c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50 a 100% V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100% V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"/>
          <p:cNvSpPr/>
          <p:nvPr/>
        </p:nvSpPr>
        <p:spPr>
          <a:xfrm>
            <a:off x="216000" y="914400"/>
            <a:ext cx="1307880" cy="4546440"/>
          </a:xfrm>
          <a:prstGeom prst="pie">
            <a:avLst/>
          </a:prstGeom>
          <a:noFill/>
          <a:ln w="7632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838080" y="114300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6"/>
          <p:cNvSpPr/>
          <p:nvPr/>
        </p:nvSpPr>
        <p:spPr>
          <a:xfrm>
            <a:off x="609480" y="1676520"/>
            <a:ext cx="914400" cy="4127400"/>
          </a:xfrm>
          <a:prstGeom prst="pie">
            <a:avLst/>
          </a:pr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762120" y="762120"/>
            <a:ext cx="8001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Riesgo: estructura falla si Caudal de diseño se excede al menos 1 vez, durante la vida útil de la ob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819520"/>
            <a:ext cx="6553080" cy="787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000" spc="-1" strike="noStrike">
                <a:solidFill>
                  <a:srgbClr val="000066"/>
                </a:solidFill>
                <a:latin typeface="Verdana"/>
              </a:rPr>
              <a:t>R=1-[1-P(x≥x</a:t>
            </a:r>
            <a:r>
              <a:rPr b="1" lang="es-ES_tradnl" sz="40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4000" spc="-1" strike="noStrike">
                <a:solidFill>
                  <a:srgbClr val="000066"/>
                </a:solidFill>
                <a:latin typeface="Verdana"/>
              </a:rPr>
              <a:t>)]</a:t>
            </a:r>
            <a:r>
              <a:rPr b="1" lang="es-ES_tradnl" sz="4000" spc="-1" strike="noStrike" baseline="30000">
                <a:solidFill>
                  <a:srgbClr val="000066"/>
                </a:solidFill>
                <a:latin typeface="Verdana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828800" y="5105520"/>
            <a:ext cx="44197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FS=C/L     o     MS=C-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362320" y="3886200"/>
            <a:ext cx="2209680" cy="825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Capacidad adop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4419720" y="58672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Capacidad de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 flipH="1">
            <a:off x="2819160" y="4572000"/>
            <a:ext cx="228600" cy="6094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 flipH="1" flipV="1">
            <a:off x="5790960" y="5486400"/>
            <a:ext cx="152280" cy="45720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371600" y="30492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Análisis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Hidro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33520" y="838080"/>
            <a:ext cx="7848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determina el periodo de retorno óptimo que es aquel que minimiza los costos conjuntos de la inversión y los dañ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371600" y="2666880"/>
            <a:ext cx="7162920" cy="9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se diseña para 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, la estructura prevendrá de los daños para x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990720" y="4724280"/>
            <a:ext cx="701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l costo esperado anual de daños se determina como el producto de la probabilidad f(x)dx de que ese evento ocurra en cualquier año y el daño D(x) que resultaria de ese ev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3276720" y="3581280"/>
            <a:ext cx="251460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78808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3"/>
          <p:cNvSpPr/>
          <p:nvPr/>
        </p:nvSpPr>
        <p:spPr>
          <a:xfrm>
            <a:off x="7086600" y="1600200"/>
            <a:ext cx="1219320" cy="44197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4114800" y="1981080"/>
            <a:ext cx="3581280" cy="1600200"/>
            <a:chOff x="4114800" y="1981080"/>
            <a:chExt cx="3581280" cy="1600200"/>
          </a:xfrm>
        </p:grpSpPr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4114800" y="1981080"/>
                  <a:ext cx="247644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≡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Line 6"/>
            <p:cNvSpPr/>
            <p:nvPr/>
          </p:nvSpPr>
          <p:spPr>
            <a:xfrm>
              <a:off x="6553080" y="2590920"/>
              <a:ext cx="1143000" cy="9903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479600" y="3637080"/>
                <a:ext cx="52722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º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º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³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³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80880" y="488880"/>
            <a:ext cx="82296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 comienzo del curso repasamos algunas distribuciones probabilísticas contínuas que se usan en hidrologí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g-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um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trema tipo I, II y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a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étodo del factor de frecu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o sabe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ado T, si F es invertible, uno podría encontrar x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o F rara vez es invertible! enton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352680" y="2286000"/>
                <a:ext cx="20574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505320" y="5276880"/>
                <a:ext cx="20574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Line Callout 2 5"/>
          <p:cNvSpPr/>
          <p:nvPr/>
        </p:nvSpPr>
        <p:spPr>
          <a:xfrm>
            <a:off x="5410080" y="5943600"/>
            <a:ext cx="2667240" cy="914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27861"/>
              <a:gd name="adj6" fmla="val -16467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tor de frecuencia, varia dependiendo de la distribución u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914400" y="533520"/>
            <a:ext cx="5943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Métodos de ajuste a una distribución de prob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057400" y="1371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Verdana"/>
              </a:rPr>
              <a:t>Mo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143000" y="2057400"/>
            <a:ext cx="7162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Momentos de fdp son iguales a los de la muestra (ej: distribución exponen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895480" y="31240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f(x)=λe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Verdana"/>
              </a:rPr>
              <a:t>-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λ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781680" y="3200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00200" y="4037040"/>
                <a:ext cx="304812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λ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x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" name="Text Box 8"/>
          <p:cNvSpPr/>
          <p:nvPr/>
        </p:nvSpPr>
        <p:spPr>
          <a:xfrm>
            <a:off x="5867280" y="4572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μ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1/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9"/>
          <p:cNvGrpSpPr/>
          <p:nvPr/>
        </p:nvGrpSpPr>
        <p:grpSpPr>
          <a:xfrm>
            <a:off x="5791320" y="5562720"/>
            <a:ext cx="1904760" cy="459720"/>
            <a:chOff x="5791320" y="5562720"/>
            <a:chExt cx="1904760" cy="459720"/>
          </a:xfrm>
        </p:grpSpPr>
        <p:sp>
          <p:nvSpPr>
            <p:cNvPr id="67" name="Text Box 10"/>
            <p:cNvSpPr/>
            <p:nvPr/>
          </p:nvSpPr>
          <p:spPr>
            <a:xfrm>
              <a:off x="5791320" y="556272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 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=1/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1"/>
            <p:cNvSpPr/>
            <p:nvPr/>
          </p:nvSpPr>
          <p:spPr>
            <a:xfrm>
              <a:off x="6858000" y="5638680"/>
              <a:ext cx="228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067280" y="260280"/>
            <a:ext cx="4190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Máxima Verosimi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85640" y="914400"/>
            <a:ext cx="7772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Mejor valor de los parámetros son aquellos que maximizan la probabilidad conjunta de ocurrencia de la mue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004760" y="2644920"/>
                <a:ext cx="291168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limLow>
                          <m:e>
                            <m:limUpp>
                              <m:e>
                                <m:r>
                                  <m:t xml:space="preserve">P</m:t>
                                </m:r>
                              </m:e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Text Box 5"/>
          <p:cNvSpPr/>
          <p:nvPr/>
        </p:nvSpPr>
        <p:spPr>
          <a:xfrm>
            <a:off x="6095880" y="33066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f(x)=</a:t>
            </a:r>
            <a:r>
              <a:rPr b="1" lang="es-ES_tradnl" sz="2800" spc="-1" strike="noStrike">
                <a:solidFill>
                  <a:srgbClr val="000066"/>
                </a:solidFill>
                <a:latin typeface="Symbol"/>
                <a:ea typeface="Symbol"/>
              </a:rPr>
              <a:t>λ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e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Verdana"/>
              </a:rPr>
              <a:t>-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λ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62120" y="4575240"/>
                <a:ext cx="3276360" cy="22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λ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x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λ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Ln</m:t>
                        </m:r>
                        <m:r>
                          <m:t xml:space="preserve">λ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Ln</m:t>
                        </m:r>
                        <m:r>
                          <m:t xml:space="preserve">λ</m:t>
                        </m:r>
                        <m:r>
                          <m:t xml:space="preserve">−</m:t>
                        </m:r>
                        <m:r>
                          <m:t xml:space="preserve">λn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648320" y="4575240"/>
                <a:ext cx="32004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L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5" name="AutoShape 8"/>
          <p:cNvSpPr/>
          <p:nvPr/>
        </p:nvSpPr>
        <p:spPr>
          <a:xfrm>
            <a:off x="4267080" y="5257800"/>
            <a:ext cx="304920" cy="1143000"/>
          </a:xfrm>
          <a:custGeom>
            <a:avLst/>
            <a:gdLst>
              <a:gd name="textAreaLeft" fmla="*/ 40680 w 304920"/>
              <a:gd name="textAreaRight" fmla="*/ 264240 w 3049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4648320" y="6095880"/>
            <a:ext cx="1904760" cy="459720"/>
            <a:chOff x="4648320" y="6095880"/>
            <a:chExt cx="1904760" cy="459720"/>
          </a:xfrm>
        </p:grpSpPr>
        <p:sp>
          <p:nvSpPr>
            <p:cNvPr id="77" name="Text Box 10"/>
            <p:cNvSpPr/>
            <p:nvPr/>
          </p:nvSpPr>
          <p:spPr>
            <a:xfrm>
              <a:off x="4648320" y="6095880"/>
              <a:ext cx="19047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 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=1/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1"/>
            <p:cNvSpPr/>
            <p:nvPr/>
          </p:nvSpPr>
          <p:spPr>
            <a:xfrm>
              <a:off x="5715000" y="6171840"/>
              <a:ext cx="228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Line Callout 2 11"/>
          <p:cNvSpPr/>
          <p:nvPr/>
        </p:nvSpPr>
        <p:spPr>
          <a:xfrm>
            <a:off x="2933640" y="2057400"/>
            <a:ext cx="2667240" cy="914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93291"/>
              <a:gd name="adj6" fmla="val -62574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ción de verosimil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371760" y="260280"/>
            <a:ext cx="57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ruebas de Bondad de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80880" y="1600200"/>
            <a:ext cx="647712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Chi cuadrado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χ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: compara frecuencia relativa de muestra (f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s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(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) con valor teórico de distribución p(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771560" y="3206880"/>
                <a:ext cx="362736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" name="Text Box 5"/>
          <p:cNvSpPr/>
          <p:nvPr/>
        </p:nvSpPr>
        <p:spPr>
          <a:xfrm>
            <a:off x="5486400" y="358128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Se compara con fdp </a:t>
            </a:r>
            <a:r>
              <a:rPr b="1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χ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2 con </a:t>
            </a:r>
            <a:r>
              <a:rPr b="1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grados de libertad y nivel de confianza 1-</a:t>
            </a:r>
            <a:r>
              <a:rPr b="1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838080" y="4648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m-p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04920" y="5638680"/>
            <a:ext cx="3429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Número de parámetros de la f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V="1">
            <a:off x="1905120" y="5028840"/>
            <a:ext cx="152280" cy="6094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4800600" y="5029200"/>
            <a:ext cx="4038480" cy="106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rechaza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χ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2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c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&gt;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χ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2 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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4952880" y="838080"/>
            <a:ext cx="4038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Kolmogorov Smirn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1143000" y="4678200"/>
            <a:ext cx="380880" cy="460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0" y="4219560"/>
            <a:ext cx="3429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Número de interv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K, logramos ajustar una fdp, obtuvimos el factor de frecuencia, y calculamos x_T en función de los datos observados; cuál es el grado de confiabilidad que merecen nuestras estim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457200" y="533520"/>
            <a:ext cx="8153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La precisión de resultados depende de la longitud de los registros dispon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219320" y="19051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uede suponerse que la estimación tiene distribución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31640" y="3921120"/>
                <a:ext cx="3329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4038480" y="2743200"/>
            <a:ext cx="5105520" cy="39178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6"/>
          <p:cNvSpPr/>
          <p:nvPr/>
        </p:nvSpPr>
        <p:spPr>
          <a:xfrm>
            <a:off x="7620120" y="3733920"/>
            <a:ext cx="183960" cy="7617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51055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Nivel de Confianza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β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7086600" y="38862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7086600" y="4419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7531200" y="3860640"/>
            <a:ext cx="253800" cy="62244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2209680" y="4114800"/>
            <a:ext cx="54104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4:12:51Z</dcterms:created>
  <dc:creator>James McPhee</dc:creator>
  <dc:description/>
  <dc:language>en-US</dc:language>
  <cp:lastModifiedBy>James McPhee</cp:lastModifiedBy>
  <cp:lastPrinted>2008-10-27T14:45:47Z</cp:lastPrinted>
  <dcterms:modified xsi:type="dcterms:W3CDTF">2009-10-05T15:34:12Z</dcterms:modified>
  <cp:revision>9</cp:revision>
  <dc:subject/>
  <dc:title>Análisis de Frecuencia</dc:title>
</cp:coreProperties>
</file>