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7E2-5393-41C0-A88F-FB810897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78B-3033-4F7C-854C-18B7355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7DB-167D-4981-B9A8-E586B389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B43-6655-4D32-827E-409D5695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FC6-23D8-4F57-A6A0-B9B0067B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EDE-FEA5-40B9-A45A-588367F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8B23-0078-49EE-A489-856DC1B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989A-B9BD-493E-8ADF-3743076B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81EB-3DEA-4FC0-A122-AF60E93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D02-FE69-4B82-96D7-43B1B7F9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EA52-EF6A-4E80-B8E7-861F6B2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182-5F14-45E5-BEC5-28188F11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471-31A2-4115-A9F1-1FA0521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69E6-692A-44B9-A19A-9E295DF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A4B-8379-4F20-8A63-6DBEAB89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7251-AE06-4B59-9CB6-BD5B1138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01BB-3A11-4632-A8DD-0746F417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D07-009C-4FE6-A965-086B2A2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09F-F231-4B61-8EBE-8642672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D92-8038-4A56-AC2F-1D83AFD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4CD-B28F-4D49-AACD-14BCCCE2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966-9677-436E-9B3C-734E45E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A1A-B5D7-43DA-86E3-6D7E7A8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222-2824-45C0-B169-79E578E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249E-D156-4F32-B14F-079F8020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FBF-CE09-4A9A-98C4-F421C985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MVC SUN para JAVA EE: </a:t>
            </a:r>
            <a:br>
              <a:rPr sz="1600"/>
            </a:b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patterns/MV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 final del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3808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estro Proyecto debe “respirar” esencialmente temas de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un contexto empresarial ¿cómo se ver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67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: por ejemplo, CLUTTER (librerías para el manejo gráfico) en caso de usar MIDs &amp; MOB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Alejandro Ituarte</cp:lastModifiedBy>
  <dcterms:modified xsi:type="dcterms:W3CDTF">2009-08-05T23:42:20Z</dcterms:modified>
  <cp:revision>22</cp:revision>
  <dc:subject/>
  <dc:title>CC61Y Desarrollo de Aplicaciones para MID (RC)</dc:title>
</cp:coreProperties>
</file>