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82D-F77B-4EBF-967C-B090F77E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E46-8860-40BE-A9ED-A3158B9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1D2-E64A-48CB-A4FB-77BDB1BE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315-639B-49B5-AF19-23E0AA8B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A487-7C5E-424D-BDA9-FFF37825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56E-01D9-4B28-98E7-4597D6D5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FC75-BC52-4ABE-A75C-5D3D8E36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FAE5-5E98-44C8-84DF-BD6A4AC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8142-2859-481D-B5F0-14A10EE7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089B-4E20-488C-ADE3-46AC41FC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7156-B1D7-457C-98EE-8D94403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52F-EA25-49B7-9FFC-E01F19F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26E-A62E-4245-8ECD-A72E9FE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096A-2097-4B13-85B1-31AF20B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D100-906B-4EE2-8D8C-00650E38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19FD-0CA6-4A0D-A0BE-C5D6C15E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8865-AA66-4DB7-86E5-E0D7C2CB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80-D76E-46D0-90A9-8434720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E12-507B-4AA0-82D2-923E5335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A4D-6E15-41A3-A7ED-9DF3336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1E6-F7F5-4D70-8994-D7CAD6A3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C7B-21FE-409F-B65B-30C88EE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3E9-FA96-42CD-9AB5-9A8B043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8F6-2865-4675-A0C5-29711D4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4DCE-F418-4714-98B3-8D1776EB7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6DF-3A08-41A9-8D79-789BAA92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MVC SUN para JAVA EE: </a:t>
            </a:r>
            <a:br>
              <a:rPr sz="1600"/>
            </a:b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patterns/MV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 final del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3808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estro Proyecto debe “respirar” esencialmente temas de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un contexto empresarial ¿cómo se ver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67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: por ejemplo, CLUTTER (librerías para el manejo gráfico) en caso de usar MIDs &amp; MOB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Alejandro Ituarte</cp:lastModifiedBy>
  <dcterms:modified xsi:type="dcterms:W3CDTF">2009-08-05T23:42:20Z</dcterms:modified>
  <cp:revision>22</cp:revision>
  <dc:subject/>
  <dc:title>CC61Y Desarrollo de Aplicaciones para MID (RC)</dc:title>
</cp:coreProperties>
</file>