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911-4EE0-44D6-B065-95DB5265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70B-0B9D-4A0C-9FDF-2F5FF853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35E-E0DC-49AA-9374-729690CD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F2B-5C61-4F34-B962-ED59BC3C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DEF9-01D2-41F6-89DA-F822CB59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5E1C-EF9B-42ED-AEDA-1487D6EE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AAC6-6072-4BEC-9870-4BEA5AF0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F22E-C9B5-4B74-9FA2-5852779C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6A98-EC43-4AF5-A292-ECAEA6FC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AF4D-D7EC-4594-A23C-4FA19D25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75F3-57E1-4C2F-A65F-76FAE4B1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137-8C64-40AD-9537-69749DC3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E838-8B54-44E0-88CC-7F609B9A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3CA9-D6A9-43A6-95DA-8A38F790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228D-E17F-4636-8C40-D58B6B9B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A3D7-9810-4FBB-B168-74B7859B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F8F0-6123-48B2-A187-4CC05BB9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9C2-F698-48F7-8F57-CC7FA863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7A95-AE4F-4207-82AC-EE169307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9A0A-B765-414C-9FD0-DC2AAFF0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CA4-B1B4-4BF7-B437-C0EC7386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F30-02C6-4B2D-A8B8-3FB605E7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ED1-C2EB-4383-B6EB-1812D2EC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BA8-EB63-49B1-AE29-0DD060BA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16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D125-7120-41BC-9591-9C3734B0F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440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D219-AD8B-4151-A5F8-9131F3715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66cc"/>
                </a:solidFill>
                <a:latin typeface="Arial"/>
              </a:rPr>
              <a:t>CC61Y</a:t>
            </a:r>
            <a:br>
              <a:rPr sz="1200"/>
            </a:br>
            <a:r>
              <a:rPr b="0" lang="es-CL" sz="1200" spc="-1" strike="noStrike">
                <a:solidFill>
                  <a:srgbClr val="0066cc"/>
                </a:solidFill>
                <a:latin typeface="Arial"/>
              </a:rPr>
              <a:t>Desarrollo de Aplicaciones para MID (RC)</a:t>
            </a: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Diseño Empresaria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rofesor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Eduardo Godoy (egodoy@dcc.uchile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Alejandro Ituarte (aituarte@schema.c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atrones de Diseñ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37339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desarrollos empresariales, es necesario seguir ciertas “buenas prácticas”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os Patrone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trón: “una sugerencia de cómo enfrentar un problema conoci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y patrones para Capa 1, Capa 2 y Capa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es necesario usarlos “todos”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80880" y="57913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trones SUN para JAVA EE: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Arial"/>
              </a:rPr>
              <a:t>http://java.sun.com/blueprints/corej2eepatterns/Patterns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MVC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37339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trón por excelencia en CAP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, en concreto, una separación en sub-c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preserva la filosofía de “pastelero a tus paste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nsecuencia ¡se puede también usar estrategia de Modelo de Contrat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80880" y="57913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trones MVC SUN para JAVA EE: </a:t>
            </a:r>
            <a:br>
              <a:rPr sz="1600"/>
            </a:br>
            <a:r>
              <a:rPr b="0" lang="es-CL" sz="1600" spc="-1" strike="noStrike" u="sng">
                <a:solidFill>
                  <a:srgbClr val="ffffff"/>
                </a:solidFill>
                <a:uFillTx/>
                <a:latin typeface="Arial"/>
              </a:rPr>
              <a:t>http://java.sun.com/blueprints/patterns/MVC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4781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l final del dí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738080"/>
            <a:ext cx="84582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estro Proyecto debe “respirar” esencialmente temas de Cap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un contexto empresarial ¿cómo se verí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76772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CL" sz="2800" spc="-1" strike="noStrike">
                <a:solidFill>
                  <a:srgbClr val="0066cc"/>
                </a:solidFill>
                <a:latin typeface="Arial"/>
              </a:rPr>
              <a:t>¿Dudas?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Tecnología en el día a día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ses para el planteamiento de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tecnología (y las aplicaciones) son herramientas, no razones de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ferencia entre un aplicativo para nivel “empresa o masivo” versus una aplicación puntual (botiller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necesita diferenciar a quien se va a ayudar (pensar en é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aplicación apoya para “solucionar” problemas (No ocasionarlos)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ojo con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usada por muchas personas y será parte integrante de su que-h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r a quien está al f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o se va a usar (calle, oficina, bajo el ag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lmente, disponible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lerante a f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r respuesta rápida (perform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alimenta de información de muchos y distintos tipos de reposi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ltidioma; multi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ontinuo cambio (flex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Aplicación Empresarial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s?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eb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go de Im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Bolsa en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sonal de Terreno de Chilectra, Metro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ttings Zone Web 2.0 (facebook, twitter, google**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ma de Mues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otaciones Presidenci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cómo enfrentarlas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telero a tus paste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ar y desarrollar por c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blecer “acuerdos” o “contratos” entre las c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pa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estánd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lenguaje a utilizar depende de la tecnología a utilizar (el lenguaje no es el centro de la decisión) … java ee,  pascal ee, basic ee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ientación a Objeto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un gran al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Capas en el Diseñ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358120" cy="25905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457200" y="464832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1: encargada del usuario, la navegación y la inter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2: es la inteligencia, la que sabe sumar y re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 3: son los servicios de datos básicos y gran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Pensando en nuestro Proyecto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182880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 trabajo 80% en Capa 1 y para un determinado tipo de dispositivo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dependencia con la tecnología del dispositivo (PC, browser, MID, cel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pa 1 hay que responsabilizarse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navegación (como se presentan las opciones al usu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interacción (botoneras, movimiento, clic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 seguridad (controlar que sea quien dice 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Es una capa “tonta” (no sabe ni tiene que saber nada del negocio; solo de buenas relaciones con el usu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lamar a muchos servicios de capa 2 para que hagan el trabajo duro (intelig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pa 2 y 3, debemos enfocarnos sólo en un 20% … lo necesario para que funcione (usar dummies; usar servicios existentes, pero no desgastarse aqu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Diseñar en base a Component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nentes son unidades de SW que realizan una tarea concreta y precisa. Deben ser lo más genérico posible, dentro de sus op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o conocemos de ellos la “firma de sus métodos”. Su implementación es una caja negra. Por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onente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lecciones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void inscribeVotante(Votante V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void inscribeCandidato(CandidatoV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public CandidatoVO obtienePresidente(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componente pertenece intrínsecamente a una CAPA (no puede contaminarse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En qué ayu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arrollo de grandes aplicaciones en pequeños pa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utilización de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acoplamiento de la capa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rientación a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quisición de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ducción del ciclo de desarrollo de apl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cc"/>
                </a:solidFill>
                <a:latin typeface="Arial"/>
              </a:rPr>
              <a:t>¿y en nuestro caso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endiendo del dispositivo y el lenguaje a escoger, buscar componentes pre-existentes de Capa 1 que faciliten el trabajo: por ejemplo, CLUTTER (librerías para el manejo gráfico) en caso de usar MIDs &amp; MOB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as Capas 2 y 3, hacer/buscar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que se quieren integrar con Google, Transantiago, etc, avertiguar si hay, por ejemplo, WebServ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demos inventar componentes DUMMIES para cerrar el ciclo (si no son tan impor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que sí son importantes, implementar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es necesario hacer modelos de datos ni bases desde cero (reutilizar alguna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arrollar por Modelo de Contratos (entre ca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o la CAPA 1 es el centro, diseñarla (navegación, sus datos, etc.) y que ella dictamine los servicios de CAPA 2 que necesita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 2 necesita mezclar varios servicios de CAPA 3 para poder hacer la inteligenc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a los servicios de CAPA 3, reutilizar existentes o hacer DUM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3:03:28Z</dcterms:created>
  <dc:creator>egodoy</dc:creator>
  <dc:description/>
  <dc:language>en-US</dc:language>
  <cp:lastModifiedBy>Alejandro Ituarte</cp:lastModifiedBy>
  <dcterms:modified xsi:type="dcterms:W3CDTF">2009-08-05T23:42:20Z</dcterms:modified>
  <cp:revision>22</cp:revision>
  <dc:subject/>
  <dc:title>CC61Y Desarrollo de Aplicaciones para MID (RC)</dc:title>
</cp:coreProperties>
</file>