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DA7-A870-451C-9813-FF096586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F809-EF0A-41D9-8E77-24932935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CB76-7CF0-4276-B57D-AEFB6896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8C75-B17F-4A3B-8039-63A21531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2CA6-638C-41B3-97CC-541E9D1F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A92F-44C1-4A9E-9915-00ECD88B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C592-88BA-47F5-AC81-9504AB51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4A29-2A30-4658-80A6-6828DC1A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5F8E-2B45-437C-8409-9F0133EF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DA0B-9FB8-480A-B29C-13C78C44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678F-FCAB-4007-A5FA-8C237F17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7242-A408-4E88-AF69-C4F00BDA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50A8-5798-4453-88E5-8AD62CA8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40CC-A4CA-4B18-9CBF-58376BEC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086A-18AB-48A1-B0ED-E0257526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49F8-DE84-4BC2-8EB3-7C9F2EA0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C4D0-677D-45D5-A20D-741C3193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BBF-1CC6-46F1-9484-C6E0E57C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0D83-D93E-4EE8-BBFE-4ED011A3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16A6-271D-4C7B-A6A8-381C6CA3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DA0C-E332-45CF-806C-A5E5C14A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329-9772-49F2-B90F-AECA16EA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1CB-C025-4EA7-BAB0-5B5AB799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394F-9D2C-43D8-94E7-B7E79FE2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916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1532-AEB6-4971-B472-418C2AC06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4400" y="6400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4320" y="640080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B573-D3B2-4991-86CC-24963F475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66cc"/>
                </a:solidFill>
                <a:latin typeface="Arial"/>
              </a:rPr>
              <a:t>CC61Y</a:t>
            </a:r>
            <a:br>
              <a:rPr sz="1200"/>
            </a:br>
            <a:r>
              <a:rPr b="0" lang="es-CL" sz="1200" spc="-1" strike="noStrike">
                <a:solidFill>
                  <a:srgbClr val="0066cc"/>
                </a:solidFill>
                <a:latin typeface="Arial"/>
              </a:rPr>
              <a:t>Desarrollo de Aplicaciones para MID (RC)</a:t>
            </a:r>
            <a:br>
              <a:rPr sz="2800"/>
            </a:b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Diseño Empresaria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15235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rofesor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Eduardo Godoy (egodoy@dcc.uchile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Alejandro Ituarte (aituarte@schema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atrones de Diseñ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373392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desarrollos empresariales, es necesario seguir ciertas “buenas prácticas”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los Patrone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trón: “una sugerencia de cómo enfrentar un problema conoci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y patrones para Capa 1, Capa 2 y Capa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es necesario usarlos “todos”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80880" y="57913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trones SUN para JAVA EE: </a:t>
            </a:r>
            <a:r>
              <a:rPr b="0" lang="es-CL" sz="1600" spc="-1" strike="noStrike" u="sng">
                <a:solidFill>
                  <a:srgbClr val="ffffff"/>
                </a:solidFill>
                <a:uFillTx/>
                <a:latin typeface="Arial"/>
              </a:rPr>
              <a:t>http://java.sun.com/blueprints/corej2eepatterns/Patterns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MVC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373392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trón por excelencia en CAP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, en concreto, una separación en sub-c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preserva la filosofía de “pastelero a tus pastel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nsecuencia ¡se puede también usar estrategia de Modelo de Contrat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80880" y="57913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trones MVC SUN para JAVA EE: </a:t>
            </a:r>
            <a:br>
              <a:rPr sz="1600"/>
            </a:br>
            <a:r>
              <a:rPr b="0" lang="es-CL" sz="1600" spc="-1" strike="noStrike" u="sng">
                <a:solidFill>
                  <a:srgbClr val="ffffff"/>
                </a:solidFill>
                <a:uFillTx/>
                <a:latin typeface="Arial"/>
              </a:rPr>
              <a:t>http://java.sun.com/blueprints/patterns/MVC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191120" y="1752480"/>
            <a:ext cx="4781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l final del día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738080"/>
            <a:ext cx="84582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estro Proyecto debe “respirar” esencialmente temas de Cap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un contexto empresarial ¿cómo se verí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76772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¿Dudas?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Tecnología en el día a día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ases para el planteamiento de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tecnología (y las aplicaciones) son herramientas, no razones de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ferencia entre un aplicativo para nivel “empresa o masivo” versus una aplicación puntual (botiller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necesita diferenciar a quien se va a ayudar (pensar en é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aplicación apoya para “solucionar” problemas (No ocasionarlos)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ojo con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plicación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á usada por muchas personas y será parte integrante de su que-h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dentificar a quien está al f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o se va a usar (calle, oficina, bajo el ag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lmente, disponible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lerante a f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r respuesta rápida (perform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alimenta de información de muchos y distintos tipos de reposi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ltidioma; multi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ontinuo cambio (flex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plicación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s?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eb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go de Im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Bolsa en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sonal de Terreno de Chilectra, Metro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ues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ttings Zone Web 2.0 (facebook, twitter, google**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ma de Mues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otaciones Presidenci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¿cómo enfrentarlas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telero a tus paste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eñar y desarrollar por c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blecer “acuerdos” o “contratos” entre las c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pat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estánd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lenguaje a utilizar depende de la tecnología a utilizar (el lenguaje no es el centro de la decisión) … java ee,  pascal ee, basic ee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rientación a Objeto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un gran al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Capas en el Diseñ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358120" cy="25905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457200" y="464832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 1: encargada del usuario, la navegación y la inter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 2: es la inteligencia, la que sabe sumar y re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 3: son los servicios de datos básicos y gran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ensando en nuestro Proyect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182880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 trabajo 80% en Capa 1 y para un determinado tipo de dispositivo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y dependencia con la tecnología del dispositivo (PC, browser, MID, cel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pa 1 hay que responsabilizarse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 navegación (como se presentan las opciones al usu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 interacción (botoneras, movimiento, clic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 seguridad (controlar que sea quien dice 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s una capa “tonta” (no sabe ni tiene que saber nada del negocio; solo de buenas relaciones con el usu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lamar a muchos servicios de capa 2 para que hagan el trabajo duro (inteligenc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pa 2 y 3, debemos enfocarnos sólo en un 20% … lo necesario para que funcione (usar dummies; usar servicios existentes, pero no desgastarse aqu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Diseñar en base a Componente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onentes son unidades de SW que realizan una tarea concreta y precisa. Deben ser lo más genérico posible, dentro de sus op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o conocemos de ellos la “firma de sus métodos”. Su implementación es una caja negra. Por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onente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ecciones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public void inscribeVotante(Votante V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public void inscribeCandidato(CandidatoV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public CandidatoVO obtienePresidente(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 componente pertenece intrínsecamente a una CAPA (no puede contaminarse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En qué ayu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arrollo de grandes aplicaciones en pequeños pa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utilización de compon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acoplamiento de la capa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rientación a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quisición de compon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ducción del ciclo de desarrollo de apl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¿y en nuestro caso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endiendo del dispositivo y el lenguaje a escoger, buscar componentes pre-existentes de Capa 1 que faciliten el trabajo: por ejemplo, CLUTTER (librerías para el manejo gráfico) en caso de usar MIDs &amp; MOB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as Capas 2 y 3, hacer/buscar 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que se quieren integrar con Google, Transantiago, etc, avertiguar si hay, por ejemplo, WebServ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demos inventar componentes DUMMIES para cerrar el ciclo (si no son tan impor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que sí son importantes, implementar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es necesario hacer modelos de datos ni bases desde cero (reutilizar alguna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arrollar por Modelo de Contratos (entre ca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o la CAPA 1 es el centro, diseñarla (navegación, sus datos, etc.) y que ella dictamine los servicios de CAPA 2 que necesita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PA 2 necesita mezclar varios servicios de CAPA 3 para poder hacer la inteligenc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a los servicios de CAPA 3, reutilizar existentes o hacer DUM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23:03:28Z</dcterms:created>
  <dc:creator>egodoy</dc:creator>
  <dc:description/>
  <dc:language>en-US</dc:language>
  <cp:lastModifiedBy>Alejandro Ituarte</cp:lastModifiedBy>
  <dcterms:modified xsi:type="dcterms:W3CDTF">2009-08-05T23:42:20Z</dcterms:modified>
  <cp:revision>22</cp:revision>
  <dc:subject/>
  <dc:title>CC61Y Desarrollo de Aplicaciones para MID (RC)</dc:title>
</cp:coreProperties>
</file>