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CA1-B5D1-4954-BDE4-9E04A954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3549-EA5B-4116-BE25-0DEDF633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978-ED93-407D-ACB9-5947DD14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C1C-9B42-442C-B0A6-D37ECFD6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9712-62D6-47BF-95FA-13308F3D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CD59-FCED-4A60-A004-58A8B7FF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715A-7D5B-4666-AB4B-5D6598F2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BF8F-8F38-4013-B35E-1155B5E5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19FB-0CA9-40B0-92D2-DE3A4F91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FBB6-8DA8-4A63-82CB-1946D559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EB44-DCB5-4507-A9B8-86EE8E50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C12-29FB-45C8-A2DF-C26251B4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1E9C-8ABC-435B-B287-24F41A17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AE07-430C-4B5E-9E5F-F4DA244B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A679-D226-45C3-8D07-4F78EEFF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F786-F9CA-4A3B-8ABD-2EB78B92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B0E5-F28C-4B94-9CBE-761A4B50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056-26D8-4B7E-A2B9-120AF7D4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2B0-03F4-41F9-8D34-4997B6AE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21B-854B-49DD-9AD4-7B38AC70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7A2-A2D8-4FE7-9340-FB06F6F0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92AD-64B7-4B39-AB17-45C514D7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668-CC5F-4526-9F53-F9AB8610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3F1-9EF8-454C-9DC7-DD88A8E2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16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F671-57D6-45D8-84DF-DB7AE8DF0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0440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92AE-0B02-496B-BF1D-D4C9D9412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CC61Y</a:t>
            </a: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Desarrollo de Aplicaciones para MID (RC)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rofesor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Eduardo Godoy (egodoy@dcc.uchile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Alejandro Ituarte (aituarte@schema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deos Motiv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ón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cá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to a desarrol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Video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rre vide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resentación Curs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o de aplicaciones móv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alu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 grupal (2 a 3 integrantes): 3 no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owroom de aplicación: (1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ance de trabajo. (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final. (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 lectu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ta Final: Lectura * 0.25 + Trabajo Grupal * 0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dición para aprob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ta Final &gt;=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menos 2 lecturas &gt;=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ance de trabajo &gt;=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Mecánica del curs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curso es TAL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90% de esfuerzo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habrá clases TODOS los 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-Cursos es el mecanismo oficial de 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taller es un working in progress para todos; vamos construyendo conocimiento juntos!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royecto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bjetivo: Desarrollar un POC (Proof of Concept) para dispositivo mó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óxi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Levantando neces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 Visitar un mall, supermercado, colegio, hospital, hogar de ancianos, discapacitados o similar y descubrir como un dispositivo móvil puede ser de ayu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rtes 04 de Agos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tregable: Descripción de la solución; no asuma restricciones de antemano (presentación al curso para su discusión) – MUCHA CREATIVIDAD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TIP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aplicación MID de natural uso humano. (ejemplo: touch screen – tipo iPh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ltimedia (imagen, sonido, películ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 line (comunicado, conectad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MPLE (abuel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sona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vis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llmyapp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ttp://coolservices.intel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ttp://www.mobli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FECHAS IMPORTANT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5 Agosto: Control lectur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 de septiembre: Show room de apli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 y 17 de Septiembre: Va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9 de Septiembre: Control de lectur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0 y 22 de Octubre: Avance de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 de Noviembre: Control de Lectura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9 de Noviembre: Último día de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3 de Noviembre en adelante: Ex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3:03:28Z</dcterms:created>
  <dc:creator>egodoy</dc:creator>
  <dc:description/>
  <dc:language>en-US</dc:language>
  <cp:lastModifiedBy>egodoy</cp:lastModifiedBy>
  <dcterms:modified xsi:type="dcterms:W3CDTF">2009-07-28T21:20:19Z</dcterms:modified>
  <cp:revision>9</cp:revision>
  <dc:subject/>
  <dc:title>CC61Y Desarrollo de Aplicaciones para MID (RC)</dc:title>
</cp:coreProperties>
</file>