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D5A5-527D-4B25-BE42-EEF1D4720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08672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BE41-2F1C-48CC-A2A2-2B954DF7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3B55-B401-4485-99A3-9AE64588E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173844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173844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0867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40867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40867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B039-6DE2-42FD-8ACC-7FFDEBA69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B9F5B-0B21-40D6-8C05-AFB149E96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01945-6C5A-4F37-A500-19711113C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1B6A0-00E8-43E4-966D-8B92E00D4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820A7-D574-4C6A-BDD3-571380A92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BE4D2-D141-4E38-9C07-6CB4409ED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4760" y="15192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22767-9F8F-4024-9A84-053421091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E4726-F0DA-459B-9934-E55BC350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F073-A50B-44C8-A18D-03BDD3EDF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CA71B-BBCE-4EC1-93FF-6A02FCD7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408672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AA616-3719-4B16-B84D-533AB39A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408672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BDDB2-E59E-45F2-9540-E29D3FCB3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6C548-7E3A-4A98-80A2-E6705ECA5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73844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73844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40867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40867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40867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D5EA3-B899-4EDD-99A8-46981237A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AE85-49BE-4CFA-9EB2-29C1BD730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DC54-68C9-40ED-A881-4DF1A50D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3D1C-50FF-4705-817F-86F1E9810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760" y="15192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8165-4C74-43B3-B90F-31E439710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85FE-4183-49F4-9673-F8530C4F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F695-DCD9-43DE-ABE0-4DB4FDCB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08672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5369-EED5-49C9-B59B-1A56748C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9160" y="6400800"/>
            <a:ext cx="213336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4320" y="6400800"/>
            <a:ext cx="213336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B5AF4-3FD6-4924-A9D4-7FADA720DE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04400" y="640080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934320" y="6400800"/>
            <a:ext cx="21333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331E1-1DDE-4996-A0B3-7C63A29050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66cc"/>
                </a:solidFill>
                <a:latin typeface="Arial"/>
              </a:rPr>
              <a:t>CC61Y</a:t>
            </a:r>
            <a:br>
              <a:rPr sz="2800"/>
            </a:br>
            <a:r>
              <a:rPr b="0" lang="es-CL" sz="2800" spc="-1" strike="noStrike">
                <a:solidFill>
                  <a:srgbClr val="0066cc"/>
                </a:solidFill>
                <a:latin typeface="Arial"/>
              </a:rPr>
              <a:t>Desarrollo de Aplicaciones para MID (RC)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600200" y="1523520"/>
            <a:ext cx="5943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Profesores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Eduardo Godoy (egodoy@dcc.uchile.cl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Alejandro Ituarte (aituarte@schema.cl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Videos Motivac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esentación 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ecán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yecto a desarrol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Videos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rre vide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Presentación Curso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sarrollo de aplicaciones móvi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valu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rabajo grupal (2 a 3 integrantes): 3 no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howroom de aplicación: (1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vance de trabajo. (3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trega final. (6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3 lectu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ota Final: Lectura * 0.25 + Trabajo Grupal * 0.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dición para aprob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ta Final &gt;= 4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l menos 2 lecturas &gt;= 4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vance de trabajo &gt;= 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Mecánica del curso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e curso es TALL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90% de esfuerzo individ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o habrá clases TODOS los di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U-Cursos es el mecanismo oficial de comunic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e taller es un working in progress para todos; vamos construyendo conocimiento juntos!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Proyectos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Objetivo: Desarrollar un POC (Proof of Concept) para dispositivo móv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óxima cl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Levantando necesidade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” Visitar un mall, supermercado, colegio, hospital, hogar de ancianos, discapacitados o similar y descubrir como un dispositivo móvil puede ser de ayu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artes 04 de Agos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tregable: Descripción de la solución; no asuma restricciones de antemano (presentación al curso para su discusión) – MUCHA CREATIVIDAD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TIPS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Una aplicación MID de natural uso humano. (ejemplo: touch screen – tipo iPho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ultimedia (imagen, sonido, película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On line (comunicado, conectad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MPLE (abueli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ersonaliz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vis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allmyapps.com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ttp://coolservices.intel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ttp://www.moblin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FECHAS IMPORTANTES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25 Agosto: Control lectura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10 de septiembre: Show room de aplica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15 y 17 de Septiembre: Vaca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29 de Septiembre: Control de lectura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20 y 22 de Octubre: Avance de proye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3 de Noviembre: Control de Lectura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19 de Noviembre: Último día de cl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23 de Noviembre en adelante: Exa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7T23:03:28Z</dcterms:created>
  <dc:creator>egodoy</dc:creator>
  <dc:description/>
  <dc:language>en-US</dc:language>
  <cp:lastModifiedBy>egodoy</cp:lastModifiedBy>
  <dcterms:modified xsi:type="dcterms:W3CDTF">2009-07-28T21:20:19Z</dcterms:modified>
  <cp:revision>9</cp:revision>
  <dc:subject/>
  <dc:title>CC61Y Desarrollo de Aplicaciones para MID (RC)</dc:title>
</cp:coreProperties>
</file>