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3DB-9677-4307-A7DF-B727CDF9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455-2DCA-42F5-A2BC-3A84ECBC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E16-67AF-460F-A3CD-A1C8810F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EA4-3763-455C-9A49-309BCDFF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4D80-E6EF-4CAF-92E6-A30CE68E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601B-61E8-4BD2-9878-E25E2193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3D05-7C2D-4C2C-BB9F-EA88A757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BE61-FFEF-4A30-87D0-8FB0BCE9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1F90-33AB-4E48-8648-5F2FF039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3EA8-BF51-4D23-95A8-A34A70EE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8A17-DBA2-431D-B2A4-03AF36D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610-9768-498D-B9D1-4BE12211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D1F6-5DFE-4D8A-8574-E6B04F8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DA65-2211-4CA1-B693-4404D6F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2C7B-5E1C-4C42-BBE0-DED470AE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9B21-1A5A-4523-ACD6-1D51B131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70FD-819E-452A-B193-0CB87FE8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E22-7684-4E00-BB7E-402715EB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F67-6BFC-4B3E-B855-5959FDEC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D9A-EAE1-4C67-AA13-5BF364BD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E33-D8D0-4E74-94B6-A389BF9D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292-B621-4257-AC9F-05D1F106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2E6-67CF-4469-9DC1-E8ABE5FB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415-D129-4414-A8A1-D688F0D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6D61-B9A4-45A1-8675-43BF8CDD6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3DEA-92D2-4C1D-A1B6-311B380A9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deos Motiv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cá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a desarro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rre vide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esentación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o de aplicacione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 grupal (2 a 3 integrantes): 3 no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wroom de aplicación: 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. (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final. (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lec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ta Final: Lectura * 0.25 + Trabajo Grupal *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dición para aprob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ta Final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2 lecturas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 &gt;=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ecánica del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curso es TA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90% de esfuerz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brá clases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-Cursos es el mecanismo oficial d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taller es un working in progress para todos; vamos construyendo conocimiento juntos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oyect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jetivo: Desarrollar un POC (Proof of Concept) para dispositivo mó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Levantando neces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 Visitar un mall, supermercado, colegio, hospital, hogar de ancianos, discapacitados o similar y descubrir como un dispositivo móvil puede ser de ay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tes 04 de Ago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regable: Descripción de la solución; no asuma restricciones de antemano (presentación al curso para su discusión) – MUCHA CREATIVIDA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IP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aplicación MID de natural uso humano. (ejemplo: touch screen – tipo iPh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ltimedia (imagen, sonido, películ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 line (comunicado, conect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PLE (abuel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i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lmyapp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coolservices.inte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www.mobl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FECHAS IMPORTA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5 Agosto: Control lectur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de septiembre: Show room de apl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 y 17 de Septiembre: Va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9 de Septiembre: Control de lectur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 y 22 de Octubre: Avance de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 de Noviembre: Control de Lectur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 de Noviembre: Último día de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3 de Noviembre en adelante: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egodoy</cp:lastModifiedBy>
  <dcterms:modified xsi:type="dcterms:W3CDTF">2009-07-28T21:20:19Z</dcterms:modified>
  <cp:revision>9</cp:revision>
  <dc:subject/>
  <dc:title>CC61Y Desarrollo de Aplicaciones para MID (RC)</dc:title>
</cp:coreProperties>
</file>