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8F4-21D8-456B-B515-313B21B6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F63-5C70-4FE9-8F1D-F550CFCC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4E9-60E2-42DB-B8DC-31860EC4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244-476E-40EB-8543-02124E62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8681-AF65-456D-8D2A-4EB2BF42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62D7-585D-489C-8A2A-DF7116AB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B26A-B096-447A-82D5-8AF344BD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D9BF-CA2A-475E-BCDA-20EA4FB5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4942-6CC9-4DCF-A920-13187B40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8BB5-D7DE-43B8-A58D-C5DFA4E5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BFD1-53FD-4CE3-9AAD-E32612E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B8A-6FD9-4AF7-B9EC-2D2A8AC0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01AA-D462-4BD4-B7DF-8860D752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404D-624F-4DDA-BF0A-A30D40A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B7D3-7E32-4603-BABA-52F11F4B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8F93-AE57-4B1E-9ADC-7690FB15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B9E-656D-42B9-9FBA-9C4913A3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27F-5631-46E9-908D-B1D700B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716-3C07-40C1-ACD8-B8A59551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250-1BED-4FAC-9AE8-6B4CF01B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154-4D1C-4924-9285-FE45A07C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F1F-DB3D-4F9D-8223-EE000F6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A42-EF66-4F88-A2F5-2987338D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C40-400C-408C-9B64-792BEEB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D76A-F203-46B7-BE5D-AFD38505B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C7BB-F8CC-4263-BDD9-F494A3D1C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deos Motiv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cá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a desarr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rre vide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esentación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aplicacione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 grupal (2 a 3 integrantes): 3 no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wroom de aplicación: 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. (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final. 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lec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a Final: Lectura * 0.25 + Trabajo Grupal *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dición para aprob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ta Final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2 lecturas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 &gt;=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ecánica del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curso es TA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90% de esfuerz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brá clases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-Cursos es el mecanismo oficial d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taller es un working in progress para todos; vamos construyendo conocimiento juntos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oyect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jetivo: Desarrollar un POC (Proof of Concept) para dispositivo mó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evantando neces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 Visitar un mall, supermercado, colegio, hospital, hogar de ancianos, discapacitados o similar y descubrir como un dispositivo móvil puede ser de ay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tes 04 de Ago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regable: Descripción de la solución; no asuma restricciones de antemano (presentación al curso para su discusión) – MUCHA CREATIVIDA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IP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aplicación MID de natural uso humano. (ejemplo: touch screen – tipo iPh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media (imagen, sonido, películ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 line (comunicado, conect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PLE (abuel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i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lmyapp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coolservices.inte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www.mobl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ECHAS IMPORTA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5 Agosto: Control lectur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de septiembre: Show room de apl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 y 17 de Septiembre: Va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9 de Septiembre: Control de lectur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 y 22 de Octubre: Avance de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 de Noviembre: Control de Lectur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 de Noviembre: Último día de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 de Noviembre en adelante: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egodoy</cp:lastModifiedBy>
  <dcterms:modified xsi:type="dcterms:W3CDTF">2009-07-28T21:20:19Z</dcterms:modified>
  <cp:revision>9</cp:revision>
  <dc:subject/>
  <dc:title>CC61Y Desarrollo de Aplicaciones para MID (RC)</dc:title>
</cp:coreProperties>
</file>