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E02-000A-4156-A23B-3D8DF13E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2A4-B2FD-44E3-AA20-EC78D7A5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1A0-9363-4BD2-B85C-555CCF4F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F76-CFA8-4BBC-8F78-123A3712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5229-256B-4358-A225-C5C315E3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987B-9875-4001-97E5-F901FA94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FE91-D9F2-499B-9465-FA44E3B6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D3D3-E9F1-4756-BB0A-65E8E0BA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9702-573C-4287-8726-A80DAA15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92B4-666F-45E8-8609-7726C542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054F-8D87-4691-A480-9E2B73CB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806-7BC0-47D4-AFB1-7423059B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2084-1D20-492C-9BD8-E4B47BDF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4DE2-F69B-488A-9ED0-FD8094B6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8075-AAAB-485C-9E6B-78C497E5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59D9-E827-4D5F-8EE4-992855DD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678B-CEE8-4D33-8C3B-86371B5E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599-B8DB-4831-BD65-D35E6F2C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D8D-0893-4A3C-AAE9-C490839E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43C-B09E-4563-8903-330F80ED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4242-FDA9-47EA-A898-429E3E8C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83F-702B-449C-8AD6-FE8C8F0E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6BA-BF56-415C-8B8B-37E63CE7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9E1-1D86-4AB1-BD88-64C57255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16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0E09-B90A-4BEE-BFAD-5D14A46DB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0440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4320" y="640080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33AB-206D-4BE6-9D6C-D702FF4C3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CC61Y</a:t>
            </a: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Desarrollo de Aplicaciones para MID (RC)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rofesor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Eduardo Godoy (egodoy@dcc.uchile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Alejandro Ituarte (aituarte@schema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deos Motiv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sentación 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cá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to a desarrol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Video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rre vide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resentación Curs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o de aplicaciones móv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alu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o grupal (2 a 3 integrantes): 3 no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owroom de aplicación: (1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ance de trabajo. (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final. (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 lectu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ta Final: Lectura * 0.25 + Trabajo Grupal * 0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dición para aprob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ta Final &gt;= 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 menos 2 lecturas &gt;= 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ance de trabajo &gt;=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Mecánica del curs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curso es TAL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90% de esfuerzo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habrá clases TODOS los d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-Cursos es el mecanismo oficial de 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taller es un working in progress para todos; vamos construyendo conocimiento juntos!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royecto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bjetivo: Desarrollar un POC (Proof of Concept) para dispositivo mó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óxi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Levantando necesidad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 Visitar un mall, supermercado, colegio, hospital, hogar de ancianos, discapacitados o similar y descubrir como un dispositivo móvil puede ser de ayu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rtes 04 de Agos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tregable: Descripción de la solución; no asuma restricciones de antemano (presentación al curso para su discusión) – MUCHA CREATIVIDAD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TIP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aplicación MID de natural uso humano. (ejemplo: touch screen – tipo iPh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ltimedia (imagen, sonido, películ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 line (comunicado, conectad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MPLE (abuel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sona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vis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llmyapp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ttp://coolservices.intel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ttp://www.mobli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FECHAS IMPORTANTE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5 Agosto: Control lectur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 de septiembre: Show room de apli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 y 17 de Septiembre: Va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9 de Septiembre: Control de lectur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0 y 22 de Octubre: Avance de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 de Noviembre: Control de Lectura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9 de Noviembre: Último día de cl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3 de Noviembre en adelante: Ex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23:03:28Z</dcterms:created>
  <dc:creator>egodoy</dc:creator>
  <dc:description/>
  <dc:language>en-US</dc:language>
  <cp:lastModifiedBy>egodoy</cp:lastModifiedBy>
  <dcterms:modified xsi:type="dcterms:W3CDTF">2009-07-28T21:20:19Z</dcterms:modified>
  <cp:revision>9</cp:revision>
  <dc:subject/>
  <dc:title>CC61Y Desarrollo de Aplicaciones para MID (RC)</dc:title>
</cp:coreProperties>
</file>