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5C43-8FC5-487D-8590-57FE44EC0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6911-CFD6-45FB-84B2-4AD9E981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C757-0300-4A32-8880-01EEEBFBC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D199-3E2E-4E68-B8C1-8B1562CD8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F562-75AA-420A-95D9-32722F135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96B6-223F-4836-8F53-02F0D362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EDB6-E325-4F65-B194-AD2E8CA8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5BC3-E1F6-4F19-8199-F2B6A4D8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A99A-93F1-457F-93DC-4887AB58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DCE6F-5D02-4BA2-B74D-4AE75797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D03A-02EA-49F0-99C2-5705035E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F24D-B369-4376-80EC-4C43C8EA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9DCF-6A2D-49B4-928B-8D0DBD7E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7815A-14C4-4204-BAC5-F05BE87B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1DE1-F51A-4AC0-A097-6ECD371E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16AB-37C8-437B-BC38-23AC7E0A7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27CE-551C-48B0-B93F-4A670C0A0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6F76-CC96-4CF2-B20E-BFB8667B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AD79-8924-4FA8-BAE1-9F4D825C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2ACB-8E59-4C17-9277-C24A2336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F25D-D5BE-47CD-8612-4AD5CE9E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2D12-D08B-4A2B-9AC9-5CF39C86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2412-8B42-4495-90BA-CE62F7D4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911E-85C7-4401-85F7-E6BF5BC2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CB15-DC2C-40BF-9A5A-2BA5ABC1B1C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92B0-885F-4D11-902C-32C72549E7D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 Bustos Jiméne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ld Wide Web (WWW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parece antes los usuarios como un repositorio gigantesco de docum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ctura electrónica en Ch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uchos contribuyentes y compr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nte centralizado (SI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ack-office distribui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conomí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en capacidad de procesa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licaciones inherentemente distribu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pacidad de creci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iabilidad y disponibilida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 y dat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s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de la complej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 de administr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llas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s frecuen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d, Latencia, p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rdida de mens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teroper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lta de estándares ún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gur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Implicancias de distribuir los sistema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Concurrenci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cursos compartidos. Acceso concurr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croniz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Sin tiempo global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da computador tiene su propio reloj loc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ordin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Fallas independiente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osibilidad permanente de fallas en cada compon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tección de fallas y tolera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Desafíos de los Sistemas Distribuido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ranspare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sabilidad (abiert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al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mpartir recurs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 objetivo básico de los sistema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rios deben tener acceso fácil a recursos compartidos y compartir sus propios recursos de forma control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mpreso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utad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pacio de almacena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rchivos, datos, páginas Web, rede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orqué compartir recursos 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, capacidad, escalabi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onder el hecho que los recursos y procesos están físicamente distribuidos en diferentes máquin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n sistema distribuido que se presenta hacia el usuario como una sola máquina se dice ser transparen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, transparencia se aplica a varios aspectos de sistemas distribuidos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cce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s diferencias entre las distintas representaciones de datos y la formas en que éstos son accedidos por los usuari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representación de un entero en una máquina SPARC (big endian) y una INTEL (little endi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 ubicación física de donde está situado un recur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 particular se suele usar nombres lógicos en vez de direcciones reales. Ejemplo, la URL en el Web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Migr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el hecho que recursos puedan migrar de una ubicación física a otra sin afectar el modo en que se acce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las tareas ;-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-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caso aún más fuerte de migración. Los recursos son movidos de una ubicación a otra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mientra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stán en uso y sin que el usuario note 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uso típico es para balancear carg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p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que un recurso pueda estar replicado varias veces para mejorar su rendimiento y/o disponibilid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bviamente exige transparencia de ubic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 Web de Goog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curr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de que distintos usuarios están “compitiendo” en paralelo por acceder o usar recursos, o que un recurso está siendo compartido con otros usu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xige que el sistema se mantenga en un estado coheren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bases de da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bje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tender los conceptos básicos de sistemas distribuidos y sus problemátic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render el uso de técnicas de diseño de sistemas en forma distribuid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struir sistemas computacionales básicos en ambiente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ocer diferentes sistemas distribuidos de mayor u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usuario no nota (inclusive nunca supo) que un recurso ha dejado de funcionar (o se ha recuperad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s uno de los aspectos más duros en sistemas distribuidos por la dificultad de detectar que un recurso ha muer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arreglos de discos RAID, Google File Syste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sist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si un recurso de software está en disco o en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plicable a distintos sistemas, no sólo distribui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es cache, proxy; conexiones persistentes a bases de da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 transparencia tiene límites y gra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 siempre es posible esconder to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desfase temporal de comunicación entre puntos muy distantes (delay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empre hay un trade-off entre transparencia y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Bases de datos replicadas world-wide. Un caso particular son los servidores DNS que pueden tomar días en actualizarse, lo cual no se oculta al usuar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Us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os recursos y servicios son ofrecidos de acuerdo a reglas estándares describiendo la semántica y sintax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lmente estas reglas son descritas vía protocolos o interfac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face Definition Languages (ID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eb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aspectos muy relevan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letitu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eutr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cal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refiere a la capacidad de crecer de un sist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escalabilidad se puede dimensionar desde tres asp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amaño: la capacidad de agregar fácilmente más recursos y usuarios al siste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ográfica: la capacidad de que usuarios y recursos se encuentren a distancias considera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dministración: La capacidad de mantener una administración fácil a pesar del creci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fortunadamente los sistemas son escalables en alguna de las dimensiones sacrificando rendimiento en las ot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 forma general todo sistema distribuido consiste en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ltiple CPU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compartida (multi-proces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s los CPU comparten el mism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independiente (multi-comput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da CPU tiene su propi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unic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vía B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nal comparti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unicación vía Swit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nal exclus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371600" y="1981080"/>
            <a:ext cx="1981080" cy="1067040"/>
            <a:chOff x="1371600" y="1981080"/>
            <a:chExt cx="1981080" cy="1067040"/>
          </a:xfrm>
        </p:grpSpPr>
        <p:sp>
          <p:nvSpPr>
            <p:cNvPr id="139" name=""/>
            <p:cNvSpPr/>
            <p:nvPr/>
          </p:nvSpPr>
          <p:spPr>
            <a:xfrm>
              <a:off x="16765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479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60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954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8108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1460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481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71600" y="251460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002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3372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6688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004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288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82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257800" y="1981080"/>
            <a:ext cx="2209680" cy="1067040"/>
            <a:chOff x="5257800" y="1981080"/>
            <a:chExt cx="2209680" cy="1067040"/>
          </a:xfrm>
        </p:grpSpPr>
        <p:sp>
          <p:nvSpPr>
            <p:cNvPr id="155" name=""/>
            <p:cNvSpPr/>
            <p:nvPr/>
          </p:nvSpPr>
          <p:spPr>
            <a:xfrm>
              <a:off x="54100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4360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77120" y="25146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00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436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4771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102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627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958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294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29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29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2940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9588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27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57800" y="3048120"/>
              <a:ext cx="22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600200" y="4191120"/>
            <a:ext cx="1905120" cy="1523880"/>
            <a:chOff x="1600200" y="4191120"/>
            <a:chExt cx="1905120" cy="1523880"/>
          </a:xfrm>
        </p:grpSpPr>
        <p:sp>
          <p:nvSpPr>
            <p:cNvPr id="173" name=""/>
            <p:cNvSpPr/>
            <p:nvPr/>
          </p:nvSpPr>
          <p:spPr>
            <a:xfrm>
              <a:off x="2438640" y="487692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002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3372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67240" y="541008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004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623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7180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1" name=""/>
            <p:cNvCxnSpPr>
              <a:stCxn id="178" idx="2"/>
              <a:endCxn id="173" idx="1"/>
            </p:cNvCxnSpPr>
            <p:nvPr/>
          </p:nvCxnSpPr>
          <p:spPr>
            <a:xfrm>
              <a:off x="1828800" y="4495320"/>
              <a:ext cx="64332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2" name=""/>
            <p:cNvCxnSpPr>
              <a:stCxn id="173" idx="0"/>
              <a:endCxn id="179" idx="2"/>
            </p:cNvCxnSpPr>
            <p:nvPr/>
          </p:nvCxnSpPr>
          <p:spPr>
            <a:xfrm flipH="1" flipV="1">
              <a:off x="2514240" y="4494960"/>
              <a:ext cx="38880" cy="381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3" name=""/>
            <p:cNvCxnSpPr>
              <a:stCxn id="173" idx="7"/>
              <a:endCxn id="180" idx="2"/>
            </p:cNvCxnSpPr>
            <p:nvPr/>
          </p:nvCxnSpPr>
          <p:spPr>
            <a:xfrm flipV="1">
              <a:off x="2633400" y="4494960"/>
              <a:ext cx="49140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4" name=""/>
            <p:cNvCxnSpPr>
              <a:stCxn id="173" idx="5"/>
              <a:endCxn id="176" idx="0"/>
            </p:cNvCxnSpPr>
            <p:nvPr/>
          </p:nvCxnSpPr>
          <p:spPr>
            <a:xfrm>
              <a:off x="263376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5" name=""/>
            <p:cNvCxnSpPr>
              <a:stCxn id="173" idx="3"/>
              <a:endCxn id="175" idx="0"/>
            </p:cNvCxnSpPr>
            <p:nvPr/>
          </p:nvCxnSpPr>
          <p:spPr>
            <a:xfrm flipH="1">
              <a:off x="228564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6" name=""/>
            <p:cNvCxnSpPr>
              <a:stCxn id="173" idx="2"/>
              <a:endCxn id="174" idx="0"/>
            </p:cNvCxnSpPr>
            <p:nvPr/>
          </p:nvCxnSpPr>
          <p:spPr>
            <a:xfrm flipH="1">
              <a:off x="175212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7" name=""/>
            <p:cNvCxnSpPr>
              <a:stCxn id="173" idx="6"/>
              <a:endCxn id="177" idx="0"/>
            </p:cNvCxnSpPr>
            <p:nvPr/>
          </p:nvCxnSpPr>
          <p:spPr>
            <a:xfrm>
              <a:off x="266688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88" name=""/>
          <p:cNvGrpSpPr/>
          <p:nvPr/>
        </p:nvGrpSpPr>
        <p:grpSpPr>
          <a:xfrm>
            <a:off x="5410080" y="4267080"/>
            <a:ext cx="1905120" cy="1600200"/>
            <a:chOff x="5410080" y="4267080"/>
            <a:chExt cx="1905120" cy="1600200"/>
          </a:xfrm>
        </p:grpSpPr>
        <p:sp>
          <p:nvSpPr>
            <p:cNvPr id="189" name=""/>
            <p:cNvSpPr/>
            <p:nvPr/>
          </p:nvSpPr>
          <p:spPr>
            <a:xfrm>
              <a:off x="6248520" y="563868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100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4360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77120" y="4800600"/>
              <a:ext cx="30456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102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100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4360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77120" y="4267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102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627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958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294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629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2" name=""/>
            <p:cNvCxnSpPr>
              <a:stCxn id="190" idx="2"/>
              <a:endCxn id="189" idx="2"/>
            </p:cNvCxnSpPr>
            <p:nvPr/>
          </p:nvCxnSpPr>
          <p:spPr>
            <a:xfrm flipH="1" rot="16200000">
              <a:off x="558072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3" name=""/>
            <p:cNvCxnSpPr>
              <a:stCxn id="191" idx="2"/>
              <a:endCxn id="189" idx="1"/>
            </p:cNvCxnSpPr>
            <p:nvPr/>
          </p:nvCxnSpPr>
          <p:spPr>
            <a:xfrm flipH="1" rot="16200000">
              <a:off x="5905080" y="529524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4" name=""/>
            <p:cNvCxnSpPr>
              <a:stCxn id="193" idx="2"/>
              <a:endCxn id="189" idx="6"/>
            </p:cNvCxnSpPr>
            <p:nvPr/>
          </p:nvCxnSpPr>
          <p:spPr>
            <a:xfrm rot="5400000">
              <a:off x="649548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5" name=""/>
            <p:cNvCxnSpPr>
              <a:stCxn id="192" idx="2"/>
              <a:endCxn id="189" idx="7"/>
            </p:cNvCxnSpPr>
            <p:nvPr/>
          </p:nvCxnSpPr>
          <p:spPr>
            <a:xfrm rot="5400000">
              <a:off x="6252480" y="529560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06" name=""/>
          <p:cNvSpPr/>
          <p:nvPr/>
        </p:nvSpPr>
        <p:spPr>
          <a:xfrm>
            <a:off x="865440" y="3214800"/>
            <a:ext cx="30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01720" y="595800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39320" y="3214800"/>
            <a:ext cx="34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77920" y="5958000"/>
            <a:ext cx="36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Proces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dos los CPU tienen acceso a una memoria compart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jemplo es Symetric Multiprocesing (SMP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ge coherencia en el estado de la memor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la medida que aumentan los CPUs mantener la coherencia afecta fuertemente el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 poco escalable y la escalabilidad es ca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comput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subdividen en dos categor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omogé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arquitectura y memoria es igual o similar en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neralmente conectados a trav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s de una única, usualmente de alto rendimiento, interfaz de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 típico: cluster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Heterog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tiples arquitectu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comunica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formas de comunic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 t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pico: GR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oft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ncuentran tres variantes de plataformas de software par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e 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iddle-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ono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os compartiendo recursos sobre una máquina, gracias a un microkernel que implemente una máquina virtu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56960" y="3689280"/>
            <a:ext cx="9007920" cy="3007800"/>
            <a:chOff x="156960" y="3689280"/>
            <a:chExt cx="9007920" cy="3007800"/>
          </a:xfrm>
        </p:grpSpPr>
        <p:grpSp>
          <p:nvGrpSpPr>
            <p:cNvPr id="219" name=""/>
            <p:cNvGrpSpPr/>
            <p:nvPr/>
          </p:nvGrpSpPr>
          <p:grpSpPr>
            <a:xfrm>
              <a:off x="1219320" y="4114800"/>
              <a:ext cx="6781680" cy="2438280"/>
              <a:chOff x="1219320" y="4114800"/>
              <a:chExt cx="6781680" cy="2438280"/>
            </a:xfrm>
          </p:grpSpPr>
          <p:sp>
            <p:nvSpPr>
              <p:cNvPr id="220" name=""/>
              <p:cNvSpPr/>
              <p:nvPr/>
            </p:nvSpPr>
            <p:spPr>
              <a:xfrm>
                <a:off x="1219320" y="518148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44792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Aplicaci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n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De usuar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12444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memor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8006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proces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4008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archiv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7652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35304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0292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6294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19320" y="4114800"/>
                <a:ext cx="678168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19320" y="601956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142880" y="6127560"/>
                <a:ext cx="124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Hardwa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910680" y="5652720"/>
                <a:ext cx="1540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icro-kern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438640" y="495288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438640" y="54100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3886200" y="495252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21004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10040" y="5486040"/>
                <a:ext cx="33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556272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98144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981440" y="5638680"/>
                <a:ext cx="518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716292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279000" y="6054480"/>
              <a:ext cx="142740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lamada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990720" y="5597280"/>
              <a:ext cx="9903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56960" y="3692520"/>
              <a:ext cx="211464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Interfaz 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66680" y="4343400"/>
              <a:ext cx="762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11240" y="3689280"/>
              <a:ext cx="47484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No hay intercambio directo entre 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dul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666520" y="403848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0988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6272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8660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77320" y="419076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077320" y="5181480"/>
              <a:ext cx="152280" cy="8380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70200" y="4311360"/>
              <a:ext cx="99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usu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173080" y="5257800"/>
              <a:ext cx="85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gend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troducción 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unica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cesos y Migr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am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cronización de proces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plic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archiv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ctua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compartiendo datos a través de memoria comparti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atos deben ser protegidos para garantizar consiste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deben ser transparentes para la aplic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imitivas de sincronización: semáforos, locks, monit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comput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computadores conectados por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ador tiene su propia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unicación únicamente a través de paso de mensaj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ncronización basada en semánticas particulares de paso de mensaj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057400" y="3900600"/>
            <a:ext cx="5090400" cy="2806560"/>
            <a:chOff x="2057400" y="3900600"/>
            <a:chExt cx="5090400" cy="2806560"/>
          </a:xfrm>
        </p:grpSpPr>
        <p:sp>
          <p:nvSpPr>
            <p:cNvPr id="260" name=""/>
            <p:cNvSpPr/>
            <p:nvPr/>
          </p:nvSpPr>
          <p:spPr>
            <a:xfrm>
              <a:off x="52578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0574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33720" y="43578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33720" y="50436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 distribu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8600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098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100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09680" y="65674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8195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197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199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55600" y="63388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18680" y="3917880"/>
              <a:ext cx="13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81000" y="390060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61120" y="390060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Memoria Compartida Distribu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procesadores, cada uno con su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emoria compartida virtual sobre multicomputad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oblema de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false sharing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 (memoria de dos procesos en la misma p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gin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828800" y="3841920"/>
            <a:ext cx="6683400" cy="2406600"/>
            <a:chOff x="1828800" y="3841920"/>
            <a:chExt cx="6683400" cy="2406600"/>
          </a:xfrm>
        </p:grpSpPr>
        <p:sp>
          <p:nvSpPr>
            <p:cNvPr id="279" name=""/>
            <p:cNvSpPr/>
            <p:nvPr/>
          </p:nvSpPr>
          <p:spPr>
            <a:xfrm>
              <a:off x="3189960" y="3841920"/>
              <a:ext cx="261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 virtual 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1828800" y="4876920"/>
              <a:ext cx="1218960" cy="1068120"/>
              <a:chOff x="1828800" y="4876920"/>
              <a:chExt cx="1218960" cy="1068120"/>
            </a:xfrm>
          </p:grpSpPr>
          <p:sp>
            <p:nvSpPr>
              <p:cNvPr id="281" name=""/>
              <p:cNvSpPr/>
              <p:nvPr/>
            </p:nvSpPr>
            <p:spPr>
              <a:xfrm>
                <a:off x="18288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8288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047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2856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047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6665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0466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3200400" y="4876920"/>
              <a:ext cx="1218960" cy="1068120"/>
              <a:chOff x="3200400" y="4876920"/>
              <a:chExt cx="1218960" cy="1068120"/>
            </a:xfrm>
          </p:grpSpPr>
          <p:sp>
            <p:nvSpPr>
              <p:cNvPr id="289" name=""/>
              <p:cNvSpPr/>
              <p:nvPr/>
            </p:nvSpPr>
            <p:spPr>
              <a:xfrm>
                <a:off x="32004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004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763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6572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763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0381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6572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4182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4572000" y="4876920"/>
              <a:ext cx="1218960" cy="1068120"/>
              <a:chOff x="4572000" y="4876920"/>
              <a:chExt cx="1218960" cy="1068120"/>
            </a:xfrm>
          </p:grpSpPr>
          <p:sp>
            <p:nvSpPr>
              <p:cNvPr id="298" name=""/>
              <p:cNvSpPr/>
              <p:nvPr/>
            </p:nvSpPr>
            <p:spPr>
              <a:xfrm>
                <a:off x="45720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720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4796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0288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41008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64796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0288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898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5943600" y="4876920"/>
              <a:ext cx="1218960" cy="1068120"/>
              <a:chOff x="5943600" y="4876920"/>
              <a:chExt cx="1218960" cy="1068120"/>
            </a:xfrm>
          </p:grpSpPr>
          <p:sp>
            <p:nvSpPr>
              <p:cNvPr id="307" name=""/>
              <p:cNvSpPr/>
              <p:nvPr/>
            </p:nvSpPr>
            <p:spPr>
              <a:xfrm>
                <a:off x="59436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9436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019560" y="4952880"/>
                <a:ext cx="30492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40080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16176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2057400" y="4191120"/>
              <a:ext cx="4876200" cy="228600"/>
              <a:chOff x="2057400" y="4191120"/>
              <a:chExt cx="4876200" cy="228600"/>
            </a:xfrm>
          </p:grpSpPr>
          <p:sp>
            <p:nvSpPr>
              <p:cNvPr id="313" name=""/>
              <p:cNvSpPr/>
              <p:nvPr/>
            </p:nvSpPr>
            <p:spPr>
              <a:xfrm>
                <a:off x="205740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3619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6668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714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2763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8002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4956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1907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8858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5812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1051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4100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7146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0195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244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6290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1904760" y="6248520"/>
              <a:ext cx="5181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382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098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814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530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2057040" y="441972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514600" y="441972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2285640" y="4419720"/>
              <a:ext cx="5331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240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29000" y="441972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2590200" y="4419720"/>
              <a:ext cx="1143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365760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43400" y="441972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886200" y="44197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2971440" y="4419720"/>
              <a:ext cx="1981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267080" y="4419720"/>
              <a:ext cx="9907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51814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5333760" y="441972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72200" y="4419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5562360" y="441972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6705360" y="4419720"/>
              <a:ext cx="76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15200" y="4876920"/>
              <a:ext cx="75960" cy="60948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54440" y="496728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False Sharin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rcRect l="21380" t="45166" r="20523" b="40333"/>
          <a:stretch/>
        </p:blipFill>
        <p:spPr>
          <a:xfrm>
            <a:off x="1295280" y="2209680"/>
            <a:ext cx="730584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e Re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o más 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omputador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conectados por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parten los diferentes recursos y la información del sistema mediante la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vell Netware, Personal Netware,Windows NT Server, UNIX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057400" y="3809880"/>
            <a:ext cx="5090400" cy="2820960"/>
            <a:chOff x="2057400" y="3809880"/>
            <a:chExt cx="5090400" cy="2820960"/>
          </a:xfrm>
        </p:grpSpPr>
        <p:sp>
          <p:nvSpPr>
            <p:cNvPr id="357" name=""/>
            <p:cNvSpPr/>
            <p:nvPr/>
          </p:nvSpPr>
          <p:spPr>
            <a:xfrm>
              <a:off x="52578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576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574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133720" y="428148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8600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098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100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209680" y="649116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8195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4197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0199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555600" y="62625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158560" y="382752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620520" y="380988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01000" y="380988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1337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339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3341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: Antiguos terminales UNIX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27580" t="47282" r="24347" b="41541"/>
          <a:stretch/>
        </p:blipFill>
        <p:spPr>
          <a:xfrm>
            <a:off x="1066680" y="1981080"/>
            <a:ext cx="7767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Independencia de uso de servici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rcRect l="20951" t="38671" r="20309" b="33535"/>
          <a:stretch/>
        </p:blipFill>
        <p:spPr>
          <a:xfrm>
            <a:off x="1143000" y="1981080"/>
            <a:ext cx="65437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iddle-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apa de software que ejecuta sobre el sistema operativo local de cada computador ofreciendo uno servicios distribuid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bstrae la complejidad y heterogeneidad de los computadores del siste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roporciona una API para la programación y manejo de aplicaciones distribuid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286000" y="3273480"/>
            <a:ext cx="5090400" cy="3662280"/>
            <a:chOff x="2286000" y="3273480"/>
            <a:chExt cx="5090400" cy="3662280"/>
          </a:xfrm>
        </p:grpSpPr>
        <p:sp>
          <p:nvSpPr>
            <p:cNvPr id="382" name=""/>
            <p:cNvSpPr/>
            <p:nvPr/>
          </p:nvSpPr>
          <p:spPr>
            <a:xfrm>
              <a:off x="54864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862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2860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362320" y="45864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cios del Middle-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1460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384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386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438280" y="67960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0481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6483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2485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784200" y="65674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387160" y="329112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849120" y="327348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29600" y="327348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3623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5627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362320" y="381024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abla Comparativ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609480" y="1828800"/>
          <a:ext cx="8229600" cy="4818240"/>
        </p:xfrm>
        <a:graphic>
          <a:graphicData uri="http://schemas.openxmlformats.org/drawingml/2006/table">
            <a:tbl>
              <a:tblPr/>
              <a:tblGrid>
                <a:gridCol w="1828800"/>
                <a:gridCol w="1524240"/>
                <a:gridCol w="1600200"/>
                <a:gridCol w="1447560"/>
                <a:gridCol w="1828800"/>
              </a:tblGrid>
              <a:tr h="450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e 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ddle-W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pro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com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o de Transpar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y 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smo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pias del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unicaci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moria compart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ch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c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fico al mode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ejo de rec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cent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cal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rganizaciones t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íp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liente-Servi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2 (o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s) cap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rquitecturas Modern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spectos Administra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valu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, tareas, porcentajes, dem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liente-Servido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rcRect l="32925" t="46828" r="30143" b="40484"/>
          <a:stretch/>
        </p:blipFill>
        <p:spPr>
          <a:xfrm>
            <a:off x="1219320" y="2209680"/>
            <a:ext cx="6581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cap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rcRect l="20309" t="42146" r="18600" b="36707"/>
          <a:stretch/>
        </p:blipFill>
        <p:spPr>
          <a:xfrm>
            <a:off x="762120" y="1981080"/>
            <a:ext cx="8076960" cy="39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rquitecturas Modern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rcRect l="26938" t="43052" r="21594" b="37916"/>
          <a:stretch/>
        </p:blipFill>
        <p:spPr>
          <a:xfrm>
            <a:off x="914400" y="2057400"/>
            <a:ext cx="780084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Bibliografí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A.Tanenbaum, M.Van Stee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, principles and paradigm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Ed. Prentice Hall, 2002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G.Coulouris, J.Dillmore, T.Kindberg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 - Concept and Desig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Addison-Wesley, Third Edition, 2001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volución de los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s de microprocesad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45 a 1980’s. 1 instrucción/seg. US$ 10.000.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80’s hasta hoy. 1.000.000.000 instrucciones/seg. Menos de US$1.00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nancia precio/rendimiento º 101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 de re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N. 10-100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AN. 64 kpbs - 2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Facilidad de interconex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net e Intran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to desarrollo del hardware ..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finicion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Distribuido es una colección de computadores independientes que aparecen ante los usuarios como un único sistema coherente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Andrew S. Tanenbau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en el cual tanto los componentes de hardware y software de un computador conectados en red se comunican y coordinan mediante paso de mensaj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G.Coulouris, J.Dollimore, T.Kindber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Aquel que le impide a uno continuar su trabajo cuando falla un computador del cual uno nunca ha oído hablar.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L.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d de estaciones de trabajo en una Univers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pacio cuenta es visible desde todos los comput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kflow de manejo automático de órde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do por múltiples usuarios, el flujo de las órdenes es transparente para ell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38:17Z</dcterms:created>
  <dc:creator>Facultad de Ingenieria</dc:creator>
  <dc:description/>
  <dc:language>en-US</dc:language>
  <cp:lastModifiedBy>Usuario de Office 2004 Test Drive</cp:lastModifiedBy>
  <dcterms:modified xsi:type="dcterms:W3CDTF">2009-01-21T14:47:22Z</dcterms:modified>
  <cp:revision>130</cp:revision>
  <dc:subject/>
  <dc:title>Sistemas Distribuídos</dc:title>
</cp:coreProperties>
</file>