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4BE-504D-45A8-AAFC-43823F5CB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1C5-F50D-4DA9-A687-4A6FF1D7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D75-E21A-4ABF-A2EA-D232D808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E2C-84C3-48F3-90AE-471220CC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EAEA-3C19-4494-9168-34DF1CC9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8C48-637A-4913-9986-63D8F573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29F4-6C10-474D-BDD4-A5E223E9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E03B-1977-4730-9207-92D9A30E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E113-F0B2-431F-93E8-907453CB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49C8-E68B-4A9F-A6FD-A9A1D6D4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C6DB-BC3E-4F8D-844C-50753878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CFB-E719-41E5-B9B1-B35C94FF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C207-C790-4EDE-88D3-B610763D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1561-7FE2-49DD-8CEC-54171240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A672-5F3B-4DC7-AC33-CB6B25A8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BEE1-104C-4831-A868-2CC46610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B180-65BF-4F5E-9BA4-B2D22D3A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2FB0-F06D-49D2-9C77-819DECAA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A8C6-B162-47F8-9788-734EE165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F4B8-FD6D-4098-996D-593FEB64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CB5-F877-4368-A85F-B0037B1B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9E6-2156-40CF-A2F1-AF5EA5E4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F4C7-F861-40D9-A210-0EDF7084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D19-5194-4A5F-8A4F-7386ABFD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1305-91B6-4680-BF10-22EED709864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E52B-C665-4CE6-AD35-49C208C7648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las tareas ;-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39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55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73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"/>
            <p:cNvCxnSpPr>
              <a:stCxn id="178" idx="2"/>
              <a:endCxn id="173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"/>
            <p:cNvCxnSpPr>
              <a:stCxn id="173" idx="0"/>
              <a:endCxn id="179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"/>
            <p:cNvCxnSpPr>
              <a:stCxn id="173" idx="7"/>
              <a:endCxn id="180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"/>
            <p:cNvCxnSpPr>
              <a:stCxn id="173" idx="5"/>
              <a:endCxn id="176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"/>
            <p:cNvCxnSpPr>
              <a:stCxn id="173" idx="3"/>
              <a:endCxn id="175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"/>
            <p:cNvCxnSpPr>
              <a:stCxn id="173" idx="2"/>
              <a:endCxn id="174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"/>
            <p:cNvCxnSpPr>
              <a:stCxn id="173" idx="6"/>
              <a:endCxn id="177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88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89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"/>
            <p:cNvCxnSpPr>
              <a:stCxn id="190" idx="2"/>
              <a:endCxn id="189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3" name=""/>
            <p:cNvCxnSpPr>
              <a:stCxn id="191" idx="2"/>
              <a:endCxn id="189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4" name=""/>
            <p:cNvCxnSpPr>
              <a:stCxn id="193" idx="2"/>
              <a:endCxn id="189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5" name=""/>
            <p:cNvCxnSpPr>
              <a:stCxn id="192" idx="2"/>
              <a:endCxn id="189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06" name=""/>
          <p:cNvSpPr/>
          <p:nvPr/>
        </p:nvSpPr>
        <p:spPr>
          <a:xfrm>
            <a:off x="865440" y="3214800"/>
            <a:ext cx="30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1720" y="595800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39320" y="3214800"/>
            <a:ext cx="34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7920" y="5958000"/>
            <a:ext cx="36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56960" y="3689280"/>
            <a:ext cx="9007920" cy="3007800"/>
            <a:chOff x="156960" y="3689280"/>
            <a:chExt cx="9007920" cy="3007800"/>
          </a:xfrm>
        </p:grpSpPr>
        <p:grpSp>
          <p:nvGrpSpPr>
            <p:cNvPr id="219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0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142880" y="6127560"/>
                <a:ext cx="1244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910680" y="5652720"/>
                <a:ext cx="1540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79000" y="6054480"/>
              <a:ext cx="142740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960" y="3692520"/>
              <a:ext cx="21146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1240" y="3689280"/>
              <a:ext cx="4748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0200" y="4311360"/>
              <a:ext cx="99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173080" y="5257800"/>
              <a:ext cx="85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cesos y Migr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plic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tua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0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18680" y="3917880"/>
              <a:ext cx="13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1000" y="390060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61120" y="390060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828800" y="3841920"/>
            <a:ext cx="6683400" cy="2406600"/>
            <a:chOff x="1828800" y="3841920"/>
            <a:chExt cx="6683400" cy="2406600"/>
          </a:xfrm>
        </p:grpSpPr>
        <p:sp>
          <p:nvSpPr>
            <p:cNvPr id="279" name=""/>
            <p:cNvSpPr/>
            <p:nvPr/>
          </p:nvSpPr>
          <p:spPr>
            <a:xfrm>
              <a:off x="3189960" y="3841920"/>
              <a:ext cx="261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466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89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82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298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8980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07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161760" y="5576760"/>
                <a:ext cx="82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13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54440" y="496728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False Shar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rcRect l="21380" t="45166" r="20523" b="40333"/>
          <a:stretch/>
        </p:blipFill>
        <p:spPr>
          <a:xfrm>
            <a:off x="1295280" y="2209680"/>
            <a:ext cx="730584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57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58560" y="38275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20520" y="38098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1000" y="38098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: Antiguos terminales UNIX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27580" t="47282" r="24347" b="41541"/>
          <a:stretch/>
        </p:blipFill>
        <p:spPr>
          <a:xfrm>
            <a:off x="1066680" y="1981080"/>
            <a:ext cx="7767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Independencia de uso de servici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rcRect l="20951" t="38671" r="20309" b="33535"/>
          <a:stretch/>
        </p:blipFill>
        <p:spPr>
          <a:xfrm>
            <a:off x="1143000" y="1981080"/>
            <a:ext cx="6543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2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387160" y="3291120"/>
              <a:ext cx="133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49120" y="327348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29600" y="3273480"/>
              <a:ext cx="13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45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ganizaciones t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íp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liente-Servi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2 (o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) cap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rquitecturas Modern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liente-Servido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rcRect l="32925" t="46828" r="30143" b="40484"/>
          <a:stretch/>
        </p:blipFill>
        <p:spPr>
          <a:xfrm>
            <a:off x="1219320" y="2209680"/>
            <a:ext cx="6581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cap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20309" t="42146" r="18600" b="36707"/>
          <a:stretch/>
        </p:blipFill>
        <p:spPr>
          <a:xfrm>
            <a:off x="762120" y="1981080"/>
            <a:ext cx="807696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rquitecturas Modern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rcRect l="26938" t="43052" r="21594" b="37916"/>
          <a:stretch/>
        </p:blipFill>
        <p:spPr>
          <a:xfrm>
            <a:off x="914400" y="2057400"/>
            <a:ext cx="780084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d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1T14:47:22Z</dcterms:modified>
  <cp:revision>130</cp:revision>
  <dc:subject/>
  <dc:title>Sistemas Distribuídos</dc:title>
</cp:coreProperties>
</file>