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move the slide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06BDA-E1E5-4599-A158-AA36C2D4356C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N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B5A9-14E2-4E92-B267-B0F00C6AA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0291-C429-4643-B480-798C95B80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7063-B8C1-4679-A815-A545B78D6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9A1D-0B4E-4026-B3B2-3FF88CFAF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4C1BA-6A49-4873-A862-912ADC999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5B1D1-1C46-473B-82B3-DBCB68231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A37B1-A81C-4236-B700-D9237C94E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03EA7-DA76-4D16-866C-66E1E4668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62354-DD2E-4563-AB20-9B96A7997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7699A-0569-4AFA-9FF3-985235A75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66EE0-F68E-4067-B134-7952EAD51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BE6D-46CA-4E51-BEF9-C5E0762D7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9A366-E014-4ACC-93EB-0B7B0C2B4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AEF63-D626-41B2-90E7-EB2A2FE3E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AFF53-A033-4473-8AF6-02CAAE49E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1F51C-CCE5-4498-87CF-037BEFA4E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80631-C01A-411C-BDFB-008172292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C774-B9AF-4753-9A0F-8F80D734C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9497-0A7B-40C0-AD9F-AB530CE04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EA61-72F6-4FAD-B418-71F3CBE79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1D71-C1BB-4D5C-8635-F873FB0AA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9EE2-BFB6-4792-9433-6F90B2337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68AE-CCDC-4B27-9E04-C09186131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DBCB-20EA-47D2-AB13-F0CBB5F77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9D897-2E7D-4E66-A84A-6EE99D8F27DF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1C35F-1C18-4127-AE83-2063AB4488FA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800" spc="-1" strike="noStrike">
                <a:solidFill>
                  <a:srgbClr val="999900"/>
                </a:solidFill>
                <a:latin typeface="Garamond"/>
              </a:rPr>
              <a:t>Sistemas Distribuidos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Javier Bustos Jiménez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jbustos@dcc.uchile.c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Rel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causal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Notac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a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b (a ocurre antes que b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efinición (Lamport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i a y b son eventos en el mismo procesador, y a ocurre antes que b, entonces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b es verdader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i a es un evento de enviar un mensaje por un proceso y b es el evento de recibir ese mensaje por otro proceso, entonces a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b es verdader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odo mensaje toma un tiempo finito mayor que cero en llega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i a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b y b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 son verdaderos, entonces también lo es a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i ni a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b, ni b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 son verdaderos, se dice que los eventos a y b son concurrentes (paralelo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Ordenamiento de event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ada proceso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mantiene una variable entera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LC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Verdana"/>
              </a:rPr>
              <a:t>P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(reloj lógico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uando un proceso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genera un evento,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LC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Verdana"/>
              </a:rPr>
              <a:t>P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=LC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Verdana"/>
              </a:rPr>
              <a:t>P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+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uando un proceso envía un mensaje incluye el valor de su reloj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uando un proceso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Q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recibe un mensaje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con un valor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LC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Verdana"/>
              </a:rPr>
              <a:t>Q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=max(LC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Verdana"/>
              </a:rPr>
              <a:t>Q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,t)+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1219320" y="21337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219320" y="25909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219320" y="30481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219320" y="35053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219320" y="39625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219320" y="44197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219320" y="48769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219320" y="53341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57913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219320" y="62485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jemplo de sincroniz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lógic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1600200" y="1676520"/>
          <a:ext cx="685800" cy="50115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47" name=""/>
          <p:cNvGraphicFramePr/>
          <p:nvPr/>
        </p:nvGraphicFramePr>
        <p:xfrm>
          <a:off x="4267080" y="1676520"/>
          <a:ext cx="685800" cy="50115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6858000" y="1676520"/>
          <a:ext cx="685800" cy="495144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grpSp>
        <p:nvGrpSpPr>
          <p:cNvPr id="249" name=""/>
          <p:cNvGrpSpPr/>
          <p:nvPr/>
        </p:nvGrpSpPr>
        <p:grpSpPr>
          <a:xfrm>
            <a:off x="2209680" y="2286000"/>
            <a:ext cx="1981440" cy="533520"/>
            <a:chOff x="2209680" y="2286000"/>
            <a:chExt cx="1981440" cy="533520"/>
          </a:xfrm>
        </p:grpSpPr>
        <p:sp>
          <p:nvSpPr>
            <p:cNvPr id="250" name=""/>
            <p:cNvSpPr/>
            <p:nvPr/>
          </p:nvSpPr>
          <p:spPr>
            <a:xfrm>
              <a:off x="2209680" y="2362320"/>
              <a:ext cx="198144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130560" y="2286000"/>
              <a:ext cx="32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4876920" y="3138480"/>
            <a:ext cx="1904760" cy="595440"/>
            <a:chOff x="4876920" y="3138480"/>
            <a:chExt cx="1904760" cy="595440"/>
          </a:xfrm>
        </p:grpSpPr>
        <p:sp>
          <p:nvSpPr>
            <p:cNvPr id="253" name=""/>
            <p:cNvSpPr/>
            <p:nvPr/>
          </p:nvSpPr>
          <p:spPr>
            <a:xfrm>
              <a:off x="4876920" y="3276720"/>
              <a:ext cx="190476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685480" y="3138480"/>
              <a:ext cx="33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4952880" y="4510080"/>
            <a:ext cx="1828800" cy="595440"/>
            <a:chOff x="4952880" y="4510080"/>
            <a:chExt cx="1828800" cy="595440"/>
          </a:xfrm>
        </p:grpSpPr>
        <p:sp>
          <p:nvSpPr>
            <p:cNvPr id="256" name=""/>
            <p:cNvSpPr/>
            <p:nvPr/>
          </p:nvSpPr>
          <p:spPr>
            <a:xfrm flipH="1">
              <a:off x="4952880" y="4648320"/>
              <a:ext cx="182880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648040" y="451008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286000" y="5486400"/>
            <a:ext cx="1905120" cy="533520"/>
            <a:chOff x="2286000" y="5486400"/>
            <a:chExt cx="1905120" cy="533520"/>
          </a:xfrm>
        </p:grpSpPr>
        <p:sp>
          <p:nvSpPr>
            <p:cNvPr id="259" name=""/>
            <p:cNvSpPr/>
            <p:nvPr/>
          </p:nvSpPr>
          <p:spPr>
            <a:xfrm flipH="1">
              <a:off x="2286000" y="5562720"/>
              <a:ext cx="190512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013920" y="5486400"/>
              <a:ext cx="34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61" name=""/>
          <p:cNvGraphicFramePr/>
          <p:nvPr/>
        </p:nvGraphicFramePr>
        <p:xfrm>
          <a:off x="4267080" y="1676520"/>
          <a:ext cx="685800" cy="50115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2" name=""/>
          <p:cNvGraphicFramePr/>
          <p:nvPr/>
        </p:nvGraphicFramePr>
        <p:xfrm>
          <a:off x="1600200" y="1676520"/>
          <a:ext cx="685800" cy="50115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sp>
        <p:nvSpPr>
          <p:cNvPr id="263" name=""/>
          <p:cNvSpPr/>
          <p:nvPr/>
        </p:nvSpPr>
        <p:spPr>
          <a:xfrm>
            <a:off x="3222000" y="3232080"/>
            <a:ext cx="285552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66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OJO: Este algoritmo s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ermite un orden par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291040" y="4073400"/>
            <a:ext cx="4799880" cy="173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66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ara orden total se enumeran los proce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y se agrega el número de proceso co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factor decim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segura que dos eventos no 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nunca simultáne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1152000" y="1600200"/>
            <a:ext cx="5620320" cy="368280"/>
            <a:chOff x="1152000" y="1600200"/>
            <a:chExt cx="5620320" cy="368280"/>
          </a:xfrm>
        </p:grpSpPr>
        <p:sp>
          <p:nvSpPr>
            <p:cNvPr id="266" name=""/>
            <p:cNvSpPr/>
            <p:nvPr/>
          </p:nvSpPr>
          <p:spPr>
            <a:xfrm>
              <a:off x="1152000" y="16002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870000" y="16002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460560" y="16002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1600200" y="1677960"/>
            <a:ext cx="5943600" cy="455400"/>
            <a:chOff x="1600200" y="1677960"/>
            <a:chExt cx="5943600" cy="455400"/>
          </a:xfrm>
        </p:grpSpPr>
        <p:sp>
          <p:nvSpPr>
            <p:cNvPr id="270" name=""/>
            <p:cNvSpPr/>
            <p:nvPr/>
          </p:nvSpPr>
          <p:spPr>
            <a:xfrm>
              <a:off x="1600200" y="1677960"/>
              <a:ext cx="685800" cy="4554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Verdana"/>
                </a:rPr>
                <a:t>0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600200" y="1677960"/>
              <a:ext cx="685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600200" y="2133360"/>
              <a:ext cx="685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600200" y="1677960"/>
              <a:ext cx="0" cy="455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286000" y="1677960"/>
              <a:ext cx="0" cy="455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267080" y="1677960"/>
              <a:ext cx="685800" cy="4554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Verdana"/>
                </a:rPr>
                <a:t>0.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267080" y="1677960"/>
              <a:ext cx="685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267080" y="2133360"/>
              <a:ext cx="685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267080" y="1677960"/>
              <a:ext cx="0" cy="455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952880" y="1677960"/>
              <a:ext cx="0" cy="455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858000" y="1677960"/>
              <a:ext cx="685800" cy="4554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Verdana"/>
                </a:rPr>
                <a:t>0.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858000" y="1677960"/>
              <a:ext cx="685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858000" y="2133360"/>
              <a:ext cx="685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858000" y="1677960"/>
              <a:ext cx="0" cy="455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543800" y="1677960"/>
              <a:ext cx="0" cy="455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Vectores de tiemp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Lamport nos permite concluir que si a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b, entonces L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&lt; L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in embargo lo contrario no es cierto, es decir si L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&lt; L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no nos permite concluir que a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 decir que las marcas de tiempos de dos eventos (L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,L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) no nos permite concluir sobre la relac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entre ello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sto porque las marcas de tiempo de Lamport no capturan la causalidad de los even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ara ello se usan los vectores de tiempo, desarrollado por Ricart y Agrawal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Vectores de tiemp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ada reloj es un arreglo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de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elementos siendo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el número de procesadores (nodos) del sistem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Inicialmente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[j]=0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ara todo 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uando el proceso 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genera un evento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[i]=V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[i]+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uando en el nodo 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se recibe un mensaje del nodo 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j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n un vector de tiempo 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entonc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para todo 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[k]=max(V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[k],t[k])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(operación de mezcla) y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[i]=V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[i] + 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Vectores de tiemp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90" name=""/>
          <p:cNvSpPr/>
          <p:nvPr/>
        </p:nvSpPr>
        <p:spPr>
          <a:xfrm>
            <a:off x="380880" y="2133720"/>
            <a:ext cx="8229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80880" y="3657600"/>
            <a:ext cx="8229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0880" y="5181480"/>
            <a:ext cx="8229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09480" y="1447920"/>
            <a:ext cx="0" cy="4343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07440" y="5791320"/>
            <a:ext cx="61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</a:rPr>
              <a:t>(0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1069560" y="1676520"/>
            <a:ext cx="616680" cy="457200"/>
            <a:chOff x="1069560" y="1676520"/>
            <a:chExt cx="616680" cy="457200"/>
          </a:xfrm>
        </p:grpSpPr>
        <p:sp>
          <p:nvSpPr>
            <p:cNvPr id="296" name=""/>
            <p:cNvSpPr/>
            <p:nvPr/>
          </p:nvSpPr>
          <p:spPr>
            <a:xfrm flipV="1">
              <a:off x="1371600" y="1981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069560" y="167652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10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3736440" y="1676520"/>
            <a:ext cx="616680" cy="457200"/>
            <a:chOff x="3736440" y="1676520"/>
            <a:chExt cx="616680" cy="457200"/>
          </a:xfrm>
        </p:grpSpPr>
        <p:sp>
          <p:nvSpPr>
            <p:cNvPr id="299" name=""/>
            <p:cNvSpPr/>
            <p:nvPr/>
          </p:nvSpPr>
          <p:spPr>
            <a:xfrm flipV="1">
              <a:off x="4038480" y="1981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736440" y="167652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30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4650840" y="1676520"/>
            <a:ext cx="616680" cy="457200"/>
            <a:chOff x="4650840" y="1676520"/>
            <a:chExt cx="616680" cy="457200"/>
          </a:xfrm>
        </p:grpSpPr>
        <p:sp>
          <p:nvSpPr>
            <p:cNvPr id="302" name=""/>
            <p:cNvSpPr/>
            <p:nvPr/>
          </p:nvSpPr>
          <p:spPr>
            <a:xfrm flipV="1">
              <a:off x="4952880" y="1981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650840" y="167652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40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7622640" y="1676520"/>
            <a:ext cx="616680" cy="457200"/>
            <a:chOff x="7622640" y="1676520"/>
            <a:chExt cx="616680" cy="457200"/>
          </a:xfrm>
        </p:grpSpPr>
        <p:sp>
          <p:nvSpPr>
            <p:cNvPr id="305" name=""/>
            <p:cNvSpPr/>
            <p:nvPr/>
          </p:nvSpPr>
          <p:spPr>
            <a:xfrm flipV="1">
              <a:off x="7924680" y="1981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622640" y="167652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66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6327360" y="3200400"/>
            <a:ext cx="616680" cy="457200"/>
            <a:chOff x="6327360" y="3200400"/>
            <a:chExt cx="616680" cy="457200"/>
          </a:xfrm>
        </p:grpSpPr>
        <p:sp>
          <p:nvSpPr>
            <p:cNvPr id="308" name=""/>
            <p:cNvSpPr/>
            <p:nvPr/>
          </p:nvSpPr>
          <p:spPr>
            <a:xfrm flipV="1">
              <a:off x="662940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32736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276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5260680" y="3200400"/>
            <a:ext cx="616680" cy="457200"/>
            <a:chOff x="5260680" y="3200400"/>
            <a:chExt cx="616680" cy="457200"/>
          </a:xfrm>
        </p:grpSpPr>
        <p:sp>
          <p:nvSpPr>
            <p:cNvPr id="311" name=""/>
            <p:cNvSpPr/>
            <p:nvPr/>
          </p:nvSpPr>
          <p:spPr>
            <a:xfrm flipV="1">
              <a:off x="556272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26068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26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1450440" y="3200400"/>
            <a:ext cx="616680" cy="457200"/>
            <a:chOff x="1450440" y="3200400"/>
            <a:chExt cx="616680" cy="457200"/>
          </a:xfrm>
        </p:grpSpPr>
        <p:sp>
          <p:nvSpPr>
            <p:cNvPr id="314" name=""/>
            <p:cNvSpPr/>
            <p:nvPr/>
          </p:nvSpPr>
          <p:spPr>
            <a:xfrm flipV="1">
              <a:off x="175248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45044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1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"/>
          <p:cNvGrpSpPr/>
          <p:nvPr/>
        </p:nvGrpSpPr>
        <p:grpSpPr>
          <a:xfrm>
            <a:off x="688680" y="4724280"/>
            <a:ext cx="616680" cy="457200"/>
            <a:chOff x="688680" y="4724280"/>
            <a:chExt cx="616680" cy="457200"/>
          </a:xfrm>
        </p:grpSpPr>
        <p:sp>
          <p:nvSpPr>
            <p:cNvPr id="317" name=""/>
            <p:cNvSpPr/>
            <p:nvPr/>
          </p:nvSpPr>
          <p:spPr>
            <a:xfrm flipV="1">
              <a:off x="990720" y="50288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88680" y="47242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01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3431880" y="4724280"/>
            <a:ext cx="616680" cy="457200"/>
            <a:chOff x="3431880" y="4724280"/>
            <a:chExt cx="616680" cy="457200"/>
          </a:xfrm>
        </p:grpSpPr>
        <p:sp>
          <p:nvSpPr>
            <p:cNvPr id="320" name=""/>
            <p:cNvSpPr/>
            <p:nvPr/>
          </p:nvSpPr>
          <p:spPr>
            <a:xfrm flipV="1">
              <a:off x="3733920" y="50288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431880" y="47242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03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4041360" y="4724280"/>
            <a:ext cx="616680" cy="457200"/>
            <a:chOff x="4041360" y="4724280"/>
            <a:chExt cx="616680" cy="457200"/>
          </a:xfrm>
        </p:grpSpPr>
        <p:sp>
          <p:nvSpPr>
            <p:cNvPr id="323" name=""/>
            <p:cNvSpPr/>
            <p:nvPr/>
          </p:nvSpPr>
          <p:spPr>
            <a:xfrm flipV="1">
              <a:off x="4343400" y="50288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041360" y="47242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24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7013160" y="4724280"/>
            <a:ext cx="616680" cy="457200"/>
            <a:chOff x="7013160" y="4724280"/>
            <a:chExt cx="616680" cy="457200"/>
          </a:xfrm>
        </p:grpSpPr>
        <p:sp>
          <p:nvSpPr>
            <p:cNvPr id="326" name=""/>
            <p:cNvSpPr/>
            <p:nvPr/>
          </p:nvSpPr>
          <p:spPr>
            <a:xfrm flipV="1">
              <a:off x="7315200" y="50288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013160" y="47242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27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2517480" y="1676520"/>
            <a:ext cx="616680" cy="457200"/>
            <a:chOff x="2517480" y="1676520"/>
            <a:chExt cx="616680" cy="457200"/>
          </a:xfrm>
        </p:grpSpPr>
        <p:sp>
          <p:nvSpPr>
            <p:cNvPr id="329" name=""/>
            <p:cNvSpPr/>
            <p:nvPr/>
          </p:nvSpPr>
          <p:spPr>
            <a:xfrm flipV="1">
              <a:off x="2819520" y="1981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517480" y="167652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20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5793840" y="4724280"/>
            <a:ext cx="616680" cy="457200"/>
            <a:chOff x="5793840" y="4724280"/>
            <a:chExt cx="616680" cy="457200"/>
          </a:xfrm>
        </p:grpSpPr>
        <p:sp>
          <p:nvSpPr>
            <p:cNvPr id="332" name=""/>
            <p:cNvSpPr/>
            <p:nvPr/>
          </p:nvSpPr>
          <p:spPr>
            <a:xfrm flipV="1">
              <a:off x="6095880" y="50288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793840" y="47242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26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3279240" y="3200400"/>
            <a:ext cx="616680" cy="457200"/>
            <a:chOff x="3279240" y="3200400"/>
            <a:chExt cx="616680" cy="457200"/>
          </a:xfrm>
        </p:grpSpPr>
        <p:sp>
          <p:nvSpPr>
            <p:cNvPr id="335" name=""/>
            <p:cNvSpPr/>
            <p:nvPr/>
          </p:nvSpPr>
          <p:spPr>
            <a:xfrm flipV="1">
              <a:off x="358128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27924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23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6098760" y="1676520"/>
            <a:ext cx="616680" cy="457200"/>
            <a:chOff x="6098760" y="1676520"/>
            <a:chExt cx="616680" cy="457200"/>
          </a:xfrm>
        </p:grpSpPr>
        <p:sp>
          <p:nvSpPr>
            <p:cNvPr id="338" name=""/>
            <p:cNvSpPr/>
            <p:nvPr/>
          </p:nvSpPr>
          <p:spPr>
            <a:xfrm flipV="1">
              <a:off x="6400800" y="1981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098760" y="167652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56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3889080" y="3200400"/>
            <a:ext cx="616680" cy="457200"/>
            <a:chOff x="3889080" y="3200400"/>
            <a:chExt cx="616680" cy="457200"/>
          </a:xfrm>
        </p:grpSpPr>
        <p:sp>
          <p:nvSpPr>
            <p:cNvPr id="341" name=""/>
            <p:cNvSpPr/>
            <p:nvPr/>
          </p:nvSpPr>
          <p:spPr>
            <a:xfrm flipV="1">
              <a:off x="419112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88908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24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1831680" y="4724280"/>
            <a:ext cx="616680" cy="457200"/>
            <a:chOff x="1831680" y="4724280"/>
            <a:chExt cx="616680" cy="457200"/>
          </a:xfrm>
        </p:grpSpPr>
        <p:sp>
          <p:nvSpPr>
            <p:cNvPr id="344" name=""/>
            <p:cNvSpPr/>
            <p:nvPr/>
          </p:nvSpPr>
          <p:spPr>
            <a:xfrm flipV="1">
              <a:off x="2133720" y="50288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831680" y="47242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0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2819520" y="2133720"/>
            <a:ext cx="76176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2133720" y="3657240"/>
            <a:ext cx="205740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flipV="1">
            <a:off x="5562720" y="2133360"/>
            <a:ext cx="83808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6095880" y="3657240"/>
            <a:ext cx="53352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7775280" y="3200400"/>
            <a:ext cx="616680" cy="457200"/>
            <a:chOff x="7775280" y="3200400"/>
            <a:chExt cx="616680" cy="457200"/>
          </a:xfrm>
        </p:grpSpPr>
        <p:sp>
          <p:nvSpPr>
            <p:cNvPr id="351" name=""/>
            <p:cNvSpPr/>
            <p:nvPr/>
          </p:nvSpPr>
          <p:spPr>
            <a:xfrm flipV="1">
              <a:off x="807732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77528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286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5184360" y="4724280"/>
            <a:ext cx="616680" cy="457200"/>
            <a:chOff x="5184360" y="4724280"/>
            <a:chExt cx="616680" cy="457200"/>
          </a:xfrm>
        </p:grpSpPr>
        <p:sp>
          <p:nvSpPr>
            <p:cNvPr id="354" name=""/>
            <p:cNvSpPr/>
            <p:nvPr/>
          </p:nvSpPr>
          <p:spPr>
            <a:xfrm flipV="1">
              <a:off x="5486400" y="50288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184360" y="47242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25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4650840" y="3200400"/>
            <a:ext cx="616680" cy="457200"/>
            <a:chOff x="4650840" y="3200400"/>
            <a:chExt cx="616680" cy="457200"/>
          </a:xfrm>
        </p:grpSpPr>
        <p:sp>
          <p:nvSpPr>
            <p:cNvPr id="357" name=""/>
            <p:cNvSpPr/>
            <p:nvPr/>
          </p:nvSpPr>
          <p:spPr>
            <a:xfrm flipV="1">
              <a:off x="495288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65084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25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2593440" y="3200400"/>
            <a:ext cx="616680" cy="457200"/>
            <a:chOff x="2593440" y="3200400"/>
            <a:chExt cx="616680" cy="457200"/>
          </a:xfrm>
        </p:grpSpPr>
        <p:sp>
          <p:nvSpPr>
            <p:cNvPr id="360" name=""/>
            <p:cNvSpPr/>
            <p:nvPr/>
          </p:nvSpPr>
          <p:spPr>
            <a:xfrm flipV="1">
              <a:off x="289548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59344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2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2895480" y="3657600"/>
            <a:ext cx="144792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855720" y="167652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521160" y="167652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437720" y="167652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398000" y="167652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240200" y="3200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479120" y="320040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557840" y="3200400"/>
            <a:ext cx="3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69440" y="4724280"/>
            <a:ext cx="34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283920" y="4724280"/>
            <a:ext cx="25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075640" y="4724280"/>
            <a:ext cx="24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6807600" y="4724280"/>
            <a:ext cx="3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514600" y="586728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cc00"/>
                </a:solidFill>
                <a:latin typeface="Arial Black"/>
              </a:rPr>
              <a:t>B</a:t>
            </a: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||</a:t>
            </a:r>
            <a:r>
              <a:rPr b="0" lang="es-ES_tradnl" sz="1800" spc="-1" strike="noStrike">
                <a:solidFill>
                  <a:srgbClr val="ffcc00"/>
                </a:solidFill>
                <a:latin typeface="Arial Black"/>
              </a:rPr>
              <a:t>J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 (300)&lt;(025) </a:t>
            </a:r>
            <a:r>
              <a:rPr b="0" lang="es-ES_tradnl" sz="2000" spc="-1" strike="noStrike">
                <a:solidFill>
                  <a:srgbClr val="000000"/>
                </a:solidFill>
                <a:latin typeface="Arial Narrow"/>
              </a:rPr>
              <a:t>AND</a:t>
            </a: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 (300)&gt;(02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2438280" y="5334120"/>
            <a:ext cx="5105520" cy="990360"/>
            <a:chOff x="2438280" y="5334120"/>
            <a:chExt cx="5105520" cy="990360"/>
          </a:xfrm>
        </p:grpSpPr>
        <p:sp>
          <p:nvSpPr>
            <p:cNvPr id="376" name=""/>
            <p:cNvSpPr/>
            <p:nvPr/>
          </p:nvSpPr>
          <p:spPr>
            <a:xfrm>
              <a:off x="2590920" y="5334120"/>
              <a:ext cx="297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cc00"/>
                  </a:solidFill>
                  <a:latin typeface="Arial Black"/>
                </a:rPr>
                <a:t>A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s-ES_tradnl" sz="1800" spc="-1" strike="noStrike">
                  <a:solidFill>
                    <a:srgbClr val="ffcc00"/>
                  </a:solidFill>
                  <a:latin typeface="Arial Black"/>
                </a:rPr>
                <a:t>F 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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Arial Black"/>
                </a:rPr>
                <a:t> (100)&lt;(25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581280" y="5943600"/>
              <a:ext cx="1447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791320" y="5943600"/>
              <a:ext cx="1447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438280" y="5410080"/>
              <a:ext cx="5105520" cy="914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0" name=""/>
          <p:cNvSpPr/>
          <p:nvPr/>
        </p:nvSpPr>
        <p:spPr>
          <a:xfrm>
            <a:off x="3500280" y="36306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stado Global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Para muchos sistemas es relevante poder detectar un estado glob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 decir, un momento del reloj l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gico en que el sistema está en un estado “consistente”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jemplo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Realizar una recolecc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de basur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etectar termin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etectar DeadLoc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Recuperación de fall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e obtiene haciendo una captura (snapshot) consistente del sistem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stado Global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84" name=""/>
          <p:cNvSpPr/>
          <p:nvPr/>
        </p:nvSpPr>
        <p:spPr>
          <a:xfrm>
            <a:off x="838080" y="26668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675360" y="2220840"/>
            <a:ext cx="36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 Narrow"/>
              </a:rPr>
              <a:t>p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Arial Narrow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981080" y="26668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818360" y="2220840"/>
            <a:ext cx="36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 Narrow"/>
              </a:rPr>
              <a:t>p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276720" y="26668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113640" y="2220840"/>
            <a:ext cx="36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 Narrow"/>
              </a:rPr>
              <a:t>p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Arial Narrow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198960" y="2970360"/>
            <a:ext cx="15228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198960" y="5486400"/>
            <a:ext cx="15228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198960" y="6324480"/>
            <a:ext cx="152280" cy="1526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905120" y="3809880"/>
            <a:ext cx="152280" cy="1526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905120" y="3505320"/>
            <a:ext cx="15228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1905120" y="4800600"/>
            <a:ext cx="15228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905120" y="4191120"/>
            <a:ext cx="15228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2120" y="3200400"/>
            <a:ext cx="15228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762120" y="5257800"/>
            <a:ext cx="15228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762120" y="5638680"/>
            <a:ext cx="152280" cy="1526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1980720" y="3048120"/>
            <a:ext cx="129564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838080" y="3276720"/>
            <a:ext cx="11430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981080" y="4876920"/>
            <a:ext cx="129564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 flipH="1">
            <a:off x="837720" y="4267080"/>
            <a:ext cx="114300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38080" y="5715000"/>
            <a:ext cx="243864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5" name=""/>
          <p:cNvCxnSpPr/>
          <p:nvPr/>
        </p:nvCxnSpPr>
        <p:spPr>
          <a:xfrm>
            <a:off x="533160" y="4114800"/>
            <a:ext cx="3277080" cy="1829520"/>
          </a:xfrm>
          <a:prstGeom prst="curvedConnector5">
            <a:avLst>
              <a:gd name="adj1" fmla="val 55086"/>
              <a:gd name="adj2" fmla="val 49990"/>
              <a:gd name="adj3" fmla="val 55086"/>
            </a:avLst>
          </a:prstGeom>
          <a:ln w="38160">
            <a:solidFill>
              <a:srgbClr val="ff0000"/>
            </a:solidFill>
            <a:prstDash val="dash"/>
            <a:miter/>
          </a:ln>
        </p:spPr>
      </p:cxnSp>
      <p:sp>
        <p:nvSpPr>
          <p:cNvPr id="406" name=""/>
          <p:cNvSpPr/>
          <p:nvPr/>
        </p:nvSpPr>
        <p:spPr>
          <a:xfrm>
            <a:off x="2238480" y="4932360"/>
            <a:ext cx="228600" cy="30492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2428560" y="293040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149120" y="320040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996840" y="457200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749320" y="495288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454040" y="556272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657600" y="3962520"/>
            <a:ext cx="1828800" cy="1218960"/>
          </a:xfrm>
          <a:prstGeom prst="wedgeRectCallout">
            <a:avLst>
              <a:gd name="adj1" fmla="val -66842"/>
              <a:gd name="adj2" fmla="val 80208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 Narrow"/>
              </a:rPr>
              <a:t>No se puede determinar la causalidad de m</a:t>
            </a:r>
            <a:r>
              <a:rPr b="1" i="1" lang="es-ES_tradnl" sz="2000" spc="-1" strike="noStrike" baseline="-25000">
                <a:solidFill>
                  <a:srgbClr val="000000"/>
                </a:solidFill>
                <a:latin typeface="Arial Narrow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5730840" y="26668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5568120" y="2220840"/>
            <a:ext cx="36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 Narrow"/>
              </a:rPr>
              <a:t>p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Arial Narrow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873840" y="26668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6711120" y="2220840"/>
            <a:ext cx="36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 Narrow"/>
              </a:rPr>
              <a:t>p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8169120" y="26668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8006400" y="2220840"/>
            <a:ext cx="36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 Narrow"/>
              </a:rPr>
              <a:t>p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Arial Narrow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8091360" y="2970360"/>
            <a:ext cx="15264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091360" y="5486400"/>
            <a:ext cx="15264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091360" y="6324480"/>
            <a:ext cx="152640" cy="1526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797520" y="3809880"/>
            <a:ext cx="152640" cy="1526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797520" y="3505320"/>
            <a:ext cx="15264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797520" y="4800600"/>
            <a:ext cx="15264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6797520" y="4191120"/>
            <a:ext cx="15264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5654520" y="3200400"/>
            <a:ext cx="15264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5654520" y="5257800"/>
            <a:ext cx="15264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654520" y="5638680"/>
            <a:ext cx="152640" cy="1526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 flipH="1">
            <a:off x="6873840" y="3048120"/>
            <a:ext cx="129528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730840" y="3276720"/>
            <a:ext cx="11430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6873840" y="4876920"/>
            <a:ext cx="1295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5730480" y="4267080"/>
            <a:ext cx="114300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730840" y="5715000"/>
            <a:ext cx="2438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4" name=""/>
          <p:cNvCxnSpPr/>
          <p:nvPr/>
        </p:nvCxnSpPr>
        <p:spPr>
          <a:xfrm>
            <a:off x="5486400" y="4114800"/>
            <a:ext cx="3277440" cy="1829520"/>
          </a:xfrm>
          <a:prstGeom prst="curvedConnector5">
            <a:avLst>
              <a:gd name="adj1" fmla="val 39042"/>
              <a:gd name="adj2" fmla="val 49990"/>
              <a:gd name="adj3" fmla="val 39042"/>
            </a:avLst>
          </a:prstGeom>
          <a:ln w="38160">
            <a:solidFill>
              <a:srgbClr val="ff0000"/>
            </a:solidFill>
            <a:prstDash val="dash"/>
            <a:miter/>
          </a:ln>
        </p:spPr>
      </p:cxnSp>
      <p:sp>
        <p:nvSpPr>
          <p:cNvPr id="435" name=""/>
          <p:cNvSpPr/>
          <p:nvPr/>
        </p:nvSpPr>
        <p:spPr>
          <a:xfrm>
            <a:off x="7321320" y="293040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041880" y="320040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5889240" y="457200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7642080" y="495288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6346440" y="556272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538560" y="1828800"/>
            <a:ext cx="317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Arial Narrow"/>
              </a:rPr>
              <a:t>Captura no consist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5567400" y="1828800"/>
            <a:ext cx="276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Arial Narrow"/>
              </a:rPr>
              <a:t>Captura consist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Corte Consistente: Implement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istema distribuido interconectado por un canal de comunicaci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fiable (no se pierden ni se desordenan los paquete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l recibir la marca de inicio, todos los procesos graban su estado local y luego los mensajes recibidos y procesados hasta recibir la marca de fi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stado local enviado “a quien corresponda” (x ej: el que inició el proceso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4" name="" descr=""/>
          <p:cNvPicPr/>
          <p:nvPr/>
        </p:nvPicPr>
        <p:blipFill>
          <a:blip r:embed="rId1"/>
          <a:srcRect l="36130" t="40333" r="37843" b="46828"/>
          <a:stretch/>
        </p:blipFill>
        <p:spPr>
          <a:xfrm>
            <a:off x="3970440" y="4005360"/>
            <a:ext cx="3649680" cy="25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stado Local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446" name="" descr=""/>
          <p:cNvPicPr/>
          <p:nvPr/>
        </p:nvPicPr>
        <p:blipFill>
          <a:blip r:embed="rId1"/>
          <a:srcRect l="19883" t="53325" r="16461" b="34290"/>
          <a:stretch/>
        </p:blipFill>
        <p:spPr>
          <a:xfrm>
            <a:off x="533520" y="3429000"/>
            <a:ext cx="8381880" cy="2397240"/>
          </a:xfrm>
          <a:prstGeom prst="rect">
            <a:avLst/>
          </a:prstGeom>
          <a:ln w="0">
            <a:noFill/>
          </a:ln>
        </p:spPr>
      </p:pic>
      <p:sp>
        <p:nvSpPr>
          <p:cNvPr id="447" name=""/>
          <p:cNvSpPr/>
          <p:nvPr/>
        </p:nvSpPr>
        <p:spPr>
          <a:xfrm>
            <a:off x="457200" y="1752480"/>
            <a:ext cx="796284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Verdan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l proceso Q recibe la primera marca, graba su estado local y env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ía la marca por sus canales de sal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Verdan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Q graba todos los mensajes de entr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Verdan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recibe la marca de fin por su canal de entrada y finaliza la grabaci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800" spc="-1" strike="noStrike">
                <a:solidFill>
                  <a:srgbClr val="999900"/>
                </a:solidFill>
                <a:latin typeface="Garamond"/>
              </a:rPr>
              <a:t>Sincronizaci</a:t>
            </a:r>
            <a:r>
              <a:rPr b="0" lang="es-ES_tradnl" sz="58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999900"/>
                </a:solidFill>
                <a:latin typeface="Garamond"/>
              </a:rPr>
              <a:t>Ejemplo de uso: Detectar terminaci</a:t>
            </a:r>
            <a:r>
              <a:rPr b="0" lang="es-ES_tradnl" sz="40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de una aplicación distribuida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oluc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1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Cuando Q recibe la primera marca del corte consistente, verifica qui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én le envió la marca (y lo identifica como 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redecesor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uando Q recibe la marca de fin, si no tiene sucesor envía a su predecesor un mensaje 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ONE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. Sino, espera por el mensaje DON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uando quien inicia el </a:t>
            </a:r>
            <a:r>
              <a:rPr b="0" i="1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napshot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distribuido recibe el mensaje DONE de todos sus sucesores quiere decir que la aplicación terminó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ero… </a:t>
            </a:r>
            <a:r>
              <a:rPr b="0" lang="es-ES_tradnl" sz="2400" spc="-1" strike="noStrike">
                <a:solidFill>
                  <a:srgbClr val="ff3300"/>
                </a:solidFill>
                <a:latin typeface="Verdana"/>
              </a:rPr>
              <a:t>¿qu</a:t>
            </a:r>
            <a:r>
              <a:rPr b="0" lang="es-ES_tradnl" sz="2400" spc="-1" strike="noStrike">
                <a:solidFill>
                  <a:srgbClr val="ff3300"/>
                </a:solidFill>
                <a:latin typeface="Verdana"/>
                <a:ea typeface="ＭＳ Ｐゴシック"/>
              </a:rPr>
              <a:t>é pasa con los mensajes que estaban en tránsito fuera del corte consistente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999900"/>
                </a:solidFill>
                <a:latin typeface="Garamond"/>
              </a:rPr>
              <a:t>Ejemplo de uso: Detectar terminaci</a:t>
            </a:r>
            <a:r>
              <a:rPr b="0" lang="es-ES_tradnl" sz="40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de una aplicación distribuida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oluci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2 (usando DONE y CONTINUE)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Q enviará DONE sólo cuand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odos los sucesores de Q hayan retornado D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Q no haya recibido mensajes entre la primera y segunda marc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n otro caso, Q enviará un CONTINUE a su predeces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i quien inició el algoritmo recibe sólo mensajes DONE, la aplicación terminó, sino quiere decir que había mensajes en tránsito y debe reiniciar el algoritm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Algoritmos de Elec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n muchos casos es necesario elegir un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único nodo para una tarea determinad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umplir el rol de coordinad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Algoritmo del mat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ada proceso tiene un ID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únic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Alg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ún proceso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nvía mensaje de ELECCIÓN a procesos con ID may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i un proceso recibe ELECCI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entonces responde OK e inicia elec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i ninguno responde: Se hace nuevo coordinador y mensajes COORDINADOR a procesadores con ID men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i alguno responde con mensaje OK abandona la elec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Algoritmos de Elec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: El Mató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pSp>
        <p:nvGrpSpPr>
          <p:cNvPr id="455" name=""/>
          <p:cNvGrpSpPr/>
          <p:nvPr/>
        </p:nvGrpSpPr>
        <p:grpSpPr>
          <a:xfrm>
            <a:off x="2514600" y="1828800"/>
            <a:ext cx="4495680" cy="4495680"/>
            <a:chOff x="2514600" y="1828800"/>
            <a:chExt cx="4495680" cy="4495680"/>
          </a:xfrm>
        </p:grpSpPr>
        <p:sp>
          <p:nvSpPr>
            <p:cNvPr id="456" name=""/>
            <p:cNvSpPr/>
            <p:nvPr/>
          </p:nvSpPr>
          <p:spPr>
            <a:xfrm>
              <a:off x="4495680" y="182880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971800" y="24382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01992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51460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943600" y="2362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55308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12408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495680" y="5791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 flipV="1">
              <a:off x="4343400" y="5791320"/>
              <a:ext cx="68580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419720" y="5715000"/>
              <a:ext cx="53316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6" name=""/>
          <p:cNvGrpSpPr/>
          <p:nvPr/>
        </p:nvGrpSpPr>
        <p:grpSpPr>
          <a:xfrm>
            <a:off x="2971800" y="2742840"/>
            <a:ext cx="3505320" cy="3048480"/>
            <a:chOff x="2971800" y="2742840"/>
            <a:chExt cx="3505320" cy="3048480"/>
          </a:xfrm>
        </p:grpSpPr>
        <p:sp>
          <p:nvSpPr>
            <p:cNvPr id="467" name=""/>
            <p:cNvSpPr/>
            <p:nvPr/>
          </p:nvSpPr>
          <p:spPr>
            <a:xfrm>
              <a:off x="2971800" y="4267080"/>
              <a:ext cx="160020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048120" y="403848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 flipV="1">
              <a:off x="2971800" y="2742840"/>
              <a:ext cx="297180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80360" y="4738680"/>
              <a:ext cx="1273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ELECCI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471200" y="3672000"/>
              <a:ext cx="1273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ELECCI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70880" y="3048120"/>
              <a:ext cx="1273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ELECCI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Algoritmos de Elec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: El Mató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pSp>
        <p:nvGrpSpPr>
          <p:cNvPr id="474" name=""/>
          <p:cNvGrpSpPr/>
          <p:nvPr/>
        </p:nvGrpSpPr>
        <p:grpSpPr>
          <a:xfrm>
            <a:off x="2514600" y="1828800"/>
            <a:ext cx="4495680" cy="4495680"/>
            <a:chOff x="2514600" y="1828800"/>
            <a:chExt cx="4495680" cy="4495680"/>
          </a:xfrm>
        </p:grpSpPr>
        <p:sp>
          <p:nvSpPr>
            <p:cNvPr id="475" name=""/>
            <p:cNvSpPr/>
            <p:nvPr/>
          </p:nvSpPr>
          <p:spPr>
            <a:xfrm>
              <a:off x="4495680" y="182880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971800" y="24382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01992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51460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943600" y="2362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55308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12408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495680" y="5791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 flipV="1">
              <a:off x="4343400" y="5791320"/>
              <a:ext cx="68580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419720" y="5715000"/>
              <a:ext cx="53316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5" name=""/>
          <p:cNvGrpSpPr/>
          <p:nvPr/>
        </p:nvGrpSpPr>
        <p:grpSpPr>
          <a:xfrm>
            <a:off x="2971440" y="2743200"/>
            <a:ext cx="3581640" cy="1314360"/>
            <a:chOff x="2971440" y="2743200"/>
            <a:chExt cx="3581640" cy="1314360"/>
          </a:xfrm>
        </p:grpSpPr>
        <p:sp>
          <p:nvSpPr>
            <p:cNvPr id="486" name=""/>
            <p:cNvSpPr/>
            <p:nvPr/>
          </p:nvSpPr>
          <p:spPr>
            <a:xfrm flipH="1">
              <a:off x="2971800" y="4038480"/>
              <a:ext cx="358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2971440" y="2743200"/>
              <a:ext cx="297180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490640" y="3689280"/>
              <a:ext cx="50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O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201560" y="2971800"/>
              <a:ext cx="50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O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0" name=""/>
          <p:cNvGrpSpPr/>
          <p:nvPr/>
        </p:nvGrpSpPr>
        <p:grpSpPr>
          <a:xfrm>
            <a:off x="4466160" y="2819520"/>
            <a:ext cx="3254760" cy="2971800"/>
            <a:chOff x="4466160" y="2819520"/>
            <a:chExt cx="3254760" cy="2971800"/>
          </a:xfrm>
        </p:grpSpPr>
        <p:sp>
          <p:nvSpPr>
            <p:cNvPr id="491" name=""/>
            <p:cNvSpPr/>
            <p:nvPr/>
          </p:nvSpPr>
          <p:spPr>
            <a:xfrm flipH="1">
              <a:off x="4800600" y="2819520"/>
              <a:ext cx="1295280" cy="289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248520" y="2819520"/>
              <a:ext cx="38088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 flipH="1">
              <a:off x="4876920" y="4267080"/>
              <a:ext cx="175248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447600" y="3003480"/>
              <a:ext cx="1273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ELECCI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466160" y="3290760"/>
              <a:ext cx="1273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ELECCI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223680" y="4586400"/>
              <a:ext cx="1273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ELECCI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Algoritmos de Elec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: El Mató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514600" y="1828800"/>
            <a:ext cx="4495680" cy="4495680"/>
            <a:chOff x="2514600" y="1828800"/>
            <a:chExt cx="4495680" cy="4495680"/>
          </a:xfrm>
        </p:grpSpPr>
        <p:sp>
          <p:nvSpPr>
            <p:cNvPr id="499" name=""/>
            <p:cNvSpPr/>
            <p:nvPr/>
          </p:nvSpPr>
          <p:spPr>
            <a:xfrm>
              <a:off x="4495680" y="182880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971800" y="24382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01992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51460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943600" y="2362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55308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12408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4495680" y="5791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 flipV="1">
              <a:off x="4343400" y="5791320"/>
              <a:ext cx="68580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419720" y="5715000"/>
              <a:ext cx="53316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9" name=""/>
          <p:cNvSpPr/>
          <p:nvPr/>
        </p:nvSpPr>
        <p:spPr>
          <a:xfrm flipH="1" flipV="1">
            <a:off x="6248520" y="2819160"/>
            <a:ext cx="45720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5954400" y="3138480"/>
            <a:ext cx="5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3047760" y="2285640"/>
            <a:ext cx="5051880" cy="2972160"/>
            <a:chOff x="3047760" y="2285640"/>
            <a:chExt cx="5051880" cy="2972160"/>
          </a:xfrm>
        </p:grpSpPr>
        <p:sp>
          <p:nvSpPr>
            <p:cNvPr id="512" name=""/>
            <p:cNvSpPr/>
            <p:nvPr/>
          </p:nvSpPr>
          <p:spPr>
            <a:xfrm flipH="1" flipV="1">
              <a:off x="4876920" y="2285640"/>
              <a:ext cx="167616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 flipH="1" flipV="1">
              <a:off x="3428640" y="2819160"/>
              <a:ext cx="304812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 flipH="1">
              <a:off x="6400440" y="4267080"/>
              <a:ext cx="30492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 flipH="1">
              <a:off x="3580920" y="4191120"/>
              <a:ext cx="297180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 flipH="1" flipV="1">
              <a:off x="3047760" y="4038480"/>
              <a:ext cx="342900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863520" y="2514600"/>
              <a:ext cx="187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OORDINAD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177720" y="3747960"/>
              <a:ext cx="187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OORDINAD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708000" y="4572000"/>
              <a:ext cx="187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OORDINAD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222600" y="4572000"/>
              <a:ext cx="187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OORDINAD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222600" y="3048120"/>
              <a:ext cx="187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OORDINAD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482640" y="3124080"/>
              <a:ext cx="187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OORDINAD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999900"/>
                </a:solidFill>
                <a:latin typeface="Garamond"/>
              </a:rPr>
              <a:t>Algoritmos de Elecci</a:t>
            </a:r>
            <a:r>
              <a:rPr b="0" lang="es-ES_tradnl" sz="40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: Round-Robin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grpSp>
        <p:nvGrpSpPr>
          <p:cNvPr id="524" name=""/>
          <p:cNvGrpSpPr/>
          <p:nvPr/>
        </p:nvGrpSpPr>
        <p:grpSpPr>
          <a:xfrm>
            <a:off x="2514600" y="1828800"/>
            <a:ext cx="4495680" cy="4495680"/>
            <a:chOff x="2514600" y="1828800"/>
            <a:chExt cx="4495680" cy="4495680"/>
          </a:xfrm>
        </p:grpSpPr>
        <p:sp>
          <p:nvSpPr>
            <p:cNvPr id="525" name=""/>
            <p:cNvSpPr/>
            <p:nvPr/>
          </p:nvSpPr>
          <p:spPr>
            <a:xfrm>
              <a:off x="4495680" y="182880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971800" y="24382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1992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51460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943600" y="2362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55308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12408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495680" y="5791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 flipV="1">
              <a:off x="4343400" y="5791320"/>
              <a:ext cx="68580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4419720" y="5715000"/>
              <a:ext cx="53316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5" name=""/>
          <p:cNvSpPr/>
          <p:nvPr/>
        </p:nvSpPr>
        <p:spPr>
          <a:xfrm flipV="1">
            <a:off x="3419640" y="2060280"/>
            <a:ext cx="10810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4932360" y="2060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6300720" y="2781360"/>
            <a:ext cx="43200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 flipH="1">
            <a:off x="6372000" y="4292640"/>
            <a:ext cx="36036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 flipH="1">
            <a:off x="4932000" y="5516640"/>
            <a:ext cx="1079640" cy="4334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 flipH="1" flipV="1">
            <a:off x="3492000" y="5516640"/>
            <a:ext cx="100836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 flipH="1" flipV="1">
            <a:off x="2771640" y="4292640"/>
            <a:ext cx="43200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 flipV="1">
            <a:off x="2700360" y="2852640"/>
            <a:ext cx="35892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 flipH="1">
            <a:off x="3564000" y="5373720"/>
            <a:ext cx="244800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995640" y="5084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1619280" y="47242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1547640" y="314172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419640" y="2421000"/>
            <a:ext cx="15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219640" y="1844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6443640" y="29242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6516720" y="4508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999900"/>
                </a:solidFill>
                <a:latin typeface="Garamond"/>
              </a:rPr>
              <a:t>Algoritmos de Elecci</a:t>
            </a:r>
            <a:r>
              <a:rPr b="0" lang="es-ES_tradnl" sz="40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: Round-Robin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grpSp>
        <p:nvGrpSpPr>
          <p:cNvPr id="552" name=""/>
          <p:cNvGrpSpPr/>
          <p:nvPr/>
        </p:nvGrpSpPr>
        <p:grpSpPr>
          <a:xfrm>
            <a:off x="2514600" y="1828800"/>
            <a:ext cx="4495680" cy="4495680"/>
            <a:chOff x="2514600" y="1828800"/>
            <a:chExt cx="4495680" cy="4495680"/>
          </a:xfrm>
        </p:grpSpPr>
        <p:sp>
          <p:nvSpPr>
            <p:cNvPr id="553" name=""/>
            <p:cNvSpPr/>
            <p:nvPr/>
          </p:nvSpPr>
          <p:spPr>
            <a:xfrm>
              <a:off x="4495680" y="182880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971800" y="24382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01992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51460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943600" y="2362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55308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12408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495680" y="5791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 flipV="1">
              <a:off x="4343400" y="5791320"/>
              <a:ext cx="68580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419720" y="5715000"/>
              <a:ext cx="53316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3" name=""/>
          <p:cNvSpPr/>
          <p:nvPr/>
        </p:nvSpPr>
        <p:spPr>
          <a:xfrm flipV="1">
            <a:off x="3419640" y="2060280"/>
            <a:ext cx="10810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4932360" y="2060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6300720" y="2781360"/>
            <a:ext cx="43200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6372000" y="4292640"/>
            <a:ext cx="36036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 flipH="1">
            <a:off x="4932000" y="5516640"/>
            <a:ext cx="1079640" cy="4334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 flipH="1" flipV="1">
            <a:off x="3492000" y="5516640"/>
            <a:ext cx="100836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 flipH="1" flipV="1">
            <a:off x="2771640" y="4292640"/>
            <a:ext cx="43200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 flipV="1">
            <a:off x="2700360" y="2852640"/>
            <a:ext cx="35892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3564000" y="5373720"/>
            <a:ext cx="244800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3995640" y="5084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1619280" y="47242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1547640" y="314172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3419640" y="2421000"/>
            <a:ext cx="15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219640" y="1844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443640" y="29242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999900"/>
                </a:solidFill>
                <a:latin typeface="Garamond"/>
              </a:rPr>
              <a:t>Algoritmos de Elecci</a:t>
            </a:r>
            <a:r>
              <a:rPr b="0" lang="es-ES_tradnl" sz="40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: Round-Robin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grpSp>
        <p:nvGrpSpPr>
          <p:cNvPr id="579" name=""/>
          <p:cNvGrpSpPr/>
          <p:nvPr/>
        </p:nvGrpSpPr>
        <p:grpSpPr>
          <a:xfrm>
            <a:off x="2514600" y="1828800"/>
            <a:ext cx="4495680" cy="4495680"/>
            <a:chOff x="2514600" y="1828800"/>
            <a:chExt cx="4495680" cy="4495680"/>
          </a:xfrm>
        </p:grpSpPr>
        <p:sp>
          <p:nvSpPr>
            <p:cNvPr id="580" name=""/>
            <p:cNvSpPr/>
            <p:nvPr/>
          </p:nvSpPr>
          <p:spPr>
            <a:xfrm>
              <a:off x="4495680" y="182880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2971800" y="24382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01992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251460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943600" y="2362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55308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312408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4495680" y="5791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 flipV="1">
              <a:off x="4343400" y="5791320"/>
              <a:ext cx="68580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19720" y="5715000"/>
              <a:ext cx="53316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0" name=""/>
          <p:cNvSpPr/>
          <p:nvPr/>
        </p:nvSpPr>
        <p:spPr>
          <a:xfrm flipV="1">
            <a:off x="3419640" y="2060280"/>
            <a:ext cx="10810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4932360" y="2060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6300720" y="2781360"/>
            <a:ext cx="43200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 flipH="1">
            <a:off x="6372000" y="4292640"/>
            <a:ext cx="36036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 flipH="1">
            <a:off x="4932000" y="5516640"/>
            <a:ext cx="1079640" cy="4334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 flipH="1" flipV="1">
            <a:off x="3492000" y="5516640"/>
            <a:ext cx="100836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 flipH="1" flipV="1">
            <a:off x="2771640" y="4292640"/>
            <a:ext cx="43200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2700360" y="2852640"/>
            <a:ext cx="35892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3564000" y="5373720"/>
            <a:ext cx="244800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6588000" y="443700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Coordinador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995640" y="501336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Coordinador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1258920" y="465300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Coordinador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971640" y="306864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Coordinador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2340000" y="191628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Coordinador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5219640" y="191628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Coordinador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443640" y="314172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Coordinador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xclus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Mutu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Los recursos compartidos muchas veces deben ser accedidos “at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micamente”, es decir solo un proceso a la vez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 esto se le menciona como entrar a la región crític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ara garantizar ese acceso único se usan algoritmos de exclusión mutu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demás debe garantizar que todo proceso que pida acceso, eventualmente lo obtiene (Livenes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ncroniz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en sistemas distribuid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La concurrencia exige sincronizac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entre proceso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l tiempo en un esquema distribuido es ambigu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No es un valor absoluto, preciso ni com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ún a todos los nod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Algoritmos distribuid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La informaci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está distribuida en diferentes nod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e toman decisiones sólo en base a la información local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Debe evitarse un punto único de fall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No existe un reloj comú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xclus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Mutua: Enfoque Centralizad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e escoge un nodo como coordinad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4114800" y="3048120"/>
            <a:ext cx="457200" cy="457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5715000" y="3048120"/>
            <a:ext cx="457200" cy="457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4114800" y="5105520"/>
            <a:ext cx="457200" cy="457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514600" y="3048120"/>
            <a:ext cx="457200" cy="457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4" name=""/>
          <p:cNvGraphicFramePr/>
          <p:nvPr/>
        </p:nvGraphicFramePr>
        <p:xfrm>
          <a:off x="4724280" y="5334120"/>
          <a:ext cx="380880" cy="1366560"/>
        </p:xfrm>
        <a:graphic>
          <a:graphicData uri="http://schemas.openxmlformats.org/drawingml/2006/table">
            <a:tbl>
              <a:tblPr/>
              <a:tblGrid>
                <a:gridCol w="3808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615" name=""/>
          <p:cNvGrpSpPr/>
          <p:nvPr/>
        </p:nvGrpSpPr>
        <p:grpSpPr>
          <a:xfrm>
            <a:off x="3315240" y="3505320"/>
            <a:ext cx="927360" cy="1523880"/>
            <a:chOff x="3315240" y="3505320"/>
            <a:chExt cx="927360" cy="1523880"/>
          </a:xfrm>
        </p:grpSpPr>
        <p:sp>
          <p:nvSpPr>
            <p:cNvPr id="616" name=""/>
            <p:cNvSpPr/>
            <p:nvPr/>
          </p:nvSpPr>
          <p:spPr>
            <a:xfrm>
              <a:off x="4191120" y="350532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3315240" y="4038480"/>
              <a:ext cx="92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solici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8" name=""/>
          <p:cNvGrpSpPr/>
          <p:nvPr/>
        </p:nvGrpSpPr>
        <p:grpSpPr>
          <a:xfrm>
            <a:off x="4441320" y="3504960"/>
            <a:ext cx="500760" cy="1600200"/>
            <a:chOff x="4441320" y="3504960"/>
            <a:chExt cx="500760" cy="1600200"/>
          </a:xfrm>
        </p:grpSpPr>
        <p:sp>
          <p:nvSpPr>
            <p:cNvPr id="619" name=""/>
            <p:cNvSpPr/>
            <p:nvPr/>
          </p:nvSpPr>
          <p:spPr>
            <a:xfrm flipV="1">
              <a:off x="4495680" y="350496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4441320" y="4114800"/>
              <a:ext cx="50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O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1" name=""/>
          <p:cNvGrpSpPr/>
          <p:nvPr/>
        </p:nvGrpSpPr>
        <p:grpSpPr>
          <a:xfrm>
            <a:off x="4495320" y="3505320"/>
            <a:ext cx="1774800" cy="1600200"/>
            <a:chOff x="4495320" y="3505320"/>
            <a:chExt cx="1774800" cy="1600200"/>
          </a:xfrm>
        </p:grpSpPr>
        <p:sp>
          <p:nvSpPr>
            <p:cNvPr id="622" name=""/>
            <p:cNvSpPr/>
            <p:nvPr/>
          </p:nvSpPr>
          <p:spPr>
            <a:xfrm flipH="1">
              <a:off x="4495320" y="3505320"/>
              <a:ext cx="121932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342760" y="3994200"/>
              <a:ext cx="92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solici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4" name=""/>
          <p:cNvGrpSpPr/>
          <p:nvPr/>
        </p:nvGrpSpPr>
        <p:grpSpPr>
          <a:xfrm>
            <a:off x="4296600" y="3581280"/>
            <a:ext cx="792000" cy="1524240"/>
            <a:chOff x="4296600" y="3581280"/>
            <a:chExt cx="792000" cy="1524240"/>
          </a:xfrm>
        </p:grpSpPr>
        <p:sp>
          <p:nvSpPr>
            <p:cNvPr id="625" name=""/>
            <p:cNvSpPr/>
            <p:nvPr/>
          </p:nvSpPr>
          <p:spPr>
            <a:xfrm>
              <a:off x="4343400" y="3581280"/>
              <a:ext cx="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4296600" y="388620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liber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7" name=""/>
          <p:cNvGrpSpPr/>
          <p:nvPr/>
        </p:nvGrpSpPr>
        <p:grpSpPr>
          <a:xfrm>
            <a:off x="4572000" y="3580920"/>
            <a:ext cx="1219320" cy="1600200"/>
            <a:chOff x="4572000" y="3580920"/>
            <a:chExt cx="1219320" cy="1600200"/>
          </a:xfrm>
        </p:grpSpPr>
        <p:sp>
          <p:nvSpPr>
            <p:cNvPr id="628" name=""/>
            <p:cNvSpPr/>
            <p:nvPr/>
          </p:nvSpPr>
          <p:spPr>
            <a:xfrm flipV="1">
              <a:off x="4572000" y="3580920"/>
              <a:ext cx="121932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051160" y="4357800"/>
              <a:ext cx="50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O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630" name=""/>
          <p:cNvGraphicFramePr/>
          <p:nvPr/>
        </p:nvGraphicFramePr>
        <p:xfrm>
          <a:off x="4724280" y="5334120"/>
          <a:ext cx="380880" cy="1366560"/>
        </p:xfrm>
        <a:graphic>
          <a:graphicData uri="http://schemas.openxmlformats.org/drawingml/2006/table">
            <a:tbl>
              <a:tblPr/>
              <a:tblGrid>
                <a:gridCol w="3808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xclus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Mutua: Enfoque Distribuid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Token-R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e distribuyen los elementos en un anillo lógic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e circula un 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token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que permite el acceso a la región critic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l 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token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se libera al abandonar la regió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No cumple la propiedad de ordena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3" name=""/>
          <p:cNvSpPr/>
          <p:nvPr/>
        </p:nvSpPr>
        <p:spPr>
          <a:xfrm>
            <a:off x="3252960" y="4232160"/>
            <a:ext cx="3200400" cy="221004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151080" y="513864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3335400" y="57499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3878280" y="617688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4506840" y="635148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5153040" y="631656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5695920" y="61246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114960" y="58024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6324480" y="521640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6140520" y="470052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5738760" y="434196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5205240" y="416736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4664160" y="411480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4121280" y="421956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3684600" y="441180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176640" y="4613400"/>
            <a:ext cx="152280" cy="152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2796120" y="4156200"/>
            <a:ext cx="73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</a:rPr>
              <a:t>to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 flipH="1">
            <a:off x="3176640" y="476568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xclus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Mutua: Enfoque Distribuid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Usando Rel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ojes Lógic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Un proceso que quiere entrar en sección crítica (SC) envía mensaje de solicitud a todos los proceso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uando un proceso recibe un mensaje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Si receptor no está en SC ni quiere entrar envía OK al emiso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Si receptor ya está en SC no responde y encola el pedid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Si receptor desea entrar, mira marca de tiempo del mensaje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Si menor que marca tiempo de su mensaje de solicitud: envía OK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En caso contrario será él quien entre y encole el pedido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Cuando un proceso recibe todos (N-1) los mensajes puede entrar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Garantiza todas las propiedades incluida ordena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Exclusión mutu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jemplo: dos procesos, 0 y 2, quieren entrar en la región crítica a la vez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5" name=""/>
          <p:cNvSpPr/>
          <p:nvPr/>
        </p:nvSpPr>
        <p:spPr>
          <a:xfrm>
            <a:off x="977760" y="367020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1025640" y="3630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353880" y="486252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401760" y="4822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1947960" y="486396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1995480" y="4824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 flipH="1">
            <a:off x="652320" y="4070520"/>
            <a:ext cx="400320" cy="801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867960" y="5062680"/>
            <a:ext cx="1050840" cy="25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 flipH="1" flipV="1">
            <a:off x="1433520" y="4000680"/>
            <a:ext cx="750960" cy="814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1346040" y="4141800"/>
            <a:ext cx="665280" cy="738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518760" y="42130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1299600" y="43527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1865880" y="41306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1205640" y="50864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824280" y="367200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3872160" y="3632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3200400" y="486396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3248280" y="4824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4794120" y="486576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4842000" y="4826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 flipV="1">
            <a:off x="3535200" y="4059000"/>
            <a:ext cx="378000" cy="788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3651120" y="5087880"/>
            <a:ext cx="1101960" cy="15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 flipH="1" flipV="1">
            <a:off x="4279680" y="4002120"/>
            <a:ext cx="750600" cy="814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3277440" y="414036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969360" y="507060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4560120" y="409716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3309480" y="3336840"/>
            <a:ext cx="167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(Entra en R.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6946920" y="368604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6994800" y="3646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6323040" y="487836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6370920" y="4838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7916760" y="4879800"/>
            <a:ext cx="438120" cy="438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7964640" y="4840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7377120" y="4091040"/>
            <a:ext cx="627120" cy="763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7682760" y="411156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7283160" y="5280120"/>
            <a:ext cx="167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(Entra en R.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xclus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Mutua: Comparació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692" name=""/>
          <p:cNvGraphicFramePr/>
          <p:nvPr/>
        </p:nvGraphicFramePr>
        <p:xfrm>
          <a:off x="533520" y="1905120"/>
          <a:ext cx="8229600" cy="4599000"/>
        </p:xfrm>
        <a:graphic>
          <a:graphicData uri="http://schemas.openxmlformats.org/drawingml/2006/table">
            <a:tbl>
              <a:tblPr/>
              <a:tblGrid>
                <a:gridCol w="2361960"/>
                <a:gridCol w="1752840"/>
                <a:gridCol w="2057400"/>
                <a:gridCol w="2057400"/>
              </a:tblGrid>
              <a:tr h="101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goritm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nsaj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spera en mensaj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blem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ntralizad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</a:t>
                      </a: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ída de coordinad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ken-R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 a 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 a n-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</a:t>
                      </a: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ída de un proces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lojes L</a:t>
                      </a: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ógic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(n-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(n-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</a:t>
                      </a: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érdida del token, caída de un proces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999900"/>
                </a:solidFill>
                <a:latin typeface="Garamond"/>
              </a:rPr>
              <a:t>Tolerancia a Fall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Verdana"/>
              </a:rPr>
              <a:t>Redundanci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Verdana"/>
              </a:rPr>
              <a:t>Canal de comunicación con pérdida: Generales Descoordinad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Verdana"/>
              </a:rPr>
              <a:t>Nodos con fallas: Generales Bizantin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999900"/>
                </a:solidFill>
                <a:latin typeface="Garamond"/>
              </a:rPr>
              <a:t>Redunda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La técnica más usada para enmascarar las fallas es la Redundanci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Hay tres tipo de redundancia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e información: se agrega información adicional para detectar fallas (código de Hamming, bits de parridad, etc.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e tiempo: una acción se puede repetir si es necesario (modelo de transaccion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Física: se adicionan equipos o procesos extras para sustituirlo por el componente que fal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a redundancia física es la más usada para proveer tolerancia a fallas: en biología, aviones, deportes y circuitos electrónic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l modelo de circuitos electrónicos TMR (Triple Modular Redundancy) es un buen modelo para los sistemas distribuid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999900"/>
                </a:solidFill>
                <a:latin typeface="Garamond"/>
              </a:rPr>
              <a:t>Redundancia (cont.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99" name=""/>
          <p:cNvSpPr/>
          <p:nvPr/>
        </p:nvSpPr>
        <p:spPr>
          <a:xfrm>
            <a:off x="4896000" y="3760920"/>
            <a:ext cx="47628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6516720" y="3760920"/>
            <a:ext cx="47628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8136000" y="3760920"/>
            <a:ext cx="47628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5334120" y="4008600"/>
            <a:ext cx="1162080" cy="144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7010280" y="4008600"/>
            <a:ext cx="1162080" cy="1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560520" y="4408560"/>
            <a:ext cx="50616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539640" y="5165640"/>
            <a:ext cx="53352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539640" y="5921280"/>
            <a:ext cx="53352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348000" y="4444920"/>
            <a:ext cx="42408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B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3313080" y="5200560"/>
            <a:ext cx="42372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B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3313080" y="5958000"/>
            <a:ext cx="42372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B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6373800" y="4444920"/>
            <a:ext cx="42372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6373800" y="5237280"/>
            <a:ext cx="42372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6373800" y="5992920"/>
            <a:ext cx="42372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1943280" y="4400640"/>
            <a:ext cx="144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1943280" y="4400640"/>
            <a:ext cx="36180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 flipV="1">
            <a:off x="1943280" y="4606560"/>
            <a:ext cx="36180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1943280" y="5229360"/>
            <a:ext cx="144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1943280" y="5229360"/>
            <a:ext cx="36180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 flipV="1">
            <a:off x="1943280" y="5435280"/>
            <a:ext cx="36180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1943280" y="6021360"/>
            <a:ext cx="144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1943280" y="6021360"/>
            <a:ext cx="36180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 flipV="1">
            <a:off x="1943280" y="6227280"/>
            <a:ext cx="36180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1935360" y="4440240"/>
            <a:ext cx="2566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1935360" y="5268960"/>
            <a:ext cx="2566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1935360" y="6060960"/>
            <a:ext cx="2566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4896000" y="4400640"/>
            <a:ext cx="144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4896000" y="4400640"/>
            <a:ext cx="36180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 flipV="1">
            <a:off x="4896000" y="4606560"/>
            <a:ext cx="36180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4896000" y="5229360"/>
            <a:ext cx="144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4896000" y="5229360"/>
            <a:ext cx="36180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 flipV="1">
            <a:off x="4896000" y="5435280"/>
            <a:ext cx="36180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4896000" y="6021360"/>
            <a:ext cx="144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4896000" y="6021360"/>
            <a:ext cx="36180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 flipV="1">
            <a:off x="4896000" y="6227280"/>
            <a:ext cx="36180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4888440" y="4440240"/>
            <a:ext cx="2566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888440" y="5268960"/>
            <a:ext cx="2566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4888440" y="6060960"/>
            <a:ext cx="2566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7883640" y="4400640"/>
            <a:ext cx="144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7883640" y="4400640"/>
            <a:ext cx="36180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 flipV="1">
            <a:off x="7883640" y="4606560"/>
            <a:ext cx="36180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7883640" y="5229360"/>
            <a:ext cx="144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7883640" y="5229360"/>
            <a:ext cx="36180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 flipV="1">
            <a:off x="7883640" y="5435280"/>
            <a:ext cx="36180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7883640" y="6021360"/>
            <a:ext cx="144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7883640" y="6021360"/>
            <a:ext cx="36180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 flipV="1">
            <a:off x="7883640" y="6227280"/>
            <a:ext cx="36180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7876080" y="4440240"/>
            <a:ext cx="2566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7876080" y="5268960"/>
            <a:ext cx="2566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7876080" y="6060960"/>
            <a:ext cx="2566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1085760" y="4633920"/>
            <a:ext cx="838440" cy="144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1085760" y="5424480"/>
            <a:ext cx="838440" cy="144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1085760" y="6181560"/>
            <a:ext cx="838440" cy="18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 flipV="1">
            <a:off x="2346480" y="4625640"/>
            <a:ext cx="1046160" cy="1116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2346480" y="5427720"/>
            <a:ext cx="933120" cy="324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 flipV="1">
            <a:off x="2346480" y="6205320"/>
            <a:ext cx="968400" cy="1404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 flipV="1">
            <a:off x="3786120" y="4625640"/>
            <a:ext cx="1046160" cy="111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 flipV="1">
            <a:off x="3786120" y="5416200"/>
            <a:ext cx="1046160" cy="1116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 flipV="1">
            <a:off x="3749760" y="6208200"/>
            <a:ext cx="1046160" cy="111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 flipV="1">
            <a:off x="5297400" y="4625640"/>
            <a:ext cx="1046160" cy="111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 flipV="1">
            <a:off x="5297400" y="5416200"/>
            <a:ext cx="1046160" cy="1116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 flipV="1">
            <a:off x="5297400" y="6244920"/>
            <a:ext cx="1046160" cy="111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 flipV="1">
            <a:off x="6846840" y="4625640"/>
            <a:ext cx="1046160" cy="111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 flipV="1">
            <a:off x="6773760" y="5416200"/>
            <a:ext cx="1046160" cy="111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 flipV="1">
            <a:off x="6773760" y="6244920"/>
            <a:ext cx="1046160" cy="111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8286840" y="4627440"/>
            <a:ext cx="457200" cy="18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8286840" y="5419800"/>
            <a:ext cx="457200" cy="1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8286840" y="6210360"/>
            <a:ext cx="457200" cy="1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1085760" y="4629240"/>
            <a:ext cx="87624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2382840" y="4629240"/>
            <a:ext cx="876240" cy="76176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3790800" y="4648320"/>
            <a:ext cx="1105200" cy="79992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5276880" y="4610160"/>
            <a:ext cx="1066680" cy="8190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6819840" y="4648320"/>
            <a:ext cx="1047960" cy="7808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1085760" y="4629240"/>
            <a:ext cx="876240" cy="76176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1085760" y="5384880"/>
            <a:ext cx="876240" cy="76176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2346480" y="5421240"/>
            <a:ext cx="968400" cy="77004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3753000" y="5429160"/>
            <a:ext cx="1104840" cy="80028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5265720" y="5429160"/>
            <a:ext cx="1104840" cy="80028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6800760" y="5448240"/>
            <a:ext cx="1044720" cy="7812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1085760" y="4629240"/>
            <a:ext cx="895320" cy="156204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 flipV="1">
            <a:off x="1085760" y="4626000"/>
            <a:ext cx="876240" cy="76824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 flipV="1">
            <a:off x="1047600" y="5387760"/>
            <a:ext cx="876600" cy="78732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 flipV="1">
            <a:off x="1104840" y="4587480"/>
            <a:ext cx="857160" cy="156852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2343240" y="4648320"/>
            <a:ext cx="1009440" cy="160020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 flipV="1">
            <a:off x="2324160" y="4606560"/>
            <a:ext cx="1047600" cy="82548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2305080" y="5387760"/>
            <a:ext cx="990720" cy="78732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 flipV="1">
            <a:off x="2305080" y="4663800"/>
            <a:ext cx="1047600" cy="158724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3772080" y="4648320"/>
            <a:ext cx="1143000" cy="16002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 flipV="1">
            <a:off x="3790800" y="4587840"/>
            <a:ext cx="1124280" cy="8064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 flipV="1">
            <a:off x="3753000" y="5425920"/>
            <a:ext cx="1123920" cy="74952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 flipV="1">
            <a:off x="3733920" y="4587480"/>
            <a:ext cx="1199880" cy="16448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276880" y="4629240"/>
            <a:ext cx="1066680" cy="1657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 flipV="1">
            <a:off x="5276880" y="4606560"/>
            <a:ext cx="1143000" cy="82548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 flipV="1">
            <a:off x="5295960" y="5407200"/>
            <a:ext cx="1066680" cy="8064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 flipV="1">
            <a:off x="5295960" y="4645080"/>
            <a:ext cx="1104840" cy="15876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6781680" y="4591080"/>
            <a:ext cx="1123920" cy="1657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 flipV="1">
            <a:off x="6781680" y="4572000"/>
            <a:ext cx="1143000" cy="8604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6819840" y="5425560"/>
            <a:ext cx="1067040" cy="82548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 flipV="1">
            <a:off x="6800760" y="4587480"/>
            <a:ext cx="1104840" cy="16635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5800320" y="37339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7476840" y="37479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omunicación en grup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7600" y="1599840"/>
            <a:ext cx="84661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 comunicación es entre un grupo de proces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uando un emisor envía, el mensaje lo reciben todos los miembros de un grup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os grupos se entienden como dinámicos, se pueden crear y destruir grupos. Un proceso puede ser miembro de varios grupos, se puede unir a uno y dejar otr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gunas redes permiten diferentes tipos de broadcasting, lo que facilita la implementación de comunicación en grup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Aspectos de diseño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s grupos pueden ser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iertos: no-miembros pueden enviar al grup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errados: solo los miembros pueden enviar al grup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s miembros del grupo pueden ser iguales ( peer) , o bien existe un miembro coordinador o líd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 existir, los envíos se hacen al coordinador, que decide a qué miembro reenvia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mbresía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se requiere cierto método para la creación y eliminación de grupos, así como permitir a los procesos que se unen o dejen grupos ( mecanismo distribuido vs.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Servidor de grupo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Problemas de sincroniz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a considerar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Tiempo y estados global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xclusión mutu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lgoritmos de elecció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Problemas de coordinaci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Operaciones atómicas distribuidas: Transaccion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Aspectos de diseño: Membresí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n miembro crash -&gt; deja de pertenecer al grupo. Los demás miembros deben descubrir en forma experimental que ya no pertenece 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 salida o entrada a un grupo debe sincronizarse con el envió de mensajes ( Ex. Cuando se une al grupo debe RX todos los mensajes, como solucionar : cuando se une enviar un mensaje a todos , Hola! 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 hay muchos procesos que fallan y el grupo no funciona. Se necesita protocolo de reconstrucción del grupo . Algún proceso toma la iniciativa , que pasa si mas de uno lo hace 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Aspectos de diseño (cont.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Direccionamiento al grupo: 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como especifico un </a:t>
            </a:r>
            <a:r>
              <a:rPr b="0" i="1" lang="es-ES" sz="2800" spc="-1" strike="noStrike">
                <a:solidFill>
                  <a:srgbClr val="000000"/>
                </a:solidFill>
                <a:latin typeface="Verdana"/>
              </a:rPr>
              <a:t>Grupo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 para que un </a:t>
            </a:r>
            <a:r>
              <a:rPr b="0" i="1" lang="es-ES" sz="2800" spc="-1" strike="noStrike">
                <a:solidFill>
                  <a:srgbClr val="000000"/>
                </a:solidFill>
                <a:latin typeface="Verdana"/>
              </a:rPr>
              <a:t>proceso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 le envie un mensaje ?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Atomicidad: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 cuando se envía un mensaje a un grupo, llega a todos los miembros o no llega a ninguno ( propiedad all-or-nothing 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La atomicidad es una propiedad deseable ( facilita la programación de los Sistemas Distribuidos )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Atomicidad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¿cómo asegurar la atomicidad o TX atómica ( atomacity or Atomic Broadcast )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 única forma de garantizar que cada miembro reciba el mensaje es pedirle que devuelva un reconocimiento al recibirl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o ¿y si aun así falla algún host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na solución [Birman89]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l emisor envía un mensaje a todos los miembros. Se setean timers y se reenvía el mensaje en los casos necesari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ando un miembro recibe el mensaje, si lo ha RX ya lo descarta. Si no, lo envía a todos los miembros del grupo (usando también Timers y retransmisiones, RTX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 importa las fallas de red o procesos , En un cierto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todos los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Pi activos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tendrán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M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Ordenamiento de Mensaj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tra propiedad deseable es la del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rdenamiento de mensaj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pongamos 5 miembros. Los miembros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P0,P1,P3 y P4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pertenecen a un mismo grup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 forma simultanea, los miembros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P0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y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P4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desean enviar un mensaje (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 al grupo. Podrían enviarlos en este orde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2" name=""/>
          <p:cNvSpPr/>
          <p:nvPr/>
        </p:nvSpPr>
        <p:spPr>
          <a:xfrm>
            <a:off x="1619280" y="5084640"/>
            <a:ext cx="57636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2627280" y="5084640"/>
            <a:ext cx="57636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3564000" y="5084640"/>
            <a:ext cx="57636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4572000" y="5084640"/>
            <a:ext cx="57636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5580000" y="5084640"/>
            <a:ext cx="57636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2195640" y="5300640"/>
            <a:ext cx="431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1908000" y="4653000"/>
            <a:ext cx="3959280" cy="431640"/>
          </a:xfrm>
          <a:custGeom>
            <a:avLst/>
            <a:gdLst/>
            <a:ahLst/>
            <a:rect l="l" t="t" r="r" b="b"/>
            <a:pathLst>
              <a:path w="2494" h="272">
                <a:moveTo>
                  <a:pt x="2494" y="272"/>
                </a:moveTo>
                <a:cubicBezTo>
                  <a:pt x="2044" y="136"/>
                  <a:pt x="1595" y="0"/>
                  <a:pt x="1179" y="0"/>
                </a:cubicBezTo>
                <a:cubicBezTo>
                  <a:pt x="763" y="0"/>
                  <a:pt x="212" y="204"/>
                  <a:pt x="0" y="272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 rot="10800000">
            <a:off x="2916000" y="5589360"/>
            <a:ext cx="2950920" cy="431640"/>
          </a:xfrm>
          <a:custGeom>
            <a:avLst/>
            <a:gdLst/>
            <a:ahLst/>
            <a:rect l="l" t="t" r="r" b="b"/>
            <a:pathLst>
              <a:path w="2494" h="272">
                <a:moveTo>
                  <a:pt x="2494" y="272"/>
                </a:moveTo>
                <a:cubicBezTo>
                  <a:pt x="2044" y="136"/>
                  <a:pt x="1595" y="0"/>
                  <a:pt x="1179" y="0"/>
                </a:cubicBezTo>
                <a:cubicBezTo>
                  <a:pt x="763" y="0"/>
                  <a:pt x="212" y="204"/>
                  <a:pt x="0" y="272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 flipH="1">
            <a:off x="5148000" y="5300640"/>
            <a:ext cx="431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 rot="10800000">
            <a:off x="1908000" y="5589360"/>
            <a:ext cx="2951280" cy="431640"/>
          </a:xfrm>
          <a:custGeom>
            <a:avLst/>
            <a:gdLst/>
            <a:ahLst/>
            <a:rect l="l" t="t" r="r" b="b"/>
            <a:pathLst>
              <a:path w="2494" h="272">
                <a:moveTo>
                  <a:pt x="2494" y="272"/>
                </a:moveTo>
                <a:cubicBezTo>
                  <a:pt x="2044" y="136"/>
                  <a:pt x="1595" y="0"/>
                  <a:pt x="1179" y="0"/>
                </a:cubicBezTo>
                <a:cubicBezTo>
                  <a:pt x="763" y="0"/>
                  <a:pt x="212" y="204"/>
                  <a:pt x="0" y="272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 rot="10800000">
            <a:off x="1908000" y="5589720"/>
            <a:ext cx="3959280" cy="901440"/>
          </a:xfrm>
          <a:custGeom>
            <a:avLst/>
            <a:gdLst/>
            <a:ahLst/>
            <a:rect l="l" t="t" r="r" b="b"/>
            <a:pathLst>
              <a:path w="2494" h="272">
                <a:moveTo>
                  <a:pt x="2494" y="272"/>
                </a:moveTo>
                <a:cubicBezTo>
                  <a:pt x="2044" y="136"/>
                  <a:pt x="1595" y="0"/>
                  <a:pt x="1179" y="0"/>
                </a:cubicBezTo>
                <a:cubicBezTo>
                  <a:pt x="763" y="0"/>
                  <a:pt x="212" y="204"/>
                  <a:pt x="0" y="272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2249280" y="49626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3709800" y="43639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4286160" y="59482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5221080" y="5013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3421080" y="59482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3840120" y="6491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Ordenamiento de Mensajes (cont.1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¿cómo reciben los mensajes los miembros 1 y 3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l miembro 1 recibe los mensajes en este orde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mensaje de 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mensaje de 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l miembro 3 recibe los mensajes en este orde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mensaje de 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mensaje de 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No se cumple el ordenamiento de mensajes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Si P0 y P4 intentan actualizar el mismo  item  los miembros 1 y 3 terminan con distintos valores 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Ordenamiento de Mensajes (cont.2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e debe tener una semántica bien definida con respecto al orden de entrega de los </a:t>
            </a: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Mi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“ </a:t>
            </a: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La mejor garantía es la entrega inmediata de todos los Mi en orden en que fueron enviados “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Ordenamiento con respecto al tiempo Global</a:t>
            </a: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  (Global Time Ordering 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El ordenamiento no es siempre fácil de implementa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Tiempo Absoluto …. , variantes moderadas 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Ordenamiento Consistente (</a:t>
            </a: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Consistent Time Ordering 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Si Ma y Mb llegan cercanos en t el sistema elige a uno como el Primero , si no lo era , nadie lo sabe .. El comportamiento no debería depender de el …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Se garantiza que llegan en el mismo orden a todo el G, pero podría no ser con el que fueron enviados “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e han usado otro ordenamientos mas débile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irtual synchrony (ISI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686800" cy="98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999900"/>
                </a:solidFill>
                <a:latin typeface="Garamond"/>
              </a:rPr>
              <a:t>Grupos Solapados  ( Overlapping Groups)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unque se cumpla el ordenamiento de mensajes hay situaciones problemátic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pongamos dos grupos solapados ( G1 y G2). A y D quieren enviar a la vez un mensaje a sus compañeros de grup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5" name=""/>
          <p:cNvSpPr/>
          <p:nvPr/>
        </p:nvSpPr>
        <p:spPr>
          <a:xfrm>
            <a:off x="1577880" y="4859280"/>
            <a:ext cx="540000" cy="539640"/>
          </a:xfrm>
          <a:prstGeom prst="ellipse">
            <a:avLst/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2846520" y="4348080"/>
            <a:ext cx="539640" cy="540000"/>
          </a:xfrm>
          <a:prstGeom prst="ellipse">
            <a:avLst/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2836800" y="5289480"/>
            <a:ext cx="539640" cy="540000"/>
          </a:xfrm>
          <a:prstGeom prst="ellipse">
            <a:avLst/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4083120" y="4863960"/>
            <a:ext cx="539640" cy="540000"/>
          </a:xfrm>
          <a:prstGeom prst="ellipse">
            <a:avLst/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1390680" y="3657600"/>
            <a:ext cx="2292480" cy="2868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2533680" y="3697200"/>
            <a:ext cx="2292480" cy="28688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 flipV="1">
            <a:off x="2041560" y="4671720"/>
            <a:ext cx="789120" cy="23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2106720" y="5200560"/>
            <a:ext cx="714240" cy="27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 flipH="1">
            <a:off x="3423960" y="5241960"/>
            <a:ext cx="649080" cy="287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 flipH="1" flipV="1">
            <a:off x="3402000" y="4721040"/>
            <a:ext cx="698400" cy="23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2262240" y="4370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2214360" y="4443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3657600" y="450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3686040" y="53499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2160360" y="5289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1908000" y="4572000"/>
            <a:ext cx="47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Verdana"/>
              </a:rPr>
              <a:t>G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3971520" y="4311720"/>
            <a:ext cx="47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Verdana"/>
              </a:rPr>
              <a:t>G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999900"/>
                </a:solidFill>
                <a:latin typeface="Garamond"/>
              </a:rPr>
              <a:t>Generales incomunicad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85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79088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999900"/>
                </a:solidFill>
                <a:latin typeface="Garamond"/>
              </a:rPr>
              <a:t>Generales Bizantin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El general o sus tenientes es un traid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Nadie sabe quien es el traid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Se necesitan 3n+1 componentes para tolerar n fall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56" name="" descr=""/>
          <p:cNvPicPr/>
          <p:nvPr/>
        </p:nvPicPr>
        <p:blipFill>
          <a:blip r:embed="rId1"/>
          <a:stretch/>
        </p:blipFill>
        <p:spPr>
          <a:xfrm>
            <a:off x="5076720" y="1628640"/>
            <a:ext cx="3425760" cy="3961080"/>
          </a:xfrm>
          <a:prstGeom prst="rect">
            <a:avLst/>
          </a:prstGeom>
          <a:ln w="0">
            <a:noFill/>
          </a:ln>
        </p:spPr>
      </p:pic>
      <p:sp>
        <p:nvSpPr>
          <p:cNvPr id="857" name=""/>
          <p:cNvSpPr/>
          <p:nvPr/>
        </p:nvSpPr>
        <p:spPr>
          <a:xfrm>
            <a:off x="539640" y="580248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LESLIE LAMPORT, ROBERT SHOSTAK, and MARSHALL PEASE. </a:t>
            </a:r>
            <a:r>
              <a:rPr b="0" i="1" lang="es-CL" sz="1400" spc="-1" strike="noStrike">
                <a:solidFill>
                  <a:srgbClr val="000000"/>
                </a:solidFill>
                <a:latin typeface="Times New Roman"/>
              </a:rPr>
              <a:t>The Byzantine Generals Problem</a:t>
            </a: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. ACM Transactions on Programming Languages and Systems, Vol. 4, No. 3, July 1982, pp 382-401.</a:t>
            </a: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ransacciones distribuid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njuntos de operaciones englobadas dentro de un bloque cuya ejecución es complet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umplen las propiedades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ACID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tomicity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(Atomicidad): La transacción se realiza completa o no se realiza nad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onsistency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(Consistencia): Los estados anterior y posterior a la transacción son estados estables (consistentes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solation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(Aislamiento): Los estados intermedios de la transacción son sólo visibles dentro de la propia transacció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urability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(Durabilidad): Las modificaciones realizadas por una transacción completada se mantien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ncroniz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de relojes:</a:t>
            </a:r>
            <a:br>
              <a:rPr sz="4400"/>
            </a:b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¿por qué?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24347" t="46376" r="20925" b="41692"/>
          <a:stretch/>
        </p:blipFill>
        <p:spPr>
          <a:xfrm>
            <a:off x="762120" y="2743200"/>
            <a:ext cx="7924680" cy="24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Transacciones atómic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upongamos que queremos viajar de Santiago a Punta Aren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remos a la agencia de viajes para intentar reservar un billete a Puerto Montt. Lo conseguim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uego intentaremos reservar un billete de Puerto Montt a Balmaceda, (en fecha posterior al del primer viaje, naturalmente). Lo conseguim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tentamos ahora buscar un vuelo de Balmaceda a Punta Arenas. Pero resulta que no hay disponibl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n ese caso deberíamos ser capaces de deshacer lo hecho, las dos reservas anteriores: O SE HACE TODO O NO SE HACE NAD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Transacciones atómic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4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jemplo en el ámbito informático: supongamos un banco al que podemos conectarnos por Internet, con la intención de retirar dinero de nuestra cuenta para transferirlo a otra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tirar(cantidad, cuenta1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gresar(cantidad, cuenta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¿Qué pasa si la conexión telefónica falla después de la primera operación pero antes de la segunda 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l problema debe resolverse haciendo que ambas acciones constituyan una transacción atómica: o se hacen ambas o no se hace ningun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Transacciones atómic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45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Podemos tener tres tipos de almacenamiento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Memoria RAM: se borra al fallar la energía o en un fallo de la máquin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Disco: sobrevive a fallos anteriores pero podría fallar la cabeza lectora del disc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Almacenamiento estable: diseñado para sobrevivir a todo (excepto tal vez a un 11-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l almacenamiento estable se puede lograr con un par de disco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Cuando se quiere escribir se escribe primero en el disco 1 y luego en el disco 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Si el sistema falla tras escribir en la unidad 1, tras recuperar podemos comprobar que ambos discos son inconsistentes. Hacemos entonces que el 2 copie lo distinto en el 1, pues el 1 es siempre el que se modifica primer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Cuando se detecte error (p.ej. por CRC) en un sector de uno de los discos, se repara con la información del otr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Transacciones atómic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Trabajaremos con estas primitivas de transacció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BEGIN_TRANSA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ND_TRANSA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ABORT_TRANSA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n medio de una transacción se podrán realizar diversas operaciones, según la aplic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Las transacciones deberán ser todo o nada y además deben ejecutarse en exclusión mutua unas con otr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¿Cómo implementar las transacciones atómicas?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spacio de trabajo privado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consiste en mantener una copia de los objetos o memoria que se quiera modifica. Por ejemplo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 la transacción implica acceso a un directorio particular, mantenemos una copi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tentamos llevar a cabo la transacción en la cop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 nada falla al final modificamos el origin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 no, descartamos la cop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999900"/>
                </a:solidFill>
                <a:latin typeface="Garamond"/>
              </a:rPr>
              <a:t>Bitácora (logging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3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La bitácora es una lista de los cambios que se van realizando sobre cada objeto implicado en la transacció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En la lista se incluye el estado anterior y posterior del objet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x=0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y=0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BEGIN_TRANSA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x=x+1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y=y+2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x=y*y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END_TRANSA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Podemos hacer los cambios en los objetos reales, pues con la bitácora tenemos información para deshacer: partimos del final hacia atrás. La bitácora se almacena en almacenamiento estab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72" name=""/>
          <p:cNvGrpSpPr/>
          <p:nvPr/>
        </p:nvGrpSpPr>
        <p:grpSpPr>
          <a:xfrm>
            <a:off x="3742200" y="3305160"/>
            <a:ext cx="4328280" cy="1826640"/>
            <a:chOff x="3742200" y="3305160"/>
            <a:chExt cx="4328280" cy="1826640"/>
          </a:xfrm>
        </p:grpSpPr>
        <p:sp>
          <p:nvSpPr>
            <p:cNvPr id="873" name=""/>
            <p:cNvSpPr/>
            <p:nvPr/>
          </p:nvSpPr>
          <p:spPr>
            <a:xfrm>
              <a:off x="3884760" y="3732120"/>
              <a:ext cx="98892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=0/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3742200" y="3305160"/>
              <a:ext cx="121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itáco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429160" y="3747960"/>
              <a:ext cx="98928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=0/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5286600" y="3321000"/>
              <a:ext cx="121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itáco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5432400" y="4214880"/>
              <a:ext cx="98892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=0/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6997680" y="3738600"/>
              <a:ext cx="98892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=0/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855120" y="3311640"/>
              <a:ext cx="121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itáco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000920" y="4205160"/>
              <a:ext cx="98892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=0/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6991560" y="4672080"/>
              <a:ext cx="98892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=1/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999900"/>
                </a:solidFill>
                <a:latin typeface="Garamond"/>
              </a:rPr>
              <a:t>Two-phase commi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Uno de los procesos actúa como coordinad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l coordinador envia un mensaje de preparado a los demás proceso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uando el coordinador ha recibido todas las respuestas decide si se lleva a cabo la transacción o n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i uno o más procesos no se comprometen (o no responden) la transaccion se </a:t>
            </a: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abort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i el coordinador decide que se lleva a cabo la transacción, envía un mensaje notificándolo a los demás proces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ontrol de concurre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Un algoritmo para control de concurrencia en SS.DD se basa en el uso de la 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cerradura (lock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La cerradura puede ser de lectura/escritur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La cerradura puede ser a todo el fichero o a ciertos registros (granularidad de la cerradura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La cerradura más usada es la de dos fases: primero se va intentando adquirir todas las cerraduras necesarias, y solo entonces se acce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Si no se pudiera acceder a una de las cerraduras, se liberan las ya obtenid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ontrol optimista de concurre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 idea es no hacer nad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 supone que van a producirse pocos conflictos, en la práctica los conflictos son raros, por lo que suele funcionar bi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o hay que detectar los conflictos. Si se producen hay que deshacer lo hech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Marcas de tiemp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Se asocia a cada inicio de transacción (BEGIN_TRANSACTION) una marca de tiemp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uando las transacciones son breves y espaciadas en el tiempo entonces no habrá problem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A veces el orden es incorrecto (se detecta que una transición iniciada posteriormente a la transacción activa ha intentado entrar en el archivo, tenido acceso a éste y ha realizado un compromiso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n ese caso la transición activa se abort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ncroniz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de reloj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xiste un servidor dictando la hor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n embargo existe un retraso variable entre el env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ío y recepción de mensajes producto de la transmisión por 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1219320" y="4267080"/>
            <a:ext cx="7467480" cy="2081160"/>
            <a:chOff x="1219320" y="4267080"/>
            <a:chExt cx="7467480" cy="2081160"/>
          </a:xfrm>
        </p:grpSpPr>
        <p:sp>
          <p:nvSpPr>
            <p:cNvPr id="109" name=""/>
            <p:cNvSpPr/>
            <p:nvPr/>
          </p:nvSpPr>
          <p:spPr>
            <a:xfrm>
              <a:off x="1219320" y="4724280"/>
              <a:ext cx="1752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257800" y="4724280"/>
              <a:ext cx="1752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81280" y="5943600"/>
              <a:ext cx="990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971800" y="4724280"/>
              <a:ext cx="60948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4572000" y="4723920"/>
              <a:ext cx="68580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219320" y="4724280"/>
              <a:ext cx="586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219320" y="5943600"/>
              <a:ext cx="586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391520" y="4495680"/>
              <a:ext cx="104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lien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15200" y="5562720"/>
              <a:ext cx="13716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Servid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de tiemp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721240" y="4267080"/>
              <a:ext cx="383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T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83560" y="4281480"/>
              <a:ext cx="383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T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261160" y="5181480"/>
              <a:ext cx="92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edid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892760" y="5257800"/>
              <a:ext cx="1017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tiempo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Verdana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1915200" y="3733920"/>
            <a:ext cx="4853160" cy="609480"/>
            <a:chOff x="1915200" y="3733920"/>
            <a:chExt cx="4853160" cy="609480"/>
          </a:xfrm>
        </p:grpSpPr>
        <p:sp>
          <p:nvSpPr>
            <p:cNvPr id="123" name=""/>
            <p:cNvSpPr/>
            <p:nvPr/>
          </p:nvSpPr>
          <p:spPr>
            <a:xfrm>
              <a:off x="1915200" y="3733920"/>
              <a:ext cx="4853160" cy="3682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66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edidos con el mismo reloj local del clien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2971800" y="4114800"/>
              <a:ext cx="4572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800600" y="411480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999900"/>
                </a:solidFill>
                <a:latin typeface="Garamond"/>
              </a:rPr>
              <a:t>Bloqueos en SS.DD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Los bloqueos en los ss.dd. son similares a los que ocurren en un sistema uniprocesador, pero son más difíciles de detectar y correg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Aproximaciones posibl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l algoritmo del avestruz (ignorar el problema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Detección (permitir que ocurran bloqueos, detectarlos e intentar recuperars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Prevención (imponer restricciones para que podamos asegurar que no se van a dar bloqueo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vitarlos (que los procesos hagan una cuidadosa asignación de recursos para que no se den bloqueo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Detección centralizada de bloque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da máquina mantiene su gráfica de recursos y proces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 coordinador recibe (mediante mensajes) esa información. Con la visión global, toma las decision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uando el coordinado detecta un ciclo, elimina los procesos para romper el bloque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999900"/>
                </a:solidFill>
                <a:latin typeface="Garamond"/>
              </a:rPr>
              <a:t>Detección distribuida de bloqueos (algoritmo de Chandy-Misra-Haas)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uando un proceso debe esperar por un recurso, construye un mensaje especial de exploración, que envía al proceso o procesos que retienen el recurs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l mensaje consta de tres números: el proceso que espera, el proceso que envía el mensaje y el proceso al cual se enví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[A, A, B] (enviado de A a B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999900"/>
                </a:solidFill>
                <a:latin typeface="Garamond"/>
              </a:rPr>
              <a:t>Detección distribuida de bloqueos (algoritmo de Chandy-Misra-Haas)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 llegar el mensaje, el receptor comprueba si él también espera a algunos procesos. En ese caso el mensaje se actualiza, conservando el primer campo pero reemplazando el segundo por su propio número de proceso y el tercero por el nº del proceso al cual esper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[A, B, C] (Enviado de B a C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l mensaje se reenvía entonces al proceso por el cual esper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999900"/>
                </a:solidFill>
                <a:latin typeface="Garamond"/>
              </a:rPr>
              <a:t>Detección distribuida de bloqueos (algoritmo de Chandy-Misra-Haas)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Si un mensaje regresa al emisor original (el proceso enumerado en el primer campo) es que hay un ciclo y el sistema está bloquead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[A, N, A]  ??!!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999900"/>
                </a:solidFill>
                <a:latin typeface="Garamond"/>
              </a:rPr>
              <a:t>Bloqueos en SS.DD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01" name=""/>
          <p:cNvSpPr/>
          <p:nvPr/>
        </p:nvSpPr>
        <p:spPr>
          <a:xfrm>
            <a:off x="676440" y="4070520"/>
            <a:ext cx="1892160" cy="10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730080" y="4373640"/>
            <a:ext cx="43848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798840" y="4368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1409760" y="438948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1478160" y="4384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2089080" y="440532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2157480" y="4400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1177920" y="4572000"/>
            <a:ext cx="237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 flipV="1">
            <a:off x="1828800" y="4608360"/>
            <a:ext cx="250920" cy="12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3835440" y="4086360"/>
            <a:ext cx="1692360" cy="10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3889440" y="438948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3957840" y="4384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4970520" y="415296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5024520" y="4138560"/>
            <a:ext cx="3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4984920" y="463536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5053320" y="4630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 flipV="1">
            <a:off x="4336920" y="4412880"/>
            <a:ext cx="625680" cy="174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4346640" y="4621320"/>
            <a:ext cx="588960" cy="199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2517840" y="4608360"/>
            <a:ext cx="1339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6756480" y="4089240"/>
            <a:ext cx="1692360" cy="10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6826320" y="414324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6880320" y="4129200"/>
            <a:ext cx="3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6840360" y="4626000"/>
            <a:ext cx="43848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6909120" y="4621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7813800" y="411804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7882200" y="4113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 flipV="1">
            <a:off x="5411880" y="4344840"/>
            <a:ext cx="1365120" cy="12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5424480" y="4834080"/>
            <a:ext cx="14270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 flipV="1">
            <a:off x="7253280" y="4321080"/>
            <a:ext cx="563400" cy="12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-309600" y="3519360"/>
            <a:ext cx="9516960" cy="838440"/>
          </a:xfrm>
          <a:custGeom>
            <a:avLst/>
            <a:gdLst/>
            <a:ahLst/>
            <a:rect l="l" t="t" r="r" b="b"/>
            <a:pathLst>
              <a:path w="5995" h="528">
                <a:moveTo>
                  <a:pt x="5245" y="371"/>
                </a:moveTo>
                <a:cubicBezTo>
                  <a:pt x="5620" y="261"/>
                  <a:pt x="5995" y="152"/>
                  <a:pt x="5245" y="102"/>
                </a:cubicBezTo>
                <a:cubicBezTo>
                  <a:pt x="4495" y="52"/>
                  <a:pt x="1494" y="0"/>
                  <a:pt x="747" y="71"/>
                </a:cubicBezTo>
                <a:cubicBezTo>
                  <a:pt x="0" y="142"/>
                  <a:pt x="760" y="452"/>
                  <a:pt x="763" y="528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2701080" y="423072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0,2,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5698440" y="400860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0,4,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5688720" y="444960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0,5,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3837960" y="316224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0,8,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1022400" y="5143680"/>
            <a:ext cx="127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áquina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4070520" y="5221440"/>
            <a:ext cx="127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áquina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6942240" y="5160960"/>
            <a:ext cx="127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áquina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Prevención distribuida de bloque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ponemos que existe un SSDD con tiempo global y transacciones atómic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ociamos a cada transacción una marca de tiempo global al momento de su inici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ando un proceso está a punto de bloquearse en espera de un recurso que está usando otro proceso, se comprueba cuál de ellos tiene la marca de tiempo may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 el proceso que tiene el quiere el recurso es más joven podemos entonces optar por hacerlo espera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ncroniz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de reloj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lgoritmo de Cristia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e hace una estimac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del tiempo de propagación como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 = (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  <a:ea typeface="ＭＳ Ｐゴシック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-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  <a:ea typeface="ＭＳ Ｐゴシック"/>
              </a:rPr>
              <a:t>0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)/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iempo = tiemp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  <a:ea typeface="ＭＳ Ｐゴシック"/>
              </a:rPr>
              <a:t>S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+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e puede mejorar si se conoce el tiempo de respuesta del servidor (I),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 = (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  <a:ea typeface="ＭＳ Ｐゴシック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-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  <a:ea typeface="ＭＳ Ｐゴシック"/>
              </a:rPr>
              <a:t>0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-I)/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e consulta varias veces y se toma aquel tiempo donde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 es el menor, descartando aquellos donde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 supera un cierto límit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ncroniz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de reloj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lgoritmo de Berkele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l servidor de tiempo es activo: el servidor pregunta a las m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áquinas que tiempo local tien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l servidor calcula un promedio y avisa a los clientes de ajustarse al nuevo horari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3321000" y="4114800"/>
            <a:ext cx="2882880" cy="2592360"/>
            <a:chOff x="3321000" y="4114800"/>
            <a:chExt cx="2882880" cy="2592360"/>
          </a:xfrm>
        </p:grpSpPr>
        <p:grpSp>
          <p:nvGrpSpPr>
            <p:cNvPr id="131" name=""/>
            <p:cNvGrpSpPr/>
            <p:nvPr/>
          </p:nvGrpSpPr>
          <p:grpSpPr>
            <a:xfrm>
              <a:off x="4419720" y="4572000"/>
              <a:ext cx="609480" cy="609480"/>
              <a:chOff x="4419720" y="4572000"/>
              <a:chExt cx="609480" cy="609480"/>
            </a:xfrm>
          </p:grpSpPr>
          <p:sp>
            <p:nvSpPr>
              <p:cNvPr id="132" name=""/>
              <p:cNvSpPr/>
              <p:nvPr/>
            </p:nvSpPr>
            <p:spPr>
              <a:xfrm>
                <a:off x="4419720" y="4572000"/>
                <a:ext cx="60948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3" name=""/>
              <p:cNvGrpSpPr/>
              <p:nvPr/>
            </p:nvGrpSpPr>
            <p:grpSpPr>
              <a:xfrm>
                <a:off x="4496040" y="4647960"/>
                <a:ext cx="457200" cy="456840"/>
                <a:chOff x="4496040" y="4647960"/>
                <a:chExt cx="457200" cy="456840"/>
              </a:xfrm>
            </p:grpSpPr>
            <p:sp>
              <p:nvSpPr>
                <p:cNvPr id="134" name=""/>
                <p:cNvSpPr/>
                <p:nvPr/>
              </p:nvSpPr>
              <p:spPr>
                <a:xfrm>
                  <a:off x="4496040" y="4647960"/>
                  <a:ext cx="457200" cy="45684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 flipV="1">
                  <a:off x="4724640" y="4647960"/>
                  <a:ext cx="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4724640" y="487620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7" name=""/>
            <p:cNvGrpSpPr/>
            <p:nvPr/>
          </p:nvGrpSpPr>
          <p:grpSpPr>
            <a:xfrm>
              <a:off x="5181480" y="5715000"/>
              <a:ext cx="609480" cy="609480"/>
              <a:chOff x="5181480" y="5715000"/>
              <a:chExt cx="609480" cy="609480"/>
            </a:xfrm>
          </p:grpSpPr>
          <p:sp>
            <p:nvSpPr>
              <p:cNvPr id="138" name=""/>
              <p:cNvSpPr/>
              <p:nvPr/>
            </p:nvSpPr>
            <p:spPr>
              <a:xfrm>
                <a:off x="5181480" y="5715000"/>
                <a:ext cx="60948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" name=""/>
              <p:cNvGrpSpPr/>
              <p:nvPr/>
            </p:nvGrpSpPr>
            <p:grpSpPr>
              <a:xfrm>
                <a:off x="5257800" y="5790960"/>
                <a:ext cx="457200" cy="457200"/>
                <a:chOff x="5257800" y="5790960"/>
                <a:chExt cx="457200" cy="45720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5257800" y="5790960"/>
                  <a:ext cx="457200" cy="45720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5486400" y="6019560"/>
                  <a:ext cx="7596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486400" y="6019560"/>
                  <a:ext cx="22860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3733920" y="5715000"/>
              <a:ext cx="609480" cy="609480"/>
              <a:chOff x="3733920" y="5715000"/>
              <a:chExt cx="609480" cy="609480"/>
            </a:xfrm>
          </p:grpSpPr>
          <p:sp>
            <p:nvSpPr>
              <p:cNvPr id="144" name=""/>
              <p:cNvSpPr/>
              <p:nvPr/>
            </p:nvSpPr>
            <p:spPr>
              <a:xfrm>
                <a:off x="3733920" y="5715000"/>
                <a:ext cx="60948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3809880" y="5790960"/>
                <a:ext cx="456840" cy="457200"/>
                <a:chOff x="3809880" y="5790960"/>
                <a:chExt cx="456840" cy="45720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3809880" y="5790960"/>
                  <a:ext cx="456840" cy="45720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flipH="1" flipV="1">
                  <a:off x="3885840" y="5866920"/>
                  <a:ext cx="15192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 flipV="1">
                  <a:off x="4038120" y="5943240"/>
                  <a:ext cx="22824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9" name=""/>
            <p:cNvSpPr/>
            <p:nvPr/>
          </p:nvSpPr>
          <p:spPr>
            <a:xfrm>
              <a:off x="3886200" y="5410080"/>
              <a:ext cx="1828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724280" y="51814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038480" y="5410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486400" y="5410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487400" y="5365800"/>
              <a:ext cx="54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387680" y="419076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701880" y="633888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:5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149800" y="632448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2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708360" y="4800600"/>
              <a:ext cx="711360" cy="914400"/>
            </a:xfrm>
            <a:custGeom>
              <a:avLst/>
              <a:gdLst/>
              <a:ahLst/>
              <a:rect l="l" t="t" r="r" b="b"/>
              <a:pathLst>
                <a:path w="448" h="576">
                  <a:moveTo>
                    <a:pt x="448" y="0"/>
                  </a:moveTo>
                  <a:cubicBezTo>
                    <a:pt x="288" y="24"/>
                    <a:pt x="128" y="48"/>
                    <a:pt x="64" y="144"/>
                  </a:cubicBezTo>
                  <a:cubicBezTo>
                    <a:pt x="0" y="240"/>
                    <a:pt x="32" y="408"/>
                    <a:pt x="64" y="57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5029200" y="4800600"/>
              <a:ext cx="711360" cy="914400"/>
            </a:xfrm>
            <a:custGeom>
              <a:avLst/>
              <a:gdLst/>
              <a:ahLst/>
              <a:rect l="l" t="t" r="r" b="b"/>
              <a:pathLst>
                <a:path w="448" h="576">
                  <a:moveTo>
                    <a:pt x="448" y="0"/>
                  </a:moveTo>
                  <a:cubicBezTo>
                    <a:pt x="288" y="24"/>
                    <a:pt x="128" y="48"/>
                    <a:pt x="64" y="144"/>
                  </a:cubicBezTo>
                  <a:cubicBezTo>
                    <a:pt x="0" y="240"/>
                    <a:pt x="32" y="408"/>
                    <a:pt x="64" y="57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321000" y="466236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568840" y="466236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029200" y="4343400"/>
              <a:ext cx="584280" cy="380880"/>
            </a:xfrm>
            <a:custGeom>
              <a:avLst/>
              <a:gdLst/>
              <a:ahLst/>
              <a:rect l="l" t="t" r="r" b="b"/>
              <a:pathLst>
                <a:path w="368" h="240">
                  <a:moveTo>
                    <a:pt x="0" y="240"/>
                  </a:moveTo>
                  <a:cubicBezTo>
                    <a:pt x="152" y="212"/>
                    <a:pt x="304" y="184"/>
                    <a:pt x="336" y="144"/>
                  </a:cubicBezTo>
                  <a:cubicBezTo>
                    <a:pt x="368" y="104"/>
                    <a:pt x="248" y="0"/>
                    <a:pt x="192" y="0"/>
                  </a:cubicBezTo>
                  <a:cubicBezTo>
                    <a:pt x="136" y="0"/>
                    <a:pt x="68" y="72"/>
                    <a:pt x="0" y="14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416560" y="411480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3369600" y="4114800"/>
            <a:ext cx="2758680" cy="2592360"/>
            <a:chOff x="3369600" y="4114800"/>
            <a:chExt cx="2758680" cy="2592360"/>
          </a:xfrm>
        </p:grpSpPr>
        <p:grpSp>
          <p:nvGrpSpPr>
            <p:cNvPr id="164" name=""/>
            <p:cNvGrpSpPr/>
            <p:nvPr/>
          </p:nvGrpSpPr>
          <p:grpSpPr>
            <a:xfrm>
              <a:off x="4405320" y="4572000"/>
              <a:ext cx="609480" cy="609480"/>
              <a:chOff x="4405320" y="4572000"/>
              <a:chExt cx="609480" cy="609480"/>
            </a:xfrm>
          </p:grpSpPr>
          <p:sp>
            <p:nvSpPr>
              <p:cNvPr id="165" name=""/>
              <p:cNvSpPr/>
              <p:nvPr/>
            </p:nvSpPr>
            <p:spPr>
              <a:xfrm>
                <a:off x="4405320" y="4572000"/>
                <a:ext cx="60948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6" name=""/>
              <p:cNvGrpSpPr/>
              <p:nvPr/>
            </p:nvGrpSpPr>
            <p:grpSpPr>
              <a:xfrm>
                <a:off x="4481640" y="4647960"/>
                <a:ext cx="457200" cy="456840"/>
                <a:chOff x="4481640" y="4647960"/>
                <a:chExt cx="457200" cy="456840"/>
              </a:xfrm>
            </p:grpSpPr>
            <p:sp>
              <p:nvSpPr>
                <p:cNvPr id="167" name=""/>
                <p:cNvSpPr/>
                <p:nvPr/>
              </p:nvSpPr>
              <p:spPr>
                <a:xfrm>
                  <a:off x="4481640" y="4647960"/>
                  <a:ext cx="457200" cy="45684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 flipV="1">
                  <a:off x="4710240" y="4647960"/>
                  <a:ext cx="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4710240" y="487620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0" name=""/>
            <p:cNvGrpSpPr/>
            <p:nvPr/>
          </p:nvGrpSpPr>
          <p:grpSpPr>
            <a:xfrm>
              <a:off x="5167440" y="5715000"/>
              <a:ext cx="609480" cy="609480"/>
              <a:chOff x="5167440" y="5715000"/>
              <a:chExt cx="609480" cy="609480"/>
            </a:xfrm>
          </p:grpSpPr>
          <p:sp>
            <p:nvSpPr>
              <p:cNvPr id="171" name=""/>
              <p:cNvSpPr/>
              <p:nvPr/>
            </p:nvSpPr>
            <p:spPr>
              <a:xfrm>
                <a:off x="5167440" y="5715000"/>
                <a:ext cx="60948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2" name=""/>
              <p:cNvGrpSpPr/>
              <p:nvPr/>
            </p:nvGrpSpPr>
            <p:grpSpPr>
              <a:xfrm>
                <a:off x="5243760" y="5790960"/>
                <a:ext cx="457200" cy="457200"/>
                <a:chOff x="5243760" y="5790960"/>
                <a:chExt cx="457200" cy="45720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5243760" y="5790960"/>
                  <a:ext cx="457200" cy="45720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5472360" y="6019560"/>
                  <a:ext cx="7596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5472360" y="6019560"/>
                  <a:ext cx="22860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6" name=""/>
            <p:cNvGrpSpPr/>
            <p:nvPr/>
          </p:nvGrpSpPr>
          <p:grpSpPr>
            <a:xfrm>
              <a:off x="3719520" y="5715000"/>
              <a:ext cx="609840" cy="609480"/>
              <a:chOff x="3719520" y="5715000"/>
              <a:chExt cx="609840" cy="609480"/>
            </a:xfrm>
          </p:grpSpPr>
          <p:sp>
            <p:nvSpPr>
              <p:cNvPr id="177" name=""/>
              <p:cNvSpPr/>
              <p:nvPr/>
            </p:nvSpPr>
            <p:spPr>
              <a:xfrm>
                <a:off x="3719520" y="5715000"/>
                <a:ext cx="60984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8" name=""/>
              <p:cNvGrpSpPr/>
              <p:nvPr/>
            </p:nvGrpSpPr>
            <p:grpSpPr>
              <a:xfrm>
                <a:off x="3795840" y="5790960"/>
                <a:ext cx="457200" cy="457200"/>
                <a:chOff x="3795840" y="5790960"/>
                <a:chExt cx="457200" cy="45720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3795840" y="5790960"/>
                  <a:ext cx="457200" cy="45720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 flipH="1" flipV="1">
                  <a:off x="3871800" y="5866920"/>
                  <a:ext cx="15228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 flipV="1">
                  <a:off x="4024440" y="5943240"/>
                  <a:ext cx="22860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2" name=""/>
            <p:cNvSpPr/>
            <p:nvPr/>
          </p:nvSpPr>
          <p:spPr>
            <a:xfrm>
              <a:off x="3872160" y="5410080"/>
              <a:ext cx="1828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710240" y="51814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024440" y="5410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472360" y="5410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473360" y="5365800"/>
              <a:ext cx="54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373640" y="419076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687840" y="633888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:5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135400" y="632448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2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694320" y="4800600"/>
              <a:ext cx="711000" cy="914400"/>
            </a:xfrm>
            <a:custGeom>
              <a:avLst/>
              <a:gdLst/>
              <a:ahLst/>
              <a:rect l="l" t="t" r="r" b="b"/>
              <a:pathLst>
                <a:path w="448" h="576">
                  <a:moveTo>
                    <a:pt x="448" y="0"/>
                  </a:moveTo>
                  <a:cubicBezTo>
                    <a:pt x="288" y="24"/>
                    <a:pt x="128" y="48"/>
                    <a:pt x="64" y="144"/>
                  </a:cubicBezTo>
                  <a:cubicBezTo>
                    <a:pt x="0" y="240"/>
                    <a:pt x="32" y="408"/>
                    <a:pt x="64" y="57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5014440" y="4800600"/>
              <a:ext cx="711000" cy="914400"/>
            </a:xfrm>
            <a:custGeom>
              <a:avLst/>
              <a:gdLst/>
              <a:ahLst/>
              <a:rect l="l" t="t" r="r" b="b"/>
              <a:pathLst>
                <a:path w="448" h="576">
                  <a:moveTo>
                    <a:pt x="448" y="0"/>
                  </a:moveTo>
                  <a:cubicBezTo>
                    <a:pt x="288" y="24"/>
                    <a:pt x="128" y="48"/>
                    <a:pt x="64" y="144"/>
                  </a:cubicBezTo>
                  <a:cubicBezTo>
                    <a:pt x="0" y="240"/>
                    <a:pt x="32" y="408"/>
                    <a:pt x="64" y="57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369600" y="4744800"/>
              <a:ext cx="51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-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554440" y="4730760"/>
              <a:ext cx="57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+2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015160" y="4343400"/>
              <a:ext cx="583920" cy="380880"/>
            </a:xfrm>
            <a:custGeom>
              <a:avLst/>
              <a:gdLst/>
              <a:ahLst/>
              <a:rect l="l" t="t" r="r" b="b"/>
              <a:pathLst>
                <a:path w="368" h="240">
                  <a:moveTo>
                    <a:pt x="0" y="240"/>
                  </a:moveTo>
                  <a:cubicBezTo>
                    <a:pt x="152" y="212"/>
                    <a:pt x="304" y="184"/>
                    <a:pt x="336" y="144"/>
                  </a:cubicBezTo>
                  <a:cubicBezTo>
                    <a:pt x="368" y="104"/>
                    <a:pt x="248" y="0"/>
                    <a:pt x="192" y="0"/>
                  </a:cubicBezTo>
                  <a:cubicBezTo>
                    <a:pt x="136" y="0"/>
                    <a:pt x="68" y="72"/>
                    <a:pt x="0" y="14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366880" y="41148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244320" y="4114800"/>
            <a:ext cx="2812320" cy="2592360"/>
            <a:chOff x="3244320" y="4114800"/>
            <a:chExt cx="2812320" cy="2592360"/>
          </a:xfrm>
        </p:grpSpPr>
        <p:grpSp>
          <p:nvGrpSpPr>
            <p:cNvPr id="197" name=""/>
            <p:cNvGrpSpPr/>
            <p:nvPr/>
          </p:nvGrpSpPr>
          <p:grpSpPr>
            <a:xfrm>
              <a:off x="5105160" y="5721120"/>
              <a:ext cx="609120" cy="609480"/>
              <a:chOff x="5105160" y="5721120"/>
              <a:chExt cx="609120" cy="609480"/>
            </a:xfrm>
          </p:grpSpPr>
          <p:sp>
            <p:nvSpPr>
              <p:cNvPr id="198" name=""/>
              <p:cNvSpPr/>
              <p:nvPr/>
            </p:nvSpPr>
            <p:spPr>
              <a:xfrm>
                <a:off x="5105160" y="5721120"/>
                <a:ext cx="60912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9" name=""/>
              <p:cNvGrpSpPr/>
              <p:nvPr/>
            </p:nvGrpSpPr>
            <p:grpSpPr>
              <a:xfrm>
                <a:off x="5181120" y="5797080"/>
                <a:ext cx="456480" cy="457560"/>
                <a:chOff x="5181120" y="5797080"/>
                <a:chExt cx="456480" cy="457560"/>
              </a:xfrm>
            </p:grpSpPr>
            <p:sp>
              <p:nvSpPr>
                <p:cNvPr id="200" name=""/>
                <p:cNvSpPr/>
                <p:nvPr/>
              </p:nvSpPr>
              <p:spPr>
                <a:xfrm>
                  <a:off x="5181120" y="5797440"/>
                  <a:ext cx="456480" cy="45720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 flipV="1">
                  <a:off x="5409360" y="5797080"/>
                  <a:ext cx="7596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5409360" y="6026040"/>
                  <a:ext cx="15192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419360" y="4502160"/>
              <a:ext cx="609120" cy="609480"/>
              <a:chOff x="4419360" y="4502160"/>
              <a:chExt cx="609120" cy="609480"/>
            </a:xfrm>
          </p:grpSpPr>
          <p:sp>
            <p:nvSpPr>
              <p:cNvPr id="204" name=""/>
              <p:cNvSpPr/>
              <p:nvPr/>
            </p:nvSpPr>
            <p:spPr>
              <a:xfrm>
                <a:off x="4419360" y="4502160"/>
                <a:ext cx="60912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495320" y="4578120"/>
                <a:ext cx="456480" cy="457560"/>
                <a:chOff x="4495320" y="4578120"/>
                <a:chExt cx="456480" cy="45756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495320" y="4578480"/>
                  <a:ext cx="456480" cy="45720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 flipV="1">
                  <a:off x="4723560" y="4578120"/>
                  <a:ext cx="7596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4723560" y="4807080"/>
                  <a:ext cx="15192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09" name=""/>
            <p:cNvSpPr/>
            <p:nvPr/>
          </p:nvSpPr>
          <p:spPr>
            <a:xfrm>
              <a:off x="3871800" y="5410080"/>
              <a:ext cx="1828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709880" y="51814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024080" y="5410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472000" y="5410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473000" y="5365800"/>
              <a:ext cx="54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372920" y="419076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687120" y="633888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135040" y="632448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693960" y="4800600"/>
              <a:ext cx="710640" cy="914400"/>
            </a:xfrm>
            <a:custGeom>
              <a:avLst/>
              <a:gdLst/>
              <a:ahLst/>
              <a:rect l="l" t="t" r="r" b="b"/>
              <a:pathLst>
                <a:path w="448" h="576">
                  <a:moveTo>
                    <a:pt x="448" y="0"/>
                  </a:moveTo>
                  <a:cubicBezTo>
                    <a:pt x="288" y="24"/>
                    <a:pt x="128" y="48"/>
                    <a:pt x="64" y="144"/>
                  </a:cubicBezTo>
                  <a:cubicBezTo>
                    <a:pt x="0" y="240"/>
                    <a:pt x="32" y="408"/>
                    <a:pt x="64" y="57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5014800" y="4800600"/>
              <a:ext cx="710640" cy="914400"/>
            </a:xfrm>
            <a:custGeom>
              <a:avLst/>
              <a:gdLst/>
              <a:ahLst/>
              <a:rect l="l" t="t" r="r" b="b"/>
              <a:pathLst>
                <a:path w="448" h="576">
                  <a:moveTo>
                    <a:pt x="448" y="0"/>
                  </a:moveTo>
                  <a:cubicBezTo>
                    <a:pt x="288" y="24"/>
                    <a:pt x="128" y="48"/>
                    <a:pt x="64" y="144"/>
                  </a:cubicBezTo>
                  <a:cubicBezTo>
                    <a:pt x="0" y="240"/>
                    <a:pt x="32" y="408"/>
                    <a:pt x="64" y="57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244320" y="4744800"/>
              <a:ext cx="57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+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540760" y="4730760"/>
              <a:ext cx="51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-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014800" y="4343400"/>
              <a:ext cx="583560" cy="380880"/>
            </a:xfrm>
            <a:custGeom>
              <a:avLst/>
              <a:gdLst/>
              <a:ahLst/>
              <a:rect l="l" t="t" r="r" b="b"/>
              <a:pathLst>
                <a:path w="368" h="240">
                  <a:moveTo>
                    <a:pt x="0" y="240"/>
                  </a:moveTo>
                  <a:cubicBezTo>
                    <a:pt x="152" y="212"/>
                    <a:pt x="304" y="184"/>
                    <a:pt x="336" y="144"/>
                  </a:cubicBezTo>
                  <a:cubicBezTo>
                    <a:pt x="368" y="104"/>
                    <a:pt x="248" y="0"/>
                    <a:pt x="192" y="0"/>
                  </a:cubicBezTo>
                  <a:cubicBezTo>
                    <a:pt x="136" y="0"/>
                    <a:pt x="68" y="72"/>
                    <a:pt x="0" y="14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393880" y="411480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+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3" name=""/>
            <p:cNvGrpSpPr/>
            <p:nvPr/>
          </p:nvGrpSpPr>
          <p:grpSpPr>
            <a:xfrm>
              <a:off x="3733560" y="5721120"/>
              <a:ext cx="609120" cy="609480"/>
              <a:chOff x="3733560" y="5721120"/>
              <a:chExt cx="609120" cy="609480"/>
            </a:xfrm>
          </p:grpSpPr>
          <p:sp>
            <p:nvSpPr>
              <p:cNvPr id="224" name=""/>
              <p:cNvSpPr/>
              <p:nvPr/>
            </p:nvSpPr>
            <p:spPr>
              <a:xfrm>
                <a:off x="3733560" y="5721120"/>
                <a:ext cx="60912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5" name=""/>
              <p:cNvGrpSpPr/>
              <p:nvPr/>
            </p:nvGrpSpPr>
            <p:grpSpPr>
              <a:xfrm>
                <a:off x="3809520" y="5797080"/>
                <a:ext cx="456480" cy="457560"/>
                <a:chOff x="3809520" y="5797080"/>
                <a:chExt cx="456480" cy="45756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3809520" y="5797440"/>
                  <a:ext cx="456480" cy="45720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V="1">
                  <a:off x="4037760" y="5797080"/>
                  <a:ext cx="7596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4037760" y="6026040"/>
                  <a:ext cx="15192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Relojes L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gic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n muchas ocasiones es necesario que las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áquinas concuerden en un horario, pero no que ese horario sea el horario real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nvencionalmente llamados relojes lógic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Lamport mostró (1978) que si dos procesos no interactúan no es necesario que sus relojes estén sincronizados ya que esta falta de sincronización no es observabl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ún más, él postuló que usualmente es irrelevante que dos procesos concuerden en que tiempo es, sino más bien en orden los eventos ocurre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5T16:38:17Z</dcterms:created>
  <dc:creator>Facultad de Ingenieria</dc:creator>
  <dc:description/>
  <dc:language>en-US</dc:language>
  <cp:lastModifiedBy>Usuario de Office 2004 Test Drive</cp:lastModifiedBy>
  <dcterms:modified xsi:type="dcterms:W3CDTF">2009-01-23T16:05:42Z</dcterms:modified>
  <cp:revision>130</cp:revision>
  <dc:subject/>
  <dc:title>Sistemas Distribuídos</dc:title>
</cp:coreProperties>
</file>