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9C03-10CF-4435-9A7E-414E7295C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DA02-C90C-4B01-8426-7B76C207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17C6-ECB9-4FA9-9C06-4774C9D0B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C00E-8378-4B52-8E71-9342D26C3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5682-0E5F-4633-9876-B7055F8C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D0D0-BC4C-48C4-A3F5-01529353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94AE-7C23-4099-8489-F665E9D9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2B1E-6AAB-4E73-B525-A24A8B20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C3A5-AF58-459A-818D-F816E40B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6083-8D06-4A77-85EB-A7A5F109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17C3-822E-4F16-BB8B-3DD4F3D0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ABBE-A821-4972-93DE-747D8751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152A-B606-4977-9CB1-AB804278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5BE4-BFC7-43A4-A214-87925CC5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FC35-B6A7-4145-8F98-CBDAB32C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BB52-7B92-4645-9583-55D89F8BD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B06C-5C59-4F6F-82B8-4566A235D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BFEE-FD10-4194-900C-E43E85F5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C763-22F4-45C2-88EF-36CCBE74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37B3-9F5F-49EF-9C84-F0FF2CA3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DE63-FA7C-4C84-A99F-314B1C24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4B65-61EE-40F9-844B-6DEF54F0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2ABD-7A18-4981-9D98-2B1A0E43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80AE-496A-4684-A743-29B42434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B194-50D4-4373-A8B3-3995759806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5509-F350-49B4-99F5-BA935CC2A9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979640"/>
            <a:ext cx="914400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istributed File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7280" y="3792600"/>
            <a:ext cx="858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4BF6-2A28-49B5-8AC6-C1423AAB5C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ntents of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Edlab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0"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1/mail@elux3.cs.umass.edu:/var/spool/ma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ers/users1@elsrv1:/users/users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courses/cs300@elsrv3:/courses/cs3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rcf/common@elsrv1:/exp/rcf/comm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F4B4-8449-4E6D-B12E-05914F3A82C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471840" y="1959120"/>
            <a:ext cx="5164200" cy="451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C344-C5B9-44F2-A241-007E2DC237D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Name Sp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 name spa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S (CMU’s Andrew Fil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te (Berkele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atter which node you are o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enames remain the s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: gets filename structure from server(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users access files, server sends copies to workstation, where they are c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7729-42C6-43DC-8356-F755CA1694F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Name Space: Pros &amp; C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84400" indent="-28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ing – 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ll files are same regardless of where you log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te bind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name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ving them is eas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0">
              <a:spcBef>
                <a:spcPts val="601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for OS to keep files consistent (cach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name space may limit 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iss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5AF0-04FE-4B30-933E-666BF15E173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: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Naming &amp; 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mote fil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with state or with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CD3E-FAA5-47C9-A866-50347E9CC94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ote File Access &amp;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97000" indent="-297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ccess fi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ly: returns results using RPC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mote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part of file, perform local access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7000" indent="-297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ing issu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&amp; when are file blocks cach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re modifications propagated back to remote f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when multiple clients cache same f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6DA5-A395-4876-9111-A12D5D7746F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ote File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3760" indent="-293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l dis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access time (compared to remo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fe if node f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keep local copy consistent with remote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client to have disk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3760" indent="-293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l memo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 access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ithout di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keep local copy consistent with remote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cach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ault-toler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3CF9-0C0A-4BFD-A11C-DB5163BE17F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che Update Polic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9600" indent="-309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rite-throug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write to remote di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-performance = remote service for all wr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0">
              <a:spcBef>
                <a:spcPts val="601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rite-bac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write only to ca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to disk on evictions, periodic sy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network traffic (repeated writes to same blo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machine crashe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ata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0">
              <a:spcBef>
                <a:spcPts val="60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5727-D1F5-4E6F-8483-F86DF8F4BC5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che Consis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0240" indent="-30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ent-initiated consist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contacts server and checks consis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heck every acces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given interval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upon opening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rver-initiated consist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detects potential conflicts, invalidates ca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needs to know which clients have cached which parts of which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clients are readers &amp; which are wri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FF21-3B05-49FB-82BC-7D6FF226F7E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nsistency Maintenance in Various Storage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54040" y="2232000"/>
            <a:ext cx="7911360" cy="4076640"/>
            <a:chOff x="554040" y="2232000"/>
            <a:chExt cx="7911360" cy="4076640"/>
          </a:xfrm>
        </p:grpSpPr>
        <p:sp>
          <p:nvSpPr>
            <p:cNvPr id="178" name=""/>
            <p:cNvSpPr/>
            <p:nvPr/>
          </p:nvSpPr>
          <p:spPr>
            <a:xfrm>
              <a:off x="3115080" y="2346120"/>
              <a:ext cx="646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Sha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82600" y="23461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Persis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81880" y="2558880"/>
              <a:ext cx="42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t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88560" y="2346120"/>
              <a:ext cx="92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Distribu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88920" y="2558880"/>
              <a:ext cx="118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ache/repl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26240" y="2346120"/>
              <a:ext cx="98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onsist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26240" y="2558880"/>
              <a:ext cx="104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mainten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34612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4440" y="2984400"/>
              <a:ext cx="1154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Main 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24600" y="30477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4080" y="3430440"/>
              <a:ext cx="93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27840" y="3430440"/>
              <a:ext cx="144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UNIX 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6240" y="3792240"/>
              <a:ext cx="184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stributed 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23880" y="3792240"/>
              <a:ext cx="73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un N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560" y="4195440"/>
              <a:ext cx="38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26040" y="4111200"/>
              <a:ext cx="93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eb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6240" y="4600440"/>
              <a:ext cx="2221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stributed shared 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24960" y="460044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vy (Ch. 1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520" y="5003640"/>
              <a:ext cx="2298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emote objects (RMI/OR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23160" y="50036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ORB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5880" y="5408280"/>
              <a:ext cx="178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rsistent object st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56000" y="54068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25320" y="5408280"/>
              <a:ext cx="1540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ORBA Persist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26760" y="5621040"/>
              <a:ext cx="120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bject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4000" y="5981400"/>
              <a:ext cx="2544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Persistent distributed object st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26400" y="5981400"/>
              <a:ext cx="1396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rDiS, Khaza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3429000" y="3105000"/>
              <a:ext cx="117360" cy="126360"/>
              <a:chOff x="3429000" y="3105000"/>
              <a:chExt cx="117360" cy="126360"/>
            </a:xfrm>
          </p:grpSpPr>
          <p:sp>
            <p:nvSpPr>
              <p:cNvPr id="205" name=""/>
              <p:cNvSpPr/>
              <p:nvPr/>
            </p:nvSpPr>
            <p:spPr>
              <a:xfrm>
                <a:off x="3429000" y="3105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3429000" y="3105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4052880" y="3095280"/>
              <a:ext cx="115920" cy="126720"/>
              <a:chOff x="4052880" y="3095280"/>
              <a:chExt cx="115920" cy="126720"/>
            </a:xfrm>
          </p:grpSpPr>
          <p:sp>
            <p:nvSpPr>
              <p:cNvPr id="208" name=""/>
              <p:cNvSpPr/>
              <p:nvPr/>
            </p:nvSpPr>
            <p:spPr>
              <a:xfrm>
                <a:off x="4052880" y="3095280"/>
                <a:ext cx="1159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4052880" y="3095280"/>
                <a:ext cx="1159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4915080" y="3085920"/>
              <a:ext cx="117360" cy="126720"/>
              <a:chOff x="4915080" y="3085920"/>
              <a:chExt cx="117360" cy="126720"/>
            </a:xfrm>
          </p:grpSpPr>
          <p:sp>
            <p:nvSpPr>
              <p:cNvPr id="211" name=""/>
              <p:cNvSpPr/>
              <p:nvPr/>
            </p:nvSpPr>
            <p:spPr>
              <a:xfrm>
                <a:off x="4915080" y="3085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4915080" y="3085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441240" y="3479400"/>
              <a:ext cx="118080" cy="126720"/>
              <a:chOff x="3441240" y="3479400"/>
              <a:chExt cx="118080" cy="126720"/>
            </a:xfrm>
          </p:grpSpPr>
          <p:sp>
            <p:nvSpPr>
              <p:cNvPr id="214" name=""/>
              <p:cNvSpPr/>
              <p:nvPr/>
            </p:nvSpPr>
            <p:spPr>
              <a:xfrm>
                <a:off x="3441600" y="3479400"/>
                <a:ext cx="1177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3441240" y="3479400"/>
                <a:ext cx="1177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4046400" y="3463560"/>
              <a:ext cx="117000" cy="133200"/>
              <a:chOff x="4046400" y="3463560"/>
              <a:chExt cx="117000" cy="133200"/>
            </a:xfrm>
          </p:grpSpPr>
          <p:sp>
            <p:nvSpPr>
              <p:cNvPr id="217" name=""/>
              <p:cNvSpPr/>
              <p:nvPr/>
            </p:nvSpPr>
            <p:spPr>
              <a:xfrm>
                <a:off x="4046400" y="35456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4063680" y="346356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927680" y="3460320"/>
              <a:ext cx="117360" cy="126720"/>
              <a:chOff x="4927680" y="3460320"/>
              <a:chExt cx="117360" cy="126720"/>
            </a:xfrm>
          </p:grpSpPr>
          <p:sp>
            <p:nvSpPr>
              <p:cNvPr id="220" name=""/>
              <p:cNvSpPr/>
              <p:nvPr/>
            </p:nvSpPr>
            <p:spPr>
              <a:xfrm>
                <a:off x="4927680" y="34603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4927680" y="34603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4052880" y="3838320"/>
              <a:ext cx="115200" cy="132840"/>
              <a:chOff x="4052880" y="3838320"/>
              <a:chExt cx="115200" cy="132840"/>
            </a:xfrm>
          </p:grpSpPr>
          <p:sp>
            <p:nvSpPr>
              <p:cNvPr id="223" name=""/>
              <p:cNvSpPr/>
              <p:nvPr/>
            </p:nvSpPr>
            <p:spPr>
              <a:xfrm>
                <a:off x="4052880" y="39200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4069800" y="3838320"/>
                <a:ext cx="9828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440160" y="3844800"/>
              <a:ext cx="117000" cy="132840"/>
              <a:chOff x="3440160" y="3844800"/>
              <a:chExt cx="117000" cy="1328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40160" y="39265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3457800" y="38448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4911840" y="3850920"/>
              <a:ext cx="115200" cy="133200"/>
              <a:chOff x="4911840" y="3850920"/>
              <a:chExt cx="115200" cy="133200"/>
            </a:xfrm>
          </p:grpSpPr>
          <p:sp>
            <p:nvSpPr>
              <p:cNvPr id="229" name=""/>
              <p:cNvSpPr/>
              <p:nvPr/>
            </p:nvSpPr>
            <p:spPr>
              <a:xfrm>
                <a:off x="4911840" y="39330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4928760" y="3850920"/>
                <a:ext cx="9828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6145200" y="3857400"/>
              <a:ext cx="117000" cy="132840"/>
              <a:chOff x="6145200" y="3857400"/>
              <a:chExt cx="117000" cy="132840"/>
            </a:xfrm>
          </p:grpSpPr>
          <p:sp>
            <p:nvSpPr>
              <p:cNvPr id="232" name=""/>
              <p:cNvSpPr/>
              <p:nvPr/>
            </p:nvSpPr>
            <p:spPr>
              <a:xfrm>
                <a:off x="6145200" y="39391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6162840" y="38574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057560" y="4238280"/>
              <a:ext cx="117000" cy="133200"/>
              <a:chOff x="4057560" y="4238280"/>
              <a:chExt cx="117000" cy="133200"/>
            </a:xfrm>
          </p:grpSpPr>
          <p:sp>
            <p:nvSpPr>
              <p:cNvPr id="235" name=""/>
              <p:cNvSpPr/>
              <p:nvPr/>
            </p:nvSpPr>
            <p:spPr>
              <a:xfrm>
                <a:off x="4057560" y="43203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4074840" y="423828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3444840" y="4244760"/>
              <a:ext cx="117000" cy="132840"/>
              <a:chOff x="3444840" y="4244760"/>
              <a:chExt cx="117000" cy="132840"/>
            </a:xfrm>
          </p:grpSpPr>
          <p:sp>
            <p:nvSpPr>
              <p:cNvPr id="238" name=""/>
              <p:cNvSpPr/>
              <p:nvPr/>
            </p:nvSpPr>
            <p:spPr>
              <a:xfrm>
                <a:off x="3444840" y="432648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3462120" y="4244760"/>
                <a:ext cx="9972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916520" y="4251240"/>
              <a:ext cx="117000" cy="132840"/>
              <a:chOff x="4916520" y="4251240"/>
              <a:chExt cx="117000" cy="132840"/>
            </a:xfrm>
          </p:grpSpPr>
          <p:sp>
            <p:nvSpPr>
              <p:cNvPr id="241" name=""/>
              <p:cNvSpPr/>
              <p:nvPr/>
            </p:nvSpPr>
            <p:spPr>
              <a:xfrm>
                <a:off x="4916520" y="43329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4934160" y="425124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3451320" y="4644720"/>
              <a:ext cx="117000" cy="133200"/>
              <a:chOff x="3451320" y="4644720"/>
              <a:chExt cx="117000" cy="133200"/>
            </a:xfrm>
          </p:grpSpPr>
          <p:sp>
            <p:nvSpPr>
              <p:cNvPr id="244" name=""/>
              <p:cNvSpPr/>
              <p:nvPr/>
            </p:nvSpPr>
            <p:spPr>
              <a:xfrm>
                <a:off x="3451320" y="47268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3468960" y="46447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4923000" y="4651200"/>
              <a:ext cx="117000" cy="132840"/>
              <a:chOff x="4923000" y="4651200"/>
              <a:chExt cx="117000" cy="132840"/>
            </a:xfrm>
          </p:grpSpPr>
          <p:sp>
            <p:nvSpPr>
              <p:cNvPr id="247" name=""/>
              <p:cNvSpPr/>
              <p:nvPr/>
            </p:nvSpPr>
            <p:spPr>
              <a:xfrm>
                <a:off x="4923000" y="47329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4940640" y="46512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6145200" y="4657320"/>
              <a:ext cx="117000" cy="133200"/>
              <a:chOff x="6145200" y="4657320"/>
              <a:chExt cx="117000" cy="133200"/>
            </a:xfrm>
          </p:grpSpPr>
          <p:sp>
            <p:nvSpPr>
              <p:cNvPr id="250" name=""/>
              <p:cNvSpPr/>
              <p:nvPr/>
            </p:nvSpPr>
            <p:spPr>
              <a:xfrm>
                <a:off x="6145200" y="47394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6162840" y="46573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3457440" y="5044680"/>
              <a:ext cx="117000" cy="133200"/>
              <a:chOff x="3457440" y="5044680"/>
              <a:chExt cx="117000" cy="133200"/>
            </a:xfrm>
          </p:grpSpPr>
          <p:sp>
            <p:nvSpPr>
              <p:cNvPr id="253" name=""/>
              <p:cNvSpPr/>
              <p:nvPr/>
            </p:nvSpPr>
            <p:spPr>
              <a:xfrm>
                <a:off x="3457440" y="51267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3474720" y="504468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4075200" y="5438520"/>
              <a:ext cx="117000" cy="132840"/>
              <a:chOff x="4075200" y="5438520"/>
              <a:chExt cx="117000" cy="132840"/>
            </a:xfrm>
          </p:grpSpPr>
          <p:sp>
            <p:nvSpPr>
              <p:cNvPr id="256" name=""/>
              <p:cNvSpPr/>
              <p:nvPr/>
            </p:nvSpPr>
            <p:spPr>
              <a:xfrm>
                <a:off x="4075200" y="55202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4092840" y="543852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3463920" y="5445000"/>
              <a:ext cx="115200" cy="132840"/>
              <a:chOff x="3463920" y="5445000"/>
              <a:chExt cx="115200" cy="132840"/>
            </a:xfrm>
          </p:grpSpPr>
          <p:sp>
            <p:nvSpPr>
              <p:cNvPr id="259" name=""/>
              <p:cNvSpPr/>
              <p:nvPr/>
            </p:nvSpPr>
            <p:spPr>
              <a:xfrm>
                <a:off x="3463920" y="55267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3480840" y="5445000"/>
                <a:ext cx="9828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4081680" y="6028920"/>
              <a:ext cx="117000" cy="133200"/>
              <a:chOff x="4081680" y="6028920"/>
              <a:chExt cx="117000" cy="133200"/>
            </a:xfrm>
          </p:grpSpPr>
          <p:sp>
            <p:nvSpPr>
              <p:cNvPr id="262" name=""/>
              <p:cNvSpPr/>
              <p:nvPr/>
            </p:nvSpPr>
            <p:spPr>
              <a:xfrm>
                <a:off x="4081680" y="61110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4099320" y="60289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468600" y="6035400"/>
              <a:ext cx="117000" cy="132840"/>
              <a:chOff x="3468600" y="6035400"/>
              <a:chExt cx="117000" cy="132840"/>
            </a:xfrm>
          </p:grpSpPr>
          <p:sp>
            <p:nvSpPr>
              <p:cNvPr id="265" name=""/>
              <p:cNvSpPr/>
              <p:nvPr/>
            </p:nvSpPr>
            <p:spPr>
              <a:xfrm>
                <a:off x="3468600" y="61171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3485880" y="6035400"/>
                <a:ext cx="9972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940280" y="6041880"/>
              <a:ext cx="117000" cy="132840"/>
              <a:chOff x="4940280" y="6041880"/>
              <a:chExt cx="117000" cy="132840"/>
            </a:xfrm>
          </p:grpSpPr>
          <p:sp>
            <p:nvSpPr>
              <p:cNvPr id="268" name=""/>
              <p:cNvSpPr/>
              <p:nvPr/>
            </p:nvSpPr>
            <p:spPr>
              <a:xfrm>
                <a:off x="4940280" y="61236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4957920" y="604188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6145200" y="6048000"/>
              <a:ext cx="117000" cy="133200"/>
              <a:chOff x="6145200" y="6048000"/>
              <a:chExt cx="117000" cy="133200"/>
            </a:xfrm>
          </p:grpSpPr>
          <p:sp>
            <p:nvSpPr>
              <p:cNvPr id="271" name=""/>
              <p:cNvSpPr/>
              <p:nvPr/>
            </p:nvSpPr>
            <p:spPr>
              <a:xfrm>
                <a:off x="6145200" y="613008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6162840" y="604800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4915080" y="5460840"/>
              <a:ext cx="117360" cy="126720"/>
              <a:chOff x="4915080" y="5460840"/>
              <a:chExt cx="117360" cy="126720"/>
            </a:xfrm>
          </p:grpSpPr>
          <p:sp>
            <p:nvSpPr>
              <p:cNvPr id="274" name=""/>
              <p:cNvSpPr/>
              <p:nvPr/>
            </p:nvSpPr>
            <p:spPr>
              <a:xfrm>
                <a:off x="4915080" y="546084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4915080" y="546084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044960" y="4647960"/>
              <a:ext cx="117360" cy="126720"/>
              <a:chOff x="4044960" y="4647960"/>
              <a:chExt cx="117360" cy="126720"/>
            </a:xfrm>
          </p:grpSpPr>
          <p:sp>
            <p:nvSpPr>
              <p:cNvPr id="277" name=""/>
              <p:cNvSpPr/>
              <p:nvPr/>
            </p:nvSpPr>
            <p:spPr>
              <a:xfrm>
                <a:off x="4044960" y="464796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4044960" y="464796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4051440" y="5047920"/>
              <a:ext cx="117360" cy="126720"/>
              <a:chOff x="4051440" y="5047920"/>
              <a:chExt cx="117360" cy="126720"/>
            </a:xfrm>
          </p:grpSpPr>
          <p:sp>
            <p:nvSpPr>
              <p:cNvPr id="280" name=""/>
              <p:cNvSpPr/>
              <p:nvPr/>
            </p:nvSpPr>
            <p:spPr>
              <a:xfrm>
                <a:off x="4051440" y="5047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4051440" y="5047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4915080" y="5060520"/>
              <a:ext cx="117360" cy="126720"/>
              <a:chOff x="4915080" y="5060520"/>
              <a:chExt cx="117360" cy="126720"/>
            </a:xfrm>
          </p:grpSpPr>
          <p:sp>
            <p:nvSpPr>
              <p:cNvPr id="283" name=""/>
              <p:cNvSpPr/>
              <p:nvPr/>
            </p:nvSpPr>
            <p:spPr>
              <a:xfrm>
                <a:off x="4915080" y="50605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4915080" y="50605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6145200" y="4248000"/>
              <a:ext cx="117360" cy="126360"/>
              <a:chOff x="6145200" y="4248000"/>
              <a:chExt cx="117360" cy="126360"/>
            </a:xfrm>
          </p:grpSpPr>
          <p:sp>
            <p:nvSpPr>
              <p:cNvPr id="286" name=""/>
              <p:cNvSpPr/>
              <p:nvPr/>
            </p:nvSpPr>
            <p:spPr>
              <a:xfrm>
                <a:off x="6145200" y="4248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6145200" y="4248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156000" y="5022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56000" y="3420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56000" y="3041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4040" y="630864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4040" y="223200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4040" y="286668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8E2E-69A8-4436-947F-9705138F86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ile Servic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860400" y="2279520"/>
            <a:ext cx="7432200" cy="3725640"/>
            <a:chOff x="860400" y="2279520"/>
            <a:chExt cx="7432200" cy="3725640"/>
          </a:xfrm>
        </p:grpSpPr>
        <p:sp>
          <p:nvSpPr>
            <p:cNvPr id="102" name=""/>
            <p:cNvSpPr/>
            <p:nvPr/>
          </p:nvSpPr>
          <p:spPr>
            <a:xfrm>
              <a:off x="5628600" y="2562120"/>
              <a:ext cx="264060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28600" y="2562120"/>
              <a:ext cx="266400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0400" y="2562120"/>
              <a:ext cx="264204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400" y="2562120"/>
              <a:ext cx="266400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5040" y="3749400"/>
              <a:ext cx="239400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10640" y="2279520"/>
              <a:ext cx="142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89560" y="2279520"/>
              <a:ext cx="1500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erver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19600" y="578772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19600" y="5738400"/>
              <a:ext cx="6037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19600" y="5689440"/>
              <a:ext cx="6037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19600" y="561780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6584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51520" y="2634840"/>
              <a:ext cx="849960" cy="3249720"/>
            </a:xfrm>
            <a:prstGeom prst="ellipse">
              <a:avLst/>
            </a:prstGeom>
            <a:solidFill>
              <a:srgbClr val="ffdc99"/>
            </a:solidFill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5040" y="2658960"/>
              <a:ext cx="98460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52640" y="298584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55600" y="320328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69280" y="2658960"/>
              <a:ext cx="100800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40200" y="298584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41720" y="320328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44920" y="4633560"/>
              <a:ext cx="124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 mo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600" y="3338280"/>
              <a:ext cx="239436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10960" y="4222440"/>
              <a:ext cx="1357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lat file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63600" y="2658960"/>
              <a:ext cx="2394360" cy="6062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99640" y="2912760"/>
              <a:ext cx="1514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irectory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35120" y="4138200"/>
              <a:ext cx="2282760" cy="2430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58920" y="578772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58920" y="5738400"/>
              <a:ext cx="6037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58920" y="5689440"/>
              <a:ext cx="6037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58920" y="561780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0516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96800" y="5787720"/>
              <a:ext cx="60516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96800" y="5738400"/>
              <a:ext cx="60516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96800" y="5689440"/>
              <a:ext cx="60516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96800" y="5617800"/>
              <a:ext cx="60516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6680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442880" y="5186520"/>
            <a:ext cx="14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File cach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69000" y="4869000"/>
            <a:ext cx="25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File caching/repl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30000" y="6049800"/>
            <a:ext cx="26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onsistency 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600880" y="5295600"/>
            <a:ext cx="304560" cy="85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238200" y="5346720"/>
            <a:ext cx="44460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53EA-06E4-4FFF-949F-1D445929B0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Serv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8760" y="2017800"/>
            <a:ext cx="870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Flat fil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accessing mechanis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iding a place to manage remote files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unit to transfer data (at server or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? file, block or byte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sharing semantics: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ing similar to Unix but weaker file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pdate seman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caching mechanism: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ing performance/scal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replication mechanis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ing performance/avail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Directory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ping between text file names and reference to files, (i.e. file I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3805-05C2-48DA-847C-E90CBA0C35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lat File Service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20640" y="2766960"/>
            <a:ext cx="8265960" cy="2910600"/>
            <a:chOff x="620640" y="2766960"/>
            <a:chExt cx="8265960" cy="2910600"/>
          </a:xfrm>
        </p:grpSpPr>
        <p:sp>
          <p:nvSpPr>
            <p:cNvPr id="298" name=""/>
            <p:cNvSpPr/>
            <p:nvPr/>
          </p:nvSpPr>
          <p:spPr>
            <a:xfrm>
              <a:off x="649080" y="2892240"/>
              <a:ext cx="2526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Read(FileId, i, n) -&gt; Dat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13240" y="28922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50520" y="314604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30240" y="314604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04080" y="314604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48000" y="2892240"/>
              <a:ext cx="5538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1 ≤ i ≤ Length(File)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: Reads a sequence of up to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item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56640" y="3146040"/>
              <a:ext cx="484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from a file starting at item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and returns it in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0640" y="2766960"/>
              <a:ext cx="26884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29640" y="2766960"/>
              <a:ext cx="1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51600" y="2766960"/>
              <a:ext cx="50763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29640" y="2788920"/>
              <a:ext cx="21600" cy="60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9440" y="3493800"/>
              <a:ext cx="2079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Write(FileId, i, Data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41880" y="349380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50520" y="374796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930240" y="374796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03720" y="374796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48000" y="3493800"/>
              <a:ext cx="552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1 ≤ i ≤ Length(File)+1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: Writes a sequence o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to 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55560" y="3747960"/>
              <a:ext cx="5092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file, starting at item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, extending the file if necessary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29640" y="3390840"/>
              <a:ext cx="21600" cy="59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0520" y="4093920"/>
              <a:ext cx="177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Create() -&gt; FileI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58800" y="4093920"/>
              <a:ext cx="5461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Creates a new file of length 0 and delivers a UFID for it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181720" y="409392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29640" y="3990600"/>
              <a:ext cx="2160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9800" y="4439880"/>
              <a:ext cx="1379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elete(FileId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03600" y="4439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65880" y="4439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58800" y="4439880"/>
              <a:ext cx="3490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Removes the file from the file stor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29640" y="4336920"/>
              <a:ext cx="21600" cy="34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9800" y="4787640"/>
              <a:ext cx="2789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GetAttributes(FileId) -&gt; Att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91520" y="47876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55240" y="47876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358440" y="4787640"/>
              <a:ext cx="358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Returns the file attributes for the fil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559200" y="47876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329640" y="4684320"/>
              <a:ext cx="2160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8720" y="5133600"/>
              <a:ext cx="249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SetAttributes(FileId, Attr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70280" y="5133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33280" y="5133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57720" y="5133600"/>
              <a:ext cx="5337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Sets the file attributes (only those attributes that are no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61320" y="5387760"/>
              <a:ext cx="1119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shaded in )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0640" y="5668920"/>
              <a:ext cx="26884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29640" y="5030640"/>
              <a:ext cx="2160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329640" y="5668920"/>
              <a:ext cx="1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51600" y="5668920"/>
              <a:ext cx="50763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728D-D0D2-4E6C-9495-09A20721ED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irectory Service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39640" y="2098800"/>
            <a:ext cx="8177040" cy="2995560"/>
            <a:chOff x="539640" y="2098800"/>
            <a:chExt cx="8177040" cy="2995560"/>
          </a:xfrm>
        </p:grpSpPr>
        <p:sp>
          <p:nvSpPr>
            <p:cNvPr id="343" name=""/>
            <p:cNvSpPr/>
            <p:nvPr/>
          </p:nvSpPr>
          <p:spPr>
            <a:xfrm>
              <a:off x="562680" y="2214720"/>
              <a:ext cx="2563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Lookup(Dir, Name) -&gt; FileI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7000" y="24498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—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4280" y="2449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3320" y="244980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352160" y="244980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00320" y="24498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788640" y="2214720"/>
              <a:ext cx="4606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Locates the text name in the directory and returns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86120" y="2449800"/>
              <a:ext cx="4930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levant UFID. 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, throws a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93680" y="2684520"/>
              <a:ext cx="895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602600" y="268452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9640" y="2098800"/>
              <a:ext cx="3207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66680" y="2121120"/>
              <a:ext cx="2052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66680" y="2098800"/>
              <a:ext cx="10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87200" y="2098800"/>
              <a:ext cx="46648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66680" y="2121120"/>
              <a:ext cx="20520" cy="78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1960" y="3003840"/>
              <a:ext cx="237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AddName(Dir, Name, Fil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92800" y="30038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6640" y="323856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3320" y="323856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51800" y="3238560"/>
              <a:ext cx="1413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Duplica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12880" y="32385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87200" y="3003840"/>
              <a:ext cx="4816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, adds (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) to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90800" y="3238560"/>
              <a:ext cx="411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directory and updates the file’s attribute record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87920" y="3473640"/>
              <a:ext cx="487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already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04760" y="34736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66680" y="2910240"/>
              <a:ext cx="20520" cy="78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62680" y="3792600"/>
              <a:ext cx="183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UnName(Dir, Nam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200320" y="37926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6640" y="40276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23320" y="402768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352160" y="402768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200320" y="402768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89360" y="3792600"/>
              <a:ext cx="4878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in the directory: the entry containing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91880" y="4027680"/>
              <a:ext cx="243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moved from the directory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61240" y="402768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89000" y="4262760"/>
              <a:ext cx="451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929360" y="42627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66680" y="3697560"/>
              <a:ext cx="20520" cy="78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1240" y="4581720"/>
              <a:ext cx="3249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GetNames(Dir, Pattern) -&gt; NameSeq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63400" y="4581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23160" y="4581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791160" y="4581720"/>
              <a:ext cx="489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turns all the text names in the directory that match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792960" y="4816800"/>
              <a:ext cx="234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gular expression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Pattern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39640" y="5092920"/>
              <a:ext cx="32079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66680" y="4486320"/>
              <a:ext cx="20520" cy="55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766680" y="5092920"/>
              <a:ext cx="10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87200" y="5092920"/>
              <a:ext cx="46648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1625760" y="5219640"/>
            <a:ext cx="583920" cy="355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33720" y="5994360"/>
            <a:ext cx="3073320" cy="520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92360" y="6058080"/>
            <a:ext cx="393840" cy="368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52480" y="612612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D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365640" y="5207040"/>
            <a:ext cx="583920" cy="355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63960" y="5194440"/>
            <a:ext cx="584280" cy="355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94040" y="5587920"/>
            <a:ext cx="14857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708360" y="556272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3822480" y="5549760"/>
            <a:ext cx="132084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50280" y="5719680"/>
            <a:ext cx="26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addName( Dir, Name, fi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84120" y="545472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33560" y="558180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2080" y="555624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16000" y="6087960"/>
            <a:ext cx="411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Ref count=3    if ref_count = 0, file 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3798-7D0F-4C99-B13B-81800789BF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Accessing Mod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76400" y="1875960"/>
            <a:ext cx="777240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essing Remote Fi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6750000" y="3119400"/>
            <a:ext cx="2017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che consistency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735440" y="3119400"/>
            <a:ext cx="20145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ducing network traf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17640" y="3119400"/>
            <a:ext cx="2017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 a client that cached a file 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0200" y="3119400"/>
            <a:ext cx="20174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caching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750000" y="2557440"/>
            <a:ext cx="2017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overh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35440" y="2557440"/>
            <a:ext cx="20145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imple 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17640" y="2557440"/>
            <a:ext cx="2017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 a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0200" y="2557440"/>
            <a:ext cx="2017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ote servic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50000" y="2259000"/>
            <a:ext cx="2017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er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35440" y="2259000"/>
            <a:ext cx="20145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r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717640" y="2259000"/>
            <a:ext cx="2017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0200" y="2259000"/>
            <a:ext cx="2017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00200" y="2557440"/>
            <a:ext cx="80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0200" y="3119400"/>
            <a:ext cx="80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0200" y="3625920"/>
            <a:ext cx="8067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0200" y="2259000"/>
            <a:ext cx="0" cy="1366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1764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3544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5000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767800" y="2259000"/>
            <a:ext cx="0" cy="29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50000" y="2259000"/>
            <a:ext cx="2017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0200" y="2259000"/>
            <a:ext cx="6049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767800" y="2557440"/>
            <a:ext cx="0" cy="1068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571680" y="3967200"/>
          <a:ext cx="8319960" cy="2556000"/>
        </p:xfrm>
        <a:graphic>
          <a:graphicData uri="http://schemas.openxmlformats.org/drawingml/2006/table">
            <a:tbl>
              <a:tblPr/>
              <a:tblGrid>
                <a:gridCol w="1542960"/>
                <a:gridCol w="3299040"/>
                <a:gridCol w="3477960"/>
              </a:tblGrid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fer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mple, less communication overhead, and immune to ser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client required to have large storage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lo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client not required to have large storage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network traffic/overhe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exibility maximiz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fficult cache management to handle the variable-length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ling structured and indexed fi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overhead to re-construct a fi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"/>
          <p:cNvSpPr/>
          <p:nvPr/>
        </p:nvSpPr>
        <p:spPr>
          <a:xfrm>
            <a:off x="1119240" y="3641760"/>
            <a:ext cx="777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it of Data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93680" y="3137040"/>
            <a:ext cx="2409840" cy="2260440"/>
            <a:chOff x="193680" y="3137040"/>
            <a:chExt cx="2409840" cy="2260440"/>
          </a:xfrm>
        </p:grpSpPr>
        <p:sp>
          <p:nvSpPr>
            <p:cNvPr id="432" name=""/>
            <p:cNvSpPr/>
            <p:nvPr/>
          </p:nvSpPr>
          <p:spPr>
            <a:xfrm>
              <a:off x="698400" y="3137040"/>
              <a:ext cx="1905120" cy="495000"/>
            </a:xfrm>
            <a:prstGeom prst="ellipse">
              <a:avLst/>
            </a:prstGeom>
            <a:solidFill>
              <a:srgbClr val="cccc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9480" y="4863960"/>
              <a:ext cx="1397160" cy="533520"/>
            </a:xfrm>
            <a:prstGeom prst="ellipse">
              <a:avLst/>
            </a:prstGeom>
            <a:solidFill>
              <a:srgbClr val="cccc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3680" y="3560760"/>
              <a:ext cx="55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N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419040" y="3505320"/>
              <a:ext cx="38124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95360" y="3822840"/>
              <a:ext cx="46980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E4E7-EDE3-464E-A01E-F9573491D8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44720" y="617040"/>
            <a:ext cx="78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"/>
          <p:cNvSpPr/>
          <p:nvPr/>
        </p:nvSpPr>
        <p:spPr>
          <a:xfrm>
            <a:off x="519120" y="2357280"/>
            <a:ext cx="828360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when modifications of the file data made by a user are observable by other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x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utable shared-files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-like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B0BD-7B08-4F84-BBB4-6AE67662096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Unix Semantics (One-copy Update Semantics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"/>
          <p:cNvSpPr/>
          <p:nvPr/>
        </p:nvSpPr>
        <p:spPr>
          <a:xfrm>
            <a:off x="684360" y="2025720"/>
            <a:ext cx="829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olute Ordering (seen to all clients as if only a single copy exis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is updated immediate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447120" y="3809880"/>
            <a:ext cx="8087040" cy="823320"/>
            <a:chOff x="447120" y="3809880"/>
            <a:chExt cx="8087040" cy="823320"/>
          </a:xfrm>
        </p:grpSpPr>
        <p:sp>
          <p:nvSpPr>
            <p:cNvPr id="442" name=""/>
            <p:cNvSpPr/>
            <p:nvPr/>
          </p:nvSpPr>
          <p:spPr>
            <a:xfrm flipV="1">
              <a:off x="682200" y="4071600"/>
              <a:ext cx="785196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447120" y="3836880"/>
              <a:ext cx="369720" cy="788040"/>
              <a:chOff x="447120" y="3836880"/>
              <a:chExt cx="369720" cy="788040"/>
            </a:xfrm>
          </p:grpSpPr>
          <p:sp>
            <p:nvSpPr>
              <p:cNvPr id="444" name=""/>
              <p:cNvSpPr/>
              <p:nvPr/>
            </p:nvSpPr>
            <p:spPr>
              <a:xfrm>
                <a:off x="684000" y="383688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47120" y="428760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1872720" y="3845160"/>
              <a:ext cx="369720" cy="788040"/>
              <a:chOff x="1872720" y="3845160"/>
              <a:chExt cx="369720" cy="788040"/>
            </a:xfrm>
          </p:grpSpPr>
          <p:sp>
            <p:nvSpPr>
              <p:cNvPr id="447" name=""/>
              <p:cNvSpPr/>
              <p:nvPr/>
            </p:nvSpPr>
            <p:spPr>
              <a:xfrm>
                <a:off x="2109600" y="384516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872720" y="429588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3413160" y="3835440"/>
              <a:ext cx="369720" cy="788040"/>
              <a:chOff x="3413160" y="3835440"/>
              <a:chExt cx="369720" cy="788040"/>
            </a:xfrm>
          </p:grpSpPr>
          <p:sp>
            <p:nvSpPr>
              <p:cNvPr id="450" name=""/>
              <p:cNvSpPr/>
              <p:nvPr/>
            </p:nvSpPr>
            <p:spPr>
              <a:xfrm>
                <a:off x="3650040" y="383544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413160" y="428616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4906080" y="3827520"/>
              <a:ext cx="369720" cy="788040"/>
              <a:chOff x="4906080" y="3827520"/>
              <a:chExt cx="369720" cy="788040"/>
            </a:xfrm>
          </p:grpSpPr>
          <p:sp>
            <p:nvSpPr>
              <p:cNvPr id="453" name=""/>
              <p:cNvSpPr/>
              <p:nvPr/>
            </p:nvSpPr>
            <p:spPr>
              <a:xfrm>
                <a:off x="5142960" y="382752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906080" y="427824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6377040" y="3818160"/>
              <a:ext cx="369720" cy="788040"/>
              <a:chOff x="6377040" y="3818160"/>
              <a:chExt cx="369720" cy="788040"/>
            </a:xfrm>
          </p:grpSpPr>
          <p:sp>
            <p:nvSpPr>
              <p:cNvPr id="456" name=""/>
              <p:cNvSpPr/>
              <p:nvPr/>
            </p:nvSpPr>
            <p:spPr>
              <a:xfrm>
                <a:off x="6613920" y="381816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377040" y="426888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823160" y="3809880"/>
              <a:ext cx="369720" cy="788040"/>
              <a:chOff x="7823160" y="3809880"/>
              <a:chExt cx="369720" cy="788040"/>
            </a:xfrm>
          </p:grpSpPr>
          <p:sp>
            <p:nvSpPr>
              <p:cNvPr id="459" name=""/>
              <p:cNvSpPr/>
              <p:nvPr/>
            </p:nvSpPr>
            <p:spPr>
              <a:xfrm>
                <a:off x="8060040" y="380988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823160" y="426060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1" name=""/>
          <p:cNvGrpSpPr/>
          <p:nvPr/>
        </p:nvGrpSpPr>
        <p:grpSpPr>
          <a:xfrm>
            <a:off x="412920" y="3549600"/>
            <a:ext cx="545400" cy="294840"/>
            <a:chOff x="412920" y="3549600"/>
            <a:chExt cx="545400" cy="294840"/>
          </a:xfrm>
        </p:grpSpPr>
        <p:sp>
          <p:nvSpPr>
            <p:cNvPr id="462" name=""/>
            <p:cNvSpPr/>
            <p:nvPr/>
          </p:nvSpPr>
          <p:spPr>
            <a:xfrm>
              <a:off x="412920" y="3549600"/>
              <a:ext cx="268200" cy="2869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0480" y="35571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1749600" y="357840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90800" y="3587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35240" y="35942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13000" y="360360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471840" y="361152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695760" y="3602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56080" y="361332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6732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826160" y="36212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87880" y="361332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900760" y="362268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178680" y="3614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38960" y="362268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699240" y="3614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940440" y="362268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57548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835760" y="362124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09640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356680" y="36194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59788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19600" y="278136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49120" y="503244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489320" y="4517640"/>
            <a:ext cx="1143720" cy="626760"/>
            <a:chOff x="1489320" y="4517640"/>
            <a:chExt cx="1143720" cy="626760"/>
          </a:xfrm>
        </p:grpSpPr>
        <p:sp>
          <p:nvSpPr>
            <p:cNvPr id="487" name=""/>
            <p:cNvSpPr/>
            <p:nvPr/>
          </p:nvSpPr>
          <p:spPr>
            <a:xfrm flipV="1">
              <a:off x="2027160" y="4517640"/>
              <a:ext cx="1440" cy="41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89320" y="4807080"/>
              <a:ext cx="114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ppend(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615920" y="481644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end(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5184720" y="4572000"/>
            <a:ext cx="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638760" y="319104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317760" y="292428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737120" y="485316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14960" y="287028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Append(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053560" y="457200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660840" y="315576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60720" y="5765760"/>
            <a:ext cx="68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ays (Inevitable to have a weaker semant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60880" y="3943440"/>
            <a:ext cx="2682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384800" y="3933720"/>
            <a:ext cx="2682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1014480" y="3332160"/>
            <a:ext cx="3200400" cy="1563480"/>
            <a:chOff x="1014480" y="3332160"/>
            <a:chExt cx="3200400" cy="1563480"/>
          </a:xfrm>
        </p:grpSpPr>
        <p:sp>
          <p:nvSpPr>
            <p:cNvPr id="501" name=""/>
            <p:cNvSpPr/>
            <p:nvPr/>
          </p:nvSpPr>
          <p:spPr>
            <a:xfrm flipV="1">
              <a:off x="2170080" y="4212720"/>
              <a:ext cx="2044800" cy="68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78760" y="453852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dela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902040" y="3935520"/>
              <a:ext cx="26820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193920" y="3443400"/>
              <a:ext cx="26856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52760" y="3451320"/>
              <a:ext cx="26820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1014480" y="3501720"/>
              <a:ext cx="2235240" cy="237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992960" y="333216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dela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7CFF-DE20-4634-9F92-0B8A92D16D6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 flipH="1">
            <a:off x="2107800" y="2374920"/>
            <a:ext cx="5575320" cy="203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03240" y="4508640"/>
            <a:ext cx="5600880" cy="1396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828800" y="2590920"/>
            <a:ext cx="0" cy="18795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ssion Semantic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>
            <a:off x="1310400" y="186048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55840" y="187308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52120" y="183528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568520" y="2457360"/>
            <a:ext cx="546120" cy="287280"/>
            <a:chOff x="1568520" y="2457360"/>
            <a:chExt cx="546120" cy="287280"/>
          </a:xfrm>
        </p:grpSpPr>
        <p:sp>
          <p:nvSpPr>
            <p:cNvPr id="516" name=""/>
            <p:cNvSpPr/>
            <p:nvPr/>
          </p:nvSpPr>
          <p:spPr>
            <a:xfrm>
              <a:off x="1568520" y="24573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846080" y="24652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1542960" y="2914560"/>
            <a:ext cx="812880" cy="287280"/>
            <a:chOff x="1542960" y="2914560"/>
            <a:chExt cx="812880" cy="287280"/>
          </a:xfrm>
        </p:grpSpPr>
        <p:sp>
          <p:nvSpPr>
            <p:cNvPr id="519" name=""/>
            <p:cNvSpPr/>
            <p:nvPr/>
          </p:nvSpPr>
          <p:spPr>
            <a:xfrm>
              <a:off x="1542960" y="29145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20880" y="29224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87280" y="29224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542960" y="3397320"/>
            <a:ext cx="1079280" cy="287280"/>
            <a:chOff x="1542960" y="3397320"/>
            <a:chExt cx="1079280" cy="287280"/>
          </a:xfrm>
        </p:grpSpPr>
        <p:sp>
          <p:nvSpPr>
            <p:cNvPr id="523" name=""/>
            <p:cNvSpPr/>
            <p:nvPr/>
          </p:nvSpPr>
          <p:spPr>
            <a:xfrm>
              <a:off x="1542960" y="3397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820520" y="3405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087280" y="34052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354040" y="34052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1542960" y="3905280"/>
            <a:ext cx="1346400" cy="287280"/>
            <a:chOff x="1542960" y="3905280"/>
            <a:chExt cx="1346400" cy="287280"/>
          </a:xfrm>
        </p:grpSpPr>
        <p:sp>
          <p:nvSpPr>
            <p:cNvPr id="528" name=""/>
            <p:cNvSpPr/>
            <p:nvPr/>
          </p:nvSpPr>
          <p:spPr>
            <a:xfrm>
              <a:off x="1542960" y="39052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82088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08764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35440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620800" y="39132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1295280" y="25653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334120" y="39117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334120" y="444492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346720" y="49402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9840" y="244476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43920" y="37782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519800" y="428616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544280" y="478152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53974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61200" y="52768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827360" y="2236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770280" y="22510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6584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96140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551000" y="18352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7689960" y="2254320"/>
            <a:ext cx="546120" cy="287280"/>
            <a:chOff x="7689960" y="2254320"/>
            <a:chExt cx="546120" cy="287280"/>
          </a:xfrm>
        </p:grpSpPr>
        <p:sp>
          <p:nvSpPr>
            <p:cNvPr id="549" name=""/>
            <p:cNvSpPr/>
            <p:nvPr/>
          </p:nvSpPr>
          <p:spPr>
            <a:xfrm>
              <a:off x="7689960" y="2254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967520" y="2262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7410600" y="4489560"/>
            <a:ext cx="1345680" cy="287280"/>
            <a:chOff x="7410600" y="4489560"/>
            <a:chExt cx="1345680" cy="287280"/>
          </a:xfrm>
        </p:grpSpPr>
        <p:sp>
          <p:nvSpPr>
            <p:cNvPr id="552" name=""/>
            <p:cNvSpPr/>
            <p:nvPr/>
          </p:nvSpPr>
          <p:spPr>
            <a:xfrm>
              <a:off x="7410600" y="44895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8816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95492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22168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488080" y="44974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3251160" y="515772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24960" y="501012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5607000" y="3259080"/>
            <a:ext cx="546120" cy="287280"/>
            <a:chOff x="5607000" y="3259080"/>
            <a:chExt cx="546120" cy="287280"/>
          </a:xfrm>
        </p:grpSpPr>
        <p:sp>
          <p:nvSpPr>
            <p:cNvPr id="560" name=""/>
            <p:cNvSpPr/>
            <p:nvPr/>
          </p:nvSpPr>
          <p:spPr>
            <a:xfrm>
              <a:off x="5607000" y="32590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84560" y="32670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5334120" y="33670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507560" y="321948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3498840" y="5035680"/>
            <a:ext cx="1345680" cy="287280"/>
            <a:chOff x="3498840" y="5035680"/>
            <a:chExt cx="1345680" cy="287280"/>
          </a:xfrm>
        </p:grpSpPr>
        <p:sp>
          <p:nvSpPr>
            <p:cNvPr id="565" name=""/>
            <p:cNvSpPr/>
            <p:nvPr/>
          </p:nvSpPr>
          <p:spPr>
            <a:xfrm>
              <a:off x="3498840" y="503568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77640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4316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30992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76320" y="5043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5594400" y="3790800"/>
            <a:ext cx="812880" cy="287640"/>
            <a:chOff x="5594400" y="3790800"/>
            <a:chExt cx="812880" cy="287640"/>
          </a:xfrm>
        </p:grpSpPr>
        <p:sp>
          <p:nvSpPr>
            <p:cNvPr id="571" name=""/>
            <p:cNvSpPr/>
            <p:nvPr/>
          </p:nvSpPr>
          <p:spPr>
            <a:xfrm>
              <a:off x="5594400" y="37908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872320" y="37990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138720" y="37990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594400" y="4260960"/>
            <a:ext cx="1079280" cy="287280"/>
            <a:chOff x="5594400" y="4260960"/>
            <a:chExt cx="1079280" cy="287280"/>
          </a:xfrm>
        </p:grpSpPr>
        <p:sp>
          <p:nvSpPr>
            <p:cNvPr id="575" name=""/>
            <p:cNvSpPr/>
            <p:nvPr/>
          </p:nvSpPr>
          <p:spPr>
            <a:xfrm>
              <a:off x="5594400" y="42609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71960" y="42688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138720" y="4268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405480" y="4268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5594400" y="4768920"/>
            <a:ext cx="1345680" cy="287280"/>
            <a:chOff x="5594400" y="4768920"/>
            <a:chExt cx="1345680" cy="287280"/>
          </a:xfrm>
        </p:grpSpPr>
        <p:sp>
          <p:nvSpPr>
            <p:cNvPr id="580" name=""/>
            <p:cNvSpPr/>
            <p:nvPr/>
          </p:nvSpPr>
          <p:spPr>
            <a:xfrm>
              <a:off x="5594400" y="476892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7196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13872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40548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671880" y="47768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7423200" y="5403960"/>
            <a:ext cx="1345680" cy="287280"/>
            <a:chOff x="7423200" y="5403960"/>
            <a:chExt cx="1345680" cy="287280"/>
          </a:xfrm>
        </p:grpSpPr>
        <p:sp>
          <p:nvSpPr>
            <p:cNvPr id="586" name=""/>
            <p:cNvSpPr/>
            <p:nvPr/>
          </p:nvSpPr>
          <p:spPr>
            <a:xfrm>
              <a:off x="7423200" y="54039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70076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96752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23428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500680" y="5411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238560" y="591804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65640" y="5797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63760" y="56530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329200" y="553068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3511440" y="5530680"/>
            <a:ext cx="1346400" cy="287280"/>
            <a:chOff x="3511440" y="5530680"/>
            <a:chExt cx="1346400" cy="287280"/>
          </a:xfrm>
        </p:grpSpPr>
        <p:sp>
          <p:nvSpPr>
            <p:cNvPr id="596" name=""/>
            <p:cNvSpPr/>
            <p:nvPr/>
          </p:nvSpPr>
          <p:spPr>
            <a:xfrm>
              <a:off x="3511440" y="55306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78936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05612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32288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589280" y="55386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4843440" y="5540400"/>
            <a:ext cx="268200" cy="274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7391520" y="5924520"/>
            <a:ext cx="1345680" cy="287280"/>
            <a:chOff x="7391520" y="5924520"/>
            <a:chExt cx="1345680" cy="287280"/>
          </a:xfrm>
        </p:grpSpPr>
        <p:sp>
          <p:nvSpPr>
            <p:cNvPr id="603" name=""/>
            <p:cNvSpPr/>
            <p:nvPr/>
          </p:nvSpPr>
          <p:spPr>
            <a:xfrm>
              <a:off x="7391520" y="592452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66908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93584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20260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469000" y="59324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8723160" y="5934240"/>
            <a:ext cx="268560" cy="274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6159600" y="2451240"/>
            <a:ext cx="1549440" cy="8888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82680" y="30351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282680" y="35686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295280" y="40640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3200" y="290196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4400" y="340992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92480" y="39052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282680" y="45212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0120" y="4400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867280" y="5397480"/>
            <a:ext cx="1549440" cy="1652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838760" y="4699080"/>
            <a:ext cx="2565360" cy="46980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784680" y="5931000"/>
            <a:ext cx="3619440" cy="12708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5854320" y="3390840"/>
            <a:ext cx="25560" cy="19814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772080" y="5194440"/>
            <a:ext cx="0" cy="73656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05200" y="6012000"/>
            <a:ext cx="4464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 writes may overwrite previous upda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 lock is needed to prevent this overwri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0ADB-0BF5-495A-982A-576E3958775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 flipH="1">
            <a:off x="2107800" y="2374920"/>
            <a:ext cx="5575320" cy="203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943280" y="5105520"/>
            <a:ext cx="5435280" cy="419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28800" y="2590920"/>
            <a:ext cx="12600" cy="2133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ssion Semantics with File Lock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1310400" y="186048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385880" y="18097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568520" y="2457360"/>
            <a:ext cx="546120" cy="287280"/>
            <a:chOff x="1568520" y="2457360"/>
            <a:chExt cx="546120" cy="287280"/>
          </a:xfrm>
        </p:grpSpPr>
        <p:sp>
          <p:nvSpPr>
            <p:cNvPr id="631" name=""/>
            <p:cNvSpPr/>
            <p:nvPr/>
          </p:nvSpPr>
          <p:spPr>
            <a:xfrm>
              <a:off x="1568520" y="24573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46080" y="24652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1542960" y="2914560"/>
            <a:ext cx="812880" cy="287280"/>
            <a:chOff x="1542960" y="2914560"/>
            <a:chExt cx="812880" cy="287280"/>
          </a:xfrm>
        </p:grpSpPr>
        <p:sp>
          <p:nvSpPr>
            <p:cNvPr id="634" name=""/>
            <p:cNvSpPr/>
            <p:nvPr/>
          </p:nvSpPr>
          <p:spPr>
            <a:xfrm>
              <a:off x="1542960" y="29145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0880" y="29224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087280" y="29224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1295280" y="25653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19840" y="244476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502440" y="35622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745360" y="44258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839960" y="22114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811760" y="21621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96140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551000" y="18352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7689960" y="2254320"/>
            <a:ext cx="546120" cy="287280"/>
            <a:chOff x="7689960" y="2254320"/>
            <a:chExt cx="546120" cy="287280"/>
          </a:xfrm>
        </p:grpSpPr>
        <p:sp>
          <p:nvSpPr>
            <p:cNvPr id="646" name=""/>
            <p:cNvSpPr/>
            <p:nvPr/>
          </p:nvSpPr>
          <p:spPr>
            <a:xfrm>
              <a:off x="7689960" y="2254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67520" y="2262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4280040" y="32907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479040" y="315612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517920" y="455940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292640" y="369720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117760" y="2451240"/>
            <a:ext cx="2590920" cy="72360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2680" y="30351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93200" y="290196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2336760" y="2413080"/>
            <a:ext cx="5321520" cy="596880"/>
          </a:xfrm>
          <a:prstGeom prst="line">
            <a:avLst/>
          </a:prstGeom>
          <a:ln w="28440">
            <a:solidFill>
              <a:srgbClr val="00e4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24320" y="258300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lo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552920" y="3156120"/>
            <a:ext cx="546120" cy="287280"/>
            <a:chOff x="4552920" y="3156120"/>
            <a:chExt cx="546120" cy="287280"/>
          </a:xfrm>
        </p:grpSpPr>
        <p:sp>
          <p:nvSpPr>
            <p:cNvPr id="658" name=""/>
            <p:cNvSpPr/>
            <p:nvPr/>
          </p:nvSpPr>
          <p:spPr>
            <a:xfrm>
              <a:off x="4552920" y="31561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830480" y="31640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4438800" y="4362480"/>
            <a:ext cx="812160" cy="287280"/>
            <a:chOff x="4438800" y="4362480"/>
            <a:chExt cx="812160" cy="287280"/>
          </a:xfrm>
        </p:grpSpPr>
        <p:sp>
          <p:nvSpPr>
            <p:cNvPr id="661" name=""/>
            <p:cNvSpPr/>
            <p:nvPr/>
          </p:nvSpPr>
          <p:spPr>
            <a:xfrm>
              <a:off x="4438800" y="436248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716360" y="4370400"/>
              <a:ext cx="26784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982760" y="437040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4451400" y="3498840"/>
            <a:ext cx="175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ser need to cho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it, 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teal, or 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roc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3848040" y="3987720"/>
            <a:ext cx="990720" cy="3938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813200" y="3987720"/>
            <a:ext cx="978120" cy="35568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362320" y="3162240"/>
            <a:ext cx="2387520" cy="1193760"/>
          </a:xfrm>
          <a:prstGeom prst="line">
            <a:avLst/>
          </a:prstGeom>
          <a:ln w="28440">
            <a:solidFill>
              <a:srgbClr val="00e4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5416560" y="4362480"/>
            <a:ext cx="812880" cy="287280"/>
            <a:chOff x="5416560" y="4362480"/>
            <a:chExt cx="812880" cy="287280"/>
          </a:xfrm>
        </p:grpSpPr>
        <p:sp>
          <p:nvSpPr>
            <p:cNvPr id="669" name=""/>
            <p:cNvSpPr/>
            <p:nvPr/>
          </p:nvSpPr>
          <p:spPr>
            <a:xfrm>
              <a:off x="5416560" y="43624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694480" y="437040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60880" y="437040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4902120" y="4660920"/>
            <a:ext cx="2514600" cy="33012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7435800" y="4705200"/>
            <a:ext cx="812880" cy="287640"/>
            <a:chOff x="7435800" y="4705200"/>
            <a:chExt cx="812880" cy="287640"/>
          </a:xfrm>
        </p:grpSpPr>
        <p:sp>
          <p:nvSpPr>
            <p:cNvPr id="674" name=""/>
            <p:cNvSpPr/>
            <p:nvPr/>
          </p:nvSpPr>
          <p:spPr>
            <a:xfrm>
              <a:off x="7435800" y="47052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713720" y="47134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80120" y="47134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4696920" y="4576680"/>
            <a:ext cx="61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^x^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235560" y="4368960"/>
            <a:ext cx="2514600" cy="3045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245280" y="4208400"/>
            <a:ext cx="6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^x^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8331120" y="4705200"/>
            <a:ext cx="812880" cy="287640"/>
            <a:chOff x="8331120" y="4705200"/>
            <a:chExt cx="812880" cy="287640"/>
          </a:xfrm>
        </p:grpSpPr>
        <p:sp>
          <p:nvSpPr>
            <p:cNvPr id="681" name=""/>
            <p:cNvSpPr/>
            <p:nvPr/>
          </p:nvSpPr>
          <p:spPr>
            <a:xfrm>
              <a:off x="8331120" y="47052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609040" y="47134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875440" y="47134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8279640" y="22017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593840" y="49449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327880" y="4932360"/>
            <a:ext cx="5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-7560" y="45910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65000" y="47242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7385040" y="5403960"/>
            <a:ext cx="812880" cy="287280"/>
            <a:chOff x="7385040" y="5403960"/>
            <a:chExt cx="812880" cy="287280"/>
          </a:xfrm>
        </p:grpSpPr>
        <p:sp>
          <p:nvSpPr>
            <p:cNvPr id="690" name=""/>
            <p:cNvSpPr/>
            <p:nvPr/>
          </p:nvSpPr>
          <p:spPr>
            <a:xfrm>
              <a:off x="7385040" y="54039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662960" y="54118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29360" y="54118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8331120" y="5365800"/>
            <a:ext cx="812880" cy="287280"/>
            <a:chOff x="8331120" y="5365800"/>
            <a:chExt cx="812880" cy="287280"/>
          </a:xfrm>
        </p:grpSpPr>
        <p:sp>
          <p:nvSpPr>
            <p:cNvPr id="694" name=""/>
            <p:cNvSpPr/>
            <p:nvPr/>
          </p:nvSpPr>
          <p:spPr>
            <a:xfrm>
              <a:off x="8331120" y="536580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609040" y="537372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875440" y="537372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797400" y="4692600"/>
            <a:ext cx="247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ser need to cho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Quit, save anyway, or type ^x^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813200" y="3149640"/>
            <a:ext cx="12960" cy="11811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844720" y="5067360"/>
            <a:ext cx="6083280" cy="279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8416800" y="5668920"/>
            <a:ext cx="5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711000" y="5092560"/>
            <a:ext cx="253800" cy="2160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21680" y="4322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33cc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83120" y="5249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02240" y="349740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lo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D70B-C567-4639-9846-156D9A28256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"/>
          <p:cNvGrpSpPr/>
          <p:nvPr/>
        </p:nvGrpSpPr>
        <p:grpSpPr>
          <a:xfrm>
            <a:off x="7404120" y="5435640"/>
            <a:ext cx="368280" cy="520560"/>
            <a:chOff x="7404120" y="5435640"/>
            <a:chExt cx="368280" cy="520560"/>
          </a:xfrm>
        </p:grpSpPr>
        <p:sp>
          <p:nvSpPr>
            <p:cNvPr id="706" name=""/>
            <p:cNvSpPr/>
            <p:nvPr/>
          </p:nvSpPr>
          <p:spPr>
            <a:xfrm>
              <a:off x="7404120" y="5435640"/>
              <a:ext cx="368280" cy="266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404120" y="5689440"/>
              <a:ext cx="368280" cy="2667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ransaction-Like Semantics (Concurrency Control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4432320" y="2057400"/>
            <a:ext cx="0" cy="410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048320" y="1859040"/>
            <a:ext cx="21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ward 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815800" y="180828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ward 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609480" y="2629080"/>
            <a:ext cx="368280" cy="1663560"/>
            <a:chOff x="609480" y="2629080"/>
            <a:chExt cx="368280" cy="1663560"/>
          </a:xfrm>
        </p:grpSpPr>
        <p:sp>
          <p:nvSpPr>
            <p:cNvPr id="713" name=""/>
            <p:cNvSpPr/>
            <p:nvPr/>
          </p:nvSpPr>
          <p:spPr>
            <a:xfrm>
              <a:off x="609480" y="262908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609480" y="3772080"/>
              <a:ext cx="368280" cy="520560"/>
              <a:chOff x="609480" y="3772080"/>
              <a:chExt cx="368280" cy="520560"/>
            </a:xfrm>
          </p:grpSpPr>
          <p:sp>
            <p:nvSpPr>
              <p:cNvPr id="715" name=""/>
              <p:cNvSpPr/>
              <p:nvPr/>
            </p:nvSpPr>
            <p:spPr>
              <a:xfrm>
                <a:off x="609480" y="377208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09480" y="402588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7" name=""/>
          <p:cNvGrpSpPr/>
          <p:nvPr/>
        </p:nvGrpSpPr>
        <p:grpSpPr>
          <a:xfrm>
            <a:off x="1333440" y="3213000"/>
            <a:ext cx="368280" cy="1650600"/>
            <a:chOff x="1333440" y="3213000"/>
            <a:chExt cx="368280" cy="1650600"/>
          </a:xfrm>
        </p:grpSpPr>
        <p:sp>
          <p:nvSpPr>
            <p:cNvPr id="718" name=""/>
            <p:cNvSpPr/>
            <p:nvPr/>
          </p:nvSpPr>
          <p:spPr>
            <a:xfrm>
              <a:off x="1333440" y="321300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1333440" y="4343040"/>
              <a:ext cx="368280" cy="520560"/>
              <a:chOff x="1333440" y="4343040"/>
              <a:chExt cx="368280" cy="520560"/>
            </a:xfrm>
          </p:grpSpPr>
          <p:sp>
            <p:nvSpPr>
              <p:cNvPr id="720" name=""/>
              <p:cNvSpPr/>
              <p:nvPr/>
            </p:nvSpPr>
            <p:spPr>
              <a:xfrm>
                <a:off x="1333440" y="434304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333440" y="459684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2" name=""/>
          <p:cNvGrpSpPr/>
          <p:nvPr/>
        </p:nvGrpSpPr>
        <p:grpSpPr>
          <a:xfrm>
            <a:off x="2044800" y="3759120"/>
            <a:ext cx="368280" cy="1663560"/>
            <a:chOff x="2044800" y="3759120"/>
            <a:chExt cx="368280" cy="1663560"/>
          </a:xfrm>
        </p:grpSpPr>
        <p:sp>
          <p:nvSpPr>
            <p:cNvPr id="723" name=""/>
            <p:cNvSpPr/>
            <p:nvPr/>
          </p:nvSpPr>
          <p:spPr>
            <a:xfrm>
              <a:off x="2044800" y="375912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2044800" y="4902120"/>
              <a:ext cx="368280" cy="520560"/>
              <a:chOff x="2044800" y="4902120"/>
              <a:chExt cx="368280" cy="520560"/>
            </a:xfrm>
          </p:grpSpPr>
          <p:sp>
            <p:nvSpPr>
              <p:cNvPr id="725" name=""/>
              <p:cNvSpPr/>
              <p:nvPr/>
            </p:nvSpPr>
            <p:spPr>
              <a:xfrm>
                <a:off x="2044800" y="490212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044800" y="515592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7" name=""/>
          <p:cNvSpPr/>
          <p:nvPr/>
        </p:nvSpPr>
        <p:spPr>
          <a:xfrm>
            <a:off x="2755800" y="430524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755800" y="5448240"/>
            <a:ext cx="368280" cy="266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977760" y="3505320"/>
            <a:ext cx="35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977760" y="3048120"/>
            <a:ext cx="35568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977760" y="2844720"/>
            <a:ext cx="35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 flipV="1">
            <a:off x="1689120" y="4051440"/>
            <a:ext cx="35568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1689120" y="3632040"/>
            <a:ext cx="3556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1689120" y="3416400"/>
            <a:ext cx="34272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 flipV="1">
            <a:off x="2400480" y="3974760"/>
            <a:ext cx="3427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 flipV="1">
            <a:off x="2413080" y="4203360"/>
            <a:ext cx="3556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 flipV="1">
            <a:off x="1688760" y="3835080"/>
            <a:ext cx="1066680" cy="1041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 flipV="1">
            <a:off x="2413080" y="4775040"/>
            <a:ext cx="35568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755800" y="5994360"/>
            <a:ext cx="3556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5080" y="24321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049040" y="297828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772640" y="349884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509200" y="40831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75400" y="42354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037160" y="476892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735920" y="534024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516040" y="561960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ab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503440" y="578484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re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3640" y="379080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48760" y="401940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7960" y="224172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194120" y="2241720"/>
            <a:ext cx="77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969560" y="225432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718360" y="225432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257800" y="2629080"/>
            <a:ext cx="368280" cy="1663560"/>
            <a:chOff x="5257800" y="2629080"/>
            <a:chExt cx="368280" cy="1663560"/>
          </a:xfrm>
        </p:grpSpPr>
        <p:sp>
          <p:nvSpPr>
            <p:cNvPr id="756" name=""/>
            <p:cNvSpPr/>
            <p:nvPr/>
          </p:nvSpPr>
          <p:spPr>
            <a:xfrm>
              <a:off x="5257800" y="262908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5257800" y="3772080"/>
              <a:ext cx="368280" cy="520560"/>
              <a:chOff x="5257800" y="3772080"/>
              <a:chExt cx="368280" cy="520560"/>
            </a:xfrm>
          </p:grpSpPr>
          <p:sp>
            <p:nvSpPr>
              <p:cNvPr id="758" name=""/>
              <p:cNvSpPr/>
              <p:nvPr/>
            </p:nvSpPr>
            <p:spPr>
              <a:xfrm>
                <a:off x="5257800" y="377208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257800" y="402588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0" name=""/>
          <p:cNvSpPr/>
          <p:nvPr/>
        </p:nvSpPr>
        <p:spPr>
          <a:xfrm>
            <a:off x="5981760" y="321300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692760" y="375912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404120" y="430524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981760" y="4356000"/>
            <a:ext cx="368280" cy="266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56200" y="4952880"/>
            <a:ext cx="355680" cy="10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973040" y="24321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697000" y="297828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420960" y="349884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157520" y="40831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923360" y="42354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082280" y="588636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627520" y="456552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ab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615280" y="473076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re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971960" y="379080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896720" y="401940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066280" y="224172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842440" y="2241720"/>
            <a:ext cx="77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7880" y="225432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366680" y="225432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26080" y="3213000"/>
            <a:ext cx="19044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638680" y="3619440"/>
            <a:ext cx="1652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337440" y="3797280"/>
            <a:ext cx="1066680" cy="1054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061040" y="4788000"/>
            <a:ext cx="355680" cy="291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62640" y="4229280"/>
            <a:ext cx="13968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061040" y="4317840"/>
            <a:ext cx="165240" cy="1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772400" y="5334120"/>
            <a:ext cx="1778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210040" y="2584440"/>
            <a:ext cx="163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are read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mer w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076520" y="2546280"/>
            <a:ext cx="159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are write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ter 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6692760" y="4902120"/>
            <a:ext cx="368280" cy="520560"/>
            <a:chOff x="6692760" y="4902120"/>
            <a:chExt cx="368280" cy="520560"/>
          </a:xfrm>
        </p:grpSpPr>
        <p:sp>
          <p:nvSpPr>
            <p:cNvPr id="789" name=""/>
            <p:cNvSpPr/>
            <p:nvPr/>
          </p:nvSpPr>
          <p:spPr>
            <a:xfrm>
              <a:off x="6692760" y="4902120"/>
              <a:ext cx="368280" cy="266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692760" y="5155920"/>
              <a:ext cx="368280" cy="2667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6396480" y="53532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7314840" y="5168880"/>
            <a:ext cx="609480" cy="1015920"/>
            <a:chOff x="7314840" y="5168880"/>
            <a:chExt cx="609480" cy="1015920"/>
          </a:xfrm>
        </p:grpSpPr>
        <p:sp>
          <p:nvSpPr>
            <p:cNvPr id="793" name=""/>
            <p:cNvSpPr/>
            <p:nvPr/>
          </p:nvSpPr>
          <p:spPr>
            <a:xfrm>
              <a:off x="7365960" y="5168880"/>
              <a:ext cx="520920" cy="101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314840" y="5181480"/>
              <a:ext cx="60948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922280" y="5505480"/>
            <a:ext cx="385056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ort itself or conflicting active trans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219480" y="6176880"/>
            <a:ext cx="28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ich validation is bett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8045-9515-4A3B-9509-AEF749F5DB2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mmutable Shared-Files Semantic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8" name=""/>
          <p:cNvSpPr/>
          <p:nvPr/>
        </p:nvSpPr>
        <p:spPr>
          <a:xfrm>
            <a:off x="6350040" y="2565360"/>
            <a:ext cx="558720" cy="584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048120" y="3263760"/>
            <a:ext cx="558720" cy="584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ent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22440" y="3225960"/>
            <a:ext cx="558720" cy="5839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ent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362640" y="3784680"/>
            <a:ext cx="558720" cy="584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3594240" y="3137040"/>
            <a:ext cx="2768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1218960" y="2717640"/>
            <a:ext cx="5143320" cy="52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352680" y="3860640"/>
            <a:ext cx="3009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667560" y="3137040"/>
            <a:ext cx="0" cy="67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939960" y="3822840"/>
            <a:ext cx="5054400" cy="15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910480" y="4627440"/>
            <a:ext cx="175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ersion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969160" y="5359320"/>
            <a:ext cx="558720" cy="5842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581960" y="5346720"/>
            <a:ext cx="558720" cy="584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466240" y="5897520"/>
            <a:ext cx="15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gnore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496640" y="588492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990720" y="3809880"/>
            <a:ext cx="66038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654960" y="4356000"/>
            <a:ext cx="914400" cy="96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423440" y="490680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76240" y="3809880"/>
            <a:ext cx="80028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317280" y="217656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051000" y="22147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95720" y="223992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79960" y="5237280"/>
            <a:ext cx="419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end on each file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ortion is simple (later, the client A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ide to overwrite it with its tentative 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y changing the corresponding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DBAF-79A8-4200-B4D4-9FD5489729F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75040" indent="-275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 use of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5040" indent="-275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7600" indent="-230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set of disks attached to different nod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 as if all were attached 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7600" indent="-230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lab: one server, workstations on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eShare: nodes are servers with disk &amp;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EA20-0E78-498F-A06C-C708B595203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Loc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376200" y="4086360"/>
            <a:ext cx="879480" cy="95076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58920" y="2762280"/>
            <a:ext cx="914400" cy="771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2957400" y="2081160"/>
          <a:ext cx="5970600" cy="4381560"/>
        </p:xfrm>
        <a:graphic>
          <a:graphicData uri="http://schemas.openxmlformats.org/drawingml/2006/table">
            <a:tbl>
              <a:tblPr/>
              <a:tblGrid>
                <a:gridCol w="1560600"/>
                <a:gridCol w="2170080"/>
                <a:gridCol w="2239920"/>
              </a:tblGrid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cach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mod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requent dis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usy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server’s main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ne-time disk acces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asy implementa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x-like file-sharing seman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usy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client’s di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ne-time networ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size restri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ache consistency problem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ile access semantics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requent dis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No Diskless work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client’s main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aximum performance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Diskless worksta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al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ze restric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Cache consistency problem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ile access seman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4" name=""/>
          <p:cNvSpPr/>
          <p:nvPr/>
        </p:nvSpPr>
        <p:spPr>
          <a:xfrm>
            <a:off x="1909800" y="4094280"/>
            <a:ext cx="879480" cy="95076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892160" y="2770200"/>
            <a:ext cx="914400" cy="771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631880" y="2421000"/>
            <a:ext cx="0" cy="261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71920" y="1920960"/>
            <a:ext cx="16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de bou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61520" y="2205000"/>
            <a:ext cx="7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06640" y="22604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098800" y="4822920"/>
            <a:ext cx="412560" cy="3776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2455920" y="3763440"/>
            <a:ext cx="17928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1130400" y="2492280"/>
            <a:ext cx="1272960" cy="102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1037880" y="2563560"/>
            <a:ext cx="1058760" cy="2276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039680" y="3406680"/>
            <a:ext cx="1198800" cy="1165320"/>
          </a:xfrm>
          <a:custGeom>
            <a:avLst/>
            <a:gdLst/>
            <a:ahLst/>
            <a:rect l="l" t="t" r="r" b="b"/>
            <a:pathLst>
              <a:path w="698" h="734">
                <a:moveTo>
                  <a:pt x="598" y="734"/>
                </a:moveTo>
                <a:cubicBezTo>
                  <a:pt x="648" y="401"/>
                  <a:pt x="698" y="68"/>
                  <a:pt x="598" y="34"/>
                </a:cubicBezTo>
                <a:cubicBezTo>
                  <a:pt x="498" y="0"/>
                  <a:pt x="249" y="265"/>
                  <a:pt x="0" y="531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465280" y="3451320"/>
            <a:ext cx="41292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38200" y="421308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16120" y="339552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883800" y="2538000"/>
            <a:ext cx="179640" cy="824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 flipV="1">
            <a:off x="565200" y="2520720"/>
            <a:ext cx="179280" cy="1701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1218960" y="3728520"/>
            <a:ext cx="788760" cy="111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6364440" y="2527200"/>
            <a:ext cx="412560" cy="41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6203520" y="3084480"/>
            <a:ext cx="538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5504040" y="4822920"/>
            <a:ext cx="1272960" cy="78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5898960" y="5181480"/>
            <a:ext cx="842760" cy="77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93E9-AF1B-46B2-8F82-697F5294E8D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893960" y="2270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odification Propag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102120" y="1945800"/>
            <a:ext cx="58528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rite-through sche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Unix-like semantics and high reli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oor write perform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layed-write sche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on cache displac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iodic wri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on cl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accesses complete quick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me writes may be omitted by the following wri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thering all writes mitigates network overhe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aying of write propagation results in fuzzier file-sharing semantic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"/>
          <p:cNvSpPr/>
          <p:nvPr/>
        </p:nvSpPr>
        <p:spPr>
          <a:xfrm>
            <a:off x="1282680" y="309096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471680" y="3747960"/>
            <a:ext cx="41256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57280" y="2243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41400" y="273204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2242800" y="2637000"/>
            <a:ext cx="579960" cy="805320"/>
            <a:chOff x="2242800" y="2637000"/>
            <a:chExt cx="579960" cy="805320"/>
          </a:xfrm>
        </p:grpSpPr>
        <p:grpSp>
          <p:nvGrpSpPr>
            <p:cNvPr id="853" name=""/>
            <p:cNvGrpSpPr/>
            <p:nvPr/>
          </p:nvGrpSpPr>
          <p:grpSpPr>
            <a:xfrm>
              <a:off x="2292480" y="2886120"/>
              <a:ext cx="452520" cy="556200"/>
              <a:chOff x="2292480" y="2886120"/>
              <a:chExt cx="452520" cy="556200"/>
            </a:xfrm>
          </p:grpSpPr>
          <p:sp>
            <p:nvSpPr>
              <p:cNvPr id="854" name=""/>
              <p:cNvSpPr/>
              <p:nvPr/>
            </p:nvSpPr>
            <p:spPr>
              <a:xfrm>
                <a:off x="2332440" y="2886120"/>
                <a:ext cx="412560" cy="377640"/>
              </a:xfrm>
              <a:prstGeom prst="flowChartDocument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op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92480" y="310500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0000"/>
                    </a:solidFill>
                    <a:latin typeface="Tahoma"/>
                  </a:rPr>
                  <a:t>W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2242800" y="2637000"/>
              <a:ext cx="57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538920" y="197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855080" y="2000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-49320" y="2905200"/>
            <a:ext cx="1959120" cy="1332720"/>
            <a:chOff x="-49320" y="2905200"/>
            <a:chExt cx="1959120" cy="1332720"/>
          </a:xfrm>
        </p:grpSpPr>
        <p:sp>
          <p:nvSpPr>
            <p:cNvPr id="860" name=""/>
            <p:cNvSpPr/>
            <p:nvPr/>
          </p:nvSpPr>
          <p:spPr>
            <a:xfrm>
              <a:off x="857160" y="29052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547640" y="39006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111320" y="3137040"/>
              <a:ext cx="646200" cy="80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-49320" y="3300480"/>
              <a:ext cx="175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mmediate wr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1893960" y="45943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282680" y="541512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471680" y="6072120"/>
            <a:ext cx="41256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57280" y="45673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941400" y="505620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57160" y="522936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332080" y="521028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242800" y="496080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8920" y="429732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855080" y="432432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-40680" y="562464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ayed 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22160" y="538164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9BDB-19FA-4D9C-B420-61CD414C693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Validation Schemes – Client-Initiated Approach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3746160" y="2322000"/>
            <a:ext cx="54054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before every access (Unix-like semantics but too slow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periodically (better performance but fuzzy file-sharing semantic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on file open (simple, suitable for session-semantic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High network traff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2019240" y="2270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407960" y="309096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596960" y="3747960"/>
            <a:ext cx="41292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82560" y="2243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066680" y="2732040"/>
            <a:ext cx="41292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64560" y="197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980360" y="2000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457360" y="2886120"/>
            <a:ext cx="41292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016000" y="45385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405080" y="5359320"/>
            <a:ext cx="75384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593720" y="6016680"/>
            <a:ext cx="412920" cy="3776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79320" y="4511520"/>
            <a:ext cx="80676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063800" y="500076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490840" y="524520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015920" y="5213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61320" y="4241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77480" y="4268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1019160" y="2944800"/>
            <a:ext cx="1794960" cy="1313640"/>
            <a:chOff x="1019160" y="2944800"/>
            <a:chExt cx="1794960" cy="1313640"/>
          </a:xfrm>
        </p:grpSpPr>
        <p:sp>
          <p:nvSpPr>
            <p:cNvPr id="896" name=""/>
            <p:cNvSpPr/>
            <p:nvPr/>
          </p:nvSpPr>
          <p:spPr>
            <a:xfrm>
              <a:off x="1019160" y="29448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458720" y="392112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8" name=""/>
            <p:cNvGrpSpPr/>
            <p:nvPr/>
          </p:nvGrpSpPr>
          <p:grpSpPr>
            <a:xfrm>
              <a:off x="2552400" y="2967120"/>
              <a:ext cx="261720" cy="314280"/>
              <a:chOff x="2552400" y="2967120"/>
              <a:chExt cx="261720" cy="314280"/>
            </a:xfrm>
          </p:grpSpPr>
          <p:sp>
            <p:nvSpPr>
              <p:cNvPr id="899" name=""/>
              <p:cNvSpPr/>
              <p:nvPr/>
            </p:nvSpPr>
            <p:spPr>
              <a:xfrm>
                <a:off x="2580840" y="2976480"/>
                <a:ext cx="23328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2552400" y="2967120"/>
                <a:ext cx="23292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1" name=""/>
          <p:cNvSpPr/>
          <p:nvPr/>
        </p:nvSpPr>
        <p:spPr>
          <a:xfrm>
            <a:off x="1273320" y="3173400"/>
            <a:ext cx="1307880" cy="917640"/>
          </a:xfrm>
          <a:custGeom>
            <a:avLst/>
            <a:gdLst/>
            <a:ahLst/>
            <a:rect l="l" t="t" r="r" b="b"/>
            <a:pathLst>
              <a:path w="824" h="578">
                <a:moveTo>
                  <a:pt x="0" y="0"/>
                </a:moveTo>
                <a:cubicBezTo>
                  <a:pt x="61" y="276"/>
                  <a:pt x="123" y="552"/>
                  <a:pt x="260" y="565"/>
                </a:cubicBezTo>
                <a:cubicBezTo>
                  <a:pt x="397" y="578"/>
                  <a:pt x="610" y="328"/>
                  <a:pt x="824" y="79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290320" y="3427560"/>
            <a:ext cx="143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ck bef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very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73520" y="3311640"/>
            <a:ext cx="152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-35280" y="3662280"/>
            <a:ext cx="168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Delayed wri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28360" y="5365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676080" y="5500800"/>
            <a:ext cx="1141560" cy="1026360"/>
            <a:chOff x="676080" y="5500800"/>
            <a:chExt cx="1141560" cy="1026360"/>
          </a:xfrm>
        </p:grpSpPr>
        <p:sp>
          <p:nvSpPr>
            <p:cNvPr id="907" name=""/>
            <p:cNvSpPr/>
            <p:nvPr/>
          </p:nvSpPr>
          <p:spPr>
            <a:xfrm>
              <a:off x="1455480" y="618984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76080" y="55008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9" name=""/>
          <p:cNvSpPr/>
          <p:nvPr/>
        </p:nvSpPr>
        <p:spPr>
          <a:xfrm>
            <a:off x="79560" y="580392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-on-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253600" y="5792760"/>
            <a:ext cx="16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ck-on-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36600" y="5468760"/>
            <a:ext cx="1398600" cy="893880"/>
          </a:xfrm>
          <a:custGeom>
            <a:avLst/>
            <a:gdLst/>
            <a:ahLst/>
            <a:rect l="l" t="t" r="r" b="b"/>
            <a:pathLst>
              <a:path w="881" h="563">
                <a:moveTo>
                  <a:pt x="0" y="0"/>
                </a:moveTo>
                <a:cubicBezTo>
                  <a:pt x="28" y="260"/>
                  <a:pt x="57" y="521"/>
                  <a:pt x="204" y="542"/>
                </a:cubicBezTo>
                <a:cubicBezTo>
                  <a:pt x="351" y="563"/>
                  <a:pt x="616" y="343"/>
                  <a:pt x="881" y="124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423880" y="502452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295000" y="598968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heck-on-clos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81ED-DCE5-4A2F-A44B-47C5999451A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Validation Schemes – Server-Initiated Approach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19120" y="4247640"/>
            <a:ext cx="80056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ing track of clients having a co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ying a new request, queuing it, and disabling cac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ing all clients of any update on the original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olating client-server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ful ser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n-open still needed for th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le open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"/>
          <p:cNvSpPr/>
          <p:nvPr/>
        </p:nvSpPr>
        <p:spPr>
          <a:xfrm>
            <a:off x="3235320" y="2063880"/>
            <a:ext cx="806400" cy="529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160800" y="3208320"/>
            <a:ext cx="753840" cy="78732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349800" y="3865680"/>
            <a:ext cx="412560" cy="3380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149560" y="203688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533680" y="2525760"/>
            <a:ext cx="412560" cy="3380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621240" y="2554200"/>
            <a:ext cx="412560" cy="3384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485800" y="2738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131200" y="1766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96440" y="1793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211200" y="40384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298600" y="2890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145960" y="3025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319640" y="207180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705200" y="2581200"/>
            <a:ext cx="412920" cy="3380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280760" y="180180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814480" y="2959200"/>
            <a:ext cx="503280" cy="86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3728880" y="2885760"/>
            <a:ext cx="90720" cy="81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3800520" y="2993760"/>
            <a:ext cx="104148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868920" y="32115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ify (invalida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3700440" y="2610000"/>
            <a:ext cx="262080" cy="280440"/>
            <a:chOff x="3700440" y="2610000"/>
            <a:chExt cx="262080" cy="280440"/>
          </a:xfrm>
        </p:grpSpPr>
        <p:sp>
          <p:nvSpPr>
            <p:cNvPr id="936" name=""/>
            <p:cNvSpPr/>
            <p:nvPr/>
          </p:nvSpPr>
          <p:spPr>
            <a:xfrm>
              <a:off x="3728880" y="2618280"/>
              <a:ext cx="23364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3700440" y="2610000"/>
              <a:ext cx="23328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4802040" y="2652840"/>
            <a:ext cx="262080" cy="280440"/>
            <a:chOff x="4802040" y="2652840"/>
            <a:chExt cx="262080" cy="280440"/>
          </a:xfrm>
        </p:grpSpPr>
        <p:sp>
          <p:nvSpPr>
            <p:cNvPr id="939" name=""/>
            <p:cNvSpPr/>
            <p:nvPr/>
          </p:nvSpPr>
          <p:spPr>
            <a:xfrm>
              <a:off x="4830480" y="2661120"/>
              <a:ext cx="23364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4802040" y="2652840"/>
              <a:ext cx="23328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5403960" y="206208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65080" y="179244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890880" y="2689200"/>
            <a:ext cx="2232000" cy="1157400"/>
          </a:xfrm>
          <a:custGeom>
            <a:avLst/>
            <a:gdLst/>
            <a:ahLst/>
            <a:rect l="l" t="t" r="r" b="b"/>
            <a:pathLst>
              <a:path w="1406" h="813">
                <a:moveTo>
                  <a:pt x="0" y="813"/>
                </a:moveTo>
                <a:cubicBezTo>
                  <a:pt x="472" y="796"/>
                  <a:pt x="944" y="779"/>
                  <a:pt x="1175" y="644"/>
                </a:cubicBezTo>
                <a:cubicBezTo>
                  <a:pt x="1406" y="509"/>
                  <a:pt x="1353" y="107"/>
                  <a:pt x="1389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526360" y="287172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ny for a new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638360" y="3220920"/>
            <a:ext cx="157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ayed wri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92C2-96B0-4498-9A36-15AB2EEAFDD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se Study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n’s Network File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FS: standard for distributed UNIX file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ed to run on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are both servers &amp;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have no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mount protocol to make global name lo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etc/expor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sts local names server willing to ex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sts global names that local nodes im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2600" indent="-1994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responding global name must be in /etc/exports on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9D7D-341D-455A-9482-C54207B7A39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FS defines set of RPC operations for remote file acces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ory search, reading directory ent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ipulating links &amp; directo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ing file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/writing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rely on node homogene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terogeneous nodes support NFS mount &amp; remote access protocols using R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eed to know different names depending upon which node they log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6302-EF2B-4CFE-B465-70EEF174D01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1"/>
          <a:stretch/>
        </p:blipFill>
        <p:spPr>
          <a:xfrm>
            <a:off x="846000" y="2122560"/>
            <a:ext cx="8150400" cy="348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2C15-C0F8-4E24-879E-693023D0782D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1779480" y="33480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4" name=""/>
          <p:cNvSpPr/>
          <p:nvPr/>
        </p:nvSpPr>
        <p:spPr>
          <a:xfrm>
            <a:off x="711360" y="614664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901800" y="2425680"/>
            <a:ext cx="181584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638360" y="255276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917720" y="297180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320840" y="299736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273400" y="36068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054080" y="35560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46052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854360" y="35812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311560" y="414036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943280" y="41148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1486080" y="275580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828800" y="2768760"/>
            <a:ext cx="8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1193400" y="3213000"/>
            <a:ext cx="15228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031840" y="318780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1638360" y="3187800"/>
            <a:ext cx="342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994040" y="31878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349360" y="382284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2107800" y="383544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193760" y="4622760"/>
            <a:ext cx="1066680" cy="203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990720" y="5003640"/>
            <a:ext cx="583920" cy="254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778040" y="4991040"/>
            <a:ext cx="69840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155600" y="54482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752480" y="5499000"/>
            <a:ext cx="7365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1257120" y="4813200"/>
            <a:ext cx="368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295280" y="52578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841400" y="4826160"/>
            <a:ext cx="266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108160" y="52322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380360" y="33606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502320" y="2438280"/>
            <a:ext cx="18162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238880" y="256536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518240" y="298440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21360" y="300996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873920" y="36194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65496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061040" y="3581280"/>
            <a:ext cx="24156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454880" y="359424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912080" y="415296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543800" y="41274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7086600" y="2768760"/>
            <a:ext cx="13968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429680" y="2781360"/>
            <a:ext cx="885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6794280" y="322596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632720" y="320040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7238520" y="3200400"/>
            <a:ext cx="343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594560" y="320040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950240" y="383544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7708680" y="3848040"/>
            <a:ext cx="22860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794640" y="4635360"/>
            <a:ext cx="1066680" cy="203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591240" y="5016600"/>
            <a:ext cx="584280" cy="253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378560" y="5003640"/>
            <a:ext cx="6987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56480" y="54608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353360" y="5511960"/>
            <a:ext cx="736560" cy="253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6857640" y="4826160"/>
            <a:ext cx="368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896160" y="52704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442280" y="4838760"/>
            <a:ext cx="266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709040" y="524520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611600" y="33354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733920" y="2413080"/>
            <a:ext cx="1815840" cy="350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470480" y="254016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749840" y="295920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152960" y="298440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105520" y="3594240"/>
            <a:ext cx="190440" cy="215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886200" y="35434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292640" y="35560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8648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143680" y="41274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775040" y="4102200"/>
            <a:ext cx="24156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4317480" y="2743200"/>
            <a:ext cx="14004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660920" y="2755800"/>
            <a:ext cx="8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4025520" y="320040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863960" y="317484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4470480" y="3174840"/>
            <a:ext cx="3427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826160" y="317484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181480" y="380988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4939920" y="382284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025880" y="4610160"/>
            <a:ext cx="1066680" cy="2030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822840" y="4991040"/>
            <a:ext cx="583920" cy="25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610160" y="4978440"/>
            <a:ext cx="698400" cy="253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987720" y="54356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584600" y="5486400"/>
            <a:ext cx="7365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4089240" y="4800600"/>
            <a:ext cx="368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127400" y="52452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673520" y="4813200"/>
            <a:ext cx="26676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940280" y="52196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082960" y="5740560"/>
            <a:ext cx="2806560" cy="291960"/>
          </a:xfrm>
          <a:custGeom>
            <a:avLst/>
            <a:gdLst/>
            <a:ahLst/>
            <a:rect l="l" t="t" r="r" b="b"/>
            <a:pathLst>
              <a:path w="1768" h="184">
                <a:moveTo>
                  <a:pt x="0" y="0"/>
                </a:moveTo>
                <a:lnTo>
                  <a:pt x="0" y="184"/>
                </a:lnTo>
                <a:lnTo>
                  <a:pt x="1768" y="184"/>
                </a:lnTo>
                <a:lnTo>
                  <a:pt x="1768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778040" y="5931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648320" y="5931000"/>
            <a:ext cx="0" cy="24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442280" y="5931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016600" y="5740560"/>
            <a:ext cx="2705040" cy="317520"/>
          </a:xfrm>
          <a:custGeom>
            <a:avLst/>
            <a:gdLst/>
            <a:ahLst/>
            <a:rect l="l" t="t" r="r" b="b"/>
            <a:pathLst>
              <a:path w="1704" h="200">
                <a:moveTo>
                  <a:pt x="1704" y="16"/>
                </a:moveTo>
                <a:lnTo>
                  <a:pt x="1704" y="200"/>
                </a:lnTo>
                <a:lnTo>
                  <a:pt x="0" y="20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473800" y="4102200"/>
            <a:ext cx="1942920" cy="0"/>
          </a:xfrm>
          <a:prstGeom prst="line">
            <a:avLst/>
          </a:prstGeom>
          <a:ln w="28440">
            <a:solidFill>
              <a:srgbClr val="99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2755800" y="4076640"/>
            <a:ext cx="1943280" cy="0"/>
          </a:xfrm>
          <a:prstGeom prst="line">
            <a:avLst/>
          </a:prstGeom>
          <a:ln w="28440">
            <a:solidFill>
              <a:srgbClr val="99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030920" y="2087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375920" y="2100240"/>
            <a:ext cx="9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859800" y="208764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994480" y="378936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750640" y="380196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206360" y="394956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574640" y="4406760"/>
            <a:ext cx="1400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591240" y="408924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124760" y="4444920"/>
            <a:ext cx="1396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9947-AEC9-42F3-A7D2-057FE7108CE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Install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5" name=""/>
          <p:cNvSpPr/>
          <p:nvPr/>
        </p:nvSpPr>
        <p:spPr>
          <a:xfrm>
            <a:off x="598320" y="1700280"/>
            <a:ext cx="857268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if NFS is running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info –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 NSF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etc/rc.d/init.d/nfs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it /etc/exports file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dir/to/export client1(permissions), client2(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rt dirs in /etc/exp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rtfs –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exported directorie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wmount –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ort a server’s directory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unt –o options server_name:/dir /my_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g: continue working on importing upon a failur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r: a process will be interupted if its I/O request to the server dir is pend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ft: allowing a client to time out the connection after a number of re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w/ro: normal r/w or read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derlying Connec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664240" y="525780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057080" y="507204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tma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5702040" y="5346720"/>
            <a:ext cx="138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448600" y="5289480"/>
            <a:ext cx="186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mount service 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664240" y="567684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126560" y="5567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unt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5664240" y="576576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955840" y="56959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er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626080" y="603252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069680" y="592308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tma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5651280" y="6121440"/>
            <a:ext cx="140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174720" y="60768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842360" y="511020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613480" y="640080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5638680" y="648972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174440" y="627840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185880" y="6318360"/>
            <a:ext cx="41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E1E7-25BD-4E26-AC40-C8B987F8B3E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Overview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26920" y="2017440"/>
            <a:ext cx="777240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: a compound proced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okup, Open, and R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stat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less: simple implementation in ver 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full: allowing clients to cache files in ver 4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 call back from a server to invalidate a client’s cac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 Locking in ver 4: lock, lockt, locku, and rene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. Emacs: Tests with lockt when modifying buffer, locks a file with lockt, and unlock with locku after writing buffer contents to the fi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 reservation: specify how to share a file (with ro, wo, or r/w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58B8-EFB8-4B5F-8F8D-E014D256BE1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: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ing &amp; 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ote fil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with state or with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3523-7BF6-4282-895C-9C44EEF61A49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Overviews (Cont’d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8269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client’s memo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validation of client’s cache upon re-opening the same f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delegatio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erver delegates a open decision to a writing client which can handle an open request from other clients on the same machi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erver calls back the client when receiving an open request from another machi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 failure: use a duplicate-request cac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 locking failure: provide a grace period during which a client reclaim locks previously granted and the server builds up its previous sta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8360-82F1-4CC6-AC78-A8E27349DA5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Duplicate Request Cach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8" name=""/>
          <p:cNvSpPr/>
          <p:nvPr/>
        </p:nvSpPr>
        <p:spPr>
          <a:xfrm>
            <a:off x="321120" y="21765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563120" y="2151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22440" y="24764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981080" y="24512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22440" y="280656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94080" y="27241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22440" y="321300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622440" y="444492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026000" y="4400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197080" y="44197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94040" y="31114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082960" y="4152960"/>
            <a:ext cx="26640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19280" y="31813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890720" y="342252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o soon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127600" y="379080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242160" y="21765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483800" y="2151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543480" y="24764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902120" y="24512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543480" y="280656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614760" y="27241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568680" y="4317840"/>
            <a:ext cx="135900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3543480" y="444492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947040" y="4400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118120" y="44197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915080" y="31114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003640" y="415296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652920" y="412128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296600" y="4819680"/>
            <a:ext cx="153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ust replied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048280" y="379080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99840" y="21891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341480" y="2163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400800" y="24890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759800" y="24638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400800" y="2819520"/>
            <a:ext cx="1359000" cy="29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472440" y="27367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426360" y="495288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6997320" y="4457880"/>
            <a:ext cx="762120" cy="16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058520" y="433692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975440" y="44323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772400" y="31240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861320" y="416556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612120" y="489600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69440" y="343548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o soon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7905960" y="380376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6388200" y="543564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855480" y="5327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858000" y="4546440"/>
            <a:ext cx="279360" cy="1908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759800" y="4635360"/>
            <a:ext cx="419040" cy="800280"/>
          </a:xfrm>
          <a:custGeom>
            <a:avLst/>
            <a:gdLst/>
            <a:ahLst/>
            <a:rect l="l" t="t" r="r" b="b"/>
            <a:pathLst>
              <a:path w="264" h="504">
                <a:moveTo>
                  <a:pt x="264" y="0"/>
                </a:moveTo>
                <a:cubicBezTo>
                  <a:pt x="258" y="90"/>
                  <a:pt x="252" y="180"/>
                  <a:pt x="208" y="264"/>
                </a:cubicBezTo>
                <a:cubicBezTo>
                  <a:pt x="164" y="348"/>
                  <a:pt x="82" y="426"/>
                  <a:pt x="0" y="50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525760" y="5973840"/>
            <a:ext cx="528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n, when does the server delete this cached resul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F1F3-089D-4340-8243-521E0CDE668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" descr=""/>
          <p:cNvPicPr/>
          <p:nvPr/>
        </p:nvPicPr>
        <p:blipFill>
          <a:blip r:embed="rId1"/>
          <a:stretch/>
        </p:blipFill>
        <p:spPr>
          <a:xfrm>
            <a:off x="1359000" y="1855800"/>
            <a:ext cx="6778440" cy="4846680"/>
          </a:xfrm>
          <a:prstGeom prst="rect">
            <a:avLst/>
          </a:prstGeom>
          <a:ln w="0">
            <a:noFill/>
          </a:ln>
        </p:spPr>
      </p:pic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ndrew File System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7ED6-4A32-4E2F-AEBB-4768D73670F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1309680" y="2909880"/>
            <a:ext cx="1444680" cy="1428840"/>
          </a:xfrm>
          <a:custGeom>
            <a:avLst/>
            <a:gdLst/>
            <a:ahLst/>
            <a:rect l="l" t="t" r="r" b="b"/>
            <a:pathLst>
              <a:path w="910" h="900">
                <a:moveTo>
                  <a:pt x="631" y="63"/>
                </a:moveTo>
                <a:cubicBezTo>
                  <a:pt x="530" y="36"/>
                  <a:pt x="268" y="0"/>
                  <a:pt x="167" y="63"/>
                </a:cubicBezTo>
                <a:cubicBezTo>
                  <a:pt x="66" y="126"/>
                  <a:pt x="0" y="327"/>
                  <a:pt x="23" y="439"/>
                </a:cubicBezTo>
                <a:cubicBezTo>
                  <a:pt x="46" y="551"/>
                  <a:pt x="168" y="672"/>
                  <a:pt x="303" y="735"/>
                </a:cubicBezTo>
                <a:cubicBezTo>
                  <a:pt x="438" y="798"/>
                  <a:pt x="752" y="900"/>
                  <a:pt x="831" y="815"/>
                </a:cubicBezTo>
                <a:cubicBezTo>
                  <a:pt x="910" y="730"/>
                  <a:pt x="804" y="344"/>
                  <a:pt x="775" y="223"/>
                </a:cubicBezTo>
                <a:cubicBezTo>
                  <a:pt x="746" y="102"/>
                  <a:pt x="732" y="90"/>
                  <a:pt x="631" y="63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ile Name Spac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2" name=""/>
          <p:cNvSpPr/>
          <p:nvPr/>
        </p:nvSpPr>
        <p:spPr>
          <a:xfrm>
            <a:off x="711360" y="645156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901800" y="2184480"/>
            <a:ext cx="1815840" cy="40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638360" y="2273400"/>
            <a:ext cx="190440" cy="21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917720" y="26924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320840" y="27176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273400" y="3327480"/>
            <a:ext cx="1904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054080" y="3276720"/>
            <a:ext cx="241200" cy="253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460520" y="328932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854360" y="330192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311560" y="386064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943280" y="3835440"/>
            <a:ext cx="241200" cy="253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H="1">
            <a:off x="1486080" y="247644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828800" y="2489040"/>
            <a:ext cx="8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1193400" y="293364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031840" y="290844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1638360" y="2908440"/>
            <a:ext cx="342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994040" y="290844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349360" y="3543480"/>
            <a:ext cx="76320" cy="31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2107800" y="355608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092240" y="5791320"/>
            <a:ext cx="368280" cy="39348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231920" y="5600880"/>
            <a:ext cx="0" cy="17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079640" y="5219640"/>
            <a:ext cx="10666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x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Unix F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778040" y="6235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981760" y="6235560"/>
            <a:ext cx="0" cy="24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374480" y="1871640"/>
            <a:ext cx="7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342240" y="348624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mbolic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866960" y="4470480"/>
            <a:ext cx="812880" cy="6094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298600" y="5257800"/>
            <a:ext cx="368280" cy="39384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015920" y="457200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346040" y="50166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1841400" y="5079960"/>
            <a:ext cx="1904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614920" y="2922480"/>
            <a:ext cx="1444680" cy="1428840"/>
          </a:xfrm>
          <a:custGeom>
            <a:avLst/>
            <a:gdLst/>
            <a:ahLst/>
            <a:rect l="l" t="t" r="r" b="b"/>
            <a:pathLst>
              <a:path w="910" h="900">
                <a:moveTo>
                  <a:pt x="631" y="63"/>
                </a:moveTo>
                <a:cubicBezTo>
                  <a:pt x="530" y="36"/>
                  <a:pt x="268" y="0"/>
                  <a:pt x="167" y="63"/>
                </a:cubicBezTo>
                <a:cubicBezTo>
                  <a:pt x="66" y="126"/>
                  <a:pt x="0" y="327"/>
                  <a:pt x="23" y="439"/>
                </a:cubicBezTo>
                <a:cubicBezTo>
                  <a:pt x="46" y="551"/>
                  <a:pt x="168" y="672"/>
                  <a:pt x="303" y="735"/>
                </a:cubicBezTo>
                <a:cubicBezTo>
                  <a:pt x="438" y="798"/>
                  <a:pt x="752" y="900"/>
                  <a:pt x="831" y="815"/>
                </a:cubicBezTo>
                <a:cubicBezTo>
                  <a:pt x="910" y="730"/>
                  <a:pt x="804" y="344"/>
                  <a:pt x="775" y="223"/>
                </a:cubicBezTo>
                <a:cubicBezTo>
                  <a:pt x="746" y="102"/>
                  <a:pt x="732" y="90"/>
                  <a:pt x="631" y="63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207040" y="2197080"/>
            <a:ext cx="1816200" cy="405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943600" y="228600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222960" y="27050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626080" y="2730600"/>
            <a:ext cx="190440" cy="21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578640" y="33400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359320" y="3289320"/>
            <a:ext cx="241560" cy="254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765760" y="330192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159600" y="331488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616800" y="387360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248520" y="384804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5791320" y="248904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134040" y="2502000"/>
            <a:ext cx="8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5499000" y="2946240"/>
            <a:ext cx="15264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337440" y="2921040"/>
            <a:ext cx="2538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5943240" y="2921040"/>
            <a:ext cx="343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299280" y="292104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654960" y="3556080"/>
            <a:ext cx="7596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6413040" y="3568680"/>
            <a:ext cx="22860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502320" y="580392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642000" y="561348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842080" y="5232240"/>
            <a:ext cx="10666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x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Unix F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681880" y="18842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856840" y="413388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mbolic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283360" y="4432320"/>
            <a:ext cx="812520" cy="6094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083280" y="50547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666880" y="4762440"/>
            <a:ext cx="261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459160" y="4859280"/>
            <a:ext cx="4170240" cy="1058760"/>
          </a:xfrm>
          <a:custGeom>
            <a:avLst/>
            <a:gdLst/>
            <a:ahLst/>
            <a:rect l="l" t="t" r="r" b="b"/>
            <a:pathLst>
              <a:path w="2627" h="667">
                <a:moveTo>
                  <a:pt x="2627" y="667"/>
                </a:moveTo>
                <a:cubicBezTo>
                  <a:pt x="2547" y="593"/>
                  <a:pt x="2468" y="519"/>
                  <a:pt x="2363" y="419"/>
                </a:cubicBezTo>
                <a:cubicBezTo>
                  <a:pt x="2258" y="319"/>
                  <a:pt x="2311" y="134"/>
                  <a:pt x="1995" y="67"/>
                </a:cubicBezTo>
                <a:cubicBezTo>
                  <a:pt x="1679" y="0"/>
                  <a:pt x="787" y="7"/>
                  <a:pt x="467" y="19"/>
                </a:cubicBezTo>
                <a:cubicBezTo>
                  <a:pt x="147" y="31"/>
                  <a:pt x="150" y="94"/>
                  <a:pt x="75" y="139"/>
                </a:cubicBezTo>
                <a:cubicBezTo>
                  <a:pt x="0" y="184"/>
                  <a:pt x="9" y="237"/>
                  <a:pt x="19" y="291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397160" y="4952880"/>
            <a:ext cx="977760" cy="443160"/>
          </a:xfrm>
          <a:custGeom>
            <a:avLst/>
            <a:gdLst/>
            <a:ahLst/>
            <a:rect l="l" t="t" r="r" b="b"/>
            <a:pathLst>
              <a:path w="616" h="279">
                <a:moveTo>
                  <a:pt x="616" y="224"/>
                </a:moveTo>
                <a:cubicBezTo>
                  <a:pt x="590" y="128"/>
                  <a:pt x="565" y="32"/>
                  <a:pt x="528" y="40"/>
                </a:cubicBezTo>
                <a:cubicBezTo>
                  <a:pt x="491" y="48"/>
                  <a:pt x="480" y="279"/>
                  <a:pt x="392" y="272"/>
                </a:cubicBezTo>
                <a:cubicBezTo>
                  <a:pt x="304" y="265"/>
                  <a:pt x="152" y="132"/>
                  <a:pt x="0" y="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438280" y="3543480"/>
            <a:ext cx="4140360" cy="242640"/>
          </a:xfrm>
          <a:custGeom>
            <a:avLst/>
            <a:gdLst/>
            <a:ahLst/>
            <a:rect l="l" t="t" r="r" b="b"/>
            <a:pathLst>
              <a:path w="2608" h="153">
                <a:moveTo>
                  <a:pt x="0" y="0"/>
                </a:moveTo>
                <a:cubicBezTo>
                  <a:pt x="414" y="75"/>
                  <a:pt x="829" y="151"/>
                  <a:pt x="1264" y="152"/>
                </a:cubicBezTo>
                <a:cubicBezTo>
                  <a:pt x="1699" y="153"/>
                  <a:pt x="2153" y="80"/>
                  <a:pt x="2608" y="8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502000" y="4076640"/>
            <a:ext cx="4114800" cy="344520"/>
          </a:xfrm>
          <a:custGeom>
            <a:avLst/>
            <a:gdLst/>
            <a:ahLst/>
            <a:rect l="l" t="t" r="r" b="b"/>
            <a:pathLst>
              <a:path w="2592" h="217">
                <a:moveTo>
                  <a:pt x="0" y="0"/>
                </a:moveTo>
                <a:cubicBezTo>
                  <a:pt x="372" y="107"/>
                  <a:pt x="744" y="215"/>
                  <a:pt x="1176" y="216"/>
                </a:cubicBezTo>
                <a:cubicBezTo>
                  <a:pt x="1608" y="217"/>
                  <a:pt x="2100" y="112"/>
                  <a:pt x="2592" y="8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133720" y="3962520"/>
            <a:ext cx="4114800" cy="261720"/>
          </a:xfrm>
          <a:custGeom>
            <a:avLst/>
            <a:gdLst/>
            <a:ahLst/>
            <a:rect l="l" t="t" r="r" b="b"/>
            <a:pathLst>
              <a:path w="2592" h="165">
                <a:moveTo>
                  <a:pt x="0" y="0"/>
                </a:moveTo>
                <a:cubicBezTo>
                  <a:pt x="372" y="61"/>
                  <a:pt x="744" y="123"/>
                  <a:pt x="1096" y="144"/>
                </a:cubicBezTo>
                <a:cubicBezTo>
                  <a:pt x="1448" y="165"/>
                  <a:pt x="1863" y="147"/>
                  <a:pt x="2112" y="128"/>
                </a:cubicBezTo>
                <a:cubicBezTo>
                  <a:pt x="2361" y="109"/>
                  <a:pt x="2476" y="70"/>
                  <a:pt x="2592" y="3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019240" y="3492360"/>
            <a:ext cx="4203720" cy="506520"/>
          </a:xfrm>
          <a:custGeom>
            <a:avLst/>
            <a:gdLst/>
            <a:ahLst/>
            <a:rect l="l" t="t" r="r" b="b"/>
            <a:pathLst>
              <a:path w="2648" h="319">
                <a:moveTo>
                  <a:pt x="0" y="0"/>
                </a:moveTo>
                <a:cubicBezTo>
                  <a:pt x="419" y="152"/>
                  <a:pt x="839" y="305"/>
                  <a:pt x="1280" y="312"/>
                </a:cubicBezTo>
                <a:cubicBezTo>
                  <a:pt x="1721" y="319"/>
                  <a:pt x="2184" y="179"/>
                  <a:pt x="2648" y="4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612800" y="3505320"/>
            <a:ext cx="4191120" cy="436320"/>
          </a:xfrm>
          <a:custGeom>
            <a:avLst/>
            <a:gdLst/>
            <a:ahLst/>
            <a:rect l="l" t="t" r="r" b="b"/>
            <a:pathLst>
              <a:path w="2640" h="275">
                <a:moveTo>
                  <a:pt x="0" y="16"/>
                </a:moveTo>
                <a:cubicBezTo>
                  <a:pt x="188" y="145"/>
                  <a:pt x="376" y="275"/>
                  <a:pt x="816" y="272"/>
                </a:cubicBezTo>
                <a:cubicBezTo>
                  <a:pt x="1256" y="269"/>
                  <a:pt x="1948" y="134"/>
                  <a:pt x="264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816200" y="2362320"/>
            <a:ext cx="438156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04440" y="287496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285280" y="2849400"/>
            <a:ext cx="8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0630-576D-42FF-A144-B488233C6CB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ystem Call Intercep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1" name="" descr=""/>
          <p:cNvPicPr/>
          <p:nvPr/>
        </p:nvPicPr>
        <p:blipFill>
          <a:blip r:embed="rId1"/>
          <a:stretch/>
        </p:blipFill>
        <p:spPr>
          <a:xfrm>
            <a:off x="1041480" y="1847880"/>
            <a:ext cx="7242120" cy="459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9F38-C8D1-42AB-8A8A-2A69E5EB3F6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1612800" y="1625760"/>
            <a:ext cx="6477120" cy="523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09980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Implementation of file system call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4" name=""/>
          <p:cNvSpPr/>
          <p:nvPr/>
        </p:nvSpPr>
        <p:spPr>
          <a:xfrm>
            <a:off x="2401920" y="6262560"/>
            <a:ext cx="4700520" cy="5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1"/>
          <a:stretch/>
        </p:blipFill>
        <p:spPr>
          <a:xfrm>
            <a:off x="1781280" y="1254240"/>
            <a:ext cx="5790960" cy="56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B6B9-CD47-4761-BD5B-83F57A66DB9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XF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7" name=""/>
          <p:cNvSpPr/>
          <p:nvPr/>
        </p:nvSpPr>
        <p:spPr>
          <a:xfrm>
            <a:off x="1038240" y="5145120"/>
            <a:ext cx="754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449360" y="38894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434960" y="210168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413160" y="389736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970680" y="21668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286240" y="214776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999120" y="39146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332320" y="395280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271520" y="1917720"/>
            <a:ext cx="1416240" cy="295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252960" y="1962000"/>
            <a:ext cx="1415880" cy="292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108400" y="2006640"/>
            <a:ext cx="141624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819840" y="2016000"/>
            <a:ext cx="1416240" cy="28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9000" y="487692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935520" y="48848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826240" y="491328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502400" y="490392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93840" y="5754600"/>
            <a:ext cx="3335040" cy="43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506600" y="5127480"/>
            <a:ext cx="0" cy="64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-34920" y="4626000"/>
            <a:ext cx="1952640" cy="1398600"/>
            <a:chOff x="-34920" y="4626000"/>
            <a:chExt cx="1952640" cy="1398600"/>
          </a:xfrm>
        </p:grpSpPr>
        <p:sp>
          <p:nvSpPr>
            <p:cNvPr id="1226" name=""/>
            <p:cNvSpPr/>
            <p:nvPr/>
          </p:nvSpPr>
          <p:spPr>
            <a:xfrm>
              <a:off x="1260360" y="4626000"/>
              <a:ext cx="657360" cy="1398600"/>
            </a:xfrm>
            <a:custGeom>
              <a:avLst/>
              <a:gdLst/>
              <a:ahLst/>
              <a:rect l="l" t="t" r="r" b="b"/>
              <a:pathLst>
                <a:path w="414" h="881">
                  <a:moveTo>
                    <a:pt x="30" y="881"/>
                  </a:moveTo>
                  <a:cubicBezTo>
                    <a:pt x="15" y="637"/>
                    <a:pt x="0" y="393"/>
                    <a:pt x="53" y="282"/>
                  </a:cubicBezTo>
                  <a:cubicBezTo>
                    <a:pt x="106" y="171"/>
                    <a:pt x="287" y="261"/>
                    <a:pt x="347" y="214"/>
                  </a:cubicBezTo>
                  <a:cubicBezTo>
                    <a:pt x="407" y="167"/>
                    <a:pt x="403" y="36"/>
                    <a:pt x="414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-34920" y="4843440"/>
              <a:ext cx="180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1: Write requ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475200" y="2814480"/>
            <a:ext cx="1424880" cy="1076400"/>
            <a:chOff x="475200" y="2814480"/>
            <a:chExt cx="1424880" cy="1076400"/>
          </a:xfrm>
        </p:grpSpPr>
        <p:sp>
          <p:nvSpPr>
            <p:cNvPr id="1229" name=""/>
            <p:cNvSpPr/>
            <p:nvPr/>
          </p:nvSpPr>
          <p:spPr>
            <a:xfrm flipV="1">
              <a:off x="1900080" y="2814480"/>
              <a:ext cx="0" cy="1076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75200" y="3166920"/>
              <a:ext cx="1416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2: Log th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in a seg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2509920" y="2386080"/>
            <a:ext cx="6741360" cy="3592080"/>
            <a:chOff x="2509920" y="2386080"/>
            <a:chExt cx="6741360" cy="3592080"/>
          </a:xfrm>
        </p:grpSpPr>
        <p:sp>
          <p:nvSpPr>
            <p:cNvPr id="1232" name=""/>
            <p:cNvSpPr/>
            <p:nvPr/>
          </p:nvSpPr>
          <p:spPr>
            <a:xfrm>
              <a:off x="2509920" y="2386080"/>
              <a:ext cx="1326960" cy="3052800"/>
            </a:xfrm>
            <a:custGeom>
              <a:avLst/>
              <a:gdLst/>
              <a:ahLst/>
              <a:rect l="l" t="t" r="r" b="b"/>
              <a:pathLst>
                <a:path w="836" h="1923">
                  <a:moveTo>
                    <a:pt x="0" y="33"/>
                  </a:moveTo>
                  <a:cubicBezTo>
                    <a:pt x="60" y="16"/>
                    <a:pt x="120" y="0"/>
                    <a:pt x="158" y="169"/>
                  </a:cubicBezTo>
                  <a:cubicBezTo>
                    <a:pt x="196" y="338"/>
                    <a:pt x="209" y="782"/>
                    <a:pt x="226" y="1049"/>
                  </a:cubicBezTo>
                  <a:cubicBezTo>
                    <a:pt x="243" y="1316"/>
                    <a:pt x="181" y="1636"/>
                    <a:pt x="260" y="1772"/>
                  </a:cubicBezTo>
                  <a:cubicBezTo>
                    <a:pt x="339" y="1908"/>
                    <a:pt x="604" y="1923"/>
                    <a:pt x="700" y="1863"/>
                  </a:cubicBezTo>
                  <a:cubicBezTo>
                    <a:pt x="796" y="1803"/>
                    <a:pt x="813" y="1486"/>
                    <a:pt x="836" y="1411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568680" y="4643280"/>
              <a:ext cx="3925800" cy="765360"/>
            </a:xfrm>
            <a:custGeom>
              <a:avLst/>
              <a:gdLst/>
              <a:ahLst/>
              <a:rect l="l" t="t" r="r" b="b"/>
              <a:pathLst>
                <a:path w="2473" h="482">
                  <a:moveTo>
                    <a:pt x="0" y="452"/>
                  </a:moveTo>
                  <a:cubicBezTo>
                    <a:pt x="782" y="467"/>
                    <a:pt x="1564" y="482"/>
                    <a:pt x="1976" y="407"/>
                  </a:cubicBezTo>
                  <a:cubicBezTo>
                    <a:pt x="2388" y="332"/>
                    <a:pt x="2390" y="68"/>
                    <a:pt x="2473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159880" y="5397480"/>
              <a:ext cx="4091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3: Fragment a seg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and sent them to a strip group of serv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1469880" y="4697280"/>
            <a:ext cx="4213440" cy="1290600"/>
            <a:chOff x="1469880" y="4697280"/>
            <a:chExt cx="4213440" cy="1290600"/>
          </a:xfrm>
        </p:grpSpPr>
        <p:sp>
          <p:nvSpPr>
            <p:cNvPr id="1236" name=""/>
            <p:cNvSpPr/>
            <p:nvPr/>
          </p:nvSpPr>
          <p:spPr>
            <a:xfrm>
              <a:off x="1469880" y="4697280"/>
              <a:ext cx="4213440" cy="1290600"/>
            </a:xfrm>
            <a:custGeom>
              <a:avLst/>
              <a:gdLst/>
              <a:ahLst/>
              <a:rect l="l" t="t" r="r" b="b"/>
              <a:pathLst>
                <a:path w="2654" h="813">
                  <a:moveTo>
                    <a:pt x="68" y="813"/>
                  </a:moveTo>
                  <a:cubicBezTo>
                    <a:pt x="34" y="643"/>
                    <a:pt x="0" y="474"/>
                    <a:pt x="147" y="373"/>
                  </a:cubicBezTo>
                  <a:cubicBezTo>
                    <a:pt x="294" y="272"/>
                    <a:pt x="644" y="231"/>
                    <a:pt x="949" y="203"/>
                  </a:cubicBezTo>
                  <a:cubicBezTo>
                    <a:pt x="1254" y="175"/>
                    <a:pt x="1693" y="237"/>
                    <a:pt x="1977" y="203"/>
                  </a:cubicBezTo>
                  <a:cubicBezTo>
                    <a:pt x="2261" y="169"/>
                    <a:pt x="2541" y="34"/>
                    <a:pt x="2654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541880" y="5533920"/>
              <a:ext cx="167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: Read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2384280" y="2851200"/>
            <a:ext cx="3424320" cy="2885040"/>
            <a:chOff x="2384280" y="2851200"/>
            <a:chExt cx="3424320" cy="2885040"/>
          </a:xfrm>
        </p:grpSpPr>
        <p:sp>
          <p:nvSpPr>
            <p:cNvPr id="1239" name=""/>
            <p:cNvSpPr/>
            <p:nvPr/>
          </p:nvSpPr>
          <p:spPr>
            <a:xfrm>
              <a:off x="2384280" y="2851200"/>
              <a:ext cx="3424320" cy="2870280"/>
            </a:xfrm>
            <a:custGeom>
              <a:avLst/>
              <a:gdLst/>
              <a:ahLst/>
              <a:rect l="l" t="t" r="r" b="b"/>
              <a:pathLst>
                <a:path w="2157" h="1808">
                  <a:moveTo>
                    <a:pt x="2157" y="1152"/>
                  </a:moveTo>
                  <a:cubicBezTo>
                    <a:pt x="2060" y="1388"/>
                    <a:pt x="1963" y="1624"/>
                    <a:pt x="1694" y="1716"/>
                  </a:cubicBezTo>
                  <a:cubicBezTo>
                    <a:pt x="1425" y="1808"/>
                    <a:pt x="802" y="1808"/>
                    <a:pt x="542" y="1705"/>
                  </a:cubicBezTo>
                  <a:cubicBezTo>
                    <a:pt x="282" y="1602"/>
                    <a:pt x="204" y="1321"/>
                    <a:pt x="136" y="1095"/>
                  </a:cubicBezTo>
                  <a:cubicBezTo>
                    <a:pt x="68" y="869"/>
                    <a:pt x="159" y="532"/>
                    <a:pt x="136" y="350"/>
                  </a:cubicBezTo>
                  <a:cubicBezTo>
                    <a:pt x="113" y="168"/>
                    <a:pt x="56" y="84"/>
                    <a:pt x="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313080" y="5398920"/>
              <a:ext cx="207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: Query a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2120040" y="2814480"/>
            <a:ext cx="4172040" cy="1094040"/>
            <a:chOff x="2120040" y="2814480"/>
            <a:chExt cx="4172040" cy="1094040"/>
          </a:xfrm>
        </p:grpSpPr>
        <p:sp>
          <p:nvSpPr>
            <p:cNvPr id="1242" name=""/>
            <p:cNvSpPr/>
            <p:nvPr/>
          </p:nvSpPr>
          <p:spPr>
            <a:xfrm>
              <a:off x="2187720" y="2814480"/>
              <a:ext cx="0" cy="1094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120040" y="3238560"/>
              <a:ext cx="4172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: Collaborative cac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(Read data from another client if possibl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7F52-9F3E-4D5A-9D88-B38F19CB1B7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3525840" y="2941560"/>
            <a:ext cx="722160" cy="1001880"/>
          </a:xfrm>
          <a:custGeom>
            <a:avLst/>
            <a:gdLst/>
            <a:ahLst/>
            <a:rect l="l" t="t" r="r" b="b"/>
            <a:pathLst>
              <a:path w="455" h="631">
                <a:moveTo>
                  <a:pt x="243" y="67"/>
                </a:moveTo>
                <a:cubicBezTo>
                  <a:pt x="192" y="0"/>
                  <a:pt x="147" y="76"/>
                  <a:pt x="115" y="155"/>
                </a:cubicBezTo>
                <a:cubicBezTo>
                  <a:pt x="83" y="234"/>
                  <a:pt x="0" y="472"/>
                  <a:pt x="51" y="539"/>
                </a:cubicBezTo>
                <a:cubicBezTo>
                  <a:pt x="102" y="606"/>
                  <a:pt x="383" y="631"/>
                  <a:pt x="419" y="555"/>
                </a:cubicBezTo>
                <a:cubicBezTo>
                  <a:pt x="455" y="479"/>
                  <a:pt x="294" y="134"/>
                  <a:pt x="243" y="6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789280" y="2941560"/>
            <a:ext cx="722160" cy="1001880"/>
          </a:xfrm>
          <a:custGeom>
            <a:avLst/>
            <a:gdLst/>
            <a:ahLst/>
            <a:rect l="l" t="t" r="r" b="b"/>
            <a:pathLst>
              <a:path w="455" h="631">
                <a:moveTo>
                  <a:pt x="243" y="67"/>
                </a:moveTo>
                <a:cubicBezTo>
                  <a:pt x="192" y="0"/>
                  <a:pt x="147" y="76"/>
                  <a:pt x="115" y="155"/>
                </a:cubicBezTo>
                <a:cubicBezTo>
                  <a:pt x="83" y="234"/>
                  <a:pt x="0" y="472"/>
                  <a:pt x="51" y="539"/>
                </a:cubicBezTo>
                <a:cubicBezTo>
                  <a:pt x="102" y="606"/>
                  <a:pt x="383" y="631"/>
                  <a:pt x="419" y="555"/>
                </a:cubicBezTo>
                <a:cubicBezTo>
                  <a:pt x="455" y="479"/>
                  <a:pt x="294" y="134"/>
                  <a:pt x="243" y="6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17800" y="3035160"/>
            <a:ext cx="815760" cy="843120"/>
          </a:xfrm>
          <a:custGeom>
            <a:avLst/>
            <a:gdLst/>
            <a:ahLst/>
            <a:rect l="l" t="t" r="r" b="b"/>
            <a:pathLst>
              <a:path w="514" h="531">
                <a:moveTo>
                  <a:pt x="49" y="40"/>
                </a:moveTo>
                <a:cubicBezTo>
                  <a:pt x="0" y="80"/>
                  <a:pt x="60" y="381"/>
                  <a:pt x="129" y="456"/>
                </a:cubicBezTo>
                <a:cubicBezTo>
                  <a:pt x="198" y="531"/>
                  <a:pt x="416" y="528"/>
                  <a:pt x="465" y="488"/>
                </a:cubicBezTo>
                <a:cubicBezTo>
                  <a:pt x="514" y="448"/>
                  <a:pt x="498" y="293"/>
                  <a:pt x="425" y="216"/>
                </a:cubicBezTo>
                <a:cubicBezTo>
                  <a:pt x="352" y="139"/>
                  <a:pt x="98" y="0"/>
                  <a:pt x="49" y="40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049400" y="2965320"/>
            <a:ext cx="1266840" cy="989280"/>
          </a:xfrm>
          <a:custGeom>
            <a:avLst/>
            <a:gdLst/>
            <a:ahLst/>
            <a:rect l="l" t="t" r="r" b="b"/>
            <a:pathLst>
              <a:path w="798" h="623">
                <a:moveTo>
                  <a:pt x="531" y="76"/>
                </a:moveTo>
                <a:cubicBezTo>
                  <a:pt x="464" y="0"/>
                  <a:pt x="400" y="33"/>
                  <a:pt x="323" y="100"/>
                </a:cubicBezTo>
                <a:cubicBezTo>
                  <a:pt x="246" y="167"/>
                  <a:pt x="0" y="400"/>
                  <a:pt x="67" y="476"/>
                </a:cubicBezTo>
                <a:cubicBezTo>
                  <a:pt x="134" y="552"/>
                  <a:pt x="648" y="623"/>
                  <a:pt x="723" y="556"/>
                </a:cubicBezTo>
                <a:cubicBezTo>
                  <a:pt x="798" y="489"/>
                  <a:pt x="598" y="152"/>
                  <a:pt x="531" y="76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519440" y="470052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526080" y="468792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728800" y="473868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915840" y="4751280"/>
            <a:ext cx="1175040" cy="1225800"/>
          </a:xfrm>
          <a:custGeom>
            <a:avLst/>
            <a:gdLst/>
            <a:ahLst/>
            <a:rect l="l" t="t" r="r" b="b"/>
            <a:pathLst>
              <a:path w="740" h="772">
                <a:moveTo>
                  <a:pt x="399" y="87"/>
                </a:moveTo>
                <a:cubicBezTo>
                  <a:pt x="328" y="0"/>
                  <a:pt x="310" y="66"/>
                  <a:pt x="255" y="159"/>
                </a:cubicBezTo>
                <a:cubicBezTo>
                  <a:pt x="200" y="252"/>
                  <a:pt x="0" y="560"/>
                  <a:pt x="71" y="647"/>
                </a:cubicBezTo>
                <a:cubicBezTo>
                  <a:pt x="142" y="734"/>
                  <a:pt x="618" y="772"/>
                  <a:pt x="679" y="679"/>
                </a:cubicBezTo>
                <a:cubicBezTo>
                  <a:pt x="740" y="586"/>
                  <a:pt x="470" y="174"/>
                  <a:pt x="399" y="8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lan 9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3" name=""/>
          <p:cNvSpPr/>
          <p:nvPr/>
        </p:nvSpPr>
        <p:spPr>
          <a:xfrm>
            <a:off x="2514600" y="22352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397160" y="554976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079640" y="554976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854360" y="288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048120" y="28702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422360" y="4915080"/>
            <a:ext cx="190440" cy="215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09888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768760" y="55753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959200" y="49402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788000" y="490212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870280" y="35560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187800" y="35560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727280" y="55627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3009960" y="3086280"/>
            <a:ext cx="1015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174840" y="308628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1244520" y="5130720"/>
            <a:ext cx="25416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523880" y="5130720"/>
            <a:ext cx="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549440" y="5143680"/>
            <a:ext cx="25380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H="1">
            <a:off x="2870280" y="5168880"/>
            <a:ext cx="16488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073320" y="5168880"/>
            <a:ext cx="11448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705040" y="2451240"/>
            <a:ext cx="33012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044800" y="2463840"/>
            <a:ext cx="4572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574640" y="35560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257480" y="35560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540160" y="359424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209680" y="35812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905120" y="35686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H="1">
            <a:off x="1422000" y="3073320"/>
            <a:ext cx="44460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1701360" y="3111480"/>
            <a:ext cx="1652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866960" y="3086280"/>
            <a:ext cx="1141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070000" y="3098880"/>
            <a:ext cx="24156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082960" y="3086280"/>
            <a:ext cx="5461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61016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92768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4749840" y="5118120"/>
            <a:ext cx="1015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15080" y="5118120"/>
            <a:ext cx="88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883560" y="55879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591240" y="56008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6730920" y="5130720"/>
            <a:ext cx="10152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96160" y="513072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769080" y="495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120760" y="5067360"/>
            <a:ext cx="330480" cy="58428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568680" y="5054760"/>
            <a:ext cx="330120" cy="5839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579920" y="5969160"/>
            <a:ext cx="254160" cy="291960"/>
          </a:xfrm>
          <a:custGeom>
            <a:avLst/>
            <a:gdLst/>
            <a:ahLst/>
            <a:rect l="l" t="t" r="r" b="b"/>
            <a:pathLst>
              <a:path w="712" h="616">
                <a:moveTo>
                  <a:pt x="323" y="0"/>
                </a:moveTo>
                <a:cubicBezTo>
                  <a:pt x="222" y="16"/>
                  <a:pt x="122" y="33"/>
                  <a:pt x="75" y="104"/>
                </a:cubicBezTo>
                <a:cubicBezTo>
                  <a:pt x="28" y="175"/>
                  <a:pt x="0" y="340"/>
                  <a:pt x="43" y="424"/>
                </a:cubicBezTo>
                <a:cubicBezTo>
                  <a:pt x="86" y="508"/>
                  <a:pt x="230" y="600"/>
                  <a:pt x="331" y="608"/>
                </a:cubicBezTo>
                <a:cubicBezTo>
                  <a:pt x="432" y="616"/>
                  <a:pt x="590" y="545"/>
                  <a:pt x="651" y="472"/>
                </a:cubicBezTo>
                <a:cubicBezTo>
                  <a:pt x="712" y="399"/>
                  <a:pt x="705" y="283"/>
                  <a:pt x="699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973760" y="5956200"/>
            <a:ext cx="253800" cy="292320"/>
          </a:xfrm>
          <a:custGeom>
            <a:avLst/>
            <a:gdLst/>
            <a:ahLst/>
            <a:rect l="l" t="t" r="r" b="b"/>
            <a:pathLst>
              <a:path w="712" h="616">
                <a:moveTo>
                  <a:pt x="323" y="0"/>
                </a:moveTo>
                <a:cubicBezTo>
                  <a:pt x="222" y="16"/>
                  <a:pt x="122" y="33"/>
                  <a:pt x="75" y="104"/>
                </a:cubicBezTo>
                <a:cubicBezTo>
                  <a:pt x="28" y="175"/>
                  <a:pt x="0" y="340"/>
                  <a:pt x="43" y="424"/>
                </a:cubicBezTo>
                <a:cubicBezTo>
                  <a:pt x="86" y="508"/>
                  <a:pt x="230" y="600"/>
                  <a:pt x="331" y="608"/>
                </a:cubicBezTo>
                <a:cubicBezTo>
                  <a:pt x="432" y="616"/>
                  <a:pt x="590" y="545"/>
                  <a:pt x="651" y="472"/>
                </a:cubicBezTo>
                <a:cubicBezTo>
                  <a:pt x="712" y="399"/>
                  <a:pt x="705" y="283"/>
                  <a:pt x="699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079640" y="2006640"/>
            <a:ext cx="3200400" cy="18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990720" y="4699080"/>
            <a:ext cx="10411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717640" y="4686480"/>
            <a:ext cx="7495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495680" y="4711680"/>
            <a:ext cx="7495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477120" y="4686480"/>
            <a:ext cx="74916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024560" y="442584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le serv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561400" y="440064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le serv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161240" y="4438800"/>
            <a:ext cx="16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utation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156720" y="443880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73200" y="412740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400480" y="389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536840" y="412740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111480" y="412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927680" y="412740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896160" y="41274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304280" y="173340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873600" y="35179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581280" y="35305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3720600" y="3060720"/>
            <a:ext cx="10188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886200" y="306072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759120" y="288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692440" y="2413080"/>
            <a:ext cx="1117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74720" y="3809880"/>
            <a:ext cx="558720" cy="1422360"/>
          </a:xfrm>
          <a:custGeom>
            <a:avLst/>
            <a:gdLst/>
            <a:ahLst/>
            <a:rect l="l" t="t" r="r" b="b"/>
            <a:pathLst>
              <a:path w="352" h="896">
                <a:moveTo>
                  <a:pt x="256" y="896"/>
                </a:moveTo>
                <a:cubicBezTo>
                  <a:pt x="128" y="810"/>
                  <a:pt x="0" y="725"/>
                  <a:pt x="16" y="576"/>
                </a:cubicBezTo>
                <a:cubicBezTo>
                  <a:pt x="32" y="427"/>
                  <a:pt x="192" y="213"/>
                  <a:pt x="352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577960" y="3848040"/>
            <a:ext cx="292320" cy="1409760"/>
          </a:xfrm>
          <a:custGeom>
            <a:avLst/>
            <a:gdLst/>
            <a:ahLst/>
            <a:rect l="l" t="t" r="r" b="b"/>
            <a:pathLst>
              <a:path w="184" h="888">
                <a:moveTo>
                  <a:pt x="184" y="888"/>
                </a:moveTo>
                <a:cubicBezTo>
                  <a:pt x="131" y="866"/>
                  <a:pt x="79" y="844"/>
                  <a:pt x="48" y="696"/>
                </a:cubicBezTo>
                <a:cubicBezTo>
                  <a:pt x="17" y="548"/>
                  <a:pt x="8" y="27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429000" y="3822840"/>
            <a:ext cx="1231920" cy="1447560"/>
          </a:xfrm>
          <a:custGeom>
            <a:avLst/>
            <a:gdLst/>
            <a:ahLst/>
            <a:rect l="l" t="t" r="r" b="b"/>
            <a:pathLst>
              <a:path w="776" h="912">
                <a:moveTo>
                  <a:pt x="0" y="0"/>
                </a:moveTo>
                <a:cubicBezTo>
                  <a:pt x="103" y="12"/>
                  <a:pt x="207" y="24"/>
                  <a:pt x="336" y="176"/>
                </a:cubicBezTo>
                <a:cubicBezTo>
                  <a:pt x="465" y="328"/>
                  <a:pt x="620" y="620"/>
                  <a:pt x="776" y="912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102200" y="3403440"/>
            <a:ext cx="2565360" cy="1791000"/>
          </a:xfrm>
          <a:custGeom>
            <a:avLst/>
            <a:gdLst/>
            <a:ahLst/>
            <a:rect l="l" t="t" r="r" b="b"/>
            <a:pathLst>
              <a:path w="1616" h="1128">
                <a:moveTo>
                  <a:pt x="1616" y="1128"/>
                </a:moveTo>
                <a:cubicBezTo>
                  <a:pt x="1406" y="754"/>
                  <a:pt x="1197" y="380"/>
                  <a:pt x="928" y="192"/>
                </a:cubicBezTo>
                <a:cubicBezTo>
                  <a:pt x="659" y="4"/>
                  <a:pt x="329" y="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4360" y="387972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525760" y="391788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839040" y="3892680"/>
            <a:ext cx="6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383440" y="346068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997680" y="5829480"/>
            <a:ext cx="736560" cy="266400"/>
          </a:xfrm>
          <a:custGeom>
            <a:avLst/>
            <a:gdLst/>
            <a:ahLst/>
            <a:rect l="l" t="t" r="r" b="b"/>
            <a:pathLst>
              <a:path w="464" h="168">
                <a:moveTo>
                  <a:pt x="0" y="0"/>
                </a:moveTo>
                <a:lnTo>
                  <a:pt x="0" y="168"/>
                </a:lnTo>
                <a:lnTo>
                  <a:pt x="464" y="168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410240" y="5835600"/>
            <a:ext cx="7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27480" y="2863800"/>
            <a:ext cx="12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on dire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51600" y="60008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mote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303680" y="5416560"/>
            <a:ext cx="12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ABF6-B03C-41A0-86D6-CC3B042E895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per Review by Stud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n N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rew Fil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file-sharing semantics is each system based 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server-side cach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client-side cach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the client-initiated valid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the server-initiated valid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3628-4491-4AB2-AEFC-2767AE553B8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Turn-In 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6" name=""/>
          <p:cNvSpPr/>
          <p:nvPr/>
        </p:nvSpPr>
        <p:spPr>
          <a:xfrm>
            <a:off x="504720" y="1876320"/>
            <a:ext cx="8639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Q1.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In transaction-like semantics a.k.a. concurrency control, compare the pros and cons of backward and forward transactions. In particular, consider the case where each transaction includes more read than write operation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Backward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Forward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Answer the following five questions about file-caching. When you are asked to show which systems use a given caching scheme, choose all applicable systems from NFS, AFS, xFS and Plan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1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Why can file-caching contribute to performance improvement? Answer two rea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 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 2: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2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State one merit for using server-side caching? Which system uses server-side-caching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Meri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: Plan9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04D9-32A1-4C11-A226-24236F27E2F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&amp; Transpar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are files nam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reveal loc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change if file mov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change 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us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ov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C0CD-AC25-4B62-9587-44AC4A6ED4D1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Turn-In 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8" name=""/>
          <p:cNvSpPr/>
          <p:nvPr/>
        </p:nvSpPr>
        <p:spPr>
          <a:xfrm>
            <a:off x="212760" y="2120760"/>
            <a:ext cx="8639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3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Client-side caching allows multiple clients to cache the same file. There are two schemes to validate the contents of a locally-cached file (or invalidate the contents of the same file cached at remote clients.) Those are client-initiated and server-initiated validations. Does the client-initiated validation require a file server to be stateful? Justify your answer. Also show which systems use the client-initiated valid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tateless or statefu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s: NFS, Plan9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4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Does the server-initiated validation require a file server to be stateful? Justify your answer. Also show which system uses the server-initiated valid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tateless or statefu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: AFS, xFS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2A26-D4D5-4A7A-B51B-88606431B41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par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ion transpar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ilename does not reveal physical storage 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ion independ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ilename need not change if file’s storage location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racti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naming schemes do not have location indepen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have location transpa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A3D1-9853-40C7-9231-BA933D4FCE5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solute N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97600" y="3144600"/>
            <a:ext cx="3876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must know complete name – aware of which files are local &amp; which are remo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is location dependent (cannot mo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s sharing ha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ault-toler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100160" y="2844720"/>
            <a:ext cx="389556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679320" indent="-261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840" indent="-312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find fully specified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add &amp; delete new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glob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les 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31840" y="2041560"/>
            <a:ext cx="508032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Linotype"/>
              </a:rPr>
              <a:t>&lt;machine name, path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0040"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Examples: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ppleShare, Windows 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B373-7E9D-4DD7-BB75-A79ED03A0BF3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unt Poi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unt points (NFS – Network File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host has set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ocal nam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mote lo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unt tabl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: specifies &lt;remote pathname @ machine name, local path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boot: bind local name to remo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refer to local path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FS manages ma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D5F2-62D6-437B-9C44-4DB9A1B3C59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unt Points: Pros &amp; C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te name can change across reboo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840" indent="0"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nified strategy hard to maint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ile can have different 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DD83-867D-47E3-8C38-1371FA4B227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6T06:33:48Z</dcterms:created>
  <dc:creator>Munehiro Fukuda</dc:creator>
  <dc:description/>
  <dc:language>en-US</dc:language>
  <cp:lastModifiedBy>Javier Bustos Jiménez</cp:lastModifiedBy>
  <cp:lastPrinted>1999-11-27T07:19:44Z</cp:lastPrinted>
  <dcterms:modified xsi:type="dcterms:W3CDTF">2007-10-08T15:46:50Z</dcterms:modified>
  <cp:revision>958</cp:revision>
  <dc:subject>Distributed File Systems</dc:subject>
  <dc:title>CSS434: Parallel &amp; Distributed Computing</dc:title>
</cp:coreProperties>
</file>