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4BA76-21CA-4730-8F14-C55938E2A82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AD0E0-30B4-4D41-92E7-397A98CC5F52}" type="slidenum">
              <a:rPr b="0" lang="es-E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8E976-83C2-44C5-8FD2-BB6B7317BF1A}" type="slidenum">
              <a:rPr b="0" lang="es-E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37C8C-F110-4402-BA31-B95564DEDF9E}" type="slidenum">
              <a:rPr b="0" lang="es-E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DFAC1-0E8C-42B5-9311-0D69325FA2D6}" type="slidenum">
              <a:rPr b="0" lang="es-E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AC9D9-9F97-4A4A-8D80-5B41C7D40B59}" type="slidenum">
              <a:rPr b="0" lang="es-E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D9C53-B4BB-4826-84A6-AB55EED4964F}" type="slidenum">
              <a:rPr b="0" lang="es-E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A7EF6-C279-405A-AF5B-624752231AF8}" type="slidenum">
              <a:rPr b="0" lang="es-E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08DFD-01E0-4ECD-AC4C-6A140744CC1E}" type="slidenum">
              <a:rPr b="0" lang="es-E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76326-9F0F-4C1E-B556-2A44B112363F}" type="slidenum">
              <a:rPr b="0" lang="es-E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6D514-BAFE-4ED6-8BF2-AC5128528EAD}" type="slidenum">
              <a:rPr b="0" lang="es-E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71582-6D6E-468E-B111-CC24AB1EB8F6}" type="slidenum">
              <a:rPr b="0" lang="es-E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627DD-121A-49FA-BC14-43187F0BFBC5}" type="slidenum">
              <a:rPr b="0" lang="es-E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25891-AF7F-4657-9531-E1F7724807E8}" type="slidenum">
              <a:rPr b="0" lang="es-E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B461-65E4-4274-AB38-74AD82561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3F8E-7113-4CBD-A186-89F1D3101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505A-B38B-4F4B-BAA5-9C2CB9CBA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55AC-61A2-497E-9F9F-59F5011DF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97F15-63EC-49B6-B145-AD1253F08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55CEE-BF56-4B4A-BEA5-DA985FC79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1D5D0-D7CF-4F9C-90D3-E222F2D3F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25E25-92D1-4ED0-B78B-B409CF973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F0010-73F4-426A-861B-A215FF37C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7B5FF-459A-49EB-A303-A524D2B89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45954-3D21-48DE-B457-714BB9E23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B91A-B6B2-46E6-A086-608DF0D4F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FE551-8CB2-4F21-8B66-ED7326C00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EAEA2-176C-40C5-8845-FE2DB86E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E9DC7-E06F-403F-AC79-619E93392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96160-E451-4F79-A771-D0F1D65E8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3584D-BA7B-4863-AE8B-CB54B5C2F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D1CA-A468-4343-B18A-4DE8036B4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BDA2-E53D-4835-82DA-37F687ADA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9F97-B70A-4772-A418-8A09A50AB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77FC-58F9-4A6E-9120-DE7879B22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D48B-8E95-4F8D-BD45-CB4C50D11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7B19-E632-429A-903F-66CD8A4F1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FBE3-3967-4CD0-8E77-2DFA3D45B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custGeom>
                <a:avLst/>
                <a:gdLst>
                  <a:gd name="textAreaLeft" fmla="*/ 360 w 192240"/>
                  <a:gd name="textAreaRight" fmla="*/ 192960 w 192240"/>
                  <a:gd name="textAreaTop" fmla="*/ 0 h 194040"/>
                  <a:gd name="textAreaBottom" fmla="*/ 194400 h 19404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F1B0E-BECD-49B0-8F09-83BA6C91330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102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1027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1028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1029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1030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1031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1032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1033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34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035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036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037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038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039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040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041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042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043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1044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1045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1046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1047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1048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1049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1050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1051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1052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1053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1054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1055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1056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1057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1058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1059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1060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1061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1062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1063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1064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1065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1066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1067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1068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1069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1070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1071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1072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1073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1074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1075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1076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1077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1078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1079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1080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1081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1082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1083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1084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1085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1086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>
                  <a:gd name="textAreaLeft" fmla="*/ 360 w 247680"/>
                  <a:gd name="textAreaRight" fmla="*/ 248400 w 247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1087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1088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1089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1090"/>
              <p:cNvSpPr/>
              <p:nvPr/>
            </p:nvSpPr>
            <p:spPr>
              <a:xfrm rot="5400000">
                <a:off x="8090640" y="5314320"/>
                <a:ext cx="247680" cy="2491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0B87E-7BD6-4092-B246-2D6BB76DFEF8}" type="slidenum">
              <a:rPr b="0" lang="es-E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7035840" cy="9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458c"/>
                </a:solidFill>
                <a:latin typeface="Tahoma"/>
              </a:rPr>
              <a:t>Discusión Final del Curs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0" y="46386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l Rol del Curso…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lación con otros Curs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ostulación de Proyec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14240" y="1673280"/>
            <a:ext cx="81266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225"/>
              </a:spcBef>
              <a:spcAft>
                <a:spcPts val="1576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os proyectos tienen que beneficiar al DCC, a la Facultad/Univ., a los alumnos o a alguna entidad sin fines de lucr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225"/>
              </a:spcBef>
              <a:spcAft>
                <a:spcPts val="1576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 require un cliente con al 1 hora semanal de disponibilidad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225"/>
              </a:spcBef>
              <a:spcAft>
                <a:spcPts val="1576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os clientes pueden ser cualquiera, menos los alumnos de la carrera que no hayan pasado por cc51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225"/>
              </a:spcBef>
              <a:spcAft>
                <a:spcPts val="1576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 debe entregar al profesor una breve descripción del proyecto (1/2 o 1 página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onclusiones..</a:t>
            </a: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714320"/>
            <a:ext cx="77724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10120" indent="-510120">
              <a:spcBef>
                <a:spcPts val="1800"/>
              </a:spcBef>
              <a:spcAft>
                <a:spcPts val="1800"/>
              </a:spcAft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En esta disciplina no se puede descansar... Lamentablemente!!!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10120" indent="-510120">
              <a:spcBef>
                <a:spcPts val="1800"/>
              </a:spcBef>
              <a:spcAft>
                <a:spcPts val="1800"/>
              </a:spcAft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Rol de una Universidad con respecto a los Profesionale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10120" indent="-510120">
              <a:spcBef>
                <a:spcPts val="1800"/>
              </a:spcBef>
              <a:spcAft>
                <a:spcPts val="1800"/>
              </a:spcAft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Rol del curso con respecto a ustede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10120" indent="-510120">
              <a:spcBef>
                <a:spcPts val="1800"/>
              </a:spcBef>
              <a:spcAft>
                <a:spcPts val="1800"/>
              </a:spcAft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Ser un buen estudiante no implica ser un buen ingenier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10120" indent="0">
              <a:spcBef>
                <a:spcPts val="1800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77960" y="1600200"/>
            <a:ext cx="81770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0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En qué crees que puede trabajar un Ingeniero en Computación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20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En qué crees que vas a trabajar durante los próximos 5 años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20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y en los próximos 30 años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77960" y="1600200"/>
            <a:ext cx="81770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1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10120" indent="-51012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Cómo crees que es el mercado laboral chileno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1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10120" indent="-51012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Cómo crees que es el ambiente laboral en una típica empresa chilena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1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10120" indent="-51012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Cuál crees que son los principales problemas que aquejan a las empresas de desarrollo de software en Chile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77960" y="1785960"/>
            <a:ext cx="817704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15160" indent="-51516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Cuál es el principal patrimonio de una empresa de desarrollo de software en Chile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15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15160" indent="-51516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Cuál o cuáles deberían serlo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15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15160" indent="-51516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Sientes que estás preparado para montar una empresa en este momento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15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15160" indent="-515160"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Cuándo crees que es un buen momento para hacerlo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77960" y="1600200"/>
            <a:ext cx="81770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Si vas a formar una empresa desarrolladora de software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Qué recursos prevés para comenzar a trabajar?  ¿por qué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Si vas a contratar el desarrollo de un software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Qué le vas a exigir a la empresa desarrolladora?  ¿por qué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Qué le vas a exigir al software?  ¿por qué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77960" y="1600200"/>
            <a:ext cx="81770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Qué es ”éxito” en un desarrollo de software?... a corto y a largo plaz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Qué papel juega la gestión de proyectos, dentro de una empresa desarrolladora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y la parte técnica? ¿cuál es más importante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Cómo estimar tiempos y costos de desarrollo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Cuál es la fase más importante para los desarrolladores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y para el cliente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Es posible mantenerse actualizado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Es necesario planificar mi empresa a largo plazo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Qué pasa con el organigrama de mi empresa? ¿Cuándo se define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Con qué estructura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Cómo será el personal de mi empresa? ¿especialistas o hombres-orquesta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Mi empresa debe hacer todo, o puedo tercerizar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Marketing y Diseño Gráfico..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9T15:53:33Z</dcterms:created>
  <dc:creator>Mercedario</dc:creator>
  <dc:description/>
  <dc:language>en-US</dc:language>
  <cp:lastModifiedBy>Sergio</cp:lastModifiedBy>
  <dcterms:modified xsi:type="dcterms:W3CDTF">2009-06-23T10:55:28Z</dcterms:modified>
  <cp:revision>47</cp:revision>
  <dc:subject/>
  <dc:title>CC51A – Ingeniería de Software</dc:title>
</cp:coreProperties>
</file>