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AB0-607D-42C4-B295-C18FE61F38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A79E-507C-47C0-9D10-B5856C498798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A3A1-E277-46AC-B61F-30055DB79F3E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B851-B2EE-45A6-9F4F-0F94BA1EFFC1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3D9E-EBB4-4105-BD3A-F2D09C2C6E14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B97-3A7A-4A59-AEA8-2328FE7E2F69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5A03-3B25-4F51-B547-B701274CD44A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5A35-559E-4EBA-8ECB-18301F0CA1EE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0C23-1289-46D4-88F0-4F4137115C5C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42B9-06EA-40D0-829D-66AB4BE575FD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7D60-0B2D-49A9-AA4B-153CB18E5AC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177-D6AB-40A9-8944-6C6AEC71420A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D8E2-ED9B-40F8-9FFC-A63A7B109412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FD35-D4A1-4588-B26E-1329AF13197E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2DD-8B20-44C1-871C-8717AF54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B2B-E7E1-4FC7-8BF4-C3E4230D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342-4B61-4998-B261-5F862843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3DB-2B73-4675-AE4C-80764560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7254-DDD6-4A7C-9D0B-CE020252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C6E4-AF33-4D68-AB06-72427ECE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E90E-3A43-462D-A5D6-4EFD32A6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DA55-3A06-4B64-B426-F31282F6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08EA-71CD-4800-ADC3-9E7C3BB5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3B54-3EB4-4617-B9E3-42768CA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898B-8039-4D60-B8C5-76C7897E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992-B05E-4490-AAA4-32B513E0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2DBB-E2A0-4940-AA7C-250C8C61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95EE-D662-4DDE-84ED-7085A0F0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6AA8-E341-4A03-BCF3-76DD425B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82E2-44F1-4A8F-B126-D5E763E7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241C-CB33-487E-9B22-4F0A384B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059-4272-4BF4-BA44-BB5F5DC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7AB-7447-4065-BD8C-102A71CB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982-35F8-4D26-B4BA-AC364349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544-C55A-4D99-B2AA-E7E5C2E4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A83-EE95-429B-8D0B-A4049C5C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1E0-A70C-4CAE-9441-ABB62545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199-A665-4080-8271-352A7BA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FF6F-5DBE-4AB5-83FC-53C9BA7AB83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2CE6-0B7D-4436-A794-CFA2DAA1E966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Rol del Curso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ción con otros Cur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stulación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812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proyectos tienen que beneficiar al DCC, a la Facultad/Univ., a los alumnos o a alguna entidad sin fines de luc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require un cliente con al 1 hora semanal de disponibi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clientes pueden ser cualquiera, menos los alumnos de la carrera que no hayan pasado por cc51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debe entregar al profesor una breve descripción del proyecto (1/2 o 1 págin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r un buen estudiante no implica ser un buen ingenier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s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s que vas a trabajar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s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s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s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785960"/>
            <a:ext cx="8177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5160" indent="-515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s que estás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crees que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 vas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s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 vas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s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s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... a corto y a largo plaz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s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</cp:lastModifiedBy>
  <dcterms:modified xsi:type="dcterms:W3CDTF">2009-06-23T10:55:28Z</dcterms:modified>
  <cp:revision>47</cp:revision>
  <dc:subject/>
  <dc:title>CC51A – Ingeniería de Software</dc:title>
</cp:coreProperties>
</file>