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7F44-E991-4F9A-B2E8-4ECDC4C0A57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F958-C85C-42B3-ABC5-0E15CA440266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52D3-BEEF-4FD3-87C2-72F0F212DEFD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60E9-01F6-4E1A-B98A-27046D07D0BF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EB82-97F1-4134-AC55-6E3A25402C97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57AB-92BF-492D-8AE3-6AB382409528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E9A9-B954-49E8-B1FD-E2DBAC9D0F4C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8AE3-9B7E-4A31-B6EF-5140222DDB6F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87C5-A371-407C-929B-9AA76652AE07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53DA-3C3B-499A-A80B-C123C9840F2B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2E65-2AC0-4800-BF6B-9A022A7D5739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663D-0DF8-46E8-AECB-67B7AA01F93C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60B7-F43B-4D40-9C22-6AF91110B228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70A1-A2AD-4BCA-92A2-E748080B3016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B77F-3C86-4CDC-AA28-F71DD153B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EC43-28C7-41BF-BD06-14EF3153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7AF5-6F2F-42E0-8CC4-CA999B99C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3744-07D5-4795-BE1F-C3F8BA27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04A1-B289-4EB0-9D1A-E507C33B9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97200-99A2-4167-87CE-0FB56C75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1585-D21B-4AE2-890A-7206AFCB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2A28-C3AA-4E0E-89AC-9C2A5254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954F-9C37-4949-AF43-B08A8734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A7A35-A1E2-46B1-95A7-299EAD45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C5DD-3503-4815-B1B9-7AA5B4C6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89F4-85AD-4DEB-AE85-170B904C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E0FC-30C5-45E3-918F-F6F6E5C8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1128-2CC5-4091-801F-AA084330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F4C6-0685-4617-9742-D68559D1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7044-26A1-406F-9BF1-42481308B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8E08-679D-413E-906E-9085B8A0F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4BB2-2C50-4A87-9793-73BFA8C8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8802-01B1-45ED-A5F5-28898BA2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71B0-2935-4CF9-8F5D-65AA928C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95E7-7432-4FF8-839B-D4711937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E06D-C03A-45A6-8D60-CEB32D3A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DF97-51AF-42BA-968E-33171209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A123-13F6-459C-B5FE-7F9BE5E7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AA16-EF72-476B-BF3D-2D873475B4E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1027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1028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1029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1030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1031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1032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1033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34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35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036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037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038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039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040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041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042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043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044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1045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1046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1047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1048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1049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050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1051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1052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1053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1054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1055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1056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1057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1058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1059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1060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1061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1062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1063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1064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065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1066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1067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1068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1069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1070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1071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1072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1073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1074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1075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1076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1077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1078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1079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1080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1081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1082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1083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1084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1085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108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1087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1088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1089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1090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2D09-52A6-4822-8BC7-5D822FC05E3D}" type="slidenum">
              <a:rPr b="0" lang="es-E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Discusión Final del Curs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 Rol del Curso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lación con otros Curs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ostulación de Proyec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14240" y="1673280"/>
            <a:ext cx="8126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1576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proyectos tienen que beneficiar al DCC, a la Facultad/Univ., a los alumnos o a alguna entidad sin fines de lucr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1576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 require un cliente con al 1 hora semanal de disponibil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1576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clientes pueden ser cualquiera, menos los alumnos de la carrera que no hayan pasado por cc51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1576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 debe entregar al profesor una breve descripción del proyecto (1/2 o 1 página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..</a:t>
            </a: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714320"/>
            <a:ext cx="77724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10120" indent="-510120">
              <a:spcBef>
                <a:spcPts val="1800"/>
              </a:spcBef>
              <a:spcAft>
                <a:spcPts val="1800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En esta disciplina no se puede descansar... Lamentablemente!!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spcBef>
                <a:spcPts val="1800"/>
              </a:spcBef>
              <a:spcAft>
                <a:spcPts val="1800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Rol de una Universidad con respecto a los Profesional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spcBef>
                <a:spcPts val="1800"/>
              </a:spcBef>
              <a:spcAft>
                <a:spcPts val="1800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Rol del curso con respecto a usted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spcBef>
                <a:spcPts val="1800"/>
              </a:spcBef>
              <a:spcAft>
                <a:spcPts val="1800"/>
              </a:spcAft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Ser un buen estudiante no implica ser un buen ingenier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0"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n qué crees que puede trabajar un Ingeniero en Computación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n qué crees que vas a trabajar durante los próximos 5 añ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y en los próximos 30 añ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1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crees que es el mercado laboral chilen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crees que es el ambiente laboral en una típica empresa chilen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uál crees que son los principales problemas que aquejan a las empresas de desarrollo de software en Chil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77960" y="1785960"/>
            <a:ext cx="817704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15160" indent="-51516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l es el principal patrimonio de una empresa de desarrollo de software en Chile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5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5160" indent="-51516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l o cuáles deberían serl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5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5160" indent="-51516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Sientes que estás preparado para montar una empresa en este moment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5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15160" indent="-51516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ndo crees que es un buen momento para hacerl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i vas a formar una empresa desarrolladora de softwar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recursos prevés para comenzar a trabajar?  ¿por qué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i vas a contratar el desarrollo de un softwar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le vas a exigir a la empresa desarrolladora?  ¿por qué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le vas a exigir al software?  ¿por qué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es ”éxito” en un desarrollo de software?... a corto y a largo plaz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papel juega la gestión de proyectos, dentro de una empresa desarrollador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y la parte técnica? ¿cuál es más important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estimar tiempos y costos de desarroll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uál es la fase más importante para los desarrolladore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y para el client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s posible mantenerse actualizad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s necesario planificar mi empresa a largo plaz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pasa con el organigrama de mi empresa? ¿Cuándo se defin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on qué estructur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será el personal de mi empresa? ¿especialistas o hombres-orquest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Mi empresa debe hacer todo, o puedo terceriza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arketing y Diseño Gráfico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15:53:33Z</dcterms:created>
  <dc:creator>Mercedario</dc:creator>
  <dc:description/>
  <dc:language>en-US</dc:language>
  <cp:lastModifiedBy>Sergio</cp:lastModifiedBy>
  <dcterms:modified xsi:type="dcterms:W3CDTF">2009-06-23T10:55:28Z</dcterms:modified>
  <cp:revision>47</cp:revision>
  <dc:subject/>
  <dc:title>CC51A – Ingeniería de Software</dc:title>
</cp:coreProperties>
</file>