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8307-68B8-4F4E-8A4B-7018A5CA54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E7C6-407F-4D5D-ADA5-67E4FBABF3D7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43DD-0FB7-43E6-9266-7A8C356F14F7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BB29-909B-4834-A1F7-DB55B768E0A9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BC3E-1F62-4DD8-9F91-772682054707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2EB-4814-4967-BEC7-C093092106A2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0DAE-E1D0-4E53-A4F6-22ACE1229B45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A641-DDC5-4A2D-9CFD-314412BF8AB8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AC79-D388-4EE8-B787-A25A513A2225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623C-D81F-4564-90A3-8AABEA7EA9D5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0454-3893-4949-841D-B80FC2C20C9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8C7A-3635-4043-8382-527D0292086B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3075-6A37-4D24-9F11-19FC4B84F5A0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01BB-FBE1-47CF-8C37-1EC9D27C5EED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0F7-DE7F-4500-A665-574B41F8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A73-1BA9-48DF-A600-E65AE3FB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DCD-27A4-4490-85D2-3D533202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074-CAEC-4A06-A07C-98FFE5DA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B492-3054-414A-90ED-1903A011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AD02-B36D-48D8-8B49-9934A707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FE6B-11DE-41A3-9CA1-55DC18E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3E37-CB72-4EAE-9057-610B0ED0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3BCA-E3EA-4ADD-81C7-8392E8C5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284-E859-4D67-B338-45D1C837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4FC0-F87E-4FA4-BE2C-9C2BF01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B23-9891-4A66-8AE5-46D98AEF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4757-DD82-4F87-9305-27DBB82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EDBD-1A10-45E1-8942-8DE0119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38E1-2477-49B2-AFA6-1C0C4AC9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80FE-34E3-4F31-858D-5BF8A41F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EA2E-6F30-4C98-B43C-B61C5B01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B21-732F-4B4F-962E-7A63B150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6A1-8A4C-4AF0-8F51-D46BED6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0C6-EBE5-4AE4-84AF-67AA240E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F8E-5D17-45D1-A5AC-7A792CFE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50F-BEBD-4E92-938F-4B7C8511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0F0-C26D-4E0B-833E-CC9658B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4FE-C005-4F19-9DE1-EAE6C30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9622-C4B6-4621-ABE8-F6A2EED9367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B2A6-F39F-4317-A67D-5F56A7455B71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Rol del Curso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ción con otros Cur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stulación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812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proyectos tienen que beneficiar al DCC, a la Facultad/Univ., a los alumnos o a alguna entidad sin fines de luc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require un cliente con al 1 hora semanal de disponibi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clientes pueden ser cualquiera, menos los alumnos de la carrera que no hayan pasado por cc51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debe entregar al profesor una breve descripción del proyecto (1/2 o 1 págin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r un buen estudiante no implica ser un buen ingenier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s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s que vas a trabajar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s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s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s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785960"/>
            <a:ext cx="8177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5160" indent="-515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s que estás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crees que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 vas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s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 vas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s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s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... a corto y a largo plaz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s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</cp:lastModifiedBy>
  <dcterms:modified xsi:type="dcterms:W3CDTF">2009-06-23T10:55:28Z</dcterms:modified>
  <cp:revision>47</cp:revision>
  <dc:subject/>
  <dc:title>CC51A – Ingeniería de Software</dc:title>
</cp:coreProperties>
</file>