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765D-5FFA-47F7-8C98-6F7AEEB31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A123-6496-42FE-84C6-9696FF86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9B9E-CBA3-45FB-ABB2-B811DF8D6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EFDF-B8A8-43C6-9FE1-800080B57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4E350-B4B9-45A0-B81F-A3EBF119F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337FA-6604-4F26-A9AF-2AE74AFD9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FA9F6-A8FA-41CA-A513-EF0B78481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BECE0-359A-44EB-BCAB-480EF406C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36345-E7EF-40AB-AA9B-064FDE694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EAB63-8706-4FF6-B072-F052D4A17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68ACC-F49F-429C-8632-E05F8A9F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6957-0ACB-40DD-9095-B07DD57F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2CE98-54D2-4833-8A9B-B1FE5CE4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F6D42-F75D-472F-8F3D-4EC42D56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A164B-21A8-4D13-A818-AC65346D2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22791-E246-44BD-A505-E835DCB28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97F11-18C2-4EA3-9EAC-ABEF10112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2C4C-B83D-492E-8CE6-CA61452B7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DA78-C73F-46E8-9D4B-0E22B3C3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F0FD-DA8A-4FD6-806B-585B7FC8E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4289-EEA6-40FA-9D2A-ED358445C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833B-0C9F-4677-8431-2EA4734D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D911-49C0-4329-A12F-EADB80BC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39E2-C2AD-42E7-AF31-4F7620BE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25350-AEA5-4578-9989-693AF8DE1A4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11344-D136-4D4E-832A-982069CDF60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44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990720" y="3301920"/>
            <a:ext cx="703584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0458c"/>
                </a:solidFill>
                <a:latin typeface="Tahoma"/>
              </a:rPr>
              <a:t>Calidad y Mejoramiento de Procesos de Softwar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06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4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422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Proceso de Mejora...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4000" y="1754280"/>
            <a:ext cx="80010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-52056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SzPct val="113173"/>
              <a:buBlip>
                <a:blip r:embed="rId1"/>
              </a:buBlip>
              <a:tabLst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Tiene que ver con los objetivos a largo plazo de mi empresa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SzPct val="113173"/>
              <a:buBlip>
                <a:blip r:embed="rId2"/>
              </a:buBlip>
              <a:tabLst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be ser continuo. Los esfuerzos temporales no sirven para alcanzar objetivos a largo plaz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SzPct val="113173"/>
              <a:buBlip>
                <a:blip r:embed="rId3"/>
              </a:buBlip>
              <a:tabLst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40458c"/>
                </a:solidFill>
                <a:latin typeface="Tahoma"/>
              </a:rPr>
              <a:t>No hay recetas mágicas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SzPct val="113173"/>
              <a:buBlip>
                <a:blip r:embed="rId4"/>
              </a:buBlip>
              <a:tabLst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ada solución depende del diagnóstico inicial, que involucr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20880" indent="-28584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0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nálisis de la cultura organizacional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920880" indent="-28584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0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nálisis del proceso actual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920880" indent="-28584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0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nálisis de resultados de pruebas... Sobre la solución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efinic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Mejoramiento del proceso de software: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metodología deliberada y planeada, que sigue prácticas de documentación estandarizadas para capturar en el papel (y en la práctica) cada elemento del proceso de software, y determinar su valor agregado. Una herramienta útil para realizar esto: diagrama ETVX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iagrama ETVX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773360"/>
            <a:ext cx="7772400" cy="475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2449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Proceso se compone de actividad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2449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Cada actividad se controla usando un modelo definido: </a:t>
            </a:r>
            <a:r>
              <a:rPr b="0" i="1" lang="es-ES_tradnl" sz="2800" spc="-1" strike="noStrike">
                <a:solidFill>
                  <a:srgbClr val="40458c"/>
                </a:solidFill>
                <a:latin typeface="Tahoma"/>
              </a:rPr>
              <a:t>Entry-Task-Verification-eXit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2449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La estructura del modelo requiere: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conjunto predefinido de criterios de entrada, tareas, verificaciones, y criterios de salida para cada activida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iagrama ETVX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>
            <a:off x="920880" y="1835280"/>
            <a:ext cx="7835760" cy="448308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25440" y="2292480"/>
            <a:ext cx="2121120" cy="3797280"/>
          </a:xfrm>
          <a:prstGeom prst="rect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968640" y="2292480"/>
            <a:ext cx="1892520" cy="1587240"/>
          </a:xfrm>
          <a:prstGeom prst="rect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44560" y="3892680"/>
            <a:ext cx="368280" cy="520560"/>
          </a:xfrm>
          <a:prstGeom prst="right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6c633b"/>
              </a:gs>
              <a:gs pos="50000">
                <a:srgbClr val="ecd882"/>
              </a:gs>
              <a:gs pos="100000">
                <a:srgbClr val="6c633b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770120" y="2311560"/>
            <a:ext cx="961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ENTRY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12600" y="2311560"/>
            <a:ext cx="783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TASK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094520" y="2387520"/>
            <a:ext cx="701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EXI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073040" y="4597560"/>
            <a:ext cx="1708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66"/>
                </a:solidFill>
                <a:latin typeface="Comic Sans MS"/>
              </a:rPr>
              <a:t>VERIFICATIO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272240" y="2813040"/>
            <a:ext cx="2011680" cy="32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Política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Procedimient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Recurs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Financiamient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Entrenamient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Orienta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Proces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Patrocini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Responsabilidades /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Rol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Bases de Dat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Herramientas /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Métod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319280" y="2813040"/>
            <a:ext cx="135036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Plan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Accion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Métrica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Informa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327920" y="5022720"/>
            <a:ext cx="136728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Revisiones /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Auditoría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Medicion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Análisi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8880" y="3193920"/>
            <a:ext cx="1600200" cy="17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Satisfacción d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Objetiv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Activ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Product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Completad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511440" y="2901960"/>
            <a:ext cx="368280" cy="520560"/>
          </a:xfrm>
          <a:prstGeom prst="rightArrow">
            <a:avLst>
              <a:gd name="adj1" fmla="val 50000"/>
              <a:gd name="adj2" fmla="val 48755"/>
            </a:avLst>
          </a:prstGeom>
          <a:gradFill rotWithShape="0">
            <a:gsLst>
              <a:gs pos="0">
                <a:srgbClr val="6c633b"/>
              </a:gs>
              <a:gs pos="50000">
                <a:srgbClr val="ecd882"/>
              </a:gs>
              <a:gs pos="100000">
                <a:srgbClr val="6c633b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rot="16200000">
            <a:off x="5225760" y="3853800"/>
            <a:ext cx="444600" cy="673200"/>
          </a:xfrm>
          <a:prstGeom prst="right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6c633b"/>
              </a:gs>
              <a:gs pos="50000">
                <a:srgbClr val="ecd882"/>
              </a:gs>
              <a:gs pos="100000">
                <a:srgbClr val="6c633b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 rot="16200000">
            <a:off x="4425840" y="3892320"/>
            <a:ext cx="444600" cy="596880"/>
          </a:xfrm>
          <a:prstGeom prst="right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6c633b"/>
              </a:gs>
              <a:gs pos="50000">
                <a:srgbClr val="ecd882"/>
              </a:gs>
              <a:gs pos="100000">
                <a:srgbClr val="6c633b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8640" y="4502160"/>
            <a:ext cx="1892520" cy="1587600"/>
          </a:xfrm>
          <a:prstGeom prst="rect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07280" y="2292480"/>
            <a:ext cx="2120760" cy="3797280"/>
          </a:xfrm>
          <a:prstGeom prst="rect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950080" y="5111640"/>
            <a:ext cx="368280" cy="520920"/>
          </a:xfrm>
          <a:prstGeom prst="rightArrow">
            <a:avLst>
              <a:gd name="adj1" fmla="val 50000"/>
              <a:gd name="adj2" fmla="val 48755"/>
            </a:avLst>
          </a:prstGeom>
          <a:gradFill rotWithShape="0">
            <a:gsLst>
              <a:gs pos="0">
                <a:srgbClr val="6c633b"/>
              </a:gs>
              <a:gs pos="50000">
                <a:srgbClr val="ecd882"/>
              </a:gs>
              <a:gs pos="100000">
                <a:srgbClr val="6c633b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616960" y="3892680"/>
            <a:ext cx="444600" cy="596880"/>
          </a:xfrm>
          <a:prstGeom prst="rightArrow">
            <a:avLst>
              <a:gd name="adj1" fmla="val 50000"/>
              <a:gd name="adj2" fmla="val 48755"/>
            </a:avLst>
          </a:prstGeom>
          <a:gradFill rotWithShape="0">
            <a:gsLst>
              <a:gs pos="0">
                <a:srgbClr val="6c633b"/>
              </a:gs>
              <a:gs pos="50000">
                <a:srgbClr val="ecd882"/>
              </a:gs>
              <a:gs pos="100000">
                <a:srgbClr val="6c633b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10 Trampas a Evita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17280"/>
            <a:ext cx="7772400" cy="49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11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Falta de compromiso superior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11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Expectativas irreales de la supervisión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11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Líderes que no otorgan los recursos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11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Entrenamiento inadecuad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11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Que el logro de un nivel CMM sea el objetiv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11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Mala aplicación a nivel micr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11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Evaluaciones inefectivas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11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Retardo de la implementación de plan de acción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11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Mejoramiento de procesos se transforma en un jueg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11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Esperar que el proceso reemplace a la gente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Requisitos para el Mejoramien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120" y="1557360"/>
            <a:ext cx="8001000" cy="530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575"/>
              </a:spcBef>
              <a:spcAft>
                <a:spcPts val="286"/>
              </a:spcAft>
              <a:buSzPct val="15747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Ingenieros y gerentes inteligentes, entrenados, creativos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spcAft>
                <a:spcPts val="286"/>
              </a:spcAft>
              <a:buSzPct val="15747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Trabajo en equipo efectivo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spcAft>
                <a:spcPts val="286"/>
              </a:spcAft>
              <a:buSzPct val="15747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Cultura compartida focalizada hacia la calidad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spcAft>
                <a:spcPts val="286"/>
              </a:spcAft>
              <a:buSzPct val="15747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Objetivos de mejoramiento claros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spcAft>
                <a:spcPts val="286"/>
              </a:spcAft>
              <a:buSzPct val="15747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Métricas para controlar avance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spcAft>
                <a:spcPts val="286"/>
              </a:spcAft>
              <a:buSzPct val="15747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Evaluación honesta de áreas en problema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spcAft>
                <a:spcPts val="286"/>
              </a:spcAft>
              <a:buSzPct val="15747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Tiempo para seleccionar, pilotar, e implantar procesos mejorados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spcAft>
                <a:spcPts val="286"/>
              </a:spcAft>
              <a:buSzPct val="15747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Liderazgos y expectativas superiores consistentes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spcAft>
                <a:spcPts val="286"/>
              </a:spcAft>
              <a:buSzPct val="15747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Todos están involucrados en los esfuerzos de mejoramiento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spcAft>
                <a:spcPts val="286"/>
              </a:spcAft>
              <a:buSzPct val="15747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Sentido común, combinado con un compromiso para mejorar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Proceso de Mejora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Antes de imponer una propuesta de mejora, se debe estar seguro de que funcionará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. para ello es recomendable hacer pruebas, y analizar los resultad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Un vez detectadas la o las estrategias válidas, se debe trabajar en detalle sobre la solu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Automatizar procesos es generalmente una buena opción (aunque no siempre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Se deben determinar objetivos, canales de comunicación, protocolos de comunicación, et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Proceso de Mejora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9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49"/>
              </a:spcBef>
              <a:spcAft>
                <a:spcPts val="1624"/>
              </a:spcAft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Es importante que el mejoramiento no involucre grandes cambios, ya que la gente normalmente se resiste a ésto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spcAft>
                <a:spcPts val="1624"/>
              </a:spcAft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Es importante que el mejoramiento sea continuo, para realizar grandes cambios pero a largo plazo. 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spcAft>
                <a:spcPts val="1624"/>
              </a:spcAft>
              <a:buSzPct val="13927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También para avanzar sobre la base de los resultados obtenido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spcAft>
                <a:spcPts val="1624"/>
              </a:spcAft>
              <a:buSzPct val="13927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Toda empresa de software debería plantearse esto, desde el momento de su fundación...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SzPct val="13927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El mejoramiento del proceso de software no es un aspecto opcional....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odelo IDEA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400800" cy="49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mpromiso para Cambia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1508040" y="1959120"/>
            <a:ext cx="0" cy="358776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1514520" y="5576400"/>
            <a:ext cx="5692680" cy="1764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-546120" y="3387960"/>
            <a:ext cx="4689000" cy="141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10740000">
            <a:off x="4131720" y="3169080"/>
            <a:ext cx="4289040" cy="1789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81"/>
                </a:moveTo>
                <a:arcTo wR="10800" hR="10800" stAng="-6092" swAng="5408640"/>
                <a:lnTo>
                  <a:pt x="10800" y="10800"/>
                </a:lnTo>
                <a:close/>
              </a:path>
              <a:path fill="none" w="21600" h="21600">
                <a:moveTo>
                  <a:pt x="21600" y="10781"/>
                </a:moveTo>
                <a:arcTo wR="10800" hR="10800" stAng="-6092" swAng="5408640"/>
              </a:path>
            </a:pathLst>
          </a:custGeom>
          <a:noFill/>
          <a:ln cap="rnd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10120" y="4033800"/>
            <a:ext cx="50760" cy="507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022480" y="4788000"/>
            <a:ext cx="50760" cy="507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768760" y="4692600"/>
            <a:ext cx="50760" cy="507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498840" y="4545000"/>
            <a:ext cx="50760" cy="507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727520" y="3452760"/>
            <a:ext cx="50760" cy="507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89560" y="3244680"/>
            <a:ext cx="50760" cy="5112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973840" y="3162240"/>
            <a:ext cx="50760" cy="507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85360" y="5738760"/>
            <a:ext cx="12268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Comic Sans MS"/>
              </a:rPr>
              <a:t>TIEMPO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923760" y="2160720"/>
            <a:ext cx="362160" cy="34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Comic Sans MS"/>
              </a:rPr>
              <a:t>COMPROMISO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21720" y="4809960"/>
            <a:ext cx="103644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Contact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70909"/>
                </a:solidFill>
                <a:latin typeface="Comic Sans MS"/>
              </a:rPr>
              <a:t>Nombre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661480" y="4743360"/>
            <a:ext cx="120852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Concienci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e70909"/>
                </a:solidFill>
                <a:latin typeface="Comic Sans MS"/>
              </a:rPr>
              <a:t>Buzzword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341440" y="4057560"/>
            <a:ext cx="14644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Comprens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70909"/>
                </a:solidFill>
                <a:latin typeface="Comic Sans MS"/>
              </a:rPr>
              <a:t>Concepto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012920" y="4005360"/>
            <a:ext cx="128160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Ensay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70909"/>
                </a:solidFill>
                <a:latin typeface="Comic Sans MS"/>
              </a:rPr>
              <a:t>Posibilidade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631400" y="3475080"/>
            <a:ext cx="114444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Adop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70909"/>
                </a:solidFill>
                <a:latin typeface="Comic Sans MS"/>
              </a:rPr>
              <a:t>Usos Libre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198680" y="2666880"/>
            <a:ext cx="201636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Institucionaliza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70909"/>
                </a:solidFill>
                <a:latin typeface="Comic Sans MS"/>
              </a:rPr>
              <a:t>Sinergia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953680" y="3276720"/>
            <a:ext cx="15958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Internaliza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70909"/>
                </a:solidFill>
                <a:latin typeface="Comic Sans MS"/>
              </a:rPr>
              <a:t>Asunció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321480"/>
            <a:ext cx="74646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37800"/>
            <a:ext cx="7897680" cy="538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spcAft>
                <a:spcPts val="2801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Motiva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spcAft>
                <a:spcPts val="2801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Definicion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spcAft>
                <a:spcPts val="2801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¿Qué y cómo mejorar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spcAft>
                <a:spcPts val="2801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Algunos Números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spcAft>
                <a:spcPts val="2801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Conclusion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spcAft>
                <a:spcPts val="28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84836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romiso para Cambia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305920" cy="50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es fácil de obten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ero la mejora es relativamente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fácil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de logr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75000"/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isminución del esfuerzo - mayores competencias, mejores herramientas, métodos, estructuras de organización, planificación y control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Monotype Sorts"/>
                <a:ea typeface="Monotype Sorts"/>
              </a:rPr>
              <a:t>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jorar proces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ejorar el Proceso </a:t>
            </a:r>
            <a:r>
              <a:rPr b="0" lang="en-US" sz="2800" spc="-1" strike="noStrike">
                <a:solidFill>
                  <a:srgbClr val="40458c"/>
                </a:solidFill>
                <a:latin typeface="Monotype Sorts"/>
                <a:ea typeface="Monotype Sorts"/>
              </a:rPr>
              <a:t>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Mejorar el Produc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ejorar el Proceso </a:t>
            </a:r>
            <a:r>
              <a:rPr b="0" lang="en-US" sz="2800" spc="-1" strike="noStrike">
                <a:solidFill>
                  <a:srgbClr val="40458c"/>
                </a:solidFill>
                <a:latin typeface="Monotype Sorts"/>
                <a:ea typeface="Monotype Sorts"/>
              </a:rPr>
              <a:t>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Conocer Nuestra  Capacidad + Apoyarnos en un Estándar …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55280" y="1628280"/>
            <a:ext cx="82090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Es la medida de un concepto (generalmente) abstracto, que incluy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Forma de medir: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Sistemática (reproducible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Simpl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Pertine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Una escala de medida para ese concept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8208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onstituyen mi información histórica registrad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Definirlas tempranamente (sólo las que sean útile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Usarlas para medi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Cumplimiento de requisitos, etapas, hitos, 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mpacto del proye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uidado con el exceso de contro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Luego hay que confiar en ellas…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Ejemplos de 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087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Cantidad y tipo de requisitos por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Cantidad y tipo de errores por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Costo de corrección de errores, usando varios criteri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Horas/Hombre totales, y por fas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Cantidad de líneas de código (o páginas Web) por proyecto, y por requisito funciona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Uso de recursos (especialmente gente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Uso de componentes estándar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Duración del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1697040" y="1628640"/>
          <a:ext cx="6330960" cy="500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7040" y="1628640"/>
                    <a:ext cx="6330960" cy="50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"/>
          <p:cNvSpPr/>
          <p:nvPr/>
        </p:nvSpPr>
        <p:spPr>
          <a:xfrm>
            <a:off x="971640" y="27792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Ejemplos de Métrica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4360" y="350640"/>
            <a:ext cx="820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660066"/>
                </a:solidFill>
                <a:latin typeface="Arial"/>
              </a:rPr>
              <a:t>Ejemplo de Métricas en un Proceso de Mejor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755640" y="1700280"/>
            <a:ext cx="8153280" cy="4724280"/>
            <a:chOff x="755640" y="1700280"/>
            <a:chExt cx="8153280" cy="4724280"/>
          </a:xfrm>
        </p:grpSpPr>
        <p:graphicFrame>
          <p:nvGraphicFramePr>
            <p:cNvPr id="301" name=""/>
            <p:cNvGraphicFramePr/>
            <p:nvPr/>
          </p:nvGraphicFramePr>
          <p:xfrm>
            <a:off x="755640" y="2152440"/>
            <a:ext cx="6781680" cy="16812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30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55640" y="2152440"/>
                      <a:ext cx="6781680" cy="168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3" name=""/>
            <p:cNvGraphicFramePr/>
            <p:nvPr/>
          </p:nvGraphicFramePr>
          <p:xfrm>
            <a:off x="755640" y="4489560"/>
            <a:ext cx="8153280" cy="19350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30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55640" y="4489560"/>
                      <a:ext cx="8153280" cy="1935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5" name=""/>
            <p:cNvSpPr/>
            <p:nvPr/>
          </p:nvSpPr>
          <p:spPr>
            <a:xfrm>
              <a:off x="796680" y="1700280"/>
              <a:ext cx="2102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66ff"/>
                  </a:solidFill>
                  <a:latin typeface="Univers Condensed"/>
                </a:rPr>
                <a:t>% de errore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37360" y="4032360"/>
              <a:ext cx="2783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66ff"/>
                  </a:solidFill>
                  <a:latin typeface="Univers Condensed"/>
                </a:rPr>
                <a:t>Costos Asociado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660066"/>
                </a:solidFill>
                <a:latin typeface="Arial"/>
              </a:rPr>
              <a:t>Representación de 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1763640" y="1906560"/>
          <a:ext cx="704052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9" name="" descr="Rectangle: Click to edit Master text styles&#13;&#10;Second level&#13;&#10;Third level&#13;&#10;Fourth level&#13;&#10;Fifth leve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906560"/>
                    <a:ext cx="70405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FdP -  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81356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Información esencial par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Formular el proyecto (tiempo, costo, recursos, etc)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dentificar riesgos en forma tempran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Prever planes de contingencia ante riesgos históric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dentificar áreas problemáticas y posibles estrategias de mejor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Mejorar la competitividad de mis desarroll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Hay que prever en el plan de proyecto el tiempo para registrar y procesar métric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lgunos números…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QSM Associates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porta reducciones de esfuerzo de hasta el 70%, debido al desarrollo basado en component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lan Brown reporta reducciones de entre el 35 y el 55%, debido a la misma caus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T&amp;T Bell Lab reporta una reducción de los costos de corrección de errores, de al menos el 50%, debido al proceso de revisión de la arquitectur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ational Corp. reporta reducciones de hasta el 50% debido a la automatización de los procesos involucrados en el desarroll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…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 La comunidad internacional reporta una mejora sostenida en la calidad de los productos de software, debido al uso de patro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817280"/>
            <a:ext cx="8153280" cy="49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24"/>
              </a:spcBef>
              <a:spcAft>
                <a:spcPts val="1562"/>
              </a:spcAft>
              <a:buSzPct val="14480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0458c"/>
                </a:solidFill>
                <a:latin typeface="Tahoma"/>
              </a:rPr>
              <a:t>Toda empresa necesita y puede mejorar su proceso de desarrollo de Software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spcAft>
                <a:spcPts val="1562"/>
              </a:spcAft>
              <a:buSzPct val="14480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0458c"/>
                </a:solidFill>
                <a:latin typeface="Tahoma"/>
              </a:rPr>
              <a:t>Mejorar el proceso impacta directamente en la competitividad y el futuro de la empresa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spcAft>
                <a:spcPts val="1562"/>
              </a:spcAft>
              <a:buSzPct val="14480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0458c"/>
                </a:solidFill>
                <a:latin typeface="Tahoma"/>
              </a:rPr>
              <a:t>El proceso de mejoramiento debe ser lo más independiente posible de las personas involucradas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spcAft>
                <a:spcPts val="1562"/>
              </a:spcAft>
              <a:buSzPct val="14480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0458c"/>
                </a:solidFill>
                <a:latin typeface="Tahoma"/>
              </a:rPr>
              <a:t>.... Es una forma de mantener la motivación de los empleados..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spcAft>
                <a:spcPts val="1562"/>
              </a:spcAft>
              <a:buSzPct val="14480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0458c"/>
                </a:solidFill>
                <a:latin typeface="Tahoma"/>
              </a:rPr>
              <a:t>Es fundamental para esta nueva era de escenarios globales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otiv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29480" indent="-42948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40458c"/>
                </a:solidFill>
                <a:latin typeface="Tahoma"/>
              </a:rPr>
              <a:t>Inmadurez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de ingeniería de software -&gt; estado de la práctic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3 factores críticos: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gente, tecnología, y proceso -&gt; principales determinantes de: costos, calendarios, productividad y calidad de softwar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desarrollo actual de software está conducido por procesos, por lo tanto depende en gran medida de ell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a competencia me obliga a mejorar en forma continu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os nuevos paradigmas apuntan a desarrollo rápi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otivación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4428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20560" indent="-520560">
              <a:lnSpc>
                <a:spcPct val="90000"/>
              </a:lnSpc>
              <a:spcBef>
                <a:spcPts val="601"/>
              </a:spcBef>
              <a:spcAft>
                <a:spcPts val="2401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Principio básico 1: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Es posible mejorar la calidad del producto, por medio de la mejora de la calidad del proceso de software. .... </a:t>
            </a: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No puedo (debo) apostar por la gente, ni por la tecnología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lnSpc>
                <a:spcPct val="90000"/>
              </a:lnSpc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601"/>
              </a:spcBef>
              <a:spcAft>
                <a:spcPts val="2401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Principio básico 2: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No se puede mejorar algo que está en la cabeza de alguien.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lnSpc>
                <a:spcPct val="90000"/>
              </a:lnSpc>
              <a:spcBef>
                <a:spcPts val="224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601"/>
              </a:spcBef>
              <a:spcAft>
                <a:spcPts val="2401"/>
              </a:spcAft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Principio básico 3: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No se puede mejorar algo, si no se tiene la certeza de qué es lo que hay que mejorar y cuánto hay que mejorar.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lnSpc>
                <a:spcPct val="90000"/>
              </a:lnSpc>
              <a:spcBef>
                <a:spcPts val="601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otivación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20560" indent="-520560">
              <a:lnSpc>
                <a:spcPct val="90000"/>
              </a:lnSpc>
              <a:spcBef>
                <a:spcPts val="700"/>
              </a:spcBef>
              <a:spcAft>
                <a:spcPts val="2801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Capacidad (</a:t>
            </a:r>
            <a:r>
              <a:rPr b="1" i="1" lang="es-ES_tradnl" sz="2800" spc="-1" strike="noStrike">
                <a:solidFill>
                  <a:srgbClr val="40458c"/>
                </a:solidFill>
                <a:latin typeface="Tahoma"/>
              </a:rPr>
              <a:t>capability</a:t>
            </a: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)-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medición de madurez -&gt; predice la calidad </a:t>
            </a:r>
            <a:r>
              <a:rPr b="1" i="1" lang="es-ES_tradnl" sz="2800" spc="-1" strike="noStrike">
                <a:solidFill>
                  <a:srgbClr val="40458c"/>
                </a:solidFill>
                <a:latin typeface="Tahoma"/>
              </a:rPr>
              <a:t>del proceso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de softwar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700"/>
              </a:spcBef>
              <a:spcAft>
                <a:spcPts val="2801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Esto indica la </a:t>
            </a:r>
            <a:r>
              <a:rPr b="0" i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previsibilidad de mis desarrollos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, en tiempo y costo requerido, y calidad del producto obteni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700"/>
              </a:spcBef>
              <a:spcAft>
                <a:spcPts val="2801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 la capacidad del proceso puede (y debe) ser mejorad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700"/>
              </a:spcBef>
              <a:spcAft>
                <a:spcPts val="2801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. el tema es cómo?... y a qué precio?.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otivación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spcAft>
                <a:spcPts val="1950"/>
              </a:spcAft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0458c"/>
                </a:solidFill>
                <a:latin typeface="Tahoma"/>
              </a:rPr>
              <a:t>Necesidad de métricas, métodos y mucha conducta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spcAft>
                <a:spcPts val="1950"/>
              </a:spcAft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0458c"/>
                </a:solidFill>
                <a:latin typeface="Tahoma"/>
              </a:rPr>
              <a:t>Dificultad para medir ciertos aspectos: </a:t>
            </a: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riesgos, productividad, aumento de calidad, satisfacción de cliente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spcAft>
                <a:spcPts val="1950"/>
              </a:spcAft>
              <a:buSzPct val="13927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0458c"/>
                </a:solidFill>
                <a:latin typeface="Tahoma"/>
              </a:rPr>
              <a:t>Dificultad para identificar áreas claves</a:t>
            </a: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 de problema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spcAft>
                <a:spcPts val="1950"/>
              </a:spcAft>
              <a:buSzPct val="13927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0458c"/>
                </a:solidFill>
                <a:latin typeface="Tahoma"/>
              </a:rPr>
              <a:t>Necesidad de medición de los procesos</a:t>
            </a: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 para determinar avances futuros: seleccionar un modelo, recolectar datos, evaluar y refinar. 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efinic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07280" cy="4997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1880" indent="-461880">
              <a:lnSpc>
                <a:spcPct val="12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Proceso: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secuencia de pasos ejecutados con un propósito específic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12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Proceso de software: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conjunto de actividades, métodos, prácticas, y transformaciones usados para desarrollar y mantener software y sus productos asociados, i.e. planes, documentos de diseño, código, casos de prueba, manual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efinic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504720" indent="-504720">
              <a:lnSpc>
                <a:spcPct val="105000"/>
              </a:lnSpc>
              <a:spcBef>
                <a:spcPts val="550"/>
              </a:spcBef>
              <a:spcAft>
                <a:spcPts val="1650"/>
              </a:spcAft>
              <a:buSzPct val="113218"/>
              <a:buBlip>
                <a:blip r:embed="rId1"/>
              </a:buBlip>
              <a:tabLst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40458c"/>
                </a:solidFill>
                <a:latin typeface="Tahoma"/>
              </a:rPr>
              <a:t>Mejoramiento del proceso de software: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893160" indent="-277200">
              <a:lnSpc>
                <a:spcPct val="105000"/>
              </a:lnSpc>
              <a:spcBef>
                <a:spcPts val="550"/>
              </a:spcBef>
              <a:spcAft>
                <a:spcPts val="165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565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40458c"/>
                </a:solidFill>
                <a:latin typeface="Tahoma"/>
              </a:rPr>
              <a:t>Comprender el estado actual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 de la práctica de ingeniería de software y gestión en una organización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893160" indent="-277200">
              <a:lnSpc>
                <a:spcPct val="105000"/>
              </a:lnSpc>
              <a:spcBef>
                <a:spcPts val="550"/>
              </a:spcBef>
              <a:spcAft>
                <a:spcPts val="165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565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40458c"/>
                </a:solidFill>
                <a:latin typeface="Tahoma"/>
              </a:rPr>
              <a:t>Seleccionar áreas de mejoramiento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 donde los cambios pueden significar el mayor beneficio de largo plaz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893160" indent="-277200">
              <a:lnSpc>
                <a:spcPct val="105000"/>
              </a:lnSpc>
              <a:spcBef>
                <a:spcPts val="550"/>
              </a:spcBef>
              <a:spcAft>
                <a:spcPts val="165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565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40458c"/>
                </a:solidFill>
                <a:latin typeface="Tahoma"/>
              </a:rPr>
              <a:t>Focalizarse en agregar valor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 al negocio, no en alcanzar una </a:t>
            </a:r>
            <a:r>
              <a:rPr b="0" i="1" lang="es-ES_tradnl" sz="2200" spc="-1" strike="noStrike">
                <a:solidFill>
                  <a:srgbClr val="40458c"/>
                </a:solidFill>
                <a:latin typeface="Tahoma"/>
              </a:rPr>
              <a:t>utopía de proces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893160" indent="-277200">
              <a:lnSpc>
                <a:spcPct val="105000"/>
              </a:lnSpc>
              <a:spcBef>
                <a:spcPts val="550"/>
              </a:spcBef>
              <a:spcAft>
                <a:spcPts val="165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565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Prosperar mediante la combinación de procesos efectivos con gente preparada, motivada y creativa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Proceso de Mejora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¿Qué mejorar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el proces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¿Cómo mejorar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Documentan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Midien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Previnien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Resolviendo (problema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Automatizan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Siendo hones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9T13:01:58Z</dcterms:created>
  <dc:creator>Mercedario</dc:creator>
  <dc:description/>
  <dc:language>en-US</dc:language>
  <cp:lastModifiedBy>Sergio F. Ochoa</cp:lastModifiedBy>
  <dcterms:modified xsi:type="dcterms:W3CDTF">2007-06-05T12:28:16Z</dcterms:modified>
  <cp:revision>35</cp:revision>
  <dc:subject/>
  <dc:title>CC51A – Ingeniería de Software</dc:title>
</cp:coreProperties>
</file>