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ABE-0AB2-4DF6-9001-2D452C08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025-C934-4F6B-AC6C-18E54862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F6C-5DDB-45F0-8449-FB9E1044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CA3-B7AB-4CA4-AFD4-933BF51B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FA07-5C2D-4D64-929B-4128DACC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F2C7-B595-449A-891B-63CF298D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A92C-EA3B-4B66-8369-52EE144B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2CE2-DECE-4DE5-84B0-634AF58C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81B3-829D-44DE-A3C7-4426FD62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88D0-F3B7-4F59-924D-A1B1ECE7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9C13-9056-4583-9A0E-7DB8014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264-BB22-49A9-980E-037D32EB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2714-0448-40EA-8121-30267F88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BA33-04AF-4645-96BE-3C90D66A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0598-5A25-4149-B2F9-C16796C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26D1-CBC6-4FC1-9309-516CCEA5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53C5-DBC9-410A-A63D-45405486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7B0-A66F-4345-AD51-E79A5776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F24-CFBB-4B6C-835F-DDAA59C4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EA7-9355-4CB1-BCC7-6197F03E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BF3-5D39-4F47-A9A5-B756BB64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980-C870-4466-8A65-56FD3DB8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E53-25D5-48F7-A4E3-E235DF8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6CE-6026-417A-AB7A-AF5F8B6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8918-474B-41EA-B81F-31A8DE17EE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4A86-D063-4295-AEFD-747AB61132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428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1728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7800"/>
            <a:ext cx="78976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35064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60066"/>
                </a:solidFill>
                <a:latin typeface="Arial"/>
              </a:rPr>
              <a:t>Ejemplo de Métricas en un Proceso de Mejor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1728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?...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04720" indent="-50472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Comprender el estado actu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7-06-05T12:28:16Z</dcterms:modified>
  <cp:revision>35</cp:revision>
  <dc:subject/>
  <dc:title>CC51A – Ingeniería de Software</dc:title>
</cp:coreProperties>
</file>