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107-152F-40E0-86D8-17EEF8D3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68B-17EA-4187-B46C-8EB82AF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C68-DD59-4254-BA87-3047045C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DDD-0D55-4DFD-9F2A-383589AB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B93-2C05-489D-8CF8-CBC3B161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FE99-BFA6-483F-A3F3-D370452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AB9D-0F07-4B93-BA66-B88342A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A906-237F-4BE2-8580-8EF4837B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1788-CD76-417E-B438-02E0A1CF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5B6-6494-4D16-A435-251383A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BADA-3781-46A4-A1F9-1C65213A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6B8-A659-47EE-B52A-0DF49FF6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3A43-68CE-4C53-94C1-9BB7458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0DE-4ED5-4D26-BA76-81D1D27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341-21B5-4E24-8B4C-C1CBA29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FA8A-AED5-4E31-B7B6-1E3FD950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8BC0-72DF-4E3C-BE65-35FA69C2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2B3-3034-42F8-B9ED-953A6CAD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F84-4509-4DB1-AE59-15B44F4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B15-02CF-4073-99E5-ADE4D835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C2C-A4C3-4B2E-B621-13FC85A6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2BC-D47D-4B9B-8BAA-15CD3C0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0CC-F925-4EB3-A580-E4CB2EE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9F6-7930-46DB-A887-F63FF63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0F7-5D04-4C74-907E-31B57DE927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0050-B513-4ADA-90AA-EE89C193FC4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428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4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1728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11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7800"/>
            <a:ext cx="7897680" cy="538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35064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660066"/>
                </a:solidFill>
                <a:latin typeface="Arial"/>
              </a:rPr>
              <a:t>Ejemplo de Métricas en un Proceso de Mejor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1728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601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?...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spcAft>
                <a:spcPts val="1950"/>
              </a:spcAft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04720" indent="-50472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Comprender el estado actu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-277200">
              <a:lnSpc>
                <a:spcPct val="105000"/>
              </a:lnSpc>
              <a:spcBef>
                <a:spcPts val="550"/>
              </a:spcBef>
              <a:spcAft>
                <a:spcPts val="16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7-06-05T12:28:16Z</dcterms:modified>
  <cp:revision>35</cp:revision>
  <dc:subject/>
  <dc:title>CC51A – Ingeniería de Software</dc:title>
</cp:coreProperties>
</file>