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F838C1-A28C-4A10-93D1-1E21DA250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97439A-6D20-4F96-B52D-6BA923917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282E8B-18CD-4190-9D3A-1E751363D5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4CF9AC-3BBD-43D4-9D90-A3FCFFD237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BF52CD-CE9C-43B0-B333-C09A4BE97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EA6348-7C98-4637-B763-AA7DEAFBB3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2A3BF7-49EF-4E65-B97A-A0782C48F5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796235-0681-4FF7-94A2-EE8902895C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116B52-B0DF-4318-AF29-72EBBCE0B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1087D5-CEC8-4764-9981-50478FD0CF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B9BE6A-A6F4-4389-B561-873992E06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078999-7365-4225-89FE-3EC785FC5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98A206-B649-41CC-84A7-2D91C77F14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053FAA-BC75-4D1A-AB56-8B74F510E4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81A274-60A0-4ED8-9637-48BB46AE5D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D347D4-06DB-461D-89CA-B0831C20A7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4B0620-FC05-49DB-8652-5BBC3D6B36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93AE9A-DB16-49D7-BDEE-27597BA0E3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84DC9E-9EFF-40AC-B7BE-311E137184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54F7E2-8E15-4099-B37E-A26C09696B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63124D-E6D5-4B92-B950-6D71E14B7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5F8A39-58A5-44EB-8860-A32E64818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71E40A-F252-4B19-A569-83C39AD808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F1F365-97DC-40DB-BCD6-7AD8724F77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FFA-7A8E-4D51-8AC5-EC0B2EAF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664-5DEC-4059-8B78-AE1510E4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0D4-9830-4B90-8B7C-85CA657A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A89-5B80-4E12-B0A9-D286A8C3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558-E90C-465D-B034-AC4513BC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9B2-75E9-4438-8F27-AA0A18E0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65D-816A-4C2A-B59C-9C0406B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9D4-E7CD-4AF6-B459-16829740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759-DB51-4D6A-ABB4-A08C8D40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FDE-5F2C-49D0-B485-9F69707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77B-A680-478F-A4CA-F76B7A0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93B-AF1E-42D7-907A-0A90553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E6E0-8754-4C3C-B983-887EBF41BA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7DD-AA51-43C2-9CED-F197877D1F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hoa@dcc.uchile.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727D-645D-458A-BBC4-BB763A0474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587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¿Para qué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terminar 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 fue exit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stablecer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ntabilidad fina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finar nuestros índic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métricas) de produ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s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n qué debo mejo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715160" y="98100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236000" y="5697360"/>
            <a:ext cx="19080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C7D3-D903-400A-A4DC-70D19C87F9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391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arar lo obtenido, contra la definición ini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con lo que se necesita en este mo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dentificar erro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n término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u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y forma de repa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13320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7280280" y="4724280"/>
            <a:ext cx="186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0BCE-B6A3-4D7D-B636-D9B38CF5EE5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197000"/>
            <a:ext cx="73911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 / confi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 por transacción /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uevas capac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tisfacción de lo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vel de comun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ilidad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bustez de la ope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encia de las person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orgá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626240" y="1773360"/>
            <a:ext cx="155412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900840" y="4581360"/>
            <a:ext cx="2243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0293-1936-4E84-9F8C-AE9AFB65CE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5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nego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ordenamiento de mer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locidad de re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bilidad de nuevos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ción entre áreas de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realidad informática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jidad de administ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olución posible (crecimiento                            y reemplaz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fijos y costo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308720" y="1647720"/>
            <a:ext cx="183528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7667640" y="4724280"/>
            <a:ext cx="147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1880-3473-43C3-AD96-3187F8BEC0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1400" y="1125360"/>
            <a:ext cx="80773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lgunos ítems para la reflexió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ieron los cost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y los tiemp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alidad del produ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satisfacción del cli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ipo de información guardé a cerca de mi proce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me sirve esa información para futuros desarroll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anto depende mi empresa, del equipo de trabaj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errores más dañinos para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8072280" y="993600"/>
            <a:ext cx="1071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0470-0C3B-45A7-80B3-04BA48B7FE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80773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fue su orig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problemas externos que más nos afectar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omunicación al interior del gru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se puede mejor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se comportó la tecnología emplea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o nuevas herramient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8323200" y="558972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5D1E-77B4-43ED-A1E1-789C9CB9EE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58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estuvo la fase de transferen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en qué se puede mejor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acarle más provecho al desarrollo realiza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se puede empaquetar el produ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necesito para hacer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323200" y="99540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C8D-A823-4388-AA15-4E95689FFE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44500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693960" y="1339920"/>
            <a:ext cx="3092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620-1E54-4B8D-B991-8D64CF90E4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8480" y="109836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o form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operativ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ierre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sume un nuevo est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las personas, recursos, organización, negocio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ipo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normal, formal, negociado, político, ..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ción y evaluación d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tuación de térmi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sultados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772400" y="11160"/>
            <a:ext cx="1371600" cy="98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45B1-F806-441E-AC40-918A1CCD40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715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ifusión del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l futuro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requier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formaliz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rrespondient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dentificación de aspectos pendiente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mportancia y prior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ele h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goci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realización d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jus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cenarios futur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l proyecto (mantención y/o evolu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075520" y="0"/>
            <a:ext cx="10684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425F-DD9C-41D6-B1D6-505E9E08875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391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 fase hay varias actividades que deben ser planificadas, coordinadas, controladas, y evalu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gración de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 de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sta en marcha del nuevo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lección y Reparación de Err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tificación (marcha blanca, paralelos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erre de la situación anterior (apagar equipo, botar sistema anterior, ..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877080" y="2263680"/>
            <a:ext cx="2266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63B-F38F-4A1E-AB27-8520A209BD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72F5-CEB6-4189-92E1-2D207327E2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8480" y="1143000"/>
            <a:ext cx="7535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érmino d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 ha camb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articular 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expect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valúa injust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as altern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fortal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012000" y="4871880"/>
            <a:ext cx="31320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A00E-065F-4658-9171-03997431FB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os proyec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men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for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evaluar, formular y administrar proyectos en la organ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in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la organización, todos estos cambios deben ayudar a fortalecer el proces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ex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quie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ad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a un tan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isionar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7640" y="993600"/>
            <a:ext cx="29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9B7-B4E8-454A-BD7D-90EC987388E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28880" y="1247760"/>
            <a:ext cx="64864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725-B42A-4C8B-8275-68D227FEC4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214280"/>
            <a:ext cx="766764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í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nos va a doler men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uando esto ocur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la parte buena es que si lo hemos hecho bien,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las probabilidades de quedarnos con el cliente, son alt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debido principalmente a estos camb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93FD-5252-4862-BEDF-B48B6C752B7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57200" y="5373360"/>
            <a:ext cx="7607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ál cree usted que sería la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volución nat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su proyecto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78200" y="1628640"/>
            <a:ext cx="4286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D7B5-CE9F-43BA-AA0D-44E8373197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2720" y="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97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hora de la ver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también la ocasión más clara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 el fra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os mie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fu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stencia a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a transi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canismos de “vuelta atrás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ncia de los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spasos entre sist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plicidad en el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008840" y="2711520"/>
            <a:ext cx="217152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020000" y="4913280"/>
            <a:ext cx="212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92D0-4BAC-4CF5-B56F-B6F25FA7C5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I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7200" y="3433320"/>
            <a:ext cx="739152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odría </a:t>
            </a: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cambiar la histor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dentro de una organización (típicamente asociada a sistemas antiguos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Podría haber mucha resistenc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por parte de los usuarios, si no se maneja bien la implantación y la difu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164360" y="981000"/>
            <a:ext cx="1979640" cy="1325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344600" y="1281240"/>
            <a:ext cx="57484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ay que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establecer un punto de quiebre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en el cual la nueva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solución se transforma en definitiv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00"/>
                </a:solidFill>
                <a:latin typeface="Arial"/>
                <a:ea typeface="Arial"/>
              </a:rPr>
              <a:t>Chance de Repetir la Operació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14280" y="1142640"/>
            <a:ext cx="7896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¿Cuántas posibilidades tenemos de repetir esta acción, si la desperdici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 Con mucha suerte, una 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545C-47F4-4D58-81FE-2E2E0E2E47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892600" y="2500200"/>
            <a:ext cx="49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283E-5529-4D80-B940-366F65218F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7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99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Fase de Transferenci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(Implantación) puede verse desde el punto de vista del cliente o de la empresa desarroll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l cli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 la fase más important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trato (soporte) que reciba el cliente durante esta fase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fluye directamente sobre su nivel de satisfac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ubo problemas antes, pero esta fase se hace bi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problema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hubo problemas antes, pero esta fase se hace mal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éxito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12589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0B8F-A3A0-47B1-8DFE-68D7D8340C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878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 la empresa desarrollado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resent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ultados del proceso de desarrollo,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cuales deben medirse y guardarse “por escri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miembros de cada rol deben presentar un documento que indiqu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ortalezas y debilidades detectad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respecto a su trabajo, y al funcionamiento colec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nque al finalizar el proyecto todos evitan este trabajo,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utocrítica objetiv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 fundamental para la supervivencia de mi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i no la documento, el único perjudicado soy y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Evaluación del Proce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85920" y="107136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sde el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client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valúe la posibilidad de hacer una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encuesta a los clientes y usuari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que interactuaron con el equip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dría obtener mucha información útil para mejorar…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información que ni me imagino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907-C9D4-4EFD-A92A-394B97EB5C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64040" y="3143160"/>
            <a:ext cx="2079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AAD8-8F25-41B8-8560-141303E814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ción / Medición de Result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8-10-28T20:19:44Z</dcterms:modified>
  <cp:revision>872</cp:revision>
  <dc:subject/>
  <dc:title>Programas de Extención</dc:title>
</cp:coreProperties>
</file>