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7D8DB8-7615-4138-8845-F22ECACF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151D18-8225-4E4D-AE82-2A09B9DC60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C1F7D5-7335-49E5-941B-2A9A84BEB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C0C0F7-12B5-48BC-8123-F75579D08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5D939A-7F7E-4CC0-BCBF-EF2B27458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FFCBB8-3F7F-4992-B930-9C0189369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2FDF97-5731-4372-A1B2-70564C65E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1FA54D-4641-41AC-8CC1-E1757F3839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AAEAB1-3CAA-4155-9802-D9C11CDBCC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473A52-269F-4915-BA0A-3E1298329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82A6FA-827D-4946-8831-A7218B1B1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84DDF6-2C42-4877-9E42-F42208D91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1FB414-9FB4-4815-A787-68F08A4F23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5F180D-8B2E-4F3F-82E2-4B3AFE7D52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239516-85E3-486D-80F0-15222C42F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E411EE-B6BB-418E-80C4-786131F194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7B2556-04B4-4393-9213-2041EF89EE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E74E47-1869-4022-8B4B-0CF8261C06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745847-9220-451A-A166-7AB45C991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BBF867-4C50-4109-90B6-5CF727C95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1C1069-6631-461E-96C3-8D9AD5973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E57172-F236-40F4-8727-C3284D37A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33DB51-8E1B-4AA4-8EC5-6F64C49BE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C21249-9075-47E5-9C3A-747224AB2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4B6-2439-4FC7-A048-414BA3FD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72D-2235-4B39-9372-BF14CB0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73F-D398-4D6F-B31B-F0B9A5C7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B0C-D1DF-4F83-8FCA-484895D6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DD0-2FFD-4D84-8696-DBFA4BA6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0BA-E4E7-40E4-851C-5C3EAE88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D6D-F94F-4EA7-8744-2028A60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1B0-EAAE-45C3-9CB0-F0A455E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D0D-CF5C-4DCF-B202-8424583F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D53-CC8C-430B-97B4-6FA4046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3CF-6120-4557-9AFC-01ABED8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742-B1C2-48C6-99B4-0036B33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B12-F348-4CA4-8D91-6D00E7FFB7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E6C-9EFE-4DE9-A4A2-90A6959B70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hoa@dcc.uchile.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581-F04E-408C-A616-BD57DFBA4A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58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Par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terminar 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 fue exit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stablecer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ntabilidad fin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finar nuestros índic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tricas) de produ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 qué debo mejo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715160" y="981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1908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8F0-D8F0-4058-9CEA-728009F558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391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rar lo obtenido, contra la definición ini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con lo que se necesita en 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dentificar err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n términ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u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y forma de repa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3320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7280280" y="4724280"/>
            <a:ext cx="186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138-D48A-4D83-9762-0712606B9C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91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/ confi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 por transacción /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evas capac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tisfacción de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vel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ilidad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bustez de la ope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encia de las person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6240" y="1773360"/>
            <a:ext cx="155412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900840" y="4581360"/>
            <a:ext cx="2243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9864-156D-4675-800B-7821B19A63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nego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ordenamiento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locidad de re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bilidad de nuevos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ción entre áreas de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realidad informática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jidad de administ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ble (crecimiento                            y reemplaz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fijos y costo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308720" y="1647720"/>
            <a:ext cx="183528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7D82-B5EF-40AF-B1CD-BAE070FF35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1400" y="1125360"/>
            <a:ext cx="8077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gunos ítems para la reflex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ieron los cos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y los tiem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alidad del produ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satisfacción del cl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ipo de información guardé a cerca de mi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me sirve esa información para futuros desarroll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anto depende mi empresa, del equipo de trabaj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errores más dañinos para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072280" y="993600"/>
            <a:ext cx="1071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33E1-FDA0-4672-A0A2-E41F905B71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80773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fue su orig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problemas externos que más nos afectar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omunicación al interior del gru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se puede mejor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se comportó la tecnología emple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o nuevas herramien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23200" y="558972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29C0-69CF-490E-92A1-6CCEB2756F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estuvo la fase de transferen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en qué se puede mejor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acarle más provecho al desarrollo realiz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se puede empaquetar el produ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necesito para hacer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323200" y="99540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A42D-24EF-456B-8417-51AC460A5E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445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93960" y="1339920"/>
            <a:ext cx="3092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C445-A237-4775-A3AE-5A643D5EF8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8480" y="109836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o form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perativ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ierre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sume un nuevo est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personas, recursos, organización, negocio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po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normal, formal, negociado, político, ..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ción y evaluación d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tuación de térmi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ultados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72400" y="1116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4503-76D7-432F-9932-908AE03081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fusión del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l futur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requier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formal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rrespondi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dentificación de aspectos pendiente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mportancia y prior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e h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goci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realización d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ju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cenarios futu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l proyecto (mantención y/o evolu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075520" y="0"/>
            <a:ext cx="10684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6E6-2C9F-41B0-A7B2-C2911DCF9C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39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 fase hay varias actividades que deben ser planificadas, coordinadas, controladas, y evalu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ración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 de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sta en marcha del nuevo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lección y Reparación de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tificación (marcha blanca, paralelos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erre de la situación anterior (apagar equipo, botar sistema anterior, 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877080" y="2263680"/>
            <a:ext cx="2266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C868-F70B-4A64-ACCD-7D128228A6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D8B-A5B2-4AA7-B6D6-074C76517D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480" y="1143000"/>
            <a:ext cx="7535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érmino d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 ha camb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articular 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expect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valúa injust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as altern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ortal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012000" y="4871880"/>
            <a:ext cx="3132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5D1-9085-49AE-807E-7E4AC881C2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os proye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for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evaluar, formular y administrar proyectos en la organ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in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la organización, todos estos cambios deben ayudar a fortalecer el proces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ex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quie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ad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a un tan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isionar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7640" y="99360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84E-8716-4B3B-8454-74379B19B9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28880" y="1247760"/>
            <a:ext cx="6486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A7AD-CF1D-41AE-8239-851ADA821C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214280"/>
            <a:ext cx="766764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í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nos va a doler me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sto ocu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la parte buena es que si lo hemos hecho bien,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las probabilidades de quedarnos con el cliente, son alt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debido principalmente a estos camb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8695-97B4-4330-8DC7-CFB8E9AB92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7200" y="5373360"/>
            <a:ext cx="7607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ál cree usted que sería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volución nat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su proyecto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78200" y="1628640"/>
            <a:ext cx="4286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580-D377-42A5-8D95-DA9000A123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2720" y="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97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hora de la ver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también la ocasión más clara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 el fra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os mie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stencia a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a transi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canismos de “vuelta atrás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ncia d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pasos entre sis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plicidad en el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08840" y="2711520"/>
            <a:ext cx="2171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020000" y="491328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989-FF97-4E0D-871B-C8C75ED3F8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I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7200" y="3433320"/>
            <a:ext cx="73915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dría </a:t>
            </a: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cambiar la histor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dentro de una organización (típicamente asociada a sistemas antigu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Podría haber mucha resistenc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por parte de los usuarios, si no se maneja bien la implantación y la difu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164360" y="981000"/>
            <a:ext cx="1979640" cy="1325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344600" y="1281240"/>
            <a:ext cx="57484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ay que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establecer un punto de quiebre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en el cual la nueva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solución se transforma en definitiv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00"/>
                </a:solidFill>
                <a:latin typeface="Arial"/>
                <a:ea typeface="Arial"/>
              </a:rPr>
              <a:t>Chance de Repetir la Operació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4280" y="1142640"/>
            <a:ext cx="789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¿Cuántas posibilidades tenemos de repetir esta acción, si la desperdici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 Con mucha suerte, un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F496-66C2-4D83-B8A8-CA09F94E00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892600" y="2500200"/>
            <a:ext cx="49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A9BA-12BD-4CA5-AD97-21B0B77E4F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7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99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se de Transferenc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mplantación) puede verse desde el punto de vista del cliente o de la empresa desarroll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l cli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 la fase más important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rato (soporte) que reciba el cliente durante esta fase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luye directamente sobre su nivel de satisfac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ubo problemas antes, pero esta fase se hace bi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problema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hubo problemas antes, pero esta fase se hace mal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éxito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1258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FE6-3774-4518-B5A5-28999EE4BA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78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 la empresa desarrollad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ultados del proceso de desarrollo,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cuales deben medirse y guardarse “por escri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miembros de cada rol deben presentar un documento que indi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talezas y debilidades detectad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respecto a su trabajo, y al funcionamiento cole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nque al finalizar el proyecto todos evitan este trabajo,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utocrítica objetiv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fundamental para la supervivencia de mi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 no la documento, el único perjudicado soy 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Evaluación del Proce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107136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sde el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client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valúe la posibilidad de hacer una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encuesta a los clientes y usuari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que interactuaron con el equip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dría obtener mucha información útil para mejorar…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información que ni me imagino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A19-7127-4D45-BDC1-C5FB3B367B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64040" y="3143160"/>
            <a:ext cx="2079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9803-EEAB-4C7A-8208-DF37D85AB0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ción / Medición de Result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8-10-28T20:19:44Z</dcterms:modified>
  <cp:revision>872</cp:revision>
  <dc:subject/>
  <dc:title>Programas de Extención</dc:title>
</cp:coreProperties>
</file>