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16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B990057-BD4A-4B66-8B51-E8D7E0E0F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C3E266C-BEC1-408B-A12E-6B32E622D2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8E20E88-27F5-4219-81C8-BBB888C0C5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F101EF2-73DE-4F0A-91E0-B1571E0490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9D500BD-4C0C-45F7-A131-D7D449C608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0738EBD-E1C2-4706-8E8E-B6E76F9F1D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17D577F-6C67-4AF1-A41F-156FFE03B8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BC31749-80A3-429F-8F87-54CEF3B60C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B885310-04FB-46BA-A382-86782B359A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D451D7A-A1A1-4D4C-9221-D6291D5085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919D999-68CF-4562-AACA-E9F5D7E482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D381DE1-4F62-4B3B-8D8E-9141B9B98F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52A2E76-F234-451E-9B47-27306B7785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5947627-341B-4198-84D3-B99FE0D387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143C659-F5CA-4D1A-9372-6084DD936E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E775C43-B410-487D-B9D7-BE4F2B3FB6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07DD8BA-E72C-49C2-B509-7B7CDFFE3F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5479529-9BCF-4D27-8F70-B981ECCA63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8BF754-68B5-44DC-A891-F42AE002EB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3E15821-5136-4B84-BD1B-E0EBCF9431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9EBDC9E-9804-4FE2-BC7E-DA9244EE13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FE6D2C2-1318-4006-B1A1-0094298A17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4A71097-7B64-4AC2-8CCA-CB73A3805E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0C3C299-1AEA-40F6-8486-870C97121E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96BB-9F3C-4EF3-81AA-541ACD00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3EFC-AD22-459E-9268-A5F36F34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EBA1-3139-4062-93A1-C17EE051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38E7-0617-4FC0-AF54-C2324B47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671-55D3-409B-856B-BBBE00DC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2216-CF02-4052-9551-ECF089F9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E64-6CBD-4C5D-9DF3-F55E511F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829-9FB1-4ACC-8189-FA1EB801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4D4-32A5-4B96-BF11-5389D0D8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33C8-A844-4A8E-90D6-F1FEE219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C361-1580-4E5A-9F5E-7A234D48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FE9F-03AF-4F65-95AF-25726E86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8B76-C2F2-4092-8245-E41B304C934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4881-3330-4472-96C7-D662327ED86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6680" y="133992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Implantación y Entreg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78120" y="4628880"/>
            <a:ext cx="640080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gio Ocho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hoa@dcc.uchile.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124000" y="5877000"/>
            <a:ext cx="64008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anco Encalada 2120, 4º. Piso, Of. 406, Santia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léfonos: (56 2) 9784879, 978496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x: (56 2) 68955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0F35-0D8E-400C-B7CB-E0BBAA12946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- Evaluación de Resultad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5878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¿Para qué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determinar si el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yecto fue exito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establecer l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rentabilidad final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l proye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finar nuestros índic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métricas) de produc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saber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n qué debo mejor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7715160" y="981000"/>
            <a:ext cx="1428840" cy="1714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7236000" y="5697360"/>
            <a:ext cx="19080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83B1-69F8-4C52-8890-D2EBA509BD7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- Evaluación de Resultad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3911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parar lo obtenido, contra la definición inic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 con lo que se necesita en este mom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dentificar error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en término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us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a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y forma de repar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7812000" y="981000"/>
            <a:ext cx="1332000" cy="952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7280280" y="4724280"/>
            <a:ext cx="186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FF4C-6142-4590-9C71-D6D5678EA81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- Evaluación de Resultad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1640" y="1197000"/>
            <a:ext cx="739116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valuar el nuevo estado del usu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ductiv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guridad / confiab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sto por transacción / proce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uevas capac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atisfacción de los usu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valuar el nuevo estado de la organ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ivel de comunic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ponibilidad de la inform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obustez de la ope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dependencia de las person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ructura orgá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7626240" y="1773360"/>
            <a:ext cx="1554120" cy="1871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6900840" y="4581360"/>
            <a:ext cx="22431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4EE7-87F1-4F6A-B315-BD55A82A34A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- Evaluación de Resultad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8560" y="1142640"/>
            <a:ext cx="7535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valuar el nuevo estado del nego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re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ordenamiento de merc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elocidad de re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sibilidad de nuevos negoc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tegración entre áreas de negoc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valuar el nuevo estado de la realidad informática de la organ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plejidad de administ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volución posible (crecimiento                            y reemplaz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stos fijos y costos varia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308720" y="1647720"/>
            <a:ext cx="1835280" cy="1636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7667640" y="4724280"/>
            <a:ext cx="1476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06EE-1515-4D35-82E2-831DA92C23D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l Aprendizaje Post-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1400" y="1125360"/>
            <a:ext cx="80773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Algunos ítems para la reflexión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estuvieron los cost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y los tiemp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estuvo la calidad del produ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estuvo la satisfacción del cli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qué tipo de información guardé a cerca de mi proce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me sirve esa información para futuros desarroll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qué tanto depende mi empresa, del equipo de trabaj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es fueron los errores más dañinos para el proy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8072280" y="993600"/>
            <a:ext cx="1071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3F30-7A6A-4B13-A79A-E47B5CC82C9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l Aprendizaje Post-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1052640"/>
            <a:ext cx="80773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fue su orig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es fueron los problemas externos que más nos afectar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voy a manejar estos problemas o debilidades durante el próximo proy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funcionaron los miembros del equipo de desarrollo?... Específicamente el administrador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estuvo la comunicación al interior del grup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se puede mejora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se comportó la tecnología emplead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necesito nuevas herramienta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8323200" y="5589720"/>
            <a:ext cx="8208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928B-4121-4C50-98C8-034F8513888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l Aprendizaje Post-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483920"/>
            <a:ext cx="758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ómo estuvo la fase de transferenci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en qué se puede mejor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ómo sacarle más provecho al desarrollo realizad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se puede empaquetar el product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necesito para hacerl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.... ¿qué tanto puede mejorar mi empresa a partir de lo aprendido en este proyect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323200" y="995400"/>
            <a:ext cx="8208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8FE5-57E0-4B94-8E2A-05190D9F74B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544500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693960" y="1339920"/>
            <a:ext cx="3092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0EE3-0FD4-47DA-A75A-34EBCFCC4E4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8480" y="1098360"/>
            <a:ext cx="7715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cto form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operativ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cierre del proye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sume un nuevo estad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e las personas, recursos, organización, negocio,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n estar claras las 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condiciones de cierr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aceptaci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ipos de cierr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normal, formal, negociado, político, ...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dentificación y evaluación de l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ituación de términ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de lo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resultados del proye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7772400" y="11160"/>
            <a:ext cx="1371600" cy="981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8340840" y="993600"/>
            <a:ext cx="803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03A4-F406-4C31-886A-9530A184316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2920" y="1052640"/>
            <a:ext cx="77151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ifusión del cierr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del futuro (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¿cuál será nuestro rol en el proyecto implantado?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requiere l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formalizaci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correspondiente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actas, contratos, pag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Identificación de aspectos pendientes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importancia y prior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uele haber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egociaci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realización de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jus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cenarios futur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el proyecto (mantención y/o evolució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uevos proyectos surgidos a partir de éste?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8075520" y="0"/>
            <a:ext cx="106848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353C-E6BD-4CBA-A6FE-85DD5ABB2BD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dP - Implantación y Entre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28480" y="1142640"/>
            <a:ext cx="7391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sta fase hay varias actividades que deben ser planificadas, coordinadas, controladas, y evaluad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gración de Da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pacitación de Usuar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sta en marcha del nuevo softwa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uebas de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colección y Reparación de Err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lternativas de Implant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tificación (marcha blanca, paralelos, etc.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erre de la situación anterior (apagar equipo, botar sistema anterior, ...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Hay que determinar la necesidad (y posibilidad) de vuelta atrás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877080" y="2263680"/>
            <a:ext cx="22669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E037-520B-465C-806F-D3A6600D05D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668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mulación de la Evolución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D54E-6DEE-43D4-9877-1DBEA24D759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28480" y="1143000"/>
            <a:ext cx="75358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 término del proyecto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odo ha cambi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particular hay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uevas expectativ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royecto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evalúa injustam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a no estamos en el “estado del arte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an cambiado las prior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nuevas alternativ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ara el proyec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reempla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cre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fortale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6012000" y="4871880"/>
            <a:ext cx="31320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31A0-ADCB-43A7-91BA-4B67C55083A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28480" y="1142640"/>
            <a:ext cx="7715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nuevos proyec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reempla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plement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dependie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ay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uevas form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e evaluar, formular y administrar proyectos en la organ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 el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sarrollo es intern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a la organización, todos estos cambios deben ayudar a fortalecer el proceso de desarrol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 el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sarrollo es extern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requier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el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sarrollado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a un tanto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visionari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7640" y="993600"/>
            <a:ext cx="2916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5FFF-23B7-4FA1-B384-9993D753D14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28880" y="1247760"/>
            <a:ext cx="648648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ED01-9346-4B2E-ACD9-747BB7B7B9C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02920" y="1214280"/>
            <a:ext cx="766764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Hay que tener todo esto en cuenta, desde la planificación del proyecto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sí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nos va a doler men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cuando esto ocur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la parte buena es que si lo hemos hecho bien,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las probabilidades de quedarnos con el cliente, son altas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debido principalmente a estos cambio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DAA7-A596-48BC-B328-4927858B0CF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57200" y="5373360"/>
            <a:ext cx="76075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uál cree usted que sería la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volución natur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 su proyecto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878200" y="1628640"/>
            <a:ext cx="4286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6FE0-6824-4963-9BDA-4742D7D6408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2720" y="0"/>
            <a:ext cx="8278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– Implantación y Entreg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99760" y="1142640"/>
            <a:ext cx="7535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 hora de la ver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también la ocasión más clara par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dentificar el fracas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necesario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manejar los mie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fus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pacit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istencia a usuar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necesario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manejar la transi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canismos de “vuelta atrás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istencia de los da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spasos entre sistem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uplicidad en el trabaj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008840" y="2711520"/>
            <a:ext cx="2171520" cy="1581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020000" y="4913280"/>
            <a:ext cx="2124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75B1-0EC9-4414-9651-BA8772984BD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dPI - Implantación y Entre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57200" y="3433320"/>
            <a:ext cx="739152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Podría </a:t>
            </a:r>
            <a:r>
              <a:rPr b="0" lang="es-ES_tradnl" sz="3000" spc="-1" strike="noStrike">
                <a:solidFill>
                  <a:srgbClr val="ffff00"/>
                </a:solidFill>
                <a:latin typeface="Arial"/>
              </a:rPr>
              <a:t>cambiar la historia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dentro de una organización (típicamente asociada a sistemas antiguos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8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Arial"/>
              </a:rPr>
              <a:t>Podría haber mucha resistencia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por parte de los usuarios, si no se maneja bien la implantación y la difusió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7164360" y="981000"/>
            <a:ext cx="1979640" cy="13255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1344600" y="1281240"/>
            <a:ext cx="57484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Hay que </a:t>
            </a:r>
            <a:r>
              <a:rPr b="0" lang="es-ES" sz="3000" spc="-1" strike="noStrike">
                <a:solidFill>
                  <a:srgbClr val="ffff00"/>
                </a:solidFill>
                <a:latin typeface="Arial"/>
              </a:rPr>
              <a:t>establecer un punto de quiebre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, en el cual la nueva </a:t>
            </a:r>
            <a:r>
              <a:rPr b="0" lang="es-ES" sz="3000" spc="-1" strike="noStrike">
                <a:solidFill>
                  <a:srgbClr val="ffff00"/>
                </a:solidFill>
                <a:latin typeface="Arial"/>
              </a:rPr>
              <a:t>solución se transforma en definitiva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00"/>
                </a:solidFill>
                <a:latin typeface="Arial"/>
                <a:ea typeface="Arial"/>
              </a:rPr>
              <a:t>Chance de Repetir la Operació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214280" y="1142640"/>
            <a:ext cx="7896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¿Cuántas posibilidades tenemos de repetir esta acción, si la desperdiciam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. Con mucha suerte, una má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6C13-41E9-4094-85EE-1088C930F61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892600" y="2500200"/>
            <a:ext cx="4965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27AC-407D-40FE-83CA-9DB95856662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079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AdPI – Implantación y Entre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99640" y="1197000"/>
            <a:ext cx="7799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Fase de Transferencia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(Implantación) puede verse desde el punto de vista del cliente o de la empresa desarrollado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sde el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punto de vista del cli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s la fase más important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 todo el proyecto, ya que el cliente “espera” cosechar todo lo que ha sembrado (tiempo, dinero, compromiso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trato (soporte) que reciba el cliente durante esta fase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nfluye directamente sobre su nivel de satisfac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hubo problemas antes, pero esta fase se hace bien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l cliente olvidará los problemas previo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no hubo problemas antes, pero esta fase se hace mal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l cliente olvidará los éxitos previo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7885080" y="1916280"/>
            <a:ext cx="125892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18B4-99F6-4B68-82A8-9637B9739C3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AdPI – Implantación y Entre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125360"/>
            <a:ext cx="78789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sde el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punto de vista de la empresa desarrollado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present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resultados del proceso de desarrollo,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cuales deben medirse y guardarse “por escrit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miembros de cada rol deben presentar un documento que indiqu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fortalezas y debilidades detectad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con respecto a su trabajo, y al funcionamiento colec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unque al finalizar el proyecto todos evitan este trabajo,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utocrítica objetiv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s fundamental para la supervivencia de mi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i no la documento, el único perjudicado soy y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8340840" y="993600"/>
            <a:ext cx="803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Evaluación del Proce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85920" y="1071360"/>
            <a:ext cx="7858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esde el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punto de vista del cliente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Evalúe la posibilidad de hacer una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encuesta a los clientes y usuario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que interactuaron con el equipo de desarrol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odría obtener mucha información útil para mejorar…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información que ni me imagino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D35A-4379-4AF6-8D15-CFCD4687426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064040" y="3143160"/>
            <a:ext cx="20797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C361-C832-43DA-9BA0-A0D555942B3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668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valuación / Medición de Resulta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23:27:42Z</dcterms:created>
  <dc:creator>DCC</dc:creator>
  <dc:description/>
  <dc:language>en-US</dc:language>
  <cp:lastModifiedBy>Sergio</cp:lastModifiedBy>
  <dcterms:modified xsi:type="dcterms:W3CDTF">2008-10-28T20:19:44Z</dcterms:modified>
  <cp:revision>872</cp:revision>
  <dc:subject/>
  <dc:title>Programas de Extención</dc:title>
</cp:coreProperties>
</file>