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21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216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958F7DC-9FB9-4A59-8751-E5C24135A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88E376D-B6A6-486C-8CE0-2578C99F4A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3D94AE5-E877-4FE9-8601-0036FCBB81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EDE7627-794D-4FA9-AF50-0AA2361041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60D7EC4-20A9-42A8-B5FF-BA8ABD4491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AB0F5F8-4B20-4898-B1DA-3546106B58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2B1B60C-1AE7-4FF1-B135-B48BC1D791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4CEA305-7C95-4085-887D-B8B327BF25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806F523-094F-414D-8DB7-9DB95C504E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CD8A26D-D64B-40E3-9B06-D18696FCAA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1B6473F-46D9-42CC-9A77-DF89B3E510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DEC754B-5252-4282-812C-7F91396D7A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D7E79AF-5282-41FE-8E3A-9C39921673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567A018-7367-41F4-B92E-D3DA2C0891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DFDA332-842D-492B-9C7E-9E78CC1223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689574E-693C-440E-BDD2-F5F7FAECD2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D022343-7F1F-4B6E-A674-FD022A4937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6ACD403-AFAF-44AE-AE05-209A896F14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C9A2BC3-E79B-44AF-8300-EE39821C5F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B14E9AD-3C27-414E-B502-48DBF3B161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DA2C09C-1E64-421B-A835-E3D2FE3D45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C15FC0E-03EC-4961-BEE8-F0F970590D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4DD0B88-2CB2-408C-BADF-59794594A0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37C1C3A-2393-41FA-B2B8-31DD8D486F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B0E7-45A8-4706-B92C-89253CCE7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8F93-22E4-4AA5-9783-D45C4B83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8186-F958-436F-8D8F-796A49BD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076E-F499-4884-9DD4-2BFD84199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0DF4-A687-4661-92C6-75F12C3C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33C5-05A8-4121-A448-FF25632E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9E5E-0F2E-4DB7-BCF2-A102E258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7271-C530-4862-A3AA-C38EFECD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E1DE-B69D-409C-845E-4050A195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79F9-700B-410A-A572-F415C896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8AC9-F1CD-47F7-9AEF-14A375C7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6EEB-DAF4-44BC-9164-F463DB0E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D26E-4E79-437F-A8D5-AB0DAAF75FD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97DA-91A8-43E9-B97F-42FA3DBFE66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6680" y="133992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a Implantación y Entreg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78120" y="4628880"/>
            <a:ext cx="6400800" cy="13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gio Ocho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hoa@dcc.uchile.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124000" y="5877000"/>
            <a:ext cx="64008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lanco Encalada 2120, 4º. Piso, Of. 406, Santiag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léfonos: (56 2) 9784879, 978496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x: (56 2) 689553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9158-28F7-41E3-95E5-5FFA2D05234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AdPI - Evaluación de Resultad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02920" y="1413000"/>
            <a:ext cx="5878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¿Para qué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determinar si el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royecto fue exito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establecer la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rentabilidad final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l proyec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finar nuestros índice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métricas) de productivi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saber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n qué debo mejor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7715160" y="981000"/>
            <a:ext cx="1428840" cy="1714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7236000" y="5697360"/>
            <a:ext cx="19080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D849-929D-4358-BE89-14387D4CD78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AdPI - Evaluación de Resultad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31640" y="1341360"/>
            <a:ext cx="73911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mparar lo obtenido, contra la definición inic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y con lo que se necesita en este momen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Identificar errore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en término 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us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mpac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sto y forma de repar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7812000" y="981000"/>
            <a:ext cx="1332000" cy="952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7280280" y="4724280"/>
            <a:ext cx="186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C03D-B0DF-4DD7-9A6E-D01C669EDD8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3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AdPI - Evaluación de Resultad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31640" y="1197000"/>
            <a:ext cx="739116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valuar el nuevo estado del usu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ductiv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eguridad / confiabil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sto por transacción / proces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uevas capacida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atisfacción de los usuar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valuar el nuevo estado de la organ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ivel de comunic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isponibilidad de la inform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obustez de la oper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dependencia de las persona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ructura orgán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7626240" y="1773360"/>
            <a:ext cx="1554120" cy="1871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6900840" y="4581360"/>
            <a:ext cx="22431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61C5-ECD3-427A-9F59-74CEC0F52BA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AdPI - Evaluación de Resultad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58560" y="1142640"/>
            <a:ext cx="7535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spcAft>
                <a:spcPts val="52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valuar el nuevo estado del negoc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recimi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ordenamiento de merc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elocidad de rea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osibilidad de nuevos negoc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tegración entre áreas de negoc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spcAft>
                <a:spcPts val="52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valuar el nuevo estado de la realidad informática de la organ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mplejidad de administr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volución posible (crecimiento                            y reemplazo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stos fijos y costos variab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7308720" y="1647720"/>
            <a:ext cx="1835280" cy="1636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7667640" y="4724280"/>
            <a:ext cx="1476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969E-D2B0-4464-96B0-67764BE87C0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3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El Aprendizaje Post-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31400" y="1125360"/>
            <a:ext cx="80773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Algunos ítems para la reflexión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ómo estuvieron los costo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y los tiempo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ómo estuvo la calidad del product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ómo estuvo la satisfacción del clie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qué tipo de información guardé a cerca de mi proces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me sirve esa información para futuros desarrollo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qué tanto depende mi empresa, del equipo de trabaj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uáles fueron los errores más dañinos para el proyect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8072280" y="993600"/>
            <a:ext cx="107172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D286-27E7-4D02-A20C-BADE5393779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El Aprendizaje Post-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560" y="1052640"/>
            <a:ext cx="80773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uál fue su orige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uáles fueron los problemas externos que más nos afectar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ómo voy a manejar estos problemas o debilidades durante el próximo proyect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ómo funcionaron los miembros del equipo de desarrollo?... Específicamente el administrador del proye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ómo estuvo la comunicación al interior del grup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se puede mejora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ómo se comportó la tecnología emplead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necesito nuevas herramienta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8323200" y="5589720"/>
            <a:ext cx="82080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5637-EB84-4C21-BB36-64D5B81D3EE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3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El Aprendizaje Post-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2560" y="1483920"/>
            <a:ext cx="7583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225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cómo estuvo la fase de transferenci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25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en qué se puede mejora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25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cómo sacarle más provecho al desarrollo realizad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25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se puede empaquetar el product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25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qué necesito para hacerl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25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.... ¿qué tanto puede mejorar mi empresa a partir de lo aprendido en este proyect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8323200" y="995400"/>
            <a:ext cx="82080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DE59-B287-403E-B9BE-310E0BA465E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5445000"/>
            <a:ext cx="777240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3693960" y="1339920"/>
            <a:ext cx="30927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5B12-33D5-427F-8737-7609072A1A6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28480" y="1098360"/>
            <a:ext cx="7715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cto formal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operativo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 cierre del proyec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sume un nuevo estad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de las personas, recursos, organización, negocio,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ben estar claras las </a:t>
            </a: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condiciones de cierr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aceptación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Tipos de cierr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normal, formal, negociado, político, ...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dentificación y evaluación de la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ituación de términ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y de los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resultados del proyec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7772400" y="11160"/>
            <a:ext cx="1371600" cy="981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8340840" y="993600"/>
            <a:ext cx="80316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FA4B-42C9-4948-8D63-4591CC80F26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02920" y="1052640"/>
            <a:ext cx="77151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Difusión del cierr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y del futuro (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¿cuál será nuestro rol en el proyecto implantado?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 requiere la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formalización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correspondiente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(actas, contratos, pago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Identificación de aspectos pendientes: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importancia y prioriz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uele haber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negociación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y realización de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jus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scenarios futur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del proyecto (mantención y/o evolució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Nuevos proyectos surgidos a partir de éste?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8075520" y="0"/>
            <a:ext cx="106848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E468-5603-4EC1-BAAC-5FFDFDE0C69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AdP - Implantación y Entreg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28480" y="1142640"/>
            <a:ext cx="7391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esta fase hay varias actividades que deben ser planificadas, coordinadas, controladas, y evaluad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gración de Da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pacitación de Usuari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uesta en marcha del nuevo softwar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uebas de Usuar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colección y Reparación de Err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Alternativas de Implantac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ertificación (marcha blanca, paralelos, etc.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ierre de la situación anterior (apagar equipo, botar sistema anterior, ...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Hay que determinar la necesidad (y posibilidad) de vuelta atrás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877080" y="2263680"/>
            <a:ext cx="22669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06E1-BB78-4B8B-BA79-CF757228145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36680" y="3111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ormulación de la Evolución del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9CB5-9C50-4961-BD4A-7D8EE41C530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PI -</a:t>
            </a: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28480" y="1143000"/>
            <a:ext cx="753588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 término del proyecto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todo ha cambia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particular hay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nuevas expectativa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royecto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e evalúa injustamen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ya no estamos en el “estado del arte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han cambiado las priorida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Hay nuevas alternativa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para el proyec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 reemplaz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 crecimi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 fortalecimi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6012000" y="4871880"/>
            <a:ext cx="313200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2AFD-379C-4072-AD45-50D639F1469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PI -</a:t>
            </a: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28480" y="1142640"/>
            <a:ext cx="7715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Hay nuevos proyect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 reemplaz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mplementar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dependien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Hay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nuevas forma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de evaluar, formular y administrar proyectos en la organiz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 el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desarrollo es intern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a la organización, todos estos cambios deben ayudar a fortalecer el proceso de desarroll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 el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desarrollo es extern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e requier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que el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desarrollador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sea un tanto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visionari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6227640" y="993600"/>
            <a:ext cx="291636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674B-7B21-4DB0-989C-47B6E66F843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PI -</a:t>
            </a: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928880" y="1247760"/>
            <a:ext cx="648648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48C7-6668-4AEB-B79C-1F7077CD683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PI -</a:t>
            </a: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02920" y="1214280"/>
            <a:ext cx="7667640" cy="538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Hay que tener todo esto en cuenta, desde la planificación del proyecto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sí 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nos va a doler meno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cuando esto ocurr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la parte buena es que si lo hemos hecho bien,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las probabilidades de quedarnos con el cliente, son altas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(debido principalmente a estos cambio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6E33-39DA-472F-A6C1-76F62311805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PI -</a:t>
            </a: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57200" y="5373360"/>
            <a:ext cx="76075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uál cree usted que sería la 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evolución natural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de su proyecto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2878200" y="1628640"/>
            <a:ext cx="42861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9B67-4879-4195-9AB8-AA3353B6499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2720" y="0"/>
            <a:ext cx="8278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AdPI – Implantación y Entreg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99760" y="1142640"/>
            <a:ext cx="7535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la hora de la ver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también la ocasión más clara para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identificar el fracas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del proye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necesario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manejar los mie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fus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pacit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sistencia a usuari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necesario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manejar la transició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canismos de “vuelta atrás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sistencia de los da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spasos entre sistem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uplicidad en el trabaj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7008840" y="2711520"/>
            <a:ext cx="2171520" cy="1581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7020000" y="4913280"/>
            <a:ext cx="2124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EFFE-104A-4D2A-974F-99D26A05031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AdPI - Implantación y Entreg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57200" y="3433320"/>
            <a:ext cx="739152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18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Podría </a:t>
            </a:r>
            <a:r>
              <a:rPr b="0" lang="es-ES_tradnl" sz="3000" spc="-1" strike="noStrike">
                <a:solidFill>
                  <a:srgbClr val="ffff00"/>
                </a:solidFill>
                <a:latin typeface="Arial"/>
              </a:rPr>
              <a:t>cambiar la historia</a:t>
            </a: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 dentro de una organización (típicamente asociada a sistemas antiguos)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187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00"/>
                </a:solidFill>
                <a:latin typeface="Arial"/>
              </a:rPr>
              <a:t>Podría haber mucha resistencia</a:t>
            </a: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 por parte de los usuarios, si no se maneja bien la implantación y la difusión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7164360" y="981000"/>
            <a:ext cx="1979640" cy="13255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1344600" y="1281240"/>
            <a:ext cx="574848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spcAft>
                <a:spcPts val="18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Hay que </a:t>
            </a:r>
            <a:r>
              <a:rPr b="0" lang="es-ES" sz="3000" spc="-1" strike="noStrike">
                <a:solidFill>
                  <a:srgbClr val="ffff00"/>
                </a:solidFill>
                <a:latin typeface="Arial"/>
              </a:rPr>
              <a:t>establecer un punto de quiebre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, en el cual la nueva </a:t>
            </a:r>
            <a:r>
              <a:rPr b="0" lang="es-ES" sz="3000" spc="-1" strike="noStrike">
                <a:solidFill>
                  <a:srgbClr val="ffff00"/>
                </a:solidFill>
                <a:latin typeface="Arial"/>
              </a:rPr>
              <a:t>solución se transforma en definitiva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00"/>
                </a:solidFill>
                <a:latin typeface="Arial"/>
                <a:ea typeface="Arial"/>
              </a:rPr>
              <a:t>Chance de Repetir la Operación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214280" y="1142640"/>
            <a:ext cx="7896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¿Cuántas posibilidades tenemos de repetir esta acción, si la desperdiciamo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. Con mucha suerte, una má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6C1E-CE5A-4438-B8A7-3B84CDF93C2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892600" y="2500200"/>
            <a:ext cx="4965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3AFB-16C7-4C88-A406-8126EB6F7BC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0796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AdPI – Implantación y Entreg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99640" y="1197000"/>
            <a:ext cx="7799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Fase de Transferencia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(Implantación) puede verse desde el punto de vista del cliente o de la empresa desarrollador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sde el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punto de vista del clien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Es la fase más important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 todo el proyecto, ya que el cliente “espera” cosechar todo lo que ha sembrado (tiempo, dinero, compromiso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trato (soporte) que reciba el cliente durante esta fase,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influye directamente sobre su nivel de satisfac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hubo problemas antes, pero esta fase se hace bien,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el cliente olvidará los problemas previos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no hubo problemas antes, pero esta fase se hace mal,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el cliente olvidará los éxitos previos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7885080" y="1916280"/>
            <a:ext cx="125892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B4EA-FF28-4B6C-9E61-B9B629C53A5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3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AdPI – Implantación y Entreg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1125360"/>
            <a:ext cx="78789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sde el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punto de vista de la empresa desarrollador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present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resultados del proceso de desarrollo,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os cuales deben medirse y guardarse “por escrito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os miembros de cada rol deben presentar un documento que indique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fortalezas y debilidades detectad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con respecto a su trabajo, y al funcionamiento colectiv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unque al finalizar el proyecto todos evitan este trabajo, l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autocrítica objetiv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es fundamental para la supervivencia de mi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Si no la documento, el único perjudicado soy y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8340840" y="993600"/>
            <a:ext cx="80316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Evaluación del Proces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285920" y="1071360"/>
            <a:ext cx="78580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Desde el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  <a:ea typeface="Arial"/>
              </a:rPr>
              <a:t>punto de vista del cliente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Evalúe la posibilidad de hacer una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  <a:ea typeface="Arial"/>
              </a:rPr>
              <a:t>encuesta a los clientes y usuarios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 que interactuaron con el equipo de desarroll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Podría obtener mucha información útil para mejorar…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  <a:ea typeface="Arial"/>
              </a:rPr>
              <a:t>información que ni me imagino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4DEE-6850-4323-8A6B-1958B9B9F88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4064040" y="3143160"/>
            <a:ext cx="20797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089E-A3F0-4096-A9F7-7A3FE775A9E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36680" y="3111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valuación / Medición de Resultad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23:27:42Z</dcterms:created>
  <dc:creator>DCC</dc:creator>
  <dc:description/>
  <dc:language>en-US</dc:language>
  <cp:lastModifiedBy>Sergio</cp:lastModifiedBy>
  <dcterms:modified xsi:type="dcterms:W3CDTF">2008-10-28T20:19:44Z</dcterms:modified>
  <cp:revision>872</cp:revision>
  <dc:subject/>
  <dc:title>Programas de Extención</dc:title>
</cp:coreProperties>
</file>