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6DE6DE-5E19-4347-8668-1C237B34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452E24-920F-48AD-808D-EA3E5F80E6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654FDA-8DF0-4A3C-A361-789FA885E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03F24B-F88E-488F-8B79-8A21335430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0A3A3F-79F5-4F5D-BCB0-11AB7A09D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9661D0-065B-4DBC-85D0-BB6BA8B48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36CB0F-598E-46C9-B217-7C1DB821B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FFD19C-E0E5-4BF6-9893-93BA8302D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F8ED74-CAD6-4BE8-984F-FD0171129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603D72-8199-4AFF-9DAE-632576CECD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EEDACA-9A67-4997-AABA-B261F77514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60F117-E926-452B-85E8-B7B351E30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1C0841-6545-4757-A251-9474CC150F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DA0C75-14F3-4B4F-B6B1-85BBCED59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AC48F2-727B-49A3-A4B3-D493E0A06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DAF82B-8B65-42BD-A4AB-CEC16B74A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99E7C8-4510-489E-ADEE-97A39DA1D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5D27EE-1CDC-40CC-BD4A-CB6F68E42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26058A-80B0-4084-80B5-A467FB5C5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DC21AF-D509-4955-B956-D91A41252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176879-0644-4FC2-B08F-A42CCCF0A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A9706F-135D-4648-BD53-CB2372747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3B8B1A-AD90-4B04-ACA9-EDAD01764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766646-7E42-4BB9-B195-A032851C3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8B2-EAD0-43A5-BB54-1DF0DC8F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869-6130-4083-9653-302A5E2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1B0-ADC0-4829-A701-62B72D9A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702-AB10-4423-93DD-80E4D74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2DB-4C53-47A5-B45E-345DD7FD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403-933E-41FF-8AFE-ECC9BBAA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DC4-74FB-41CF-A924-A773EB7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0AF-B430-4EEB-8BB5-01EADD6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373-E9F2-4CB8-94CF-6957B6A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9BF-8602-4FB2-A86A-6C794C4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CEC-C4B8-478C-9E29-C1DA027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894-B765-48E5-AC03-C89A89D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855-4DF7-4A02-84C1-9F90E40642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B9C-6E0C-44CD-918B-8563A76D13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hoa@dcc.uchile.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B616-45B6-4BC9-A18D-13CEEDAF8B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58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Par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terminar 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 fue exit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stablecer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ntabilidad fin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finar nuestros índic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tricas) de produ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 qué debo mejo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715160" y="981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1908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747-1528-4E14-AA57-8CFDF41DB5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391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rar lo obtenido, contra la definición ini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con lo que se necesita en 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dentificar err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n términ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u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y forma de repa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3320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7280280" y="4724280"/>
            <a:ext cx="186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963B-A52A-4766-9F2D-036F11BD72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91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/ confi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 por transacción /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evas capac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tisfacción de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vel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ilidad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bustez de la ope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encia de las person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6240" y="1773360"/>
            <a:ext cx="155412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900840" y="4581360"/>
            <a:ext cx="2243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6FD6-492E-43E5-961E-486B694B16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nego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ordenamiento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locidad de re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bilidad de nuevos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ción entre áreas de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realidad informática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jidad de administ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ble (crecimiento                            y reemplaz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fijos y costo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308720" y="1647720"/>
            <a:ext cx="183528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79C4-7D70-4811-AAD0-106B2A5D8D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1400" y="1125360"/>
            <a:ext cx="8077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gunos ítems para la reflex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ieron los cos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y los tiem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alidad del produ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satisfacción del cl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ipo de información guardé a cerca de mi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me sirve esa información para futuros desarroll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anto depende mi empresa, del equipo de trabaj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errores más dañinos para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072280" y="993600"/>
            <a:ext cx="1071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380-E888-4F54-BE01-68842B599A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80773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fue su orig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problemas externos que más nos afectar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omunicación al interior del gru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se puede mejor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se comportó la tecnología emple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o nuevas herramien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23200" y="558972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A9B-D380-476F-8495-1D7386F3CD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estuvo la fase de transferen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en qué se puede mejor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acarle más provecho al desarrollo realiz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se puede empaquetar el produ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necesito para hacer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323200" y="99540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7353-F4B3-43BB-B7B9-16E21D0B0B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445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93960" y="1339920"/>
            <a:ext cx="3092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D26-B981-45C5-8F84-F810E8BA54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8480" y="109836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o form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perativ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ierre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sume un nuevo est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personas, recursos, organización, negocio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po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normal, formal, negociado, político, ..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ción y evaluación d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tuación de térmi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ultados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72400" y="1116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E5A-7F8D-4869-9E94-4F4D7FCF47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fusión del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l futur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requier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formal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rrespondi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dentificación de aspectos pendiente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mportancia y prior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e h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goci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realización d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ju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cenarios futu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l proyecto (mantención y/o evolu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075520" y="0"/>
            <a:ext cx="10684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B14-D1F1-4C8C-B5D3-23C3252F70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39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 fase hay varias actividades que deben ser planificadas, coordinadas, controladas, y evalu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ración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 de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sta en marcha del nuevo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lección y Reparación de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tificación (marcha blanca, paralelos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erre de la situación anterior (apagar equipo, botar sistema anterior, 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877080" y="2263680"/>
            <a:ext cx="2266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DD3-2FDF-4D51-AC21-AD45CC2A02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7D3-0B18-468E-ADFA-8D6A30EDE9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480" y="1143000"/>
            <a:ext cx="7535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érmino d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 ha camb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articular 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expect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valúa injust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as altern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ortal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012000" y="4871880"/>
            <a:ext cx="3132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77E-2002-4DFD-AD0A-57D72331AD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os proye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for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evaluar, formular y administrar proyectos en la organ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in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la organización, todos estos cambios deben ayudar a fortalecer el proces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ex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quie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ad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a un tan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isionar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7640" y="99360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0220-2727-4F29-BA28-8E4DEE2E1C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28880" y="1247760"/>
            <a:ext cx="6486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A73-8231-4939-8111-45EC55260E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214280"/>
            <a:ext cx="766764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í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nos va a doler me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sto ocu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la parte buena es que si lo hemos hecho bien,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las probabilidades de quedarnos con el cliente, son alt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debido principalmente a estos camb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C05-84C4-450E-8860-50F31F3802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7200" y="5373360"/>
            <a:ext cx="7607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ál cree usted que sería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volución nat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su proyecto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78200" y="1628640"/>
            <a:ext cx="4286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EF8-32F5-4060-880C-D5D1B331A1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2720" y="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97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hora de la ver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también la ocasión más clara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 el fra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os mie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stencia a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a transi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canismos de “vuelta atrás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ncia d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pasos entre sis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plicidad en el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08840" y="2711520"/>
            <a:ext cx="2171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020000" y="491328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676-EF3B-43C2-BD7A-D2F7EF8154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I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7200" y="3433320"/>
            <a:ext cx="73915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dría </a:t>
            </a: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cambiar la histor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dentro de una organización (típicamente asociada a sistemas antigu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Podría haber mucha resistenc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por parte de los usuarios, si no se maneja bien la implantación y la difu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164360" y="981000"/>
            <a:ext cx="1979640" cy="1325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344600" y="1281240"/>
            <a:ext cx="57484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ay que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establecer un punto de quiebre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en el cual la nueva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solución se transforma en definitiv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00"/>
                </a:solidFill>
                <a:latin typeface="Arial"/>
                <a:ea typeface="Arial"/>
              </a:rPr>
              <a:t>Chance de Repetir la Operació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4280" y="1142640"/>
            <a:ext cx="789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¿Cuántas posibilidades tenemos de repetir esta acción, si la desperdici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 Con mucha suerte, un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51C-0EC4-46C5-A22B-A48EB6B68E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892600" y="2500200"/>
            <a:ext cx="49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937-33CF-430C-935E-3BF1482F2A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7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99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se de Transferenc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mplantación) puede verse desde el punto de vista del cliente o de la empresa desarroll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l cli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 la fase más important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rato (soporte) que reciba el cliente durante esta fase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luye directamente sobre su nivel de satisfac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ubo problemas antes, pero esta fase se hace bi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problema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hubo problemas antes, pero esta fase se hace mal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éxito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1258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B4D-1CD7-437C-A3F1-C2DFEF92EF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78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 la empresa desarrollad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ultados del proceso de desarrollo,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cuales deben medirse y guardarse “por escri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miembros de cada rol deben presentar un documento que indi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talezas y debilidades detectad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respecto a su trabajo, y al funcionamiento cole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nque al finalizar el proyecto todos evitan este trabajo,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utocrítica objetiv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fundamental para la supervivencia de mi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 no la documento, el único perjudicado soy 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Evaluación del Proce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107136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sde el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client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valúe la posibilidad de hacer una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encuesta a los clientes y usuari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que interactuaron con el equip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dría obtener mucha información útil para mejorar…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información que ni me imagino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890-0557-43EB-B1CF-8E0F30E855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64040" y="3143160"/>
            <a:ext cx="2079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DDFD-CB4D-4C27-85A0-EFCFE3E938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ción / Medición de Result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8-10-28T20:19:44Z</dcterms:modified>
  <cp:revision>872</cp:revision>
  <dc:subject/>
  <dc:title>Programas de Extención</dc:title>
</cp:coreProperties>
</file>