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F3A947-1D1C-4656-8DB6-526ED6490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DE7DE6-E47B-4600-A1AC-DA20C0877AA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781A4C-AEF0-44BF-97B8-7910380E398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4097E6-EC73-43AF-959B-54F5C7137BA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3A15E1-2E8B-4575-8216-D1B41923DD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8530DD-AF61-4540-A146-7D6DED1B1E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072118-BB91-4517-A358-4FA67434E4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43CF03-C4E1-42DC-B4C0-A8EEEDF381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AD8476-296A-43F6-9E64-206FA03B9F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A37D38-F62B-4215-9DED-406C4C6F9C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139637-E8A8-484B-953A-60E4498CDB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3B5413-5074-438B-A16F-728CAC8187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B9DA51-448A-4FA1-82CE-EB9E64D75CD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42E50D-0E8D-4F59-A25D-19160E40E01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88E56EA-33E7-4B2D-88BB-E740A8E60E3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8D78DD-FC08-4DA5-A008-7F6084A37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305599-C9EA-446E-BA69-A9FCB65783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02D956-452D-42D5-AA3E-21D8B8D432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33B5B4-5C8A-47F4-A690-A9271AF5A8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9FBFF8-7130-4C9B-919A-CE57A2C387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A85210-0111-4564-9154-671219106D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61B17D-99C1-4FB4-AE8F-2335CEF689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C44E12-6308-4F5E-AB17-F046861FEC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3EE579-2530-42E2-8D07-4D5E1C51322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D34959-A03C-43CD-A036-06B2C0442B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5CFBB6-FAE4-46E5-8EF1-D68959A1C73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9A738A-3557-45A5-B822-A16C2846590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4CDF86-7C91-475E-A8FF-970A348D4BD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25A380-25F4-4E6D-A6CD-4EEB9BE8D3F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DC66BD-2521-4B6E-89A7-CEE0FE5D790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7835AD-4EFB-464E-BCE7-138093DD81E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C453CF-3F17-40C3-8FD5-40DB04A87C2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E27B9C-8730-44BD-B7DD-FBE8F7DEC68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F3F-03CB-4A3F-89A9-DA1ECAA9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33B-1E8B-4739-B5D2-1405B012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7DF-C46E-44B5-9C65-A586A1EF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555-56FE-4392-99C3-9C1573A9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AAA-E986-40DB-AE79-E7E431FA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A19-5833-4C25-9DE7-60D04DB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CAD-8382-45EE-993F-6587F532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B5E-D37C-4408-8753-4394DFFE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F65-9AAF-4E25-ADE1-FC51DA2E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217-3688-44AA-8CB3-D3DA7749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AFB-5108-473F-A9C2-86AC8BF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997-0AE3-4882-847A-758D736A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B005-223F-4494-A8A1-907FE9D9FD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CC51A –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411912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de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09480" y="5176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de &amp; Fix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9720" y="1142640"/>
            <a:ext cx="7839000" cy="542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onsta de 2 etapas: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odificar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iminar errore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n el cód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Fuente de dificultades y deficie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uego de una secuencia de cambios, el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códig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era tan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enred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, que eliminar errores era una tarea pesada y muy difícil de realiz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uando el desarrollo de sistemas dejó de ser una actividad personal y artesanal, el modelo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no podía manejar la complejidad de los sistem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No acepta la rotación de personal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un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s una práctica habitual en el desarrollo W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de &amp; Fix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607520" cy="51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Code &amp; Fix =  Desarrollo guiado por el código (o por el programador)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 No se planifica ni se diseña forma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¿Qué significaría en nuestro proyecto aplicar code and fi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n término de previsibilidad del proceso y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 sincronización del esfuer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alidad de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643880" y="5348160"/>
            <a:ext cx="1465200" cy="14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059E-1882-4A11-9161-F3226FB241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aterfall Model: Casc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2556000" y="1341360"/>
          <a:ext cx="525780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525780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1400040" y="5229360"/>
            <a:ext cx="77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modelo de cascada aunque algo desprestigiado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continúa siendo usad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7ABA-CE6E-4788-8233-BC8800335B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aterfal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344600" y="1143000"/>
            <a:ext cx="779940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modelo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ascada (con realimentación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usado hasta el día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pendiendo de la versión, posee entr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 y 10 actividades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Útil para identificar 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ividades fundamenta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que aparecen en cualquier proceso) y definir 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ocumentos de entreg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deliverab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problemas más importantes de este modelo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No maneja los riesgos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b) Obtiene un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roducto demasiado tard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c) Exige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poco compromiso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usuario/cl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C9DD-42E6-49A5-9634-E9CA60574DA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-Increment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1339920" y="1557360"/>
          <a:ext cx="769608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1557360"/>
                    <a:ext cx="76960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4"/>
          <p:cNvSpPr/>
          <p:nvPr/>
        </p:nvSpPr>
        <p:spPr>
          <a:xfrm>
            <a:off x="1403280" y="49528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a idea es combinar los elementos del tradicional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modelo de cascad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con la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filosofía de prototipos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(usada principalmente en la etapa de definición de requisit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E937-1A58-45E6-A7FD-60916BA065D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crement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6920" y="11826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junto de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ascadas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das en forma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calon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da cascada genera u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incremento del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Primer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dición y formateo bás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Segundo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párrafos y docu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Tercer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spelling y gramá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uarto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layout avanzado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602320" y="1989000"/>
            <a:ext cx="35416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7593-4B2D-4A93-94CC-376BDCF0C3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crement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73080" y="1071720"/>
            <a:ext cx="8136000" cy="60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incremento representa un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versión reducida del producto fi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y útil par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cubrir lo que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mente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necesita el cl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uede ser validad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 inmediato por el usu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a buen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paración para la vida evolu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l produ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mite incorporar cambi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una vez que el proyecto está en march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o es trivia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obtener una bue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egmenta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l produ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A8D8-DB8F-44B6-A3AB-9A9A2CB0D76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 - Spi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IMAGE001"/>
          <p:cNvPicPr/>
          <p:nvPr/>
        </p:nvPicPr>
        <p:blipFill>
          <a:blip r:embed="rId1"/>
          <a:stretch/>
        </p:blipFill>
        <p:spPr>
          <a:xfrm>
            <a:off x="1768320" y="1676520"/>
            <a:ext cx="5965920" cy="3179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539720" y="5348160"/>
            <a:ext cx="76042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0" i="1" lang="es-ES_tradnl" sz="2400" spc="-1" strike="noStrike">
                <a:solidFill>
                  <a:srgbClr val="ffff00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D70A-28F4-4546-B28C-A7E4A99D13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3600" y="160452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puede ser visto como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metamodelo”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ues cualquier modelo de proceso puede ser enmarcado e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fini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Riesgo: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Manejo del Riesg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D499-C8B2-4736-8102-53DD37D8C1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432080"/>
            <a:ext cx="7632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se basa en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dentific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iminación de problemas de alto riesg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a través de un proceso de diseño cuidad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íclic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no line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radio del espiral marca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sto acumul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n el proceso, mientras que la dimensión angular representa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ogreso dentro del cic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0032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28680" y="1213920"/>
            <a:ext cx="7701120" cy="564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Objetivo de la Presen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ostrar diferent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rmas de organizar el desarrollo de softwar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según el avance de la ingeniería de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alizar los “ciclos de vida” más representa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ructura de la Presen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ón de los principales Modelos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volución de estos mode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onclu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00320" y="1604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ement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Técnicas de 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iesgo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1-  Carencias del personal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Staff calificado, equipo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trenamiento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2- Cronogramas y presupuestos    -  Estimación de cronogra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no realistas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y costos detallados, reuso d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experiencia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3- Desarrollo de funcion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organizado, equivocada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prototipación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4- Desarrollo de interfac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Prototipos, escenari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quivocada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caracterización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5- “Gold plating”..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costo-benef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6- Continuos cambios d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Ocultamiento de información, requisito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desarrollo incremen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271520" y="1565280"/>
            <a:ext cx="7721640" cy="5068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271520" y="2500200"/>
            <a:ext cx="775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5157720" y="1604880"/>
            <a:ext cx="0" cy="5181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00320" y="1682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ement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Técnicas de 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iesgo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7- Carencias en componentes       -  Análisis de compatibilidad, externos (soft, hard, etc).              benchmarks,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8- Carencias en tare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-  Control de referencia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adas en forma                 contratos cuidadosos,      externa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selección de subcontrat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9- Carencias de performanc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Simulación, prototip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tiempo real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benchmar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10- Forzar la computación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técnico, prototipos y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honest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290600" y="1643040"/>
            <a:ext cx="7721640" cy="4764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290600" y="2643120"/>
            <a:ext cx="775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5176800" y="1682640"/>
            <a:ext cx="0" cy="474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19FB-DCD1-4F80-966E-1C116352BE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 - Component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IMAGE001"/>
          <p:cNvPicPr/>
          <p:nvPr/>
        </p:nvPicPr>
        <p:blipFill>
          <a:blip r:embed="rId1"/>
          <a:stretch/>
        </p:blipFill>
        <p:spPr>
          <a:xfrm>
            <a:off x="1630440" y="1600200"/>
            <a:ext cx="4886280" cy="2536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IMAGE002"/>
          <p:cNvPicPr/>
          <p:nvPr/>
        </p:nvPicPr>
        <p:blipFill>
          <a:blip r:embed="rId2"/>
          <a:stretch/>
        </p:blipFill>
        <p:spPr>
          <a:xfrm>
            <a:off x="1631880" y="4286160"/>
            <a:ext cx="618012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8F00-6C3F-49F0-9F65-0F41D9A041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mponent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258920" y="1270080"/>
            <a:ext cx="7885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sarrollo basado en componentes contempla la construcción de sistemas, a través d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samble de módulos predefinid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component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o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ódulos son genéric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sirven para más de un sistema), configurables, y pueden ser desarrollados por cualqu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que esto sea factible, lo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ódulos deben adherir a una especific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componentes de software como: JavaBeans, ActiveX, EJB, COM, DCOM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sarrollo basado en componentes tiene un sin número d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ventaj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en lo relacionado con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mpo y costo de desarrol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y también en lo que respecta 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alidad del producto f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A2D1-13E0-4B6B-9E35-4E5255CACC1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RUP (Rational Unified Proces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RUP_Model"/>
          <p:cNvPicPr/>
          <p:nvPr/>
        </p:nvPicPr>
        <p:blipFill>
          <a:blip r:embed="rId1"/>
          <a:stretch/>
        </p:blipFill>
        <p:spPr>
          <a:xfrm>
            <a:off x="1928880" y="157176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80B-3FB9-40DF-8ADB-78BD50E2E1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RUP (Rational Unified Proces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332000" y="1268280"/>
            <a:ext cx="756108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odelo (en teoría) modern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incorpora las recomendaciones (buenas prácticas) de la ingeniería de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ne mucho respal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pero es un tant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le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se requiere entrenamiento para usarl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 muy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tado a UM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Unified Modeling Langu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asta el momento, sólo ha demostrado ser uno m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diferencia del resto, RUP consider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rquitectu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mo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ieza clav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masiado pesad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apoyar el desarrollo de proyecto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3DB6-882E-42E6-8B3A-2AB5E9C6CC9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ebE (Web Engineer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71992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F5FB-B963-4889-B35B-688FDDEBE4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ebE (Web Engineer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187280" y="1270080"/>
            <a:ext cx="7956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odelo modern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aplicable a proyecto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el primer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odel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iseñado específicament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ara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arrollar proyectos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Web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nqu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hay otr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como RMM, y OOHDM que proponen alternativas a WebE, pero que vienen del lado de los sistemas hipermed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WebE aú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o ha sido probado lo suficiente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y por ahora es sólo una buena prop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B9CC-4790-4287-900D-7E7388F49ED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Metodologías Ág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14280" y="1214280"/>
            <a:ext cx="4104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ráctica ági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(no burocráti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filosofía de desarroll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no una metod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nvolucr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r descubriendo la solu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en la medida que se va avanzando en 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5724360" y="2700360"/>
            <a:ext cx="341964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214280" y="5810400"/>
            <a:ext cx="7929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s de metodología ágiles son: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xtremme Programming, SCRU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rys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66B8-E518-4537-9329-3612EFB5718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todologías Ág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38894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luc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ca documen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a interacción con el cliente/usu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ácticas específicas, como por ejemplo: pair-programming, pair- design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20840" y="1500120"/>
            <a:ext cx="7394400" cy="19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Proceso de producción de softw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tividad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591160" y="3214800"/>
            <a:ext cx="3517920" cy="3592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320840" y="3357720"/>
            <a:ext cx="4251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iclo de Vi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l ciclo de vida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describe los est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por los que pasa un producto de software, desde su concepción hasta su muer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modelos estructur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de software muestran más claramente los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iclos de vid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del softwar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F09B-37C7-4ABD-B131-D11A0DE5D4F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gunta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8560" y="3573000"/>
            <a:ext cx="788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¿Cuál es el mejor modelo de desarrol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1476360" cy="107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RUP_Model"/>
          <p:cNvPicPr/>
          <p:nvPr/>
        </p:nvPicPr>
        <p:blipFill>
          <a:blip r:embed="rId2"/>
          <a:stretch/>
        </p:blipFill>
        <p:spPr>
          <a:xfrm>
            <a:off x="4643280" y="1916280"/>
            <a:ext cx="1729080" cy="130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IMAGE001"/>
          <p:cNvPicPr/>
          <p:nvPr/>
        </p:nvPicPr>
        <p:blipFill>
          <a:blip r:embed="rId3"/>
          <a:stretch/>
        </p:blipFill>
        <p:spPr>
          <a:xfrm>
            <a:off x="1476360" y="1341360"/>
            <a:ext cx="2005200" cy="1041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IMAGE002"/>
          <p:cNvPicPr/>
          <p:nvPr/>
        </p:nvPicPr>
        <p:blipFill>
          <a:blip r:embed="rId4"/>
          <a:stretch/>
        </p:blipFill>
        <p:spPr>
          <a:xfrm>
            <a:off x="1332000" y="4797360"/>
            <a:ext cx="2376360" cy="993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5"/>
          <a:stretch/>
        </p:blipFill>
        <p:spPr>
          <a:xfrm>
            <a:off x="4067280" y="5805360"/>
            <a:ext cx="2663640" cy="88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6"/>
          <a:stretch/>
        </p:blipFill>
        <p:spPr>
          <a:xfrm>
            <a:off x="7197840" y="4797360"/>
            <a:ext cx="1946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Preguntas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715160" cy="557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tá poco clar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tá muy claro y acotad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 grande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 chic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mi empresa ya tiene un modelo de desarroll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sistema tiene muchas interfaces de usuari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mi gente tiene poca capacidad para adaptarse a nuevos métodos de desarroll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285920"/>
            <a:ext cx="7181640" cy="473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sarrol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de softwar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be ser guiado por un mode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como forma de disciplinar, organizar y gerenciar las activ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modelo debe se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finido para la organizació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y adaptado a cada proyecto en part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que deben cumplirse en el proceso de desarroll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so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básicament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las que establece el modelo en ca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modelo debe ser lo suficientemente flexible como para incorporar el principio d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NTICIPACION AL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increment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con entregas parciales al usuario (modelo evolutivo, incremental o espiral)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se ajusta a la mayoría de los proyect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ara los productos que así lo ameriten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ealizar análisis de riesg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(modelo espir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00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85560" y="1071360"/>
            <a:ext cx="494172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 meta de un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estructurado de proces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s determinar el </a:t>
            </a:r>
            <a:r>
              <a:rPr b="0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rden de las etap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que componen el desarrollo y la evolución de un software, estableciendo los </a:t>
            </a:r>
            <a:r>
              <a:rPr b="0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riterios de tran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para progresar de una etapa a la siguie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-¿Qué debemos hacer a continuació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(B.Bohem 198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00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8800" y="1117080"/>
            <a:ext cx="5586480" cy="55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Beneficios de los mode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Proveen de guía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Dan un marco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Anticipan y controlan el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para alcanzar las cualidades deseadas del softwa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Sistematizan el proceso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on el uso de estándares, metodologías y herramient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Permiten la producción de </a:t>
            </a: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productos confiables, predecibles y eficie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Modelos de Desarrollo de Sof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3080" y="1260000"/>
            <a:ext cx="759636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o basta con seleccionar un modelo genérico de desarrollo de software y tratar de adaptarse a él.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e requiere una definición más precisa de cómo llevar a cabo las distintas tar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Gené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Modelos de Desarrollo de Soft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560" y="1214280"/>
            <a:ext cx="7715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Gené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Permiten un entendimiento de tipo gener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representan en forma precisa lo que realmente se h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Específ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parecen la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tividades mayo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involucradas en el proce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Brindan una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precisa del orde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ablece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relaciones entr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as divers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tare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rtefact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ducidos en ellas,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perso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las realizan y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herrami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utiliz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n formalismos gráficos (por ejemplo Redes de Petri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volución de Model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8520" y="1356840"/>
            <a:ext cx="652932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o Estrategias de Desarrol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ode &amp; Fix Model (~196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Waterfall Model (~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Incremental Model (~198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Transformation Model (~197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piral Model (~198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omponent Model (~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RUP (~1997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WebE (~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Metodologías Ágiles (~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Situación en Chile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 [Gech, 2008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57E3-5AD1-4A73-A302-47DDD8A323C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4 Rectángulo"/>
          <p:cNvSpPr/>
          <p:nvPr/>
        </p:nvSpPr>
        <p:spPr>
          <a:xfrm>
            <a:off x="1357200" y="1293840"/>
            <a:ext cx="77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30% de las empresas opina que es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Extreme Programming es proceso menos conocid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asi 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30%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e  las  empresas  ha  incorporado el lenguaje de modelado UML, y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40%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e las empresas lo ha utilizado en alguna vez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asi 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80%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 las empresas utiliza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trol  de version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como la mayor herramienta de apoyo a la ejecución de sus proyecto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uego le sigue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dministrador de 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y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bugge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depurador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10-06T13:43:08Z</dcterms:modified>
  <cp:revision>968</cp:revision>
  <dc:subject/>
  <dc:title>Programas de Extención </dc:title>
</cp:coreProperties>
</file>