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7CD91F-AABA-45B2-9466-76CF3D7C8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37258D0-F16C-4D14-A7E2-2A3DF224FC3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56C5AAA-A71D-4168-95BD-B4950C4407B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97D2340-8C06-472D-A2EC-107CD87454C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682EF49-E77F-4C58-8769-1166F4D278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33C740-DE7E-4837-96F8-259C63F5FF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AE534B-956A-40EA-B041-71EB06D793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FF1139-8AA6-4613-98B4-9ADB245B51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FF03EBA-B14E-4E67-A5CF-FCC08DE53A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7083BB-D9E1-4E4E-A86C-FC1336D331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EDC845-3DC9-4A4F-8815-DF202EA2D3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5F5780-E5A1-46A4-90FA-F7721C5786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4E8B1DC-EF05-4A6E-A7F1-38438A1473A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260E22B-8788-4B34-8C89-7275C9929DB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C26904-9A47-49F9-B4E7-755A273E60C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13E25D0-CE97-49D9-9D01-B4696B69F4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E745FD2-B56C-465B-B93C-8263D266C4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72CC8D-874B-4954-A2C5-60069814CA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208F5E7-B031-455E-87CD-FEE6820A06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8ACB346-F1BA-463D-8788-2F1CBA945A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E7D5426-4F89-4EA8-94EC-849268AE9D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53CE3E-A7FA-482F-894C-FAE559519F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4020F3F-0AF2-40CE-BDE7-5554397A32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BE4CC7-F6BA-4ABB-B841-4EAF07B04E9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C7F9BE6-6A94-4ADD-B976-D17FB312FA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B99968-CC4C-4EFD-AA99-143B699BABB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95CC520-0D47-4BFA-8E9C-4593A5F87C8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EB8D740-0B7E-409B-AAB6-05D7AB640D6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66907E-2BEF-463D-A201-062CBBDBDC6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BF5885-F999-4E62-B198-B5145E8172D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FE64E4E-90E4-4733-8A8C-3F9A800D414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B8328DB-894B-43C4-9DC5-082E91C792E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A970D0-2C5E-4B42-9810-025FEB4F53E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DF5-455B-4697-A3D9-C1384E0C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F3F-3E9B-446E-969E-45669E71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775-071E-4CC8-BC1F-976B86E7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457-6381-4AA5-9C40-D9221AC6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4B7-DCA4-444D-8838-BC566007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191-4267-473C-9F8F-32B039D1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8D6-8E31-4D17-85C4-1BFDE0D3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665-0337-4AC9-ADB6-E1B603D3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59E-31BF-42A2-BDD2-119A2712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641-68A2-4984-8B73-D32FE347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AF0-969B-439B-9789-CB75EA2B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EEC-BAC6-4CFE-9589-B25DBA20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341A-B0DB-4F3A-AFD1-DC865C5FD27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7.jpe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CC51A – Ingeniería de Soft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00200" y="411912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de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09480" y="5176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de &amp; Fix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9720" y="1142640"/>
            <a:ext cx="7839000" cy="542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Usado  en los comienzos de la computación, cuando ésta era una actividad personal y artesa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onsta de 2 etapas: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codificar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liminar errore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en el cód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Fuente de dificultades y deficienc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Luego de una secuencia de cambios, el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códig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era tan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enredad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, que eliminar errores era una tarea pesada y muy difícil de realiz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uando el desarrollo de sistemas dejó de ser una actividad personal y artesanal, el modelo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no podía manejar la complejidad de los sistem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No acepta la rotación de personal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 un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s una práctica habitual en el desarrollo We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de &amp; Fix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7607520" cy="51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Code &amp; Fix =  Desarrollo guiado por el código (o por el programador)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 No se planifica ni se diseña formal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¿Qué significaría en nuestro proyecto aplicar code and fi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n término de previsibilidad del proceso y del 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apacidad de sincronización del esfuer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alidad de 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643880" y="5348160"/>
            <a:ext cx="1465200" cy="14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85EF-6661-430E-BC50-38F53ED4BD6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aterfall Model: Casca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2556000" y="1341360"/>
          <a:ext cx="5257800" cy="32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341360"/>
                    <a:ext cx="525780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1400040" y="5229360"/>
            <a:ext cx="77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l modelo de cascada aunque algo desprestigiado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continúa siendo usado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para visualizar las etapas de desarrollo (¿cómo debería avanzarse?) y funciona bien si no hay grandes sor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E25E-A275-4228-B9B0-CC6F697920D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aterfal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344600" y="1143000"/>
            <a:ext cx="779940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modelo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ascada (con realimentación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usado hasta el día de h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pendiendo de la versión, posee entr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 y 10 actividades fundam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Útil para identificar la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ctividades fundamental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que aparecen en cualquier proceso) y definir l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documentos de entreg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deliverabl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problemas más importantes de este modelo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No maneja los riesgos,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b) Obtiene un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roducto demasiado tard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c) Exige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poco compromiso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l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usuario/cl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B804-34FD-4B89-95D1-56208718485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rategia-Increment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1339920" y="1557360"/>
          <a:ext cx="7696080" cy="25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9920" y="1557360"/>
                    <a:ext cx="769608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4"/>
          <p:cNvSpPr/>
          <p:nvPr/>
        </p:nvSpPr>
        <p:spPr>
          <a:xfrm>
            <a:off x="1403280" y="495288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a idea es combinar los elementos del tradicional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modelo de cascada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con la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filosofía de prototipos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(usada principalmente en la etapa de definición de requisit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4F87-0716-45CC-B613-5832D9B2F98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Increment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26920" y="1182600"/>
            <a:ext cx="4897440" cy="58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junto de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cascadas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sarrolladas en forma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escalon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da cascada genera un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incremento del softw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jemplo: Word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Primer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edición y formateo bás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Segundo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párrafos y docu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Tercer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spelling y gramát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Cuarto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layout avanzado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602320" y="1989000"/>
            <a:ext cx="354168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7C11-20C5-4962-AEA4-0F3A00B8DAD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Increment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973080" y="1071720"/>
            <a:ext cx="8136000" cy="60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da incremento representa una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versión reducida del producto fi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uy útil para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cubrir lo que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almente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necesita el cl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Que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uede ser validad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de inmediato por el usu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una buena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paración para la vida evolutiv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del produ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ermite incorporar cambi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una vez que el proyecto está en march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No es trivial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obtener una buen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segmenta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l produ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867A-4005-4C2C-BAF2-8DBEC15ECFF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rategia - Spi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IMAGE001"/>
          <p:cNvPicPr/>
          <p:nvPr/>
        </p:nvPicPr>
        <p:blipFill>
          <a:blip r:embed="rId1"/>
          <a:stretch/>
        </p:blipFill>
        <p:spPr>
          <a:xfrm>
            <a:off x="1768320" y="1676520"/>
            <a:ext cx="5965920" cy="3179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539720" y="5348160"/>
            <a:ext cx="76042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bjetivo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Proveer una estructura para el diseño de procesos de producción de software, guiado por los </a:t>
            </a:r>
            <a:r>
              <a:rPr b="0" i="1" lang="es-ES_tradnl" sz="2400" spc="-1" strike="noStrike">
                <a:solidFill>
                  <a:srgbClr val="ffff00"/>
                </a:solidFill>
                <a:latin typeface="Tahoma"/>
              </a:rPr>
              <a:t>niveles de riesgo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del proyecto a desarrol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56FC-0B3C-4FF9-8378-0AC9A938411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3600" y="1604520"/>
            <a:ext cx="7772400" cy="506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modelo en espiral puede ser visto como 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metamodelo”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pues cualquier modelo de proceso puede ser enmarcado en é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efinicio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Riesgo: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rcunstancias potencialmente adversas que pueden perjudicar el proceso de desarrollo o la calidad del 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Manejo del Riesg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“Disciplina cuyos objetivos son identificar, manejar y eliminar los elementos de riesgo del software, antes que se conviertan en problemas”  B.W. Boeh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AD31-A0D4-4BBE-828F-5CF9C760792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2000" y="1432080"/>
            <a:ext cx="763272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modelo en espiral se basa en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dentific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liminación de problemas de alto riesg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a través de un proceso de diseño cuidad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modelo en espiral tiene como característica principal que es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cíclic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no line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radio del espiral marca 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sto acumul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n el proceso, mientras que la dimensión angular representa 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rogreso dentro del cic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no existe riesgo, el modelo en espiral puede reducirse a un modelo en casc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0032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28680" y="1213920"/>
            <a:ext cx="7701120" cy="564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Objetivo de la Presen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Mostrar diferent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formas de organizar el desarrollo de softwar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según el avance de la ingeniería de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alizar los “ciclos de vida” más representat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structura de la Presen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Definición de los principales Modelos de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volución de estos model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onclu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00320" y="1604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lement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Técnicas de man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Riesgo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1-  Carencias del personal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Staff calificado, equipo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trenamiento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2- Cronogramas y presupuestos    -  Estimación de cronogra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no realistas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y costos detallados, reuso de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experiencia prev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3- Desarrollo de funcion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Análisis organizado, equivocadas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prototipación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4- Desarrollo de interfac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Prototipos, escenario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quivocadas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caracterización de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5- “Gold plating”..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Análisis costo-benef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6- Continuos cambios d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Ocultamiento de información, requisitos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desarrollo increment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271520" y="1565280"/>
            <a:ext cx="7721640" cy="5068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1271520" y="2500200"/>
            <a:ext cx="7756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5157720" y="1604880"/>
            <a:ext cx="0" cy="5181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00320" y="16822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lement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Técnicas de man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Riesgo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7- Carencias en componentes       -  Análisis de compatibilidad, externos (soft, hard, etc).              benchmarks, inspe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8- Carencias en tare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-  Control de referencia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desarrolladas en forma                 contratos cuidadosos,      externa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selección de subcontrat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9- Carencias de performanc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Simulación, prototipo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 tiempo real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benchmar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10- Forzar la computación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Análisis técnico, prototipos y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honest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290600" y="1643040"/>
            <a:ext cx="7721640" cy="4764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1290600" y="2643120"/>
            <a:ext cx="7756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5176800" y="1682640"/>
            <a:ext cx="0" cy="474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125B-AE35-4647-BD06-9ADCBCF6891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rategia - Component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IMAGE001"/>
          <p:cNvPicPr/>
          <p:nvPr/>
        </p:nvPicPr>
        <p:blipFill>
          <a:blip r:embed="rId1"/>
          <a:stretch/>
        </p:blipFill>
        <p:spPr>
          <a:xfrm>
            <a:off x="1630440" y="1600200"/>
            <a:ext cx="4886280" cy="2536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IMAGE002"/>
          <p:cNvPicPr/>
          <p:nvPr/>
        </p:nvPicPr>
        <p:blipFill>
          <a:blip r:embed="rId2"/>
          <a:stretch/>
        </p:blipFill>
        <p:spPr>
          <a:xfrm>
            <a:off x="1631880" y="4286160"/>
            <a:ext cx="618012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1997-2E10-4C13-B39A-0D39415035D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omponent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258920" y="1270080"/>
            <a:ext cx="78850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desarrollo basado en componentes contempla la construcción de sistemas, a través d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nsamble de módulos predefinid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component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o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ódulos son genéric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sirven para más de un sistema), configurables, y pueden ser desarrollados por cualqu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que esto sea factible, lo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ódulos deben adherir a una especific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 componentes de software como: JavaBeans, ActiveX, EJB, COM, DCOM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desarrollo basado en componentes tiene un sin número d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ventaj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en lo relacionado con 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iempo y costo de desarrol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y también en lo que respecta a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alidad del producto f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B0C6-5C38-4F9B-9791-34A7D5B2C8E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RUP (Rational Unified Process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RUP_Model"/>
          <p:cNvPicPr/>
          <p:nvPr/>
        </p:nvPicPr>
        <p:blipFill>
          <a:blip r:embed="rId1"/>
          <a:stretch/>
        </p:blipFill>
        <p:spPr>
          <a:xfrm>
            <a:off x="1928880" y="1571760"/>
            <a:ext cx="64767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7791-1331-41D0-9C72-ACE7F0BB07E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RUP (Rational Unified Process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332000" y="1268280"/>
            <a:ext cx="756108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odelo (en teoría) modern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incorpora las recomendaciones (buenas prácticas) de la ingeniería de soft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iene mucho respal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pero es un tant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mple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se requiere entrenamiento para usarl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 muy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tado a UM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Unified Modeling Languag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asta el momento, sólo ha demostrado ser uno má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diferencia del resto, RUP considera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rquitectur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como un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ieza clav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 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emasiado pesad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apoyar el desarrollo de proyectos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70D9-42E2-4C0E-8492-D33DB50FCE1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ebE (Web Engineering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7199280" cy="52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D942-5130-4E04-A820-6A7B248B030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ebE (Web Engineering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187280" y="1270080"/>
            <a:ext cx="7956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un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odelo modern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aplicable a proyectos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finido por R. Pressman en 199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el primer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odel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iseñado específicament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ara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sarrollar proyectos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Web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nqu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hay otro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como RMM, y OOHDM que proponen alternativas a WebE, pero que vienen del lado de los sistemas hipermed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WebE aún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no ha sido probado lo suficiente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y por ahora es sólo una buena propue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3B9A-9251-48E1-8C3B-8965BEBDA36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Metodologías Ág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214280" y="1214280"/>
            <a:ext cx="4104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un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ráctica ágil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(no burocrátic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un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filosofía de desarroll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no una metodolog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Involucr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ir descubriendo la solu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en la medida que se va avanzando en el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5724360" y="2700360"/>
            <a:ext cx="3419640" cy="2313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214280" y="5810400"/>
            <a:ext cx="7929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mplos de metodología ágiles son: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xtremme Programming, SCRUM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rys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2F68-F095-44E1-9035-5193CAFCB91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todologías Ág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920" y="1904760"/>
            <a:ext cx="388944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luc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ca document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a interacción con el cliente/usu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ácticas específicas, como por ejemplo: pair-programming, pair- designing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6115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Definición y Objetiv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20840" y="1500120"/>
            <a:ext cx="7394400" cy="190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Proceso de producción de softw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Actividad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que se realizan para la construcción, liberación y evolución de un producto de software, comenzando con el estudio de una idea y finalizando con el retiro final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5591160" y="3214800"/>
            <a:ext cx="3517920" cy="3592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320840" y="3357720"/>
            <a:ext cx="42512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Ciclo de Vid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l ciclo de vida </a:t>
            </a:r>
            <a:r>
              <a:rPr b="0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describe los est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por los que pasa un producto de software, desde su concepción hasta su muer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modelos estructur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de software muestran más claramente los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iclos de vid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del softwar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0771-FA1D-4FF9-BC40-2FAC42C3CD3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gunta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8560" y="3573000"/>
            <a:ext cx="7885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¿Cuál es el mejor modelo de desarrol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1476360" cy="1078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RUP_Model"/>
          <p:cNvPicPr/>
          <p:nvPr/>
        </p:nvPicPr>
        <p:blipFill>
          <a:blip r:embed="rId2"/>
          <a:stretch/>
        </p:blipFill>
        <p:spPr>
          <a:xfrm>
            <a:off x="4643280" y="1916280"/>
            <a:ext cx="1729080" cy="130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IMAGE001"/>
          <p:cNvPicPr/>
          <p:nvPr/>
        </p:nvPicPr>
        <p:blipFill>
          <a:blip r:embed="rId3"/>
          <a:stretch/>
        </p:blipFill>
        <p:spPr>
          <a:xfrm>
            <a:off x="1476360" y="1341360"/>
            <a:ext cx="2005200" cy="1041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IMAGE002"/>
          <p:cNvPicPr/>
          <p:nvPr/>
        </p:nvPicPr>
        <p:blipFill>
          <a:blip r:embed="rId4"/>
          <a:stretch/>
        </p:blipFill>
        <p:spPr>
          <a:xfrm>
            <a:off x="1332000" y="4797360"/>
            <a:ext cx="2376360" cy="993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5"/>
          <a:stretch/>
        </p:blipFill>
        <p:spPr>
          <a:xfrm>
            <a:off x="4067280" y="5805360"/>
            <a:ext cx="2663640" cy="885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6"/>
          <a:stretch/>
        </p:blipFill>
        <p:spPr>
          <a:xfrm>
            <a:off x="7197840" y="4797360"/>
            <a:ext cx="1946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Preguntas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715160" cy="557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tá poco clar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tá muy claro y acotad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 grande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 chic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mi empresa ya tiene un modelo de desarroll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sistema tiene muchas interfaces de usuari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mi gente tiene poca capacidad para adaptarse a nuevos métodos de desarroll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28480" y="1285920"/>
            <a:ext cx="7181640" cy="473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desarrol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de softwar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debe ser guiado por un mode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, como forma de disciplinar, organizar y gerenciar las activ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l modelo debe ser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definido para la organizació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y adaptado a cada proyecto en parti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ctividade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que deben cumplirse en el proceso de desarroll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so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básicament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las que establece el modelo en casc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l modelo debe ser lo suficientemente flexible como para incorporar el principio d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NTICIPACION AL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643880" cy="528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increment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, con entregas parciales al usuario (modelo evolutivo, incremental o espiral)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se ajusta a la mayoría de los proyect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Para los productos que así lo ameriten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realizar análisis de riesg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(modelo espira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00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  <a:ea typeface="Arial"/>
              </a:rPr>
              <a:t>Definición y Objetivos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85560" y="1071360"/>
            <a:ext cx="4941720" cy="57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La meta de un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estructurado de proces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es determinar el </a:t>
            </a:r>
            <a:r>
              <a:rPr b="0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orden de las etap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que componen el desarrollo y la evolución de un software, estableciendo los </a:t>
            </a:r>
            <a:r>
              <a:rPr b="0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riterios de tran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para progresar de una etapa a la siguien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Los modelos están hechos para contestar las siguientes preguntas en un proyecto de softw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-¿Qué debemos hacer a continuació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1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-¿Cuánto tiempo debemos continuar haciéndolo?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(B.Bohem 198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6310440" y="1341360"/>
            <a:ext cx="283356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00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Definición y Objetivos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8800" y="1117080"/>
            <a:ext cx="5586480" cy="55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Beneficios de los model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Proveen de guía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a los ingenieros de software, a cerca del orden en el cual deben ser llevadas a cabo las variadas actividades técnic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Dan un marco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o estructura para gerenciar, desarrollar y mantener un desarrollo, lo cual nos permite: estimar recursos, definir hitos intermedios y monitorear los progre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Anticipan y controlan el proces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para alcanzar las cualidades deseadas del softwa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Sistematizan el proceso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con el uso de estándares, metodologías y herramient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Permiten la producción de </a:t>
            </a: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productos confiables, predecibles y eficiente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6588000" y="2060640"/>
            <a:ext cx="2556000" cy="19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6948360" y="5373720"/>
            <a:ext cx="18716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  <a:ea typeface="Arial"/>
              </a:rPr>
              <a:t>Modelos de Desarrollo de Sof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3080" y="1260000"/>
            <a:ext cx="759636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No basta con seleccionar un modelo genérico de desarrollo de software y tratar de adaptarse a él.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e requiere una definición más precisa de cómo llevar a cabo las distintas tare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Gené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quí caen todos los modelos de desarrollo de software tradicionales: cascada, espiral, prototipo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resentan una estrategia muy general para efectuar el proceso de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 la realidad casi nunca es posible efectuar el desarrollo adhiriendo completamente a uno de estos model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  <a:ea typeface="Arial"/>
              </a:rPr>
              <a:t>Modelos de Desarrollo de Soft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5560" y="1214280"/>
            <a:ext cx="77151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Genér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Permiten un entendimiento de tipo gener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proceso pero no es fácil llevarlos a un nivel de detalle más fino, lo cual es necesario para guiar el trabajo de los profesion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 representan en forma precisa lo que realmente se h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Específ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parecen las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ctividades mayor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involucradas en el proce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Brindan una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precisa del orde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ntre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ablecen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relaciones entr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las diversa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tare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lo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rtefact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producidos en ellas, la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perso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que las realizan y la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herrami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utiliz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n formalismos gráficos (por ejemplo Redes de Petri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volución de Model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28520" y="1356840"/>
            <a:ext cx="6529320" cy="528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Modelos o Estrategias de Desarroll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ode &amp; Fix Model (~196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Waterfall Model (~197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Incremental Model (~198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Transformation Model (~197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Spiral Model (~198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omponent Model (~199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RUP (~1997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WebE (~19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Metodologías Ágiles (~19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Situación en Chile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 [Gech, 2008]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2A98-3CA6-49D8-9D6A-A931EAD62C7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4 Rectángulo"/>
          <p:cNvSpPr/>
          <p:nvPr/>
        </p:nvSpPr>
        <p:spPr>
          <a:xfrm>
            <a:off x="1357200" y="1293840"/>
            <a:ext cx="7786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l 30% de las empresas opina que es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Extreme Programming es proceso menos conocido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asi  el 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30%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e  las  empresas  ha  incorporado el lenguaje de modelado UML, y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40%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e las empresas lo ha utilizado en alguna vez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asi  el 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80%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  las empresas utiliza el 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trol  de versiones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como la mayor herramienta de apoyo a la ejecución de sus proyecto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uego le sigue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dministrador de requisitos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y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bugger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depurador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9-10-06T13:43:08Z</dcterms:modified>
  <cp:revision>968</cp:revision>
  <dc:subject/>
  <dc:title>Programas de Extención </dc:title>
</cp:coreProperties>
</file>