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B7EEFF-166B-4543-8289-79AD38316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DC7D9C-039C-4023-8188-B05F1214C6E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6B9484-7270-4FA8-A3B0-EE40282AFA9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233A80D-B9E7-41B2-8D64-078092F8512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17B0D8C-B305-4AD6-9B7E-04ACE3963E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73878AA-656B-413A-AE39-29E94A8D56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071FE5-3F52-4A08-9252-389460C82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5B93A0-CFE3-40EC-95E6-C654B731A9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F90C209-507F-4073-B64D-4440F79D03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E631FF4-A1AB-4059-9C59-D3F5435383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7E9D29-52F1-4F73-90ED-AE59395323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2FEAEC-5E6D-47DC-8D67-9C1E808B1A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ECEF1CC-D3BD-40FE-BE6F-3EB7341A0D2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DAAF00-332F-466C-8909-20CCE51D323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266BA7-ED21-4893-BE0A-D006371CC22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12ADCDF-87A2-42DD-9E0F-186EA4F891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2BEA81-A315-4728-990E-E2CDFE6F54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0AEAA93-CCD9-443C-B43A-6F61CED131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9A25CE-6BD0-4581-9C10-6DF34FD763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FECF92-FA85-4220-AD36-6017D67BAD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3D99475-DAD0-4F77-8E5C-5BF95DD756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A0AE283-C4CD-494C-B584-DF872905D7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889391-917F-4F4E-B726-07E41A219D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5ED0DC-040F-4578-9DFC-2D03D7A63B7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187E39B-839A-4A4D-BC8D-DA8C53DCD2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3480" y="4408200"/>
            <a:ext cx="51307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5B0587C-C1E5-4FD1-A4E3-73DFE0CB8FB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306F90-0422-4BBB-AE27-9FF6E69CA49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39B6107-C918-4B82-BD6B-52F857FBC14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7DC79D-CD43-45A2-B0BD-A66E44084BD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82C08FD-8549-426B-928F-B27F35FA7AD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7106F5-693E-4F38-8408-CC467991D77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FEBA12E-600A-4B75-BF0B-E8F493DF370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C49260-21D1-4387-BCCB-47C9612DEC5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56960" y="4024440"/>
            <a:ext cx="652932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-3174840" y="1477800"/>
            <a:ext cx="9466200" cy="7101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003-DEFD-4299-80CE-029795B5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C57-4775-4531-952B-3998C700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499-D9F0-434A-A414-94A02F6A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4AA-29B1-484E-A254-0B6CC4A5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D8E-79D4-466A-8E0C-E55D5FE7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D1C-3DD1-4168-87AC-BC026D5B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1E2-ACFE-41D8-9DB7-4143FE1C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77F-86D9-4AF8-B13F-AF2EF6DB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3B6-ECEA-460B-93E5-6C04FB3C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A93-35F3-4113-8C6F-5BDE33FD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4847-148F-4357-B0BC-D0479716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7F5-6E30-4C75-A55F-F8FBBDDB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89FC-649D-40B1-A1BC-038A79D456C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7.jpe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00200" y="411912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de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09480" y="5176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9720" y="1142640"/>
            <a:ext cx="7839000" cy="542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sta de 2 etapas: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odificar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iminar errores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n el cód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Fuente de dificultades y deficienc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uego de una secuencia de cambios, el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códig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era ta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enred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, que eliminar errores era una tarea pesada y muy difícil de realiz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uando el desarrollo de sistemas dejó de ser una actividad personal y artesanal, el modelo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podía manejar la complejidad de los sistem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No acepta la rotación de personal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un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s una práctica habitual en el desarrollo We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de &amp; Fix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607520" cy="51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Code &amp; Fix =  Desarrollo guiado por el código (o por el programador)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 No se planifica ni se diseña formal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¿Qué significaría en nuestro proyecto aplicar code and fix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n término de previsibilidad del proceso y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pacidad de sincronización del esfuer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alidad de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43880" y="5348160"/>
            <a:ext cx="1465200" cy="14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028C-27C2-4727-BC93-D1211DBB38C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: Casca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2556000" y="1341360"/>
          <a:ext cx="5257800" cy="32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341360"/>
                    <a:ext cx="52578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1400040" y="5229360"/>
            <a:ext cx="774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l modelo de cascada aunque algo desprestigiado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continúa siendo usado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E843-E34B-4C19-8CCB-FD45E78E4A9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aterfal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344600" y="1143000"/>
            <a:ext cx="779940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modelo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cascada (con realimentación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usado hasta el día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pendiendo de la versión, posee entr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5 y 10 actividades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Útil para identificar la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actividades fundamental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que aparecen en cualquier proceso) y definir los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documentos de entreg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deliver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s problemas más importantes de este modelo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No maneja los riesgos,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b) Obtiene un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producto demasiado tar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79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c) Exige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poco compromiso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l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 usuario/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9667-9EF1-4183-A85B-34049D45CBE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-Increment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1339920" y="1557360"/>
          <a:ext cx="769608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9920" y="1557360"/>
                    <a:ext cx="769608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4"/>
          <p:cNvSpPr/>
          <p:nvPr/>
        </p:nvSpPr>
        <p:spPr>
          <a:xfrm>
            <a:off x="1403280" y="49528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a idea es combinar los elementos del tradicional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modelo de cascada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con la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filosofía de prototipos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(usada principalmente en la etapa de definición de requisit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9981-E682-484D-95BE-5E8C096754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6920" y="11826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njunto de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ascadas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sarrolladas en forma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calon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da cascada genera un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incremento del soft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Prim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dición y formateo bás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Segund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párrafos y docum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Tercer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spelling y gramá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Cuarto increm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layout avanzad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602320" y="1989000"/>
            <a:ext cx="354168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73DF-3B3E-4D62-81A2-5C811C3A1C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Increment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73080" y="1071720"/>
            <a:ext cx="8136000" cy="60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da incremento representa u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versión reducida del producto fin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uy útil par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cubrir lo que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alment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necesita el cl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Que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uede ser validad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 inmediato por el usu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una buena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paración para la vida evolutiv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ermite incorporar cambi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una vez que el proyecto está en march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es trivia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obtener una bue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segmenta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l produ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0E22-E71F-4BDC-95CF-4A21AE10FD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Spi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IMAGE001"/>
          <p:cNvPicPr/>
          <p:nvPr/>
        </p:nvPicPr>
        <p:blipFill>
          <a:blip r:embed="rId1"/>
          <a:stretch/>
        </p:blipFill>
        <p:spPr>
          <a:xfrm>
            <a:off x="1768320" y="1676520"/>
            <a:ext cx="5965920" cy="317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539720" y="5348160"/>
            <a:ext cx="76042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0" i="1" lang="es-ES_tradnl" sz="2400" spc="-1" strike="noStrike">
                <a:solidFill>
                  <a:srgbClr val="ffff00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ffffff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26AA-72D0-4B42-8A1D-3E7F4775475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3600" y="160452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puede ser visto como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etamodelo”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ues cualquier modelo de proceso puede ser enmarcado e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fini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Riesgo: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Manejo del Riesg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B3D7-57C5-4BD1-89D9-D88EA5172F5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32000" y="1432080"/>
            <a:ext cx="7632720" cy="53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se basa en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ident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liminación de problemas de alto riesg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a través de un proceso de diseño cuidados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cíclic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</a:rPr>
              <a:t>no line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radio del espiral marc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sto acumul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n el proceso, mientras que la dimensión angular representa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rogreso dentro del cic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003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28680" y="1213920"/>
            <a:ext cx="7701120" cy="564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Objetivo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Mostrar diferent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formas de organizar el desarrollo de softwar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según el avance de la ingeniería de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Analizar los “ciclos de vida” más representa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ructura de la Present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ón de los principales Modelos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volución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Conclu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00320" y="1604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-  Carencias del personal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Staff calificado, equipo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trenamiento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2- Cronogramas y presupuestos    -  Estimación de cronogra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no realistas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y costos detallados, reuso d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experiencia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3- Desarrollo de funcion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organizado, 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prototipación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4- Desarrollo de interfac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Prototipos, escenari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quivocada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caracterización de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5- “Gold plating”...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costo-benef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6- Continuos cambios d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Ocultamiento de información, requisitos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desarrollo incremen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271520" y="1565280"/>
            <a:ext cx="7721640" cy="5068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271520" y="250020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5157720" y="1604880"/>
            <a:ext cx="0" cy="5181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Spiral Mode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00320" y="16822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Elementos de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Técnicas de mane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iesgo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7- Carencias en componentes       -  Análisis de compatibilidad, externos (soft, hard, etc).              benchmarks,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8- Carencias en tare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-  Control de referencia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adas en forma                 contratos cuidadosos,      externa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selección de subcontrat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9- Carencias de performanc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Simulación, prototipo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6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n tiempo real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benchmark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10- Forzar la computación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-  Análisis técnico, prototipos y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      honest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290600" y="1643040"/>
            <a:ext cx="7721640" cy="4764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1290600" y="2643120"/>
            <a:ext cx="7756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5176800" y="1682640"/>
            <a:ext cx="0" cy="474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4F02-EBBE-4E2D-986F-E12F24EF637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Estrategia - 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IMAGE001"/>
          <p:cNvPicPr/>
          <p:nvPr/>
        </p:nvPicPr>
        <p:blipFill>
          <a:blip r:embed="rId1"/>
          <a:stretch/>
        </p:blipFill>
        <p:spPr>
          <a:xfrm>
            <a:off x="1630440" y="1600200"/>
            <a:ext cx="4886280" cy="2536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IMAGE002"/>
          <p:cNvPicPr/>
          <p:nvPr/>
        </p:nvPicPr>
        <p:blipFill>
          <a:blip r:embed="rId2"/>
          <a:stretch/>
        </p:blipFill>
        <p:spPr>
          <a:xfrm>
            <a:off x="1631880" y="4286160"/>
            <a:ext cx="618012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7385-F2DB-4F48-8661-8399735216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Component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258920" y="1270080"/>
            <a:ext cx="7885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contempla la construcción de sistemas, a través d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ensamble de módulos predefinid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component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son genéric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sirven para más de un sistema), configurables, y pueden ser desarrollados por cualqu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que esto sea factible, lo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ódulos deben adherir a una especific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 componentes de software como: JavaBeans, ActiveX, EJB, COM, DCOM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esarrollo basado en componentes tiene un sin númer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ventaj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en lo relacionado con 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mpo y costo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y también en lo que respecta 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alidad del producto f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90FC-A7B3-4D5E-B60B-97993FFFE6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92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RUP_Model"/>
          <p:cNvPicPr/>
          <p:nvPr/>
        </p:nvPicPr>
        <p:blipFill>
          <a:blip r:embed="rId1"/>
          <a:stretch/>
        </p:blipFill>
        <p:spPr>
          <a:xfrm>
            <a:off x="1928880" y="157176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95ED-2A8D-494E-A3E1-625605E9E5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RUP (Rational Unified Proces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332000" y="1268280"/>
            <a:ext cx="75610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modelo (en teoría) modern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incorpora las recomendaciones (buenas prácticas) de la ingeniería de softw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Tiene mucho respal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pero es un tant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comple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se requiere entrenamiento para usarl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 muy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tado a UM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Unified Modeling Langu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sta el momento, sólo ha demostrado ser uno m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 diferencia del resto, RUP considera l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arquitectur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como una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pieza clav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e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</a:rPr>
              <a:t>demasiado pesad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apoyar el desarrollo de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569B-CF56-4413-8E8B-8FDE0BE140A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719928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8638-60A2-497C-BE89-0DBB86BB3C9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WebE (Web Engineer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187280" y="1270080"/>
            <a:ext cx="7956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 modern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aplicable a proyecto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el primer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ode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iseñado específicament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ara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sarrollar proyecto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Web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nqu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hay otr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como RMM, y OOHDM que proponen alternativas a WebE, pero que vienen del lado de los sistemas hipermed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800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WebE aú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no ha sido probado lo suficiente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y por ahora es sólo una buena propue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BD7B-FA0C-467B-AC28-9A8932DDEEF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214280" y="1214280"/>
            <a:ext cx="4104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ráctica ági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(no burocráti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un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filosofía de desarroll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no una metod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nvolucra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ir descubriendo la solu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en la medida que se va avanzando en 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4"/>
          <a:stretch/>
        </p:blipFill>
        <p:spPr>
          <a:xfrm>
            <a:off x="5724360" y="2700360"/>
            <a:ext cx="341964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4"/>
          <p:cNvSpPr/>
          <p:nvPr/>
        </p:nvSpPr>
        <p:spPr>
          <a:xfrm>
            <a:off x="1214280" y="5810400"/>
            <a:ext cx="7929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95000"/>
              </a:lnSpc>
              <a:spcBef>
                <a:spcPts val="2401"/>
              </a:spcBef>
              <a:spcAft>
                <a:spcPts val="24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s de metodología ágiles son: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xtremme Programming, SCRU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rys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76A1-B4DA-4C29-B7BA-44DD43253B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todologías Ág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920" y="1904760"/>
            <a:ext cx="38894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lucr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ca documen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a interacción con el cliente/usu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ácticas específicas, como por ejemplo: pair-programming, pair- design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20840" y="1500120"/>
            <a:ext cx="7394400" cy="19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Proceso de producción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5591160" y="3214800"/>
            <a:ext cx="3517920" cy="3592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1320840" y="3357720"/>
            <a:ext cx="4251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Ciclo de Vi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El ciclo de vida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describe los est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por los que pasa un producto de software, desde su concepción hasta su muer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modelos estructura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 software muestran más claramente los </a:t>
            </a:r>
            <a:r>
              <a:rPr b="0" i="1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iclos de vida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del softwar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336B-8E5F-477B-8BCB-A952D28462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gunta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8560" y="3573000"/>
            <a:ext cx="7885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¿Cuál es el mejor modelo de desarroll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7667640" y="1125360"/>
            <a:ext cx="1476360" cy="10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RUP_Model"/>
          <p:cNvPicPr/>
          <p:nvPr/>
        </p:nvPicPr>
        <p:blipFill>
          <a:blip r:embed="rId2"/>
          <a:stretch/>
        </p:blipFill>
        <p:spPr>
          <a:xfrm>
            <a:off x="4643280" y="1916280"/>
            <a:ext cx="1729080" cy="130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IMAGE001"/>
          <p:cNvPicPr/>
          <p:nvPr/>
        </p:nvPicPr>
        <p:blipFill>
          <a:blip r:embed="rId3"/>
          <a:stretch/>
        </p:blipFill>
        <p:spPr>
          <a:xfrm>
            <a:off x="1476360" y="1341360"/>
            <a:ext cx="2005200" cy="1041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IMAGE002"/>
          <p:cNvPicPr/>
          <p:nvPr/>
        </p:nvPicPr>
        <p:blipFill>
          <a:blip r:embed="rId4"/>
          <a:stretch/>
        </p:blipFill>
        <p:spPr>
          <a:xfrm>
            <a:off x="1332000" y="4797360"/>
            <a:ext cx="2376360" cy="99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5"/>
          <a:stretch/>
        </p:blipFill>
        <p:spPr>
          <a:xfrm>
            <a:off x="4067280" y="5805360"/>
            <a:ext cx="2663640" cy="88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6"/>
          <a:stretch/>
        </p:blipFill>
        <p:spPr>
          <a:xfrm>
            <a:off x="7197840" y="4797360"/>
            <a:ext cx="1946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Preguntas…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715160" cy="557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poco clar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tá muy claro y acotad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grande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problema es chic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empresa ya tiene un modelo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el sistema tiene muchas interfaces de usuari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Si mi gente tiene poca capacidad para adaptarse a nuevos métodos de desarrollo, qué us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285920"/>
            <a:ext cx="7181640" cy="473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sarrol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de softwar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be ser guiado por un model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mo forma de disciplinar, organizar y gerenciar las activida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definido para la organizació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y adaptado a cada proyecto en part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deben cumplirse en el proceso de desarrollo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o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básicament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las que establece el modelo en casc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El modelo debe ser lo suficientemente flexible como para incorporar el principio de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ANTICIPACION AL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Un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increment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, con entregas parciales al usuario (modelo evolutivo, incremental o espiral)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se ajusta a la mayoría de los proyect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Para los productos que así lo ameriten, </a:t>
            </a:r>
            <a:r>
              <a:rPr b="0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realizar análisis de riesg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(modelo espir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85560" y="1071360"/>
            <a:ext cx="494172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 meta de un </a:t>
            </a:r>
            <a:r>
              <a:rPr b="0" i="1" lang="es-ES_tradn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estructurado de proces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es determinar el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rden de las etap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que componen el desarrollo y la evolución de un software, estableciendo los </a:t>
            </a:r>
            <a:r>
              <a:rPr b="0" i="1" lang="es-ES_tradnl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riterios de tran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 para progresar de una etapa a la siguien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Qué debemos hacer a continuació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(B.Bohem 198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00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Definición y Objetivos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28800" y="1117080"/>
            <a:ext cx="5586480" cy="552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  <a:ea typeface="Arial"/>
              </a:rPr>
              <a:t>Beneficios de los mode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veen de guías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Dan un marc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Anticipan y controlan el proceso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 para alcanzar las cualidades deseadas del softwa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Sistematizan el proceso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con el uso de estándares, metodologías y herramient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Permiten la producción de </a:t>
            </a:r>
            <a:r>
              <a:rPr b="0" i="1" lang="es-ES_tradnl" sz="1800" spc="-1" strike="noStrike">
                <a:solidFill>
                  <a:srgbClr val="ffff00"/>
                </a:solidFill>
                <a:latin typeface="Arial"/>
                <a:ea typeface="Arial"/>
              </a:rPr>
              <a:t>productos confiables, predecibles y eficie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3080" y="1260000"/>
            <a:ext cx="759636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o basta con seleccionar un modelo genérico de desarrollo de software y tratar de adaptarse a él.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e requiere una definición más precisa de cómo llevar a cabo las distintas tare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  <a:ea typeface="Arial"/>
              </a:rPr>
              <a:t>Modelos de Desarrollo de Soft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5560" y="1214280"/>
            <a:ext cx="77151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Gené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miten un entendimiento de tipo gener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representan en forma precisa lo que realmente se h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de Desarrollo Especí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parecen la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ctividades mayo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involucradas en el proce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Brindan una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precisa del ord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ablecen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relaciones entr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as divers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tare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lo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rtefact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ducidos en ellas,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perso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las realizan y las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herrami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utiliz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n formalismos gráficos (por ejemplo Redes de Petri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volución de Model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28520" y="1356840"/>
            <a:ext cx="6529320" cy="528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Modelos o Estrategias de Desarrol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de &amp; Fix Model (~196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aterfall Model (~197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Incremental Model (~198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Transformation Model (~197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Spiral Model (~198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Component Model (~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RUP (~1997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WebE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Arial"/>
              </a:rPr>
              <a:t>Metodologías Ágiles (~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Situación en Chile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 [Gech, 2008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C54A-8288-446F-A9D1-354BABCE95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4 Rectángulo"/>
          <p:cNvSpPr/>
          <p:nvPr/>
        </p:nvSpPr>
        <p:spPr>
          <a:xfrm>
            <a:off x="1357200" y="1293840"/>
            <a:ext cx="7786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30% de las empresas opina que es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Extreme Programming es proceso menos conocid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3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 las  empresas  ha  incorporado el lenguaje de modelado UML, 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40%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e las empresas lo ha utilizado en alguna vez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asi 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80%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 las empresas utiliza el 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trol  de version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como la mayor herramienta de apoyo a la ejecución de sus proyecto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uego le sigue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dministrador de 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y el 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bugge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depurador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10-06T13:43:08Z</dcterms:modified>
  <cp:revision>968</cp:revision>
  <dc:subject/>
  <dc:title>Programas de Extención </dc:title>
</cp:coreProperties>
</file>