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C831CA-1993-4E55-9AE1-E78D2047C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8EB773-2D87-44D8-BBD4-9A42BF1CA1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7D0AAE-3448-4922-9C05-A1791F8404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A1E9D3-FB53-4B94-8833-8A59986967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250A35-8F29-49D3-888A-0D6FA99F46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3E6240-50E6-407B-A908-AC1E6D6C19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725DCA-F4BF-493B-9780-1C072B881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6751EA-C5D5-4F2F-ABC2-FAF80D0D2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D86BC0-F391-4F56-9230-8E4E10A022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571D64-8DB2-407E-9735-0EB9F15146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4BE0B0-364B-4B6D-BD10-696B710FE8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1828EF-F457-4F02-A061-32CA758158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36B3E8-BFD0-4A3D-82A1-D6A46E5B4D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9BECDA-96C4-472B-A04B-8285C27B14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33B970-E797-41A6-BD2C-CF3AEE0055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CC31EF-FAEF-49EC-98EF-1CC3366009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E3CF5A-14C6-4487-9F85-760DC35335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55FC25-3C86-4CFD-836C-81DB946B6E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48A16E-20BC-480E-B5A7-0F02F3EB7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51D591-9499-44C2-A3B5-CC848B3986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4A81E0-B0C7-473B-8E72-EE8B3957A3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3945CF-93AB-4A1A-80E4-926482D311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E33D48-AD5B-4B08-94C6-0B4DB461A4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6FBCB7-CC34-4893-8A7E-A33818FE30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2960" y="882972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A25323-F0FB-41C5-BF5E-65D4097C3C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4360" y="4416120"/>
            <a:ext cx="54892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2E8-D467-4AAA-8D66-19E0BE10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F86-8A8C-40BD-BC84-8DA02CD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05C-1D5E-4139-8245-ECAB137E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3A1-A5D1-4556-8589-5CEECECB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E43-DA46-4BA9-8D24-8F647261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935-4078-4A78-89F1-6B732968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F67-0CAA-42D6-ACB6-AE4E37D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1D4-150F-4A94-A8E8-83AA0E00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154-0CD1-4510-92F6-3DDE73FF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409-78EC-44AA-848D-BA52A57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121-4FDF-4DDE-82C3-D680C94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63E-97E2-4E97-9C26-5265825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554E-EB19-4925-9855-402D1A1B83A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15BA-F679-467B-B88E-5ED8602E700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6680" y="13399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jecución del Proyecto – Administración del Riesg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78120" y="462888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sochoa@dcc.uchile.c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124000" y="5877000"/>
            <a:ext cx="64008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nco Encalada 2120, 4º. Piso, Of. 406, Santi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léfonos: (56 2) 9784879, 97849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x: (56 2) 68955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413A-DEE3-41E7-A7D3-8F31672532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427640" y="136368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357200" y="4508640"/>
            <a:ext cx="77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gran mayoría de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yectos involucran riesg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drían hacerlo fracas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n embargo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i los administram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nuestr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babilidad de éxito aumentará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siderable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747800" y="1341360"/>
            <a:ext cx="2125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03B7-1E76-4DEC-A38F-F25875B0805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7200" y="114264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cad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edida de precaución /    contingenc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le debe inclui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acto o nivel de cobertur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por ej. inmuniza, retarda el impacto, deriva a otro componente, et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mar decision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respecto de cada riesg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de el punto de vista del negoci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os riesg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ecesitan ser revis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ólo lo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ás probables y/o dañin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necesitan ser administrados (tratad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18240" y="0"/>
            <a:ext cx="1625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D145-AC7C-4971-8EA8-F7BF432696B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3200" y="1196640"/>
            <a:ext cx="73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quisitos cambia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blema pobremente defin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tación de perso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os exter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llas en la plataforma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 la tecnología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onocimiento del proceso de desarrollo a utiliz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érdidas de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traso en la ejecución de una f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ta dependencia de algún persona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429680" y="5130720"/>
            <a:ext cx="1714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8F2B-CD06-4ED0-8D38-E427C3A705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660680" y="148428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650600" y="154944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1660680" y="241776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072880" y="248292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1660680" y="335124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018880" y="341640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al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405080" y="4284720"/>
            <a:ext cx="3889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474200" y="4349880"/>
            <a:ext cx="3755880" cy="39888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660680" y="5218200"/>
            <a:ext cx="35622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818360" y="52833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r los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7299360" y="1560600"/>
            <a:ext cx="1665360" cy="4114800"/>
          </a:xfrm>
          <a:custGeom>
            <a:avLst/>
            <a:gdLst>
              <a:gd name="textAreaLeft" fmla="*/ 81000 w 1665360"/>
              <a:gd name="textAreaRight" fmla="*/ 1584360 w 1665360"/>
              <a:gd name="textAreaTop" fmla="*/ 81000 h 4114800"/>
              <a:gd name="textAreaBottom" fmla="*/ 4033800 h 4114800"/>
            </a:gdLst>
            <a:ahLst/>
            <a:rect l="textAreaLeft" t="textAreaTop" r="textAreaRight" b="textAreaBottom"/>
            <a:pathLst>
              <a:path w="21600" h="53363">
                <a:moveTo>
                  <a:pt x="3600" y="0"/>
                </a:moveTo>
                <a:arcTo wR="3600" hR="3600" stAng="16200000" swAng="-5400000"/>
                <a:lnTo>
                  <a:pt x="0" y="49763"/>
                </a:lnTo>
                <a:arcTo wR="3600" hR="3600" stAng="10800000" swAng="-5400000"/>
                <a:lnTo>
                  <a:pt x="18000" y="5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onitorear y Revi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AutoShape 14"/>
          <p:cNvCxnSpPr>
            <a:stCxn id="113" idx="0"/>
            <a:endCxn id="103" idx="0"/>
          </p:cNvCxnSpPr>
          <p:nvPr/>
        </p:nvCxnSpPr>
        <p:spPr>
          <a:xfrm flipV="1" rot="16200000">
            <a:off x="5748480" y="-823320"/>
            <a:ext cx="76680" cy="4691880"/>
          </a:xfrm>
          <a:prstGeom prst="bentConnector3">
            <a:avLst>
              <a:gd name="adj1" fmla="val 401415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5" name="AutoShape 15"/>
          <p:cNvCxnSpPr>
            <a:stCxn id="103" idx="2"/>
            <a:endCxn id="105" idx="0"/>
          </p:cNvCxnSpPr>
          <p:nvPr/>
        </p:nvCxnSpPr>
        <p:spPr>
          <a:xfrm flipH="1">
            <a:off x="3440880" y="201744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6" name="AutoShape 16"/>
          <p:cNvCxnSpPr>
            <a:stCxn id="105" idx="2"/>
            <a:endCxn id="107" idx="0"/>
          </p:cNvCxnSpPr>
          <p:nvPr/>
        </p:nvCxnSpPr>
        <p:spPr>
          <a:xfrm flipH="1">
            <a:off x="3440880" y="2950920"/>
            <a:ext cx="1080" cy="400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7" name="AutoShape 17"/>
          <p:cNvCxnSpPr>
            <a:stCxn id="107" idx="2"/>
            <a:endCxn id="109" idx="0"/>
          </p:cNvCxnSpPr>
          <p:nvPr/>
        </p:nvCxnSpPr>
        <p:spPr>
          <a:xfrm rot="5400000">
            <a:off x="3195000" y="403848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8" name="AutoShape 18"/>
          <p:cNvCxnSpPr>
            <a:stCxn id="109" idx="2"/>
            <a:endCxn id="111" idx="0"/>
          </p:cNvCxnSpPr>
          <p:nvPr/>
        </p:nvCxnSpPr>
        <p:spPr>
          <a:xfrm flipH="1" rot="16200000">
            <a:off x="3194640" y="4971960"/>
            <a:ext cx="400680" cy="9252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9" name="AutoShape 19"/>
          <p:cNvCxnSpPr>
            <a:stCxn id="111" idx="2"/>
            <a:endCxn id="113" idx="2"/>
          </p:cNvCxnSpPr>
          <p:nvPr/>
        </p:nvCxnSpPr>
        <p:spPr>
          <a:xfrm flipH="1" flipV="1" rot="5400000">
            <a:off x="5748120" y="3367080"/>
            <a:ext cx="76680" cy="4691880"/>
          </a:xfrm>
          <a:prstGeom prst="bentConnector3">
            <a:avLst>
              <a:gd name="adj1" fmla="val -30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0" name="Line 20"/>
          <p:cNvSpPr/>
          <p:nvPr/>
        </p:nvSpPr>
        <p:spPr>
          <a:xfrm>
            <a:off x="5318280" y="27036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5318280" y="36180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318280" y="17892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5318280" y="55227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4"/>
          <p:cNvSpPr/>
          <p:nvPr/>
        </p:nvSpPr>
        <p:spPr>
          <a:xfrm>
            <a:off x="5318280" y="460836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311120" y="632772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clo Semanal/Quinc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5490-587A-411A-B0A2-0F64CE2E61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56840" y="1571400"/>
            <a:ext cx="7643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claramente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/ protec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estamos dispuestos a tener, frente a los riesgos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o depend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crítico sea el proyect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 ajustado esté nuestro cronograma,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nto dinero estemos dispuestos a invertir en “medidas de contingenci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ste p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l proces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es importante para poder definir, evaluar, priorizar y tratar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990720" y="914400"/>
            <a:ext cx="35622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80640" y="97956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1. Establecer Marco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8138-87E0-4E52-8EF1-E00306390D1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505880" y="9874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2. Identific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7200" y="155736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1. Identificar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ponder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¿qué puede ocurrir si…?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entificar (a tiempo) los posibles focos de probl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.2. Identificar causas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ómo y por qué pueden ocurrir los eventos identificados como riesgos? Identificar lo que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motiva, dispara o genera los riesg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más significa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rincipio de Pare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80-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280120" y="4376880"/>
            <a:ext cx="38638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4003-65A1-40F9-8D8A-5A3C432FA66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571760"/>
            <a:ext cx="768024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1. Valorar el Riesgo Inh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ignarle al riesgo un valor correspondiente a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l impact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ese riesgo si se transforma en probl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2. Determinar Controles Exist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o mecanismos de control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ementados para identificar, evaluar o mitigar los riesgos inher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3.3. Identificar Nivel de Expo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ultante de aplicar la fórmu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Nivel de Exposición = Riesgo Inherente - Cont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427760" y="98748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3. Análisis de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5867280"/>
            <a:ext cx="176364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7704000" y="981000"/>
            <a:ext cx="14400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916-6EE1-4BE4-BE25-B66070150B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7659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4. Comparar Riesgos contra Criterios Generales y Definir Prioridades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un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 de mayor a men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a valoración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exposició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probabilidad de ocurrenc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ot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sta de riesgos orden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mayor a menor,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or impac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s listas nos permitirán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 con mayor grado de importancia y probabi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sobre los cuales deberá defini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lanes de conting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ntrar su atención en l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rí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971640" y="914400"/>
            <a:ext cx="36766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00000" y="987480"/>
            <a:ext cx="38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4. Evaluar y Priorizar Ries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7780320" y="0"/>
            <a:ext cx="13636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A54D-C7DB-4903-A81F-21AD8832812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596960"/>
            <a:ext cx="735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Identificar y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la actividad o componente al cual aplicó el proceso de administración de riesgos, debemos determin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sibles formas de reducir o mitigar 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sto/efectividad asociada a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aborar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la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le permita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oner en práctica las opciones seleccionad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para el tratamiento del riesg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3. Ejecutar plan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3040"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ner en marcha el plan defin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110484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8CF9-930D-430D-B02F-A9E89E1F6B9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5920" y="1712520"/>
            <a:ext cx="7678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5.1. Identificar opciones de tratamien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como medida de contingencia). Existen las siguien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vit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duce la probabilidad de pérdida al mínimo (tiene que ver con la prevención). … En general esto es casi una utop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Reduc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 consigue mediante la optimización de los procedimientos y la implementación de controles tendientes a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disminuir la probabilidad de ocurrencia o el impact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tomiza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tribuir la localización del riesgo, segmentando el objeto sobre el cual se puede materializar el riesg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Transfer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sar el riesgo de un lugar a otro, compartir con otro el riesgo. Esta técnica no reduce la probabilidad ni el impacto, sino que involucra a otros en la responsabilidad del trata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sumir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epta la pérdida residual probable. Con la aceptación del riesgo, las estrategias de prevención se vuelven esenci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2C40-8C06-4E8B-9DDE-6B8951318A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9680" y="1805040"/>
            <a:ext cx="57913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BCF2-4367-46D4-9364-2BF4FDE55F4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812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.1. Evaluar opciones de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de tratamiento deben evaluarse con base en el alcance de la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educción de riesg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de su probabilidad o de su impac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evaluación debe extenderse a los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beneficios u oportunidad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la opción de tratamiento pueda cre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nga presente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ar varias opcion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, y que éstas pueden aplicarse individualmente o de manera combi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6760" indent="-26676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idere los siguientes factore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momento de evaluar las opciones de trat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a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Efectividad de la propuesta de tratamiento para reducir los riesg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Factibilidad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La probabilidad de aceptar la opción propue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6040" indent="0">
              <a:lnSpc>
                <a:spcPct val="95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Eficiencia: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Uso óptimo de los recursos, costo efectividad de la op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EAAA-49B1-4499-8A29-052B9E9A95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1714680" y="1643040"/>
            <a:ext cx="6665400" cy="4251240"/>
            <a:chOff x="1714680" y="1643040"/>
            <a:chExt cx="6665400" cy="4251240"/>
          </a:xfrm>
        </p:grpSpPr>
        <p:graphicFrame>
          <p:nvGraphicFramePr>
            <p:cNvPr id="172" name="Object 6"/>
            <p:cNvGraphicFramePr/>
            <p:nvPr/>
          </p:nvGraphicFramePr>
          <p:xfrm>
            <a:off x="1714680" y="2200320"/>
            <a:ext cx="6629400" cy="369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14680" y="2200320"/>
                      <a:ext cx="6629400" cy="369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7"/>
            <p:cNvSpPr/>
            <p:nvPr/>
          </p:nvSpPr>
          <p:spPr>
            <a:xfrm>
              <a:off x="7355880" y="482760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Cos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800960" y="2317680"/>
              <a:ext cx="357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Implementar medidas de reduc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5180040" y="301644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Usar Juici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14800" y="3565440"/>
              <a:ext cx="164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Antieconómic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785960" y="1643040"/>
              <a:ext cx="1604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Probabilidad de Ocurren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Rectangle 12"/>
          <p:cNvSpPr/>
          <p:nvPr/>
        </p:nvSpPr>
        <p:spPr>
          <a:xfrm>
            <a:off x="1357200" y="6073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ara seleccionar la opción más apropiada se requiere balancear el costo de implementación contra los beneficios deriv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DB4C-AC66-4A3C-879A-48696EF8504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14000" y="1785600"/>
            <a:ext cx="7829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2. Preparar planes de tratamiento de ri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cumentando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ómo se implementarán las opcion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egi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ndo responsabil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s, resultados esperados,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4560" indent="-30780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r el desempeño y realizar la revisión del proceso en su conju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lan debería incluir también u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ecanism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ar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valuar la implementación de las opci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contra criterios de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DB1E-4E83-4AD8-93D3-C35F3746733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Proceso de Adm. de Riesg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085760" y="914400"/>
            <a:ext cx="35625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14000" y="1547280"/>
            <a:ext cx="7829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5.3. Implementar (ejecutar) el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almente, la responsabilidad para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ratamien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riesgos debería se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jercida por los más capaci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responsabilidade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establecen según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isponibilidad de tiempo de las par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mplementación exitos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plan de tratamiento de riesgos requiere de un sistema efectivo de gest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pecifique los métodos eleg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ignación de responsabilidades, acciones individu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4880" indent="-3081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stablezca controles contra criterios específ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234800" y="9874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5. Tratamiento del Ries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6566760" y="947880"/>
            <a:ext cx="2481480" cy="509400"/>
          </a:xfrm>
          <a:prstGeom prst="roundRect">
            <a:avLst>
              <a:gd name="adj" fmla="val 16667"/>
            </a:avLst>
          </a:prstGeom>
          <a:solidFill>
            <a:srgbClr val="982e4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ómo Hacer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85560" y="1143000"/>
            <a:ext cx="76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proyec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el plan del proyecto. Si éstos se hacen realidad, es probable que los tiempos o plazos se retrasen y los costos aument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técnic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calidad del producto y la planificación temporal. Si un riesgo técnico se hace realidad, la implementación puede dificultarse o hacerse imposi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dentifica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roblemas potenciale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diseño, implementación, interfaces, verificación y mantenimiento, así como el uso de nuevas tecnologí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4131-4C6A-4A09-8F76-C68A7A9774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Riesg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del negoci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menazan la viabilidad del proyect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excelente, pero que nadie quiere en realidad (riesgo de mercad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no encaja en la estrategia comercial general de la compañía (riesgo estratégico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struir un producto que el departamento de ventas no sabe cómo ven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erder el apoyo gerencial debido a cambios en el enfoque o en las metas del proyecto (riesgo de direcció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iesgos conocid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on riesgos de las categorías anteriores, que ya acontecieron y que pueden repetirse en el futu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2483-0415-441F-ABB1-EF586139081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15C-2D0D-4797-BE83-F3F0DFF2F9A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36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eamos Ejemplos de Informes de Riesgo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970680" y="0"/>
            <a:ext cx="2173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1030-43FE-40DD-AF24-FE9779875E4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jecución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jecución del proyecto no es más que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guir el plan traz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la etapa de formulación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Esto es, generar los entregables definidos, en los tiempos/costos comprometidos, con los recursos (tecnológicos, metodológicos y humanos) especific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ctividades clav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urante esta etapa s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Monitoreo y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Administración del Ries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Replan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429240" y="4890960"/>
            <a:ext cx="27147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E649-E894-47E9-89ED-B14461D8DF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71800" y="2779560"/>
            <a:ext cx="6316560" cy="4007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o tener el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proyecto “en línea (on-line)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FE51-9CE4-4D69-81B6-E6F3DAC8A4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onitoreo y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4920" y="1143000"/>
            <a:ext cx="2597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o-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189840" y="1285920"/>
            <a:ext cx="2597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amos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Req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33440" y="3191040"/>
            <a:ext cx="76676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C945-2F6D-4D83-9F8F-7457C92D20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planific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lanificar en base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resultados d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monitor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identifi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protec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eado para 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as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re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ma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3643200" y="3933720"/>
          <a:ext cx="5335560" cy="27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3200" y="3933720"/>
                    <a:ext cx="53355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825C-EF5F-4BEE-B309-39C7B29443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2160" y="-27000"/>
            <a:ext cx="7989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Formulación del Proyecto(FdP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143000"/>
            <a:ext cx="7489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tivos (generales, específic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an de traba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imación del Esfuerzo de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étr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treg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Económ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A571-DDE6-4155-8E2A-C2C80AA437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2000" y="115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ministración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4784760"/>
            <a:ext cx="3686040" cy="207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Users\Sergio\AppData\Local\Temp\RIESGOS%20LABORALES%202.jpg"/>
          <p:cNvPicPr/>
          <p:nvPr/>
        </p:nvPicPr>
        <p:blipFill>
          <a:blip r:embed="rId2"/>
          <a:stretch/>
        </p:blipFill>
        <p:spPr>
          <a:xfrm>
            <a:off x="0" y="1000080"/>
            <a:ext cx="2695680" cy="380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6337440" y="1000080"/>
            <a:ext cx="2806560" cy="2214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4"/>
          <a:stretch/>
        </p:blipFill>
        <p:spPr>
          <a:xfrm>
            <a:off x="4865760" y="4113360"/>
            <a:ext cx="4500360" cy="281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2786040" y="1000080"/>
            <a:ext cx="3419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4B89-9B19-44C6-9242-C97AF624511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5756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dm. del Ries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1360" y="1195560"/>
            <a:ext cx="80722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iesg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s una situación que, en caso de darse,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transforma en un problem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ara el proyecto… Por lo tanto, 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Identific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“en forma temprana” los posible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iesg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us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nivel de manej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os riesg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obabilidad de ocurr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el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sto del riesg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impacto), si es que se convierte en realidad (por lo tanto pasa a ser un problem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da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precau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ntingencia (cobertura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5-26T12:42:09Z</dcterms:modified>
  <cp:revision>996</cp:revision>
  <dc:subject/>
  <dc:title>Programas de Extención</dc:title>
</cp:coreProperties>
</file>