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973943-D628-46D1-9799-054A8C3A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77F22E-63FA-400A-8222-B8EA73B45F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6EB24A-E070-4D1A-96C2-4D1229B7B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82A2ED-2C6E-4E8C-BF0B-3419D24F7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DEDCD4-5674-4381-B479-808B84931B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FA4A63-2706-4432-A6D6-ECEB92B9F9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413689-E975-4B17-9DD9-12730DEE5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F6A625-CE32-4F04-950D-0B169C4161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F82C40-46BE-418B-8F9C-B73BD04699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70BE7F-238A-41E8-A533-8F3E7CC53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06FE18-81E8-4348-82D1-121D863487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FFDA34-D11F-4933-B297-4B33B2277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EC5966-1A33-4CF0-9F22-62A22D527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11E0B7-97F1-416B-8204-2ED959BFA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857EC0-6DF4-4330-8798-9645351D5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BFD387-A769-4A03-8BE3-DDD0E67273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D0C012-D4B3-46F6-B04D-9DABAD26E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19116D-2CAE-4A79-8728-76BE5D275B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D9F13A-6C98-4828-B330-5A52B46554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79B5E1-F1A5-4126-9B2D-6F3DE0B1D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E7338B-E46C-4CCE-9F63-EB46E5CC46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61519A-2C40-45EE-898C-A7A291D86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0E6C90-0818-45E2-8643-10A94151D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85ACA2-8FFF-47FE-9F0C-E9F9C5A6DA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916502-68AC-4758-989A-2000236CF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D50-7509-4A4F-9601-BEB33682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2D0-DD55-4D9E-ABA7-07551CB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552-0098-4556-B0C5-EF4B7417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D92-EA37-4754-99E1-A13865C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F0A-218A-4721-8823-97EB1CC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AE3-BF7B-4BB9-B21F-0232E94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D71-0D60-41C9-8299-03BAC0B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619-3AE4-4EE2-93E0-F8E01349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D9A-6DA9-4CC0-BE25-9C1521D3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8C4-4C93-4321-AEA4-4A1390F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1EE-86E1-4A23-8CC4-2C0AB30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8C2-60D4-4D1E-A340-7E60A20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4CC-3C0D-406A-BC54-D92F781B00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6722-828A-44AA-ACF4-1947621983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jecución del Proyecto – Administración del Riesg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ochoa@dcc.uchile.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01EE-E432-4DD5-9387-BA936EEA1A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42764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35720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n mayoría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s involucran ries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drían hacerlo fracas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 los administram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nuest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babilidad de éxito aumentará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ble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74780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7A8-F09B-4A61-9A5C-EB2402205C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7200" y="11426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cad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edida de precaución /    contingenc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le debe inclui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acto o nivel de cobertu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por ej. inmuniza, retarda el impacto, deriva a otro componente, et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 decis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ecto de cada riesg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de el punto de vista del negoc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os riesg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cesitan ser revis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ólo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ás probables y/o dañin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ecesitan ser administrados (trat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18240" y="0"/>
            <a:ext cx="162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2020-9DE4-44F3-931E-D5E73070E2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3200" y="1196640"/>
            <a:ext cx="73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quisitos cambi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 pobremente defin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tación de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s exte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las en la plataforma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 la tecnología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l proceso de desarrollo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érdidas de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raso en la ejecución de un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 dependencia de algún person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429680" y="513072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3C6-1245-492F-8AEB-51DA4931196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660680" y="148428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50600" y="1549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1660680" y="241776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2880" y="2482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660680" y="335124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18880" y="34164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al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405080" y="4284720"/>
            <a:ext cx="3889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74200" y="4349880"/>
            <a:ext cx="3755880" cy="3988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60680" y="5218200"/>
            <a:ext cx="3562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18360" y="5283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r los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7299360" y="1560600"/>
            <a:ext cx="1665360" cy="4114800"/>
          </a:xfrm>
          <a:custGeom>
            <a:avLst/>
            <a:gdLst>
              <a:gd name="textAreaLeft" fmla="*/ 81000 w 1665360"/>
              <a:gd name="textAreaRight" fmla="*/ 1584360 w 1665360"/>
              <a:gd name="textAreaTop" fmla="*/ 81000 h 4114800"/>
              <a:gd name="textAreaBottom" fmla="*/ 4033800 h 4114800"/>
            </a:gdLst>
            <a:ahLst/>
            <a:rect l="textAreaLeft" t="textAreaTop" r="textAreaRight" b="textAreaBottom"/>
            <a:pathLst>
              <a:path w="21600" h="53363">
                <a:moveTo>
                  <a:pt x="3600" y="0"/>
                </a:moveTo>
                <a:arcTo wR="3600" hR="3600" stAng="16200000" swAng="-5400000"/>
                <a:lnTo>
                  <a:pt x="0" y="49763"/>
                </a:lnTo>
                <a:arcTo wR="3600" hR="3600" stAng="10800000" swAng="-5400000"/>
                <a:lnTo>
                  <a:pt x="18000" y="5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onitorear y Revi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13" idx="0"/>
            <a:endCxn id="103" idx="0"/>
          </p:cNvCxnSpPr>
          <p:nvPr/>
        </p:nvCxnSpPr>
        <p:spPr>
          <a:xfrm flipV="1" rot="16200000">
            <a:off x="5748480" y="-823320"/>
            <a:ext cx="76680" cy="4691880"/>
          </a:xfrm>
          <a:prstGeom prst="bentConnector3">
            <a:avLst>
              <a:gd name="adj1" fmla="val 401415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5"/>
          <p:cNvCxnSpPr>
            <a:stCxn id="103" idx="2"/>
            <a:endCxn id="105" idx="0"/>
          </p:cNvCxnSpPr>
          <p:nvPr/>
        </p:nvCxnSpPr>
        <p:spPr>
          <a:xfrm flipH="1">
            <a:off x="3440880" y="201744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6"/>
          <p:cNvCxnSpPr>
            <a:stCxn id="105" idx="2"/>
            <a:endCxn id="107" idx="0"/>
          </p:cNvCxnSpPr>
          <p:nvPr/>
        </p:nvCxnSpPr>
        <p:spPr>
          <a:xfrm flipH="1">
            <a:off x="3440880" y="295092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AutoShape 17"/>
          <p:cNvCxnSpPr>
            <a:stCxn id="107" idx="2"/>
            <a:endCxn id="109" idx="0"/>
          </p:cNvCxnSpPr>
          <p:nvPr/>
        </p:nvCxnSpPr>
        <p:spPr>
          <a:xfrm rot="5400000">
            <a:off x="3195000" y="403848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8"/>
          <p:cNvCxnSpPr>
            <a:stCxn id="109" idx="2"/>
            <a:endCxn id="111" idx="0"/>
          </p:cNvCxnSpPr>
          <p:nvPr/>
        </p:nvCxnSpPr>
        <p:spPr>
          <a:xfrm flipH="1" rot="16200000">
            <a:off x="3194640" y="497196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9"/>
          <p:cNvCxnSpPr>
            <a:stCxn id="111" idx="2"/>
            <a:endCxn id="113" idx="2"/>
          </p:cNvCxnSpPr>
          <p:nvPr/>
        </p:nvCxnSpPr>
        <p:spPr>
          <a:xfrm flipH="1" flipV="1" rot="5400000">
            <a:off x="5748120" y="3367080"/>
            <a:ext cx="76680" cy="4691880"/>
          </a:xfrm>
          <a:prstGeom prst="bentConnector3">
            <a:avLst>
              <a:gd name="adj1" fmla="val -3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Line 20"/>
          <p:cNvSpPr/>
          <p:nvPr/>
        </p:nvSpPr>
        <p:spPr>
          <a:xfrm>
            <a:off x="5318280" y="27036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5318280" y="36180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318280" y="17892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18280" y="55227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318280" y="46083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311120" y="632772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clo Semanal/Quinc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B87-7C7F-4112-B560-D3BBE72852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6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claramente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/ protec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tamos dispuestos a tener, frente a los riesgos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 depend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crítico sea el proyec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ajustado esté nuestro cronograma,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to dinero estemos dispuestos a invertir en “medidas de contingenci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te p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 proces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es importante para poder definir, evaluar, priorizar y tratar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90720" y="91440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80640" y="97956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6F6E-4305-427E-A00F-CD48F5D3A6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05880" y="987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7200" y="155736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1. Identificar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ponde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¿qué puede ocurrir si…?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(a tiempo) los posibles focos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2. Identificar causas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ómo y por qué pueden ocurrir los eventos identificados como riesgos? Identificar lo qu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motiva, dispara o genera los ries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más signific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incipio de Pare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80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280120" y="4376880"/>
            <a:ext cx="3863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287-4313-4572-854D-4E55092C2C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571760"/>
            <a:ext cx="76802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1. Valorar el Riesgo Inh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ignarle al riesgo un valor correspondiente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 impac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ese riesgo si se transforma e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2. Determinar Controles Exist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o mecanismos de contro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dos para identificar, evaluar o mitigar los riesgos inher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3. Identificar Nivel de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ultante de aplicar la fó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Nivel de Exposición = Riesgo Inherente -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27760" y="98748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álisis de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5867280"/>
            <a:ext cx="17636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704000" y="981000"/>
            <a:ext cx="1440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296-7FC0-4943-91B4-1F643176FB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76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4. Comparar Riesgos contra Criterios Generales y Definir Prioridade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un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 de mayor a men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a valoración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robabilidad de ocurre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ot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mayor a menor,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or impac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listas nos permitirán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 con mayor grado de importancia y probabi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sobre los cuales deberá defini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lanes de contin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ar su atención en l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971640" y="914400"/>
            <a:ext cx="367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987480"/>
            <a:ext cx="38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A758-1332-48D1-AFB5-162400D2E8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596960"/>
            <a:ext cx="735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Identificar y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actividad o componente al cual aplicó el proceso de administración de riesgos, debemos determin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s formas de reducir o mitigar 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sto/efectividad asociada a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aborar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la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le permita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oner en práctica las opciones seleccion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ara el tratamiento d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3. Ejecutar plan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ner en marcha el plan defi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110484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65B4-B765-4B89-A8E3-1FB7925C6E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5920" y="1712520"/>
            <a:ext cx="7678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5.1. Identificar opciones de tratamien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como medida de contingencia). Existen l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vit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duce la probabilidad de pérdida al mínimo (tiene que ver con la prevención). … En general esto es casi una utop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duc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consigue mediante la optimización de los procedimientos y la implementación de controles tendientes a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isminuir la probabilidad de ocurrencia o el impac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tomiz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tribuir la localización del riesgo, segmentando el objeto sobre el cual se puede materializar el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ar el riesgo de un lugar a otro, compartir con otro el riesgo. Esta técnica no reduce la probabilidad ni el impacto, sino que involucra a otros en la responsabilidad del trata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sum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epta la pérdida residual probable. Con la aceptación del riesgo, las estrategias de prevención se vuelven esenci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19C-4755-4D99-A8A1-E70BD36BEEC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180504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862-E2BE-4714-BF1F-DBC0B33363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81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tratamiento deben evaluarse con base en el alcance de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educción de riesg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de su probabilidad o de su impac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evaluación debe extenderse a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beneficios u oportun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la opción de tratamiento pueda cre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ga pres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ar varias 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y que éstas pueden aplicarse individualmente o de manera combi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e los siguientes factor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momento de evaluar las opciones de trat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a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Efectividad de la propuesta de tratamiento para reducir los riesg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Factibilidad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La probabilidad de aceptar la opción propue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ien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Uso óptimo de los recursos, costo efectividad de la op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714-D7D8-49FC-85EA-E62665E5A3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714680" y="1643040"/>
            <a:ext cx="6665400" cy="4251240"/>
            <a:chOff x="1714680" y="1643040"/>
            <a:chExt cx="6665400" cy="425124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1714680" y="2200320"/>
            <a:ext cx="6629400" cy="36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680" y="2200320"/>
                      <a:ext cx="6629400" cy="36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7355880" y="48276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Cos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800960" y="2317680"/>
              <a:ext cx="357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Implementar medidas de redu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5180040" y="301644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Usar Juic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14800" y="356544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Antieconóm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785960" y="1643040"/>
              <a:ext cx="160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Probabilidad de Ocurr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1357200" y="6073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ara seleccionar la opción más apropiada se requiere balancear el costo de implementación contra los beneficios deriv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EF6-38BE-4437-A5C7-E7531E2A53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4000" y="178560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umentand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ómo se implementarán las opcion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gi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ndo responsabi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, resultados esperados,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r el desempeño y realizar la revisión del proceso en su conj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lan debería incluir también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ecanism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valuar la implementación de las op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tra criterios de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DA3-EAE1-4BEE-A4C8-EF68D9192F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4000" y="1547280"/>
            <a:ext cx="782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3. Implementar (ejecutar) el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almente, la responsabilidad para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ratami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riesgos debería s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jercida por los más capaci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responsabilidade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establecen segú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ponibilidad de tiempo de las pa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 exitos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lan de tratamiento de riesgos requiere de un sistema efectivo de gest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pecifique los métodos eleg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gnación de responsabilidades, acciones individu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tablezca controles contra criterios específ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560" y="1143000"/>
            <a:ext cx="76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proyec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el plan del proyecto. Si éstos se hacen realidad, es probable que los tiempos o plazos se retrasen y los costos aument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técnic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calidad del producto y la planificación temporal. Si un riesgo técnico se hace realidad, la implementación puede dificultarse o hacerse impos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dentific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blemas potencial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diseño, implementación, interfaces, verificación y mantenimiento, así como el uso de nuevas tecnologí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B6AF-3016-474C-9025-155BEDC1EF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negoci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viabilidad del proyect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excelente, pero que nadie quiere en realidad (riesgo de mercad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no encaja en la estrategia comercial general de la compañía (riesgo estratégic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el departamento de ventas no sabe cómo ven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erder el apoyo gerencial debido a cambios en el enfoque o en las metas del proyecto (riesgo de direcc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conocid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on riesgos de las categorías anteriores, que ya acontecieron y que pueden repetirse en e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B97-30E8-46E6-AEB5-F93A162C50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77D-2808-41F0-A28F-4F0760AD02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36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amos Ejemplos de Informes de Riesgo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019-635D-412F-AD3D-BAE8C217CB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jecución del proyecto no es más qu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guir el plan traz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la etapa de formulació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Esto es, generar los entregables definidos, en los tiempos/costos comprometidos, con los recursos (tecnológicos, metodológicos y humanos) especif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ividades clav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esta etapa s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Monitoreo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dministración del Ries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eplan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240" y="48909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AA27-0B4D-4F31-9A80-EB99094E15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71800" y="2779560"/>
            <a:ext cx="6316560" cy="400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o tener el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royecto “en línea (on-line)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8DD-04D6-49B5-AF71-28F530B3F6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am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q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33440" y="3191040"/>
            <a:ext cx="76676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D5AD-1FB9-4830-8DC0-4BAC8C720B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planif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lanificar en bas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ide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eado para 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re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ma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3643200" y="3933720"/>
          <a:ext cx="533556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933720"/>
                    <a:ext cx="53355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7D4-9330-419B-B46B-2ACCA864F9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ormulación del Proyecto(Fd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s (generales, específic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an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mación del Esfuerzo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eg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3B1A-9042-4B6C-87F1-6D0A11D3E2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4784760"/>
            <a:ext cx="3686040" cy="207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Sergio\AppData\Local\Temp\RIESGOS%20LABORALES%202.jpg"/>
          <p:cNvPicPr/>
          <p:nvPr/>
        </p:nvPicPr>
        <p:blipFill>
          <a:blip r:embed="rId2"/>
          <a:stretch/>
        </p:blipFill>
        <p:spPr>
          <a:xfrm>
            <a:off x="0" y="100008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337440" y="1000080"/>
            <a:ext cx="280656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4865760" y="4113360"/>
            <a:ext cx="450036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419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465A-44B8-4399-98D7-D6028BE90C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1360" y="1195560"/>
            <a:ext cx="8072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en forma temprana” los posibl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tingencia (cobertur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5-26T12:42:09Z</dcterms:modified>
  <cp:revision>996</cp:revision>
  <dc:subject/>
  <dc:title>Programas de Extención</dc:title>
</cp:coreProperties>
</file>