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36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A6B5EBE-CC75-4942-BD95-2669B5B98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F6BA7FF-DC64-4B63-8F48-FADA4E7284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3AA570B-52CF-43D9-A18B-C0D8CB566D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004509B-2DB8-460A-87D2-964927F853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6227A48-F708-4F59-ADD1-40F57F6BED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D4454CD-0422-4247-BCFC-16AC548263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6575E6F-C361-4852-AD66-4EF12F9710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D77CE75-1257-4C7A-AA25-BFD0AD05D8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0B45F1E-8F9B-460C-9974-F38299F946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47C153D-F8FE-4308-87CB-E38C928E25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F1BA595-4D7E-4ACE-ADB9-5AAEB7D957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875E1E4-1052-4BB1-9D39-9379C9CCD2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2AAB2D0-D65E-487B-833E-8F94E1A36E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A25EC01-0B94-40A8-B9CF-356D6A9993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5B7BD6A-8F44-4837-9B62-AECA005215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1A057FC-1F32-44A6-8D56-D6C0526817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8B352E3-0A69-4620-BD27-16687D7360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C596D8B-A4BC-45C2-9101-8E4E030619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BD751CE-E4CD-442B-9ADB-35835063FF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C536DB7-E651-4D91-A8AE-207AD3154A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C8BC212-8687-4636-BD16-7BA2F301AD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C2544BC-BB6F-4B5C-B021-69E6566AB0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A88C686-94BC-49AC-BD03-A858E99B91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D107976-BC24-40C3-9406-67921B097F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B1A055C-4664-44BF-9412-759807DB7C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8F7C-615E-489C-9863-C37205FA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9D16-6CC5-47F3-8E90-B8736241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0B4B-5819-48B4-9266-BEADBAA8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DD7D-6EE4-4B07-B52E-36D3B4DD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797F-C457-4454-87CB-6E9A92F3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4F02-1819-4F22-ADFA-24DB447F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E72E-B3A7-4B1D-96A0-57D29709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F11E-453D-45B9-B270-B375030C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A3AB-DEF5-4B28-83F8-5F13C7D6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6064-66AB-44B5-B0D5-EB8D3373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7615-97E2-472D-893C-BB88A241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88BD-5731-4416-8A82-2907EB4A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CF8E-73B8-49DD-8D82-6342ED8F891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ochoa@dcc.uchile.c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7D1D-EF0C-47C1-9ACC-F687ACA73B4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6680" y="133992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jecución del Proyecto – Administración del Riesg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78120" y="4628880"/>
            <a:ext cx="6400800" cy="13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gio Ocho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sochoa@dcc.uchile.c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124000" y="5877000"/>
            <a:ext cx="64008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lanco Encalada 2120, 4º. Piso, Of. 406, Santia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léfonos: (56 2) 9784879, 978496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x: (56 2) 689553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A549-746A-4D35-A3B5-A21C59A730E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2000" y="11592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ministración del Riesg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4427640" y="1363680"/>
            <a:ext cx="4286160" cy="28573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1357200" y="4508640"/>
            <a:ext cx="7786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gran mayoría de los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yectos involucran riesg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que podrían hacerlo fracas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n embargo,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i los administram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nuestr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babilidad de éxito aumentará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siderable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1747800" y="1341360"/>
            <a:ext cx="21258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9652-8546-4629-A75E-6A61DB2AA52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7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Adm. del Riesg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57200" y="1142640"/>
            <a:ext cx="77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cad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medida de precaución /    contingenci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e le debe inclui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o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Impacto o nivel de cobertur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por ej. inmuniza, retarda el impacto, deriva a otro componente, etc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omar decision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respecto de cada riesgo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desde el punto de vista del negoci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od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los riesgos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ecesitan ser revis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ólo los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más probables y/o dañin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necesitan ser administrados (tratado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7518240" y="0"/>
            <a:ext cx="16257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8040-6524-409A-9B5D-66EB52DC924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jemplos de Riesg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73200" y="1196640"/>
            <a:ext cx="7391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quisitos cambia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blema pobremente defini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otación de perso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mbios extern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allas en la plataforma de desarrol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sconocimiento de la tecnología a utiliz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sconocimiento del proceso de desarrollo a utiliz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érdidas de inform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traso en la ejecución de una f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ta dependencia de algún personaj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7429680" y="5130720"/>
            <a:ext cx="17143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36BB-282B-4B8D-8526-3C6218865F6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1660680" y="1484280"/>
            <a:ext cx="35622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650600" y="1549440"/>
            <a:ext cx="35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1. Establecer Marco Gen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5">
            <a:hlinkClick r:id="rId1" action="ppaction://hlinksldjump"/>
          </p:cNvPr>
          <p:cNvSpPr/>
          <p:nvPr/>
        </p:nvSpPr>
        <p:spPr>
          <a:xfrm>
            <a:off x="1660680" y="2417760"/>
            <a:ext cx="35622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072880" y="248292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2. Identificar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1660680" y="3351240"/>
            <a:ext cx="35622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2018880" y="341640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3. Analizar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1405080" y="4284720"/>
            <a:ext cx="3889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474200" y="4349880"/>
            <a:ext cx="3755880" cy="398880"/>
          </a:xfrm>
          <a:prstGeom prst="rect">
            <a:avLst/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4. Evaluar y Priorizar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1660680" y="5218200"/>
            <a:ext cx="356220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1818360" y="5283360"/>
            <a:ext cx="26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r los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3"/>
          <p:cNvSpPr/>
          <p:nvPr/>
        </p:nvSpPr>
        <p:spPr>
          <a:xfrm>
            <a:off x="7299360" y="1560600"/>
            <a:ext cx="1665360" cy="4114800"/>
          </a:xfrm>
          <a:custGeom>
            <a:avLst/>
            <a:gdLst>
              <a:gd name="textAreaLeft" fmla="*/ 81000 w 1665360"/>
              <a:gd name="textAreaRight" fmla="*/ 1584360 w 1665360"/>
              <a:gd name="textAreaTop" fmla="*/ 81000 h 4114800"/>
              <a:gd name="textAreaBottom" fmla="*/ 4033800 h 4114800"/>
            </a:gdLst>
            <a:ahLst/>
            <a:rect l="textAreaLeft" t="textAreaTop" r="textAreaRight" b="textAreaBottom"/>
            <a:pathLst>
              <a:path w="21600" h="53363">
                <a:moveTo>
                  <a:pt x="3600" y="0"/>
                </a:moveTo>
                <a:arcTo wR="3600" hR="3600" stAng="16200000" swAng="-5400000"/>
                <a:lnTo>
                  <a:pt x="0" y="49763"/>
                </a:lnTo>
                <a:arcTo wR="3600" hR="3600" stAng="10800000" swAng="-5400000"/>
                <a:lnTo>
                  <a:pt x="18000" y="53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Monitorear y Revis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4" name="AutoShape 14"/>
          <p:cNvCxnSpPr>
            <a:stCxn id="113" idx="0"/>
            <a:endCxn id="103" idx="0"/>
          </p:cNvCxnSpPr>
          <p:nvPr/>
        </p:nvCxnSpPr>
        <p:spPr>
          <a:xfrm flipV="1" rot="16200000">
            <a:off x="5748480" y="-823320"/>
            <a:ext cx="76680" cy="4691880"/>
          </a:xfrm>
          <a:prstGeom prst="bentConnector3">
            <a:avLst>
              <a:gd name="adj1" fmla="val 401415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5" name="AutoShape 15"/>
          <p:cNvCxnSpPr>
            <a:stCxn id="103" idx="2"/>
            <a:endCxn id="105" idx="0"/>
          </p:cNvCxnSpPr>
          <p:nvPr/>
        </p:nvCxnSpPr>
        <p:spPr>
          <a:xfrm flipH="1">
            <a:off x="3440880" y="2017440"/>
            <a:ext cx="1080" cy="4006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6" name="AutoShape 16"/>
          <p:cNvCxnSpPr>
            <a:stCxn id="105" idx="2"/>
            <a:endCxn id="107" idx="0"/>
          </p:cNvCxnSpPr>
          <p:nvPr/>
        </p:nvCxnSpPr>
        <p:spPr>
          <a:xfrm flipH="1">
            <a:off x="3440880" y="2950920"/>
            <a:ext cx="1080" cy="4006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7" name="AutoShape 17"/>
          <p:cNvCxnSpPr>
            <a:stCxn id="107" idx="2"/>
            <a:endCxn id="109" idx="0"/>
          </p:cNvCxnSpPr>
          <p:nvPr/>
        </p:nvCxnSpPr>
        <p:spPr>
          <a:xfrm rot="5400000">
            <a:off x="3195000" y="4038480"/>
            <a:ext cx="400680" cy="92520"/>
          </a:xfrm>
          <a:prstGeom prst="bentConnector3">
            <a:avLst>
              <a:gd name="adj1" fmla="val 5000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8" name="AutoShape 18"/>
          <p:cNvCxnSpPr>
            <a:stCxn id="109" idx="2"/>
            <a:endCxn id="111" idx="0"/>
          </p:cNvCxnSpPr>
          <p:nvPr/>
        </p:nvCxnSpPr>
        <p:spPr>
          <a:xfrm flipH="1" rot="16200000">
            <a:off x="3194640" y="4971960"/>
            <a:ext cx="400680" cy="92520"/>
          </a:xfrm>
          <a:prstGeom prst="bentConnector3">
            <a:avLst>
              <a:gd name="adj1" fmla="val 5000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9" name="AutoShape 19"/>
          <p:cNvCxnSpPr>
            <a:stCxn id="111" idx="2"/>
            <a:endCxn id="113" idx="2"/>
          </p:cNvCxnSpPr>
          <p:nvPr/>
        </p:nvCxnSpPr>
        <p:spPr>
          <a:xfrm flipH="1" flipV="1" rot="5400000">
            <a:off x="5748120" y="3367080"/>
            <a:ext cx="76680" cy="4691880"/>
          </a:xfrm>
          <a:prstGeom prst="bentConnector3">
            <a:avLst>
              <a:gd name="adj1" fmla="val -30000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0" name="Line 20"/>
          <p:cNvSpPr/>
          <p:nvPr/>
        </p:nvSpPr>
        <p:spPr>
          <a:xfrm>
            <a:off x="5318280" y="270360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5318280" y="361800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22"/>
          <p:cNvSpPr/>
          <p:nvPr/>
        </p:nvSpPr>
        <p:spPr>
          <a:xfrm>
            <a:off x="5318280" y="178920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23"/>
          <p:cNvSpPr/>
          <p:nvPr/>
        </p:nvSpPr>
        <p:spPr>
          <a:xfrm>
            <a:off x="5318280" y="552276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24"/>
          <p:cNvSpPr/>
          <p:nvPr/>
        </p:nvSpPr>
        <p:spPr>
          <a:xfrm>
            <a:off x="5318280" y="460836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1311120" y="6327720"/>
            <a:ext cx="76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iclo Semanal/Quince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01FC-4E82-4536-AB54-D69D5FECF10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56840" y="1571400"/>
            <a:ext cx="76438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blecer claramente el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nivel de exposición / protección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 estamos dispuestos a tener, frente a los riesgos del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o depende 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-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án crítico sea el proyecto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-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án ajustado esté nuestro cronograma, 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-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ánto dinero estemos dispuestos a invertir en “medidas de contingencia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820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ste pas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l proceso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es importante para poder definir, evaluar, priorizar y tratar los riesg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990720" y="914400"/>
            <a:ext cx="35622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80640" y="979560"/>
            <a:ext cx="35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1. Establecer Marco Gen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D33C-9E6D-48C3-96A1-F46674787EA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ceso de Adm. Riesg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505880" y="98748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2. Identificar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57200" y="155736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2.1. Identificar ries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sponder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¿qué puede ocurrir si…?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dentificar (a tiempo) los posibles focos de problem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2.2. Identificar causas de ries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Cómo y por qué pueden ocurrir los eventos identificados como riesgos? Identificar lo que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motiva, dispara o genera los riesg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más significativ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Principio de Paret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80-2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5280120" y="4376880"/>
            <a:ext cx="38638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A024-EE93-4EAB-8FB2-833A18AE040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32000" y="1571760"/>
            <a:ext cx="768024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3.1. Valorar el Riesgo Inh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signarle al riesgo un valor correspondiente a l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probabilidad de ocurrenc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y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l impact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ese riesgo si se transforma en proble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9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3.2. Determinar Controles Exist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dentificar la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ctividades o mecanismos de control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mplementados para identificar, evaluar o mitigar los riesgos inhere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9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3.3. Identificar Nivel de Exposi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ultante de aplicar la fórmul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9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00"/>
                </a:solidFill>
                <a:latin typeface="Arial"/>
              </a:rPr>
              <a:t>Nivel de Exposición = Riesgo Inherente - Contro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427760" y="987480"/>
            <a:ext cx="28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3. Análisis de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0" y="5867280"/>
            <a:ext cx="1763640" cy="990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7704000" y="981000"/>
            <a:ext cx="144000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1006-255D-4AD3-93BB-0A7477020B8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31640" y="1828440"/>
            <a:ext cx="76597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4. Comparar Riesgos contra Criterios Generales y Definir Prioridades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aborar un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ista de riesgos ordenada de mayor a meno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por la valoración del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nivel de exposición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probabilidad de ocurrenci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aborar otr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ista de riesgos ordenad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 mayor a menor,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por impact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s listas nos permitirán definir lo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riesgos con mayor grado de importancia y probabilida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sobre los cuales deberá definir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planes de contingenc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entrar su atención en lo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rític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971640" y="914400"/>
            <a:ext cx="36766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900000" y="987480"/>
            <a:ext cx="38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4. Evaluar y Priorizar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tretch/>
        </p:blipFill>
        <p:spPr>
          <a:xfrm>
            <a:off x="7780320" y="0"/>
            <a:ext cx="13636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4693-C1B2-4542-A420-7B9B50A7392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76160" y="1596960"/>
            <a:ext cx="7359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620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5.1. Identificar y evaluar opciones de trat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3040" indent="0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 la actividad o componente al cual aplicó el proceso de administración de riesgos, debemos determina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304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osibles formas de reducir o mitigar el riesg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304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costo/efectividad asociada a ell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5.2. Preparar planes de tratamiento de ries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3040" indent="0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aborar los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plan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que le permitan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poner en práctica las opciones seleccionad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para el tratamiento del riesg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5.3. Ejecutar plan de trat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3040" indent="0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oner en marcha el plan defini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4">
            <a:hlinkClick r:id="rId1" action="ppaction://hlinksldjump"/>
          </p:cNvPr>
          <p:cNvSpPr/>
          <p:nvPr/>
        </p:nvSpPr>
        <p:spPr>
          <a:xfrm>
            <a:off x="110484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234800" y="9874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miento del Ries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298F-45C5-4B28-A476-1D69F249606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5920" y="1712520"/>
            <a:ext cx="7678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5.1. Identificar opciones de tratamient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(como medida de contingencia). Existen las siguient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Evitar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reduce la probabilidad de pérdida al mínimo (tiene que ver con la prevención). … En general esto es casi una utopí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Reducir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e consigue mediante la optimización de los procedimientos y la implementación de controles tendientes a 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disminuir la probabilidad de ocurrencia o el impact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Atomizar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stribuir la localización del riesgo, segmentando el objeto sobre el cual se puede materializar el riesg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Transferir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sar el riesgo de un lugar a otro, compartir con otro el riesgo. Esta técnica no reduce la probabilidad ni el impacto, sino que involucra a otros en la responsabilidad del tratamien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Asumir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cepta la pérdida residual probable. Con la aceptación del riesgo, las estrategias de prevención se vuelven esencia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234800" y="9874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miento del Ries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6566760" y="947880"/>
            <a:ext cx="2481480" cy="509400"/>
          </a:xfrm>
          <a:prstGeom prst="roundRect">
            <a:avLst>
              <a:gd name="adj" fmla="val 16667"/>
            </a:avLst>
          </a:prstGeom>
          <a:solidFill>
            <a:srgbClr val="982e4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ómo Hacer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67EB-28C0-4F91-B749-DA4FD157146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jecución del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209680" y="1805040"/>
            <a:ext cx="579132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C3C3-F881-4052-9187-D13933A4CDC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32000" y="1557360"/>
            <a:ext cx="7812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5.1. Evaluar opciones de trat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opcione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de tratamiento deben evaluarse con base en el alcance de la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reducción de riesgo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(de su probabilidad o de su impact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evaluación debe extenderse a los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beneficios u oportunidade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que la opción de tratamiento pueda cre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enga presente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considerar varias opcione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, y que éstas pueden aplicarse individualmente o de manera combin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Considere los siguientes factore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 momento de evaluar las opciones de trat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6040" indent="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Eficacia: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Efectividad de la propuesta de tratamiento para reducir los riesg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6040" indent="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Factibilidad: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La probabilidad de aceptar la opción propues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6040" indent="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Eficiencia: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Uso óptimo de los recursos, costo efectividad de la op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234800" y="9874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miento del Ries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6566760" y="947880"/>
            <a:ext cx="2481480" cy="509400"/>
          </a:xfrm>
          <a:prstGeom prst="roundRect">
            <a:avLst>
              <a:gd name="adj" fmla="val 16667"/>
            </a:avLst>
          </a:prstGeom>
          <a:solidFill>
            <a:srgbClr val="982e4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ómo Hacer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25BF-F95D-4FCC-B4D7-FFFF6DF756F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234800" y="9874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miento del Ries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5"/>
          <p:cNvGrpSpPr/>
          <p:nvPr/>
        </p:nvGrpSpPr>
        <p:grpSpPr>
          <a:xfrm>
            <a:off x="1714680" y="1643040"/>
            <a:ext cx="6665400" cy="4251240"/>
            <a:chOff x="1714680" y="1643040"/>
            <a:chExt cx="6665400" cy="4251240"/>
          </a:xfrm>
        </p:grpSpPr>
        <p:graphicFrame>
          <p:nvGraphicFramePr>
            <p:cNvPr id="172" name="Object 6"/>
            <p:cNvGraphicFramePr/>
            <p:nvPr/>
          </p:nvGraphicFramePr>
          <p:xfrm>
            <a:off x="1714680" y="2200320"/>
            <a:ext cx="6629400" cy="3693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14680" y="2200320"/>
                      <a:ext cx="6629400" cy="369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Text Box 7"/>
            <p:cNvSpPr/>
            <p:nvPr/>
          </p:nvSpPr>
          <p:spPr>
            <a:xfrm>
              <a:off x="7355880" y="4827600"/>
              <a:ext cx="75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Arial"/>
                </a:rPr>
                <a:t>Cos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800960" y="2317680"/>
              <a:ext cx="357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Arial"/>
                </a:rPr>
                <a:t>Implementar medidas de reduc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5180040" y="3016440"/>
              <a:ext cx="127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Arial"/>
                </a:rPr>
                <a:t>Usar Juici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5914800" y="3565440"/>
              <a:ext cx="164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Arial"/>
                </a:rPr>
                <a:t>Antieconómic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1"/>
            <p:cNvSpPr/>
            <p:nvPr/>
          </p:nvSpPr>
          <p:spPr>
            <a:xfrm>
              <a:off x="1785960" y="1643040"/>
              <a:ext cx="1604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00"/>
                  </a:solidFill>
                  <a:latin typeface="Arial"/>
                </a:rPr>
                <a:t>Probabilidad de Ocurrenc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Rectangle 12"/>
          <p:cNvSpPr/>
          <p:nvPr/>
        </p:nvSpPr>
        <p:spPr>
          <a:xfrm>
            <a:off x="1357200" y="607392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Para seleccionar la opción más apropiada se requiere balancear el costo de implementación contra los beneficios deriv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1912-C755-45A9-9DC2-37421D53DA4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14000" y="1785600"/>
            <a:ext cx="7829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5.2. Preparar planes de tratamiento de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cumentando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ómo se implementarán las opcione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egid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30780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dentificando responsabil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30780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gramas, resultados esperados, presupu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30780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dir el desempeño y realizar la revisión del proceso en su conju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plan debería incluir también un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mecanism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par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valuar la implementación de las opcion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contra criterios de desempeñ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234800" y="9874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miento del Ries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6566760" y="947880"/>
            <a:ext cx="2481480" cy="509400"/>
          </a:xfrm>
          <a:prstGeom prst="roundRect">
            <a:avLst>
              <a:gd name="adj" fmla="val 16667"/>
            </a:avLst>
          </a:prstGeom>
          <a:solidFill>
            <a:srgbClr val="982e4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ómo Hacer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A616-30DD-4F53-8C5C-0AFA6DB380B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14000" y="1547280"/>
            <a:ext cx="78296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5.3. Implementar (ejecutar) el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dealmente, la responsabilidad para el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ratamient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 riesgos debería ser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jercida por los más capacit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s responsabilidades d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implementa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e establecen según l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disponibilidad de tiempo de las par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implementación exitos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l plan de tratamiento de riesgos requiere de un sistema efectivo de gest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4880" indent="-3081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especifique los métodos elegi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4880" indent="-3081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ignación de responsabilidades, acciones individu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4880" indent="-3081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establezca controles contra criterios específic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234800" y="9874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miento del Ries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6566760" y="947880"/>
            <a:ext cx="2481480" cy="509400"/>
          </a:xfrm>
          <a:prstGeom prst="roundRect">
            <a:avLst>
              <a:gd name="adj" fmla="val 16667"/>
            </a:avLst>
          </a:prstGeom>
          <a:solidFill>
            <a:srgbClr val="982e4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ómo Hacer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Tipos de Riesg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285560" y="1143000"/>
            <a:ext cx="7643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iesgos del proyecto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menazan el plan del proyecto. Si éstos se hacen realidad, es probable que los tiempos o plazos se retrasen y los costos aumente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iesgos técnic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menazan la calidad del producto y la planificación temporal. Si un riesgo técnico se hace realidad, la implementación puede dificultarse o hacerse imposib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to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iesg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identifican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problemas potenciale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e diseño, implementación, interfaces, verificación y mantenimiento, así como el uso de nuevas tecnologí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2ADE-F28E-4064-9EF7-15F8EF1B3E5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Tipos de Riesg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13920" y="1142640"/>
            <a:ext cx="7929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iesgos del negocio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menazan la viabilidad del proyecto. Por 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onstruir un producto excelente, pero que nadie quiere en realidad (riesgo de mercado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onstruir un producto que no encaja en la estrategia comercial general de la compañía (riesgo estratégico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onstruir un producto que el departamento de ventas no sabe cómo vend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erder el apoyo gerencial debido a cambios en el enfoque o en las metas del proyecto (riesgo de dirección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iesgos conocid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on riesgos de las categorías anteriores, que ya acontecieron y que pueden repetirse en el futu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435F-40E5-42E7-853B-9EE4A8F510B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C456-69DB-4D6B-B516-6D47E29E509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3600" y="325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eamos Ejemplos de Informes de Riesgos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6970680" y="0"/>
            <a:ext cx="21733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28F6-0CBA-4533-99C4-5E503D3914F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2160" y="-27000"/>
            <a:ext cx="7989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jecución del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2920" y="1143000"/>
            <a:ext cx="74898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jecución del proyecto no es más que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guir el plan trazad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durante la etapa de formulación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Esto es, generar los entregables definidos, en los tiempos/costos comprometidos, con los recursos (tecnológicos, metodológicos y humanos) especific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ctividades clav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durante esta etapa s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Monitoreo y Contr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Administración del Ries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Replanific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429240" y="4890960"/>
            <a:ext cx="271476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A9FE-BCDF-4495-8672-18FBCEDEA9F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2160" y="-27000"/>
            <a:ext cx="7989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Monitoreo y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74920" y="1143000"/>
            <a:ext cx="25970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erman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osi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-ac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071800" y="2779560"/>
            <a:ext cx="6316560" cy="40071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6189840" y="1285920"/>
            <a:ext cx="2597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o tener el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proyecto “en línea (on-line)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A0EA-3037-487F-B883-343437B4DA7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2160" y="-27000"/>
            <a:ext cx="7989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Monitoreo y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4920" y="1143000"/>
            <a:ext cx="25970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erman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osi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-ac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6189840" y="1285920"/>
            <a:ext cx="2597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amos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ReqAd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333440" y="3191040"/>
            <a:ext cx="766764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F62C-516A-46F4-A437-1564C36850E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2160" y="-27000"/>
            <a:ext cx="7989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eplanific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2920" y="1143000"/>
            <a:ext cx="74898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planificar en base 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resultados del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monitore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riesg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identifi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nivel de protec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seado para el proy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as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are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on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man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3643200" y="3933720"/>
          <a:ext cx="5335560" cy="278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3200" y="3933720"/>
                    <a:ext cx="533556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B2F8-4794-4837-8EAF-927ED5BF566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2160" y="-27000"/>
            <a:ext cx="7989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Formulación del Proyecto(FdP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2920" y="1143000"/>
            <a:ext cx="74898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jetivos (generales, específic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ategia de Desarrol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lan de trabaj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imación del Esfuerzo de Desarrol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étr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treg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dministración del Ries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Económ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90CF-0408-4FDC-BBAF-F4BD7AF5128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32000" y="11592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ministración del Riesg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0" y="4784760"/>
            <a:ext cx="3686040" cy="2073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C:\Users\Sergio\AppData\Local\Temp\RIESGOS%20LABORALES%202.jpg"/>
          <p:cNvPicPr/>
          <p:nvPr/>
        </p:nvPicPr>
        <p:blipFill>
          <a:blip r:embed="rId2"/>
          <a:stretch/>
        </p:blipFill>
        <p:spPr>
          <a:xfrm>
            <a:off x="0" y="1000080"/>
            <a:ext cx="2695680" cy="3809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6337440" y="1000080"/>
            <a:ext cx="2806560" cy="2214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4"/>
          <a:stretch/>
        </p:blipFill>
        <p:spPr>
          <a:xfrm>
            <a:off x="4865760" y="4113360"/>
            <a:ext cx="4500360" cy="2813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5"/>
          <a:stretch/>
        </p:blipFill>
        <p:spPr>
          <a:xfrm>
            <a:off x="2786040" y="1000080"/>
            <a:ext cx="34196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F79A-E8EA-46F0-A2E2-58D73D4989D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5756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Adm. del Riesg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71360" y="1195560"/>
            <a:ext cx="80722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Riesg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es una situación que, en caso de darse,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 transforma en un problem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para el proyecto… Por lo tanto, es necesari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Identifica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“en forma temprana” los posible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riesg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terminar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ausa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nivel de manej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 los riesg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blecer l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probabilidad de ocurrenc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terminar el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osto del riesg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impacto), si es que se convierte en realidad (por lo tanto pasa a ser un problem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didas d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precau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ontingencia (cobertura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23:27:42Z</dcterms:created>
  <dc:creator>DCC</dc:creator>
  <dc:description/>
  <dc:language>en-US</dc:language>
  <cp:lastModifiedBy>Sergio</cp:lastModifiedBy>
  <dcterms:modified xsi:type="dcterms:W3CDTF">2009-05-26T12:42:09Z</dcterms:modified>
  <cp:revision>996</cp:revision>
  <dc:subject/>
  <dc:title>Programas de Extención</dc:title>
</cp:coreProperties>
</file>