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BFA21DC-0BA7-423B-AAAB-DE4472BCC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2E06038-EB70-402E-95F6-63D0F78C11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50B7F09-7BEF-40A9-AF3C-4EDE21C5CA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2713E45-6C92-4EC9-9352-F09FE930A5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DF29E75-0C94-4FEE-84DC-5802EBC8E2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F2E4ADD-E883-4D06-9275-E802014D9F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999C464-AB7A-4BBE-962E-8F43F71E93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BCFC198-95CA-4367-8404-055DB08E3A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7BDDF50-DFC6-4F7D-ACFC-87C5C71AD9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1BFF5A0-6EED-42E9-BE0F-1BEA00AC7D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57949C9-103D-4C08-9D9A-A4A8239553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DA0B58C-E59F-48DB-AE74-61F2FE0D4E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55DFB7D-6261-470D-9875-926BE8FD17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DCAA8F1-7038-42FC-8023-072FEBB1C4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8B8EFBB-DADE-4D69-B04F-D06ED7C003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753380A-5B40-4EA3-AFF8-0D5A863188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0D1AA01-AEC2-4F55-A884-345CF10742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F35C179-F319-4280-A7FF-4628400BBE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5E7655F-6680-4069-A35A-92C4D3090F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F644476-2E96-4615-9D9D-7707D21A72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CD0336F-4871-4B7B-92ED-716C6BEF3D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6092AAD-55DD-4D29-A47E-2DC836D91E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CC7D400-BEE2-41C0-ACAF-693E96676B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BED2DF7-D175-402A-9E64-3D7B1BE52F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AC14E12-D2CB-423F-AF08-6DBC9FDBC0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ACF-9156-4C1C-9278-DC975A45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9C85-388F-4145-B95F-F99ADFD9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F2C-A3F3-49C7-8B33-A54FB137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448-039B-463F-925B-E66E7DEB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39E-AC64-4071-8C34-8D47FBD5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F4C-4E75-4F73-AE40-B658CC92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5339-1A14-40AB-A3EE-F30034DC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0CC-07B2-4EA2-A498-F40BD424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F6C3-2A77-4085-A675-36B0638D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56A2-EFBF-422F-9640-9AA05F25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1CA-17C1-4F0C-8B7D-19259416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F25E-BC05-401B-A4F7-57C80CE1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496D-7E86-4BD1-A549-90C96531F50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ochoa@dcc.uchile.c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933E-0D09-4994-A7D3-86F2675BBD9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6680" y="133992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jecución del Proyecto – Administración del Riesg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78120" y="4628880"/>
            <a:ext cx="640080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gio Ocho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sochoa@dcc.uchile.c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124000" y="5877000"/>
            <a:ext cx="64008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anco Encalada 2120, 4º. Piso, Of. 406, Santia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léfonos: (56 2) 9784879, 978496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x: (56 2) 68955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59C7-8B56-47AF-A416-72F0A3BB2C4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ministración del Ries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4427640" y="1363680"/>
            <a:ext cx="4286160" cy="2857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1357200" y="4508640"/>
            <a:ext cx="7786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gran mayoría de lo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yectos involucran riesg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podrían hacerlo fracas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n embargo,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i los administram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nuestr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babilidad de éxito aumentará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iderable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1747800" y="1341360"/>
            <a:ext cx="2125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C229-0479-48A3-8C6E-D431E562E3A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7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dm. del Ries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7200" y="1142640"/>
            <a:ext cx="77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cad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medida de precaución /    contingenci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 le debe inclui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o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mpacto o nivel de cobertur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por ej. inmuniza, retarda el impacto, deriva a otro componente, etc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omar decision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respecto de cada riesg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de el punto de vista del negoci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od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los riesgo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ecesitan ser revis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ólo lo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más probables y/o dañin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necesitan ser administrados (tratad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518240" y="0"/>
            <a:ext cx="16257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A941-BD86-4331-BA6D-83FA85A3D12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jemplos de Riesg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73200" y="1196640"/>
            <a:ext cx="7391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quisitos cambia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blema pobremente defini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otación de perso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bios extern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allas en la plataforma de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conocimiento de la tecnología a utiliz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conocimiento del proceso de desarrollo a utiliz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érdidas de inform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traso en la ejecución de una f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ta dependencia de algún persona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429680" y="5130720"/>
            <a:ext cx="17143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A172-8588-44F7-9D6F-F7667D887A6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1660680" y="1484280"/>
            <a:ext cx="3562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650600" y="1549440"/>
            <a:ext cx="35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1. Establecer Marco Gen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1660680" y="2417760"/>
            <a:ext cx="3562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072880" y="248292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2. Identific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1660680" y="3351240"/>
            <a:ext cx="3562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018880" y="341640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3. Analiz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1405080" y="4284720"/>
            <a:ext cx="3889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474200" y="4349880"/>
            <a:ext cx="3755880" cy="398880"/>
          </a:xfrm>
          <a:prstGeom prst="rect">
            <a:avLst/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4. Evaluar y Prioriz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1660680" y="5218200"/>
            <a:ext cx="35622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1818360" y="528336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r los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7299360" y="1560600"/>
            <a:ext cx="1665360" cy="4114800"/>
          </a:xfrm>
          <a:custGeom>
            <a:avLst/>
            <a:gdLst>
              <a:gd name="textAreaLeft" fmla="*/ 81000 w 1665360"/>
              <a:gd name="textAreaRight" fmla="*/ 1584360 w 1665360"/>
              <a:gd name="textAreaTop" fmla="*/ 81000 h 4114800"/>
              <a:gd name="textAreaBottom" fmla="*/ 4033800 h 4114800"/>
            </a:gdLst>
            <a:ahLst/>
            <a:rect l="textAreaLeft" t="textAreaTop" r="textAreaRight" b="textAreaBottom"/>
            <a:pathLst>
              <a:path w="21600" h="53363">
                <a:moveTo>
                  <a:pt x="3600" y="0"/>
                </a:moveTo>
                <a:arcTo wR="3600" hR="3600" stAng="16200000" swAng="-5400000"/>
                <a:lnTo>
                  <a:pt x="0" y="49763"/>
                </a:lnTo>
                <a:arcTo wR="3600" hR="3600" stAng="10800000" swAng="-5400000"/>
                <a:lnTo>
                  <a:pt x="18000" y="53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Monitorear y Revis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4" name="AutoShape 14"/>
          <p:cNvCxnSpPr>
            <a:stCxn id="113" idx="0"/>
            <a:endCxn id="103" idx="0"/>
          </p:cNvCxnSpPr>
          <p:nvPr/>
        </p:nvCxnSpPr>
        <p:spPr>
          <a:xfrm flipV="1" rot="16200000">
            <a:off x="5748480" y="-823320"/>
            <a:ext cx="76680" cy="4691880"/>
          </a:xfrm>
          <a:prstGeom prst="bentConnector3">
            <a:avLst>
              <a:gd name="adj1" fmla="val 401415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5" name="AutoShape 15"/>
          <p:cNvCxnSpPr>
            <a:stCxn id="103" idx="2"/>
            <a:endCxn id="105" idx="0"/>
          </p:cNvCxnSpPr>
          <p:nvPr/>
        </p:nvCxnSpPr>
        <p:spPr>
          <a:xfrm flipH="1">
            <a:off x="3440880" y="2017440"/>
            <a:ext cx="1080" cy="400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6" name="AutoShape 16"/>
          <p:cNvCxnSpPr>
            <a:stCxn id="105" idx="2"/>
            <a:endCxn id="107" idx="0"/>
          </p:cNvCxnSpPr>
          <p:nvPr/>
        </p:nvCxnSpPr>
        <p:spPr>
          <a:xfrm flipH="1">
            <a:off x="3440880" y="2950920"/>
            <a:ext cx="1080" cy="400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7" name="AutoShape 17"/>
          <p:cNvCxnSpPr>
            <a:stCxn id="107" idx="2"/>
            <a:endCxn id="109" idx="0"/>
          </p:cNvCxnSpPr>
          <p:nvPr/>
        </p:nvCxnSpPr>
        <p:spPr>
          <a:xfrm rot="5400000">
            <a:off x="3195000" y="4038480"/>
            <a:ext cx="400680" cy="92520"/>
          </a:xfrm>
          <a:prstGeom prst="bentConnector3">
            <a:avLst>
              <a:gd name="adj1" fmla="val 5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8" name="AutoShape 18"/>
          <p:cNvCxnSpPr>
            <a:stCxn id="109" idx="2"/>
            <a:endCxn id="111" idx="0"/>
          </p:cNvCxnSpPr>
          <p:nvPr/>
        </p:nvCxnSpPr>
        <p:spPr>
          <a:xfrm flipH="1" rot="16200000">
            <a:off x="3194640" y="4971960"/>
            <a:ext cx="400680" cy="92520"/>
          </a:xfrm>
          <a:prstGeom prst="bentConnector3">
            <a:avLst>
              <a:gd name="adj1" fmla="val 5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9" name="AutoShape 19"/>
          <p:cNvCxnSpPr>
            <a:stCxn id="111" idx="2"/>
            <a:endCxn id="113" idx="2"/>
          </p:cNvCxnSpPr>
          <p:nvPr/>
        </p:nvCxnSpPr>
        <p:spPr>
          <a:xfrm flipH="1" flipV="1" rot="5400000">
            <a:off x="5748120" y="3367080"/>
            <a:ext cx="76680" cy="4691880"/>
          </a:xfrm>
          <a:prstGeom prst="bentConnector3">
            <a:avLst>
              <a:gd name="adj1" fmla="val -30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0" name="Line 20"/>
          <p:cNvSpPr/>
          <p:nvPr/>
        </p:nvSpPr>
        <p:spPr>
          <a:xfrm>
            <a:off x="5318280" y="270360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5318280" y="361800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2"/>
          <p:cNvSpPr/>
          <p:nvPr/>
        </p:nvSpPr>
        <p:spPr>
          <a:xfrm>
            <a:off x="5318280" y="178920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3"/>
          <p:cNvSpPr/>
          <p:nvPr/>
        </p:nvSpPr>
        <p:spPr>
          <a:xfrm>
            <a:off x="5318280" y="552276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4"/>
          <p:cNvSpPr/>
          <p:nvPr/>
        </p:nvSpPr>
        <p:spPr>
          <a:xfrm>
            <a:off x="5318280" y="460836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1311120" y="6327720"/>
            <a:ext cx="76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iclo Semanal/Quince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0415-2B13-4AA0-98B8-17F95CAA6DA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56840" y="1571400"/>
            <a:ext cx="7643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blecer claramente 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nivel de exposición / protección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estamos dispuestos a tener, frente a los riesgos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o depende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-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n crítico sea el proyecto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-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n ajustado esté nuestro cronograma,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-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nto dinero estemos dispuestos a invertir en “medidas de contingencia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ste pas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l proces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es importante para poder definir, evaluar, priorizar y tratar los riesg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990720" y="914400"/>
            <a:ext cx="3562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80640" y="979560"/>
            <a:ext cx="35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1. Establecer Marco Gen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933B-B0A4-4BCE-99C3-0FB45691290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ceso de Adm. Riesg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505880" y="9874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2. Identific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7200" y="155736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2.1. Identificar ries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ponder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¿qué puede ocurrir si…?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dentificar (a tiempo) los posibles focos de problem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2.2. Identificar causas de ries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ómo y por qué pueden ocurrir los eventos identificados como riesgos? Identificar lo que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motiva, dispara o genera los riesg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más significativ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Principio de Pare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80-2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280120" y="4376880"/>
            <a:ext cx="38638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CF5F-22DB-4D68-842F-9DAEFE27D8A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32000" y="1571760"/>
            <a:ext cx="768024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3.1. Valorar el Riesgo Inh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signarle al riesgo un valor correspondiente a 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robabilidad de ocurr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y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l impact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ese riesgo si se transforma en probl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3.2. Determinar Controles Exist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dentificar la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ctividades o mecanismos de control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mplementados para identificar, evaluar o mitigar los riesgos inhere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3.3. Identificar Nivel de Expos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ultante de aplicar la fórmul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Nivel de Exposición = Riesgo Inherente - Contr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427760" y="987480"/>
            <a:ext cx="28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3. Análisis de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0" y="5867280"/>
            <a:ext cx="1763640" cy="990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7704000" y="981000"/>
            <a:ext cx="144000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9589-EA3A-44F7-BC39-81916F1077F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31640" y="1828440"/>
            <a:ext cx="7659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4. Comparar Riesgos contra Criterios Generales y Definir Prioridades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aborar un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ista de riesgos ordenada de mayor a meno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por la valoración d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nivel de exposición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probabilidad de ocurrenci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aborar otr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ista de riesgos ordenad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 mayor a menor,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or impact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s listas nos permitirán definir lo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riesgos con mayor grado de importancia y probabilida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sobre los cuales deberá definir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lanes de conting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entrar su atención en lo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rític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971640" y="914400"/>
            <a:ext cx="36766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900000" y="987480"/>
            <a:ext cx="38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4. Evaluar y Prioriz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7780320" y="0"/>
            <a:ext cx="13636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681C-6F7A-4E89-B415-B6C6B9B31BD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596960"/>
            <a:ext cx="7359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.1. Identificar y evaluar opciones de tra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 la actividad o componente al cual aplicó el proceso de administración de riesgos, debemos determina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sibles formas de reducir o mitigar el riesg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costo/efectividad asociada a el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.2. Preparar planes de tratamiento de ries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aborar lo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pla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que le permitan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poner en práctica las opciones seleccionad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para el tratamiento del riesg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.3. Ejecutar plan de tra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ner en marcha el plan defini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4">
            <a:hlinkClick r:id="rId1" action="ppaction://hlinksldjump"/>
          </p:cNvPr>
          <p:cNvSpPr/>
          <p:nvPr/>
        </p:nvSpPr>
        <p:spPr>
          <a:xfrm>
            <a:off x="110484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6931-D7F9-4124-AD16-4F30207EF5D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5920" y="1712520"/>
            <a:ext cx="7678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5.1. Identificar opciones de tratamien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(como medida de contingencia). Existen las siguient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Evita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reduce la probabilidad de pérdida al mínimo (tiene que ver con la prevención). … En general esto es casi una utopí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Reduci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 consigue mediante la optimización de los procedimientos y la implementación de controles tendientes a 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disminuir la probabilidad de ocurrencia o el impact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tomiza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tribuir la localización del riesgo, segmentando el objeto sobre el cual se puede materializar el riesg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Transferi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sar el riesgo de un lugar a otro, compartir con otro el riesgo. Esta técnica no reduce la probabilidad ni el impacto, sino que involucra a otros en la responsabilidad del tratami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sumi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cepta la pérdida residual probable. Con la aceptación del riesgo, las estrategias de prevención se vuelven esencia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6566760" y="947880"/>
            <a:ext cx="2481480" cy="509400"/>
          </a:xfrm>
          <a:prstGeom prst="roundRect">
            <a:avLst>
              <a:gd name="adj" fmla="val 16667"/>
            </a:avLst>
          </a:prstGeom>
          <a:solidFill>
            <a:srgbClr val="982e4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ómo Hacer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7BBA-CC89-47FC-AFF2-842CA24AB7D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jecución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09680" y="1805040"/>
            <a:ext cx="579132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5959-5E97-44E8-9B33-0EAE5386743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7812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.1. Evaluar opciones de tra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de tratamiento deben evaluarse con base en el alcance de la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reducción de riesg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(de su probabilidad o de su impact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evaluación debe extenderse a los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beneficios u oportunidade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que la opción de tratamiento pueda cre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enga presente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onsiderar varias opcione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, y que éstas pueden aplicarse individualmente o de manera combin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onsidere los siguientes factore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 momento de evaluar las opciones de trat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6040" indent="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Eficacia: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Efectividad de la propuesta de tratamiento para reducir los riesg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6040" indent="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Factibilidad: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La probabilidad de aceptar la opción propues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6040" indent="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Eficiencia: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Uso óptimo de los recursos, costo efectividad de la op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6566760" y="947880"/>
            <a:ext cx="2481480" cy="509400"/>
          </a:xfrm>
          <a:prstGeom prst="roundRect">
            <a:avLst>
              <a:gd name="adj" fmla="val 16667"/>
            </a:avLst>
          </a:prstGeom>
          <a:solidFill>
            <a:srgbClr val="982e4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ómo Hacer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F9BF-06BD-4C04-862A-C58FC6375A1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1714680" y="1643040"/>
            <a:ext cx="6665400" cy="4251240"/>
            <a:chOff x="1714680" y="1643040"/>
            <a:chExt cx="6665400" cy="4251240"/>
          </a:xfrm>
        </p:grpSpPr>
        <p:graphicFrame>
          <p:nvGraphicFramePr>
            <p:cNvPr id="172" name="Object 6"/>
            <p:cNvGraphicFramePr/>
            <p:nvPr/>
          </p:nvGraphicFramePr>
          <p:xfrm>
            <a:off x="1714680" y="2200320"/>
            <a:ext cx="6629400" cy="369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14680" y="2200320"/>
                      <a:ext cx="6629400" cy="369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Text Box 7"/>
            <p:cNvSpPr/>
            <p:nvPr/>
          </p:nvSpPr>
          <p:spPr>
            <a:xfrm>
              <a:off x="7355880" y="4827600"/>
              <a:ext cx="75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Arial"/>
                </a:rPr>
                <a:t>Cos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800960" y="2317680"/>
              <a:ext cx="357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Arial"/>
                </a:rPr>
                <a:t>Implementar medidas de reduc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5180040" y="3016440"/>
              <a:ext cx="12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Arial"/>
                </a:rPr>
                <a:t>Usar Juici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14800" y="3565440"/>
              <a:ext cx="164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Arial"/>
                </a:rPr>
                <a:t>Antieconómic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1"/>
            <p:cNvSpPr/>
            <p:nvPr/>
          </p:nvSpPr>
          <p:spPr>
            <a:xfrm>
              <a:off x="1785960" y="1643040"/>
              <a:ext cx="1604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</a:rPr>
                <a:t>Probabilidad de Ocurrenc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Rectangle 12"/>
          <p:cNvSpPr/>
          <p:nvPr/>
        </p:nvSpPr>
        <p:spPr>
          <a:xfrm>
            <a:off x="1357200" y="607392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Para seleccionar la opción más apropiada se requiere balancear el costo de implementación contra los beneficios deriv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B0D2-ED44-4E61-8A1D-8CB85CF08D6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14000" y="1785600"/>
            <a:ext cx="7829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5.2. Preparar planes de tratamiento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cumentando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ómo se implementarán las opcione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egid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30780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dentificando responsabil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30780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gramas, resultados esperados, presupu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30780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dir el desempeño y realizar la revisión del proceso en su conju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plan debería incluir también un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mecanism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ar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valuar la implementación de las opcion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contra criterios de desempe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6566760" y="947880"/>
            <a:ext cx="2481480" cy="509400"/>
          </a:xfrm>
          <a:prstGeom prst="roundRect">
            <a:avLst>
              <a:gd name="adj" fmla="val 16667"/>
            </a:avLst>
          </a:prstGeom>
          <a:solidFill>
            <a:srgbClr val="982e4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ómo Hacer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2AB6-D205-47CF-BB97-F94ED640C7C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14000" y="1547280"/>
            <a:ext cx="78296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5.3. Implementar (ejecutar) el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dealmente, la responsabilidad para 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ratamient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 riesgos debería ser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jercida por los más capacit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responsabilidades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mplement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e establecen según 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disponibilidad de tiempo de las par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mplementación exitos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l plan de tratamiento de riesgos requiere de un sistema efectivo de gest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4880" indent="-3081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specifique los métodos elegi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4880" indent="-3081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ignación de responsabilidades, acciones individu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4880" indent="-3081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stablezca controles contra criterios específic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6566760" y="947880"/>
            <a:ext cx="2481480" cy="509400"/>
          </a:xfrm>
          <a:prstGeom prst="roundRect">
            <a:avLst>
              <a:gd name="adj" fmla="val 16667"/>
            </a:avLst>
          </a:prstGeom>
          <a:solidFill>
            <a:srgbClr val="982e4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ómo Hacer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Tipos de Riesg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285560" y="1143000"/>
            <a:ext cx="7643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 del proyect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menazan el plan del proyecto. Si éstos se hacen realidad, es probable que los tiempos o plazos se retrasen y los costos aumente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 técnic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menazan la calidad del producto y la planificación temporal. Si un riesgo técnico se hace realidad, la implementación puede dificultarse o hacerse imposib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to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identifican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roblemas potenciale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e diseño, implementación, interfaces, verificación y mantenimiento, así como el uso de nuevas tecnologí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9F88-E6B2-4D83-884B-ABBDEBB302D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Tipos de Riesg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13920" y="1142640"/>
            <a:ext cx="792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 del negoci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menazan la viabilidad del proyecto.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struir un producto excelente, pero que nadie quiere en realidad (riesgo de mercado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struir un producto que no encaja en la estrategia comercial general de la compañía (riesgo estratégico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struir un producto que el departamento de ventas no sabe cómo vend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erder el apoyo gerencial debido a cambios en el enfoque o en las metas del proyecto (riesgo de dirección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 conocid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on riesgos de las categorías anteriores, que ya acontecieron y que pueden repetirse en el futu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4403-FEAE-45A4-B386-B6149A9A38D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91EF-EDB1-4C4F-924E-9AEED5E3697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360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eamos Ejemplos de Informes de Riesgo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6970680" y="0"/>
            <a:ext cx="21733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9BB1-B1A9-4F04-BE9C-B440DC174B1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jecución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2920" y="1143000"/>
            <a:ext cx="74898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jecución del proyecto no es más que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guir el plan trazad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urante la etapa de formulación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Esto es, generar los entregables definidos, en los tiempos/costos comprometidos, con los recursos (tecnológicos, metodológicos y humanos) especific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ctividades clav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urante esta etapa s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Monitoreo y Contr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Administración del Ries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Replanific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429240" y="4890960"/>
            <a:ext cx="271476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7EB3-4FC5-4A67-A6F7-29DBD5AE90A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Monitoreo y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74920" y="1143000"/>
            <a:ext cx="25970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erman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osi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-ac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071800" y="2779560"/>
            <a:ext cx="6316560" cy="4007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6189840" y="1285920"/>
            <a:ext cx="2597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o tener el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proyecto “en línea (on-line)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7CC7-1308-4358-9F2A-27B7DE0ECC6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Monitoreo y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4920" y="1143000"/>
            <a:ext cx="25970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erman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osi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-ac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6189840" y="1285920"/>
            <a:ext cx="2597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amos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ReqAd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333440" y="3191040"/>
            <a:ext cx="76676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B8CD-7938-4CB9-BBBA-FFBA35FF77E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eplanific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2920" y="1143000"/>
            <a:ext cx="74898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lanificar en base 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resultados d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monitore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riesg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identifi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nivel de protec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seado para el 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a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are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on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ma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3643200" y="3933720"/>
          <a:ext cx="5335560" cy="27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3200" y="3933720"/>
                    <a:ext cx="533556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B73B-3EA8-4B24-9F57-AF738FF87E5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Formulación del Proyecto(FdP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2920" y="1143000"/>
            <a:ext cx="74898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jetivos (generales, específic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 de Desarro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lan de traba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imación del Esfuerzo de Desarro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étr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treg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dministración del Ries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Económ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0E83-5E13-453C-875A-00B3C7637DC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ministración del Ries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4784760"/>
            <a:ext cx="3686040" cy="2073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:\Users\Sergio\AppData\Local\Temp\RIESGOS%20LABORALES%202.jpg"/>
          <p:cNvPicPr/>
          <p:nvPr/>
        </p:nvPicPr>
        <p:blipFill>
          <a:blip r:embed="rId2"/>
          <a:stretch/>
        </p:blipFill>
        <p:spPr>
          <a:xfrm>
            <a:off x="0" y="1000080"/>
            <a:ext cx="2695680" cy="3809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6337440" y="1000080"/>
            <a:ext cx="2806560" cy="2214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4"/>
          <a:stretch/>
        </p:blipFill>
        <p:spPr>
          <a:xfrm>
            <a:off x="4865760" y="4113360"/>
            <a:ext cx="4500360" cy="2813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5"/>
          <a:stretch/>
        </p:blipFill>
        <p:spPr>
          <a:xfrm>
            <a:off x="2786040" y="1000080"/>
            <a:ext cx="34196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5197-86D4-49D4-AD70-65807E90B77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5756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dm. del Ries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71360" y="1195560"/>
            <a:ext cx="80722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Riesg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s una situación que, en caso de darse,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transforma en un problem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ara el proyecto… Por lo tanto, es necesari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dentifica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“en forma temprana” los posible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riesg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terminar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aus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nivel de manej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 los riesg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blecer 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robabilidad de ocurr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terminar 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osto del riesg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impacto), si es que se convierte en realidad (por lo tanto pasa a ser un problem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didas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recau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ontingencia (cobertura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23:27:42Z</dcterms:created>
  <dc:creator>DCC</dc:creator>
  <dc:description/>
  <dc:language>en-US</dc:language>
  <cp:lastModifiedBy>Sergio</cp:lastModifiedBy>
  <dcterms:modified xsi:type="dcterms:W3CDTF">2009-05-26T12:42:09Z</dcterms:modified>
  <cp:revision>996</cp:revision>
  <dc:subject/>
  <dc:title>Programas de Extención</dc:title>
</cp:coreProperties>
</file>