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640E14-F93C-4CA8-B30E-FEC053CF5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D92F3B-5879-42E7-B47F-01737DC649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D74594-5538-4BB1-A2D6-0453D4C294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2E0A2F-3B40-4913-8EF7-65346270C9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C5B958-1DF2-4308-AE73-A0CC5D4440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8B965C-AA1D-4029-8FF1-4F2BC7A919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7B0E24-6015-4785-8EE2-27E0ACE0EA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40617A-DA78-49B9-879A-7AABD2EF1D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C74CFD-D75C-4015-8504-BB41C82C91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99B6A7-8F59-4F40-83A8-2A9A5CB7FC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6DD98B-1AD5-4235-804B-2F98658058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8C8114-E7E4-475D-A6D0-A4EDD8F334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90AF24-0722-428F-B4FD-4CF1DF81EE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8A879B-9BB1-439E-9E6E-7978B38AAA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2C878B-6ECE-4C5A-99DC-548292E476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288B669-7192-4EC5-9E24-417FB74E76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296F6B4-646B-4314-B1E3-299282F0BB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F64ACA-148D-4B21-845D-4EC46DA6B8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A6CF5A1-3425-40D0-8B8B-16032B2429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03670C0-6CAA-4498-B89A-B8D4056799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C5294B-212E-496F-A5F2-9525851E49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3DDFAB-4A43-42F6-A4CE-CBF32AB522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50073A-D872-44B6-AE0D-C8748F2850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45F78E-3724-493F-AE42-EA69485448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03A6A8-129B-4DA1-888B-2E1CB5F7ED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541-48F6-44EE-8205-CC2AB78D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CDD-C2D8-451D-83FA-2FD068CE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A77-596E-4595-916D-BC012F36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3FB-1507-4505-99BC-20592240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A7B-3A70-473C-AF8B-828F7F27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3C7-AD2A-4E2C-9885-32ED540F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CDB-C958-4FE2-822D-385B1ACF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8AF1-2EB4-445E-98ED-3BCB7E1B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8A8-8B47-455E-8D45-EB773479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0EC-3148-4D2B-BA27-1FD4F3DF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B69-39D0-4639-9B92-2DCE25F1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AB9-0795-4039-ACF9-A091CC58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564F-2898-4450-806E-DB0B065FCD8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choa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65B0-9A6D-44CE-9DBA-0DCD3BADE43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6680" y="13399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jecución del Proyecto – Administración del Riesg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78120" y="462888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gio Och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sochoa@dcc.uchile.c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124000" y="5877000"/>
            <a:ext cx="6400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nco Encalada 2120, 4º. Piso, Of. 406, Santia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léfonos: (56 2) 9784879, 97849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x: (56 2) 68955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529E-7F95-4895-ACE5-03C8111D4F5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427640" y="136368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1357200" y="4508640"/>
            <a:ext cx="7786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gran mayoría de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yectos involucran riesg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podrían hacerlo fracas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n embargo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i los administram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nuestr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babilidad de éxito aumentará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derable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1747800" y="1341360"/>
            <a:ext cx="2125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0347-8044-417A-8F94-E6B1CABEC2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m.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7200" y="114264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cad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edida de precaución /    contingenci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le debe inclui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acto o nivel de cobertu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por ej. inmuniza, retarda el impacto, deriva a otro componente, et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mar decision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respecto de cada riesg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de el punto de vista del negoci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d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los riesg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ecesitan ser revis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ólo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ás probables y/o dañin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necesitan ser administrados (tratad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18240" y="0"/>
            <a:ext cx="1625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6586-1E90-442B-8E56-3C5E2784D6E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73200" y="1196640"/>
            <a:ext cx="7391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quisitos cambi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blema pobremente defin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tación de pers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os extern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allas en la plataforma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conocimiento de la tecnología a utiliz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conocimiento del proceso de desarrollo a utiliz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érdidas de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traso en la ejecución de una f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ta dependencia de algún persona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429680" y="5130720"/>
            <a:ext cx="17143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DD27-7B99-4912-8D36-A3C5DF56645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1660680" y="148428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650600" y="154944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1. Establecer Marco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1660680" y="241776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072880" y="248292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2. Identific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1660680" y="335124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018880" y="341640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3. Anal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1405080" y="4284720"/>
            <a:ext cx="3889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474200" y="4349880"/>
            <a:ext cx="3755880" cy="39888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4. Evaluar y Prior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660680" y="5218200"/>
            <a:ext cx="35622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818360" y="5283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r los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7299360" y="1560600"/>
            <a:ext cx="1665360" cy="4114800"/>
          </a:xfrm>
          <a:custGeom>
            <a:avLst/>
            <a:gdLst>
              <a:gd name="textAreaLeft" fmla="*/ 81000 w 1665360"/>
              <a:gd name="textAreaRight" fmla="*/ 1584360 w 1665360"/>
              <a:gd name="textAreaTop" fmla="*/ 81000 h 4114800"/>
              <a:gd name="textAreaBottom" fmla="*/ 4033800 h 4114800"/>
            </a:gdLst>
            <a:ahLst/>
            <a:rect l="textAreaLeft" t="textAreaTop" r="textAreaRight" b="textAreaBottom"/>
            <a:pathLst>
              <a:path w="21600" h="53363">
                <a:moveTo>
                  <a:pt x="3600" y="0"/>
                </a:moveTo>
                <a:arcTo wR="3600" hR="3600" stAng="16200000" swAng="-5400000"/>
                <a:lnTo>
                  <a:pt x="0" y="49763"/>
                </a:lnTo>
                <a:arcTo wR="3600" hR="3600" stAng="10800000" swAng="-5400000"/>
                <a:lnTo>
                  <a:pt x="18000" y="53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Monitorear y Revis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" name="AutoShape 14"/>
          <p:cNvCxnSpPr>
            <a:stCxn id="113" idx="0"/>
            <a:endCxn id="103" idx="0"/>
          </p:cNvCxnSpPr>
          <p:nvPr/>
        </p:nvCxnSpPr>
        <p:spPr>
          <a:xfrm flipV="1" rot="16200000">
            <a:off x="5748480" y="-823320"/>
            <a:ext cx="76680" cy="4691880"/>
          </a:xfrm>
          <a:prstGeom prst="bentConnector3">
            <a:avLst>
              <a:gd name="adj1" fmla="val 401415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5" name="AutoShape 15"/>
          <p:cNvCxnSpPr>
            <a:stCxn id="103" idx="2"/>
            <a:endCxn id="105" idx="0"/>
          </p:cNvCxnSpPr>
          <p:nvPr/>
        </p:nvCxnSpPr>
        <p:spPr>
          <a:xfrm flipH="1">
            <a:off x="3440880" y="2017440"/>
            <a:ext cx="1080" cy="400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6" name="AutoShape 16"/>
          <p:cNvCxnSpPr>
            <a:stCxn id="105" idx="2"/>
            <a:endCxn id="107" idx="0"/>
          </p:cNvCxnSpPr>
          <p:nvPr/>
        </p:nvCxnSpPr>
        <p:spPr>
          <a:xfrm flipH="1">
            <a:off x="3440880" y="2950920"/>
            <a:ext cx="1080" cy="400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7" name="AutoShape 17"/>
          <p:cNvCxnSpPr>
            <a:stCxn id="107" idx="2"/>
            <a:endCxn id="109" idx="0"/>
          </p:cNvCxnSpPr>
          <p:nvPr/>
        </p:nvCxnSpPr>
        <p:spPr>
          <a:xfrm rot="5400000">
            <a:off x="3195000" y="4038480"/>
            <a:ext cx="400680" cy="9252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8" name="AutoShape 18"/>
          <p:cNvCxnSpPr>
            <a:stCxn id="109" idx="2"/>
            <a:endCxn id="111" idx="0"/>
          </p:cNvCxnSpPr>
          <p:nvPr/>
        </p:nvCxnSpPr>
        <p:spPr>
          <a:xfrm flipH="1" rot="16200000">
            <a:off x="3194640" y="4971960"/>
            <a:ext cx="400680" cy="9252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9" name="AutoShape 19"/>
          <p:cNvCxnSpPr>
            <a:stCxn id="111" idx="2"/>
            <a:endCxn id="113" idx="2"/>
          </p:cNvCxnSpPr>
          <p:nvPr/>
        </p:nvCxnSpPr>
        <p:spPr>
          <a:xfrm flipH="1" flipV="1" rot="5400000">
            <a:off x="5748120" y="3367080"/>
            <a:ext cx="76680" cy="4691880"/>
          </a:xfrm>
          <a:prstGeom prst="bentConnector3">
            <a:avLst>
              <a:gd name="adj1" fmla="val -30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0" name="Line 20"/>
          <p:cNvSpPr/>
          <p:nvPr/>
        </p:nvSpPr>
        <p:spPr>
          <a:xfrm>
            <a:off x="5318280" y="27036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5318280" y="36180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5318280" y="17892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5318280" y="552276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4"/>
          <p:cNvSpPr/>
          <p:nvPr/>
        </p:nvSpPr>
        <p:spPr>
          <a:xfrm>
            <a:off x="5318280" y="460836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311120" y="632772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clo Semanal/Quince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3FF2-E928-43C3-9459-CB038C76F9D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56840" y="1571400"/>
            <a:ext cx="7643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claramente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exposición / protecció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estamos dispuestos a tener, frente a los riesgos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o depende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 crítico sea el proyect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 ajustado esté nuestro cronograma,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to dinero estemos dispuestos a invertir en “medidas de contingencia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te pas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l proces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es importante para poder definir, evaluar, priorizar y tratar los riesg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990720" y="91440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80640" y="97956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1. Establecer Marco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37B8-FD87-463C-BE0E-ECFE70FDE6D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505880" y="9874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2. Identific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7200" y="155736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2.1. Identificar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ponder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¿qué puede ocurrir si…?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entificar (a tiempo) los posibles focos de proble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2.2. Identificar causas 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ómo y por qué pueden ocurrir los eventos identificados como riesgos? Identificar lo que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motiva, dispara o genera los riesg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más significativ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rincipio de Pare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80-2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280120" y="4376880"/>
            <a:ext cx="38638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4133-CBDD-4138-9745-21A6900E635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2000" y="1571760"/>
            <a:ext cx="768024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1. Valorar el Riesgo Inh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signarle al riesgo un valor correspondiente a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obabilidad de ocurr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l impact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ese riesgo si se transforma en probl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2. Determinar Controles Exist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r la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ctividades o mecanismos de control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plementados para identificar, evaluar o mitigar los riesgos inher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3. Identificar Nivel de Expos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ultante de aplicar la fórmul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Nivel de Exposición = Riesgo Inherente - Contr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427760" y="98748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3. Análisis de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0" y="5867280"/>
            <a:ext cx="1763640" cy="99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7704000" y="981000"/>
            <a:ext cx="144000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C788-32E4-4207-8939-9447D602707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7659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4. Comparar Riesgos contra Criterios Generales y Definir Prioridades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aborar un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sta de riesgos ordenada de mayor a men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por la valoración d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exposició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probabilidad de ocurrenc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aborar ot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sta de riesgos ordenad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mayor a menor,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or impac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s listas nos permitirán definir 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 con mayor grado de importancia y probabilid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sobre los cuales deberá defini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lanes de conting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ntrar su atención en l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rític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971640" y="914400"/>
            <a:ext cx="36766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00000" y="987480"/>
            <a:ext cx="38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4. Evaluar y Prior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7780320" y="0"/>
            <a:ext cx="13636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0A2D-062E-46D4-AA98-0B9196FB5B8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596960"/>
            <a:ext cx="7359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1. Identificar y evaluar opciones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la actividad o componente al cual aplicó el proceso de administración de riesgos, debemos determin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sibles formas de reducir o mitigar el riesg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sto/efectividad asociada a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2. Preparar planes de tratamiento 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aborar lo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la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que le permitan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oner en práctica las opciones seleccion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para el tratamiento del riesg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3. Ejecutar plan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ner en marcha el plan defin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4">
            <a:hlinkClick r:id="rId1" action="ppaction://hlinksldjump"/>
          </p:cNvPr>
          <p:cNvSpPr/>
          <p:nvPr/>
        </p:nvSpPr>
        <p:spPr>
          <a:xfrm>
            <a:off x="110484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FC97-000F-466B-9466-773653C95D9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5920" y="1712520"/>
            <a:ext cx="7678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5.1. Identificar opciones de tratamien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como medida de contingencia). Existen las siguien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vita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duce la probabilidad de pérdida al mínimo (tiene que ver con la prevención). … En general esto es casi una utop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Reduc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 consigue mediante la optimización de los procedimientos y la implementación de controles tendientes a 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disminuir la probabilidad de ocurrencia o el impact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tomiza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tribuir la localización del riesgo, segmentando el objeto sobre el cual se puede materializar el riesg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Transfer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sar el riesgo de un lugar a otro, compartir con otro el riesgo. Esta técnica no reduce la probabilidad ni el impacto, sino que involucra a otros en la responsabilidad del trata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sum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epta la pérdida residual probable. Con la aceptación del riesgo, las estrategias de prevención se vuelven esencia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6A74-4A41-49D4-9893-E3595AA2838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jec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9680" y="1805040"/>
            <a:ext cx="57913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4A5E-7DF2-4A2A-B7D2-63D625EC5EB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7812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1. Evaluar opciones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de tratamiento deben evaluarse con base en el alcance de la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reducción de riesg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(de su probabilidad o de su impact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evaluación debe extenderse a lo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beneficios u oportunidade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e la opción de tratamiento pueda cre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enga presente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nsiderar varias opcion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, y que éstas pueden aplicarse individualmente o de manera combi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nsidere los siguientes factore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momento de evaluar las opciones de trat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ficacia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Efectividad de la propuesta de tratamiento para reducir los riesg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Factibilidad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La probabilidad de aceptar la opción propues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ficiencia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Uso óptimo de los recursos, costo efectividad de la op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8D83-80A3-46F1-B26D-A911AFC867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1714680" y="1643040"/>
            <a:ext cx="6665400" cy="4251240"/>
            <a:chOff x="1714680" y="1643040"/>
            <a:chExt cx="6665400" cy="4251240"/>
          </a:xfrm>
        </p:grpSpPr>
        <p:graphicFrame>
          <p:nvGraphicFramePr>
            <p:cNvPr id="172" name="Object 6"/>
            <p:cNvGraphicFramePr/>
            <p:nvPr/>
          </p:nvGraphicFramePr>
          <p:xfrm>
            <a:off x="1714680" y="2200320"/>
            <a:ext cx="6629400" cy="369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14680" y="2200320"/>
                      <a:ext cx="6629400" cy="369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Text Box 7"/>
            <p:cNvSpPr/>
            <p:nvPr/>
          </p:nvSpPr>
          <p:spPr>
            <a:xfrm>
              <a:off x="7355880" y="482760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Cos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800960" y="2317680"/>
              <a:ext cx="357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Implementar medidas de reduc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5180040" y="301644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Usar Juici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14800" y="3565440"/>
              <a:ext cx="164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Antieconómic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785960" y="1643040"/>
              <a:ext cx="1604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</a:rPr>
                <a:t>Probabilidad de Ocurren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Rectangle 12"/>
          <p:cNvSpPr/>
          <p:nvPr/>
        </p:nvSpPr>
        <p:spPr>
          <a:xfrm>
            <a:off x="1357200" y="60739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ara seleccionar la opción más apropiada se requiere balancear el costo de implementación contra los beneficios deriv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2992-7B07-457A-A6A0-6170D270750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14000" y="1785600"/>
            <a:ext cx="7829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5.2. Preparar planes de tratamiento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cumentand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ómo se implementarán las opcione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egi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ndo responsabil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s, resultados esperados,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r el desempeño y realizar la revisión del proceso en su conju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plan debería incluir también u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ecanism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a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valuar la implementación de las opcio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contra criterios de desempe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5881-9B13-4444-AA12-2CC37FD73C7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14000" y="1547280"/>
            <a:ext cx="7829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5.3. Implementar (ejecutar) el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almente, la responsabilidad para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ratamien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riesgos debería se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jercida por los más capacit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responsabilidades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lement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e establecen según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isponibilidad de tiempo de las par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lementación exitos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plan de tratamiento de riesgos requiere de un sistema efectivo de gest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specifique los métodos eleg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ignación de responsabilidades, acciones individu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stablezca controles contra criterios específ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Tip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85560" y="1143000"/>
            <a:ext cx="7643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del proyect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el plan del proyecto. Si éstos se hacen realidad, es probable que los tiempos o plazos se retrasen y los costos aumente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técnic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la calidad del producto y la planificación temporal. Si un riesgo técnico se hace realidad, la implementación puede dificultarse o hacerse imposi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identifica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roblemas potenciale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 diseño, implementación, interfaces, verificación y mantenimiento, así como el uso de nuevas tecnologí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3A22-48B5-4999-9543-28D7506A793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Tip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1392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del negoci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la viabilidad del proyecto.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excelente, pero que nadie quiere en realidad (riesgo de mercado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que no encaja en la estrategia comercial general de la compañía (riesgo estratégico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que el departamento de ventas no sabe cómo ven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erder el apoyo gerencial debido a cambios en el enfoque o en las metas del proyecto (riesgo de direcció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conocid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on riesgos de las categorías anteriores, que ya acontecieron y que pueden repetirse en el futu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C9B8-D34D-401C-8313-52A464F3469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58CE-A308-48CA-8EC9-68E257A599B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36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eamos Ejemplos de Informes de Riesgo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970680" y="0"/>
            <a:ext cx="2173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7C29-49C3-4ED2-9D5D-F2D21A096DA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jec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jecución del proyecto no es más qu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guir el plan trazad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urante la etapa de formulación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Esto es, generar los entregables definidos, en los tiempos/costos comprometidos, con los recursos (tecnológicos, metodológicos y humanos) especific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ctividades clav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urante esta etapa s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Monitoreo y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Administración del Ries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Replanif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429240" y="4890960"/>
            <a:ext cx="27147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40BC-B11B-415A-9027-65183FBDDBF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onitoreo y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74920" y="1143000"/>
            <a:ext cx="2597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erman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-a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071800" y="2779560"/>
            <a:ext cx="6316560" cy="4007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6189840" y="1285920"/>
            <a:ext cx="2597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o tener el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proyecto “en línea (on-line)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DEC1-F960-4779-90F6-9D5CEC89B01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onitoreo y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4920" y="1143000"/>
            <a:ext cx="2597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erman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-a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189840" y="1285920"/>
            <a:ext cx="2597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amos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Req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33440" y="3191040"/>
            <a:ext cx="76676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9A2A-138A-4AE4-9FF2-1F6561D2131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planific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lanificar en base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resultados d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onitore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identifi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protec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seado para 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a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re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on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ma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3643200" y="3933720"/>
          <a:ext cx="5335560" cy="27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3200" y="3933720"/>
                    <a:ext cx="533556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75BA-205D-4762-A2E0-D13A358726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Formulación del Proyecto(FdP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jetivos (generales, específic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 de Desarro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lan de traba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imación del Esfuerzo de Desarro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étr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treg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Econó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3DCE-0928-4083-A851-89D8E0D385B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4784760"/>
            <a:ext cx="3686040" cy="2073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Users\Sergio\AppData\Local\Temp\RIESGOS%20LABORALES%202.jpg"/>
          <p:cNvPicPr/>
          <p:nvPr/>
        </p:nvPicPr>
        <p:blipFill>
          <a:blip r:embed="rId2"/>
          <a:stretch/>
        </p:blipFill>
        <p:spPr>
          <a:xfrm>
            <a:off x="0" y="1000080"/>
            <a:ext cx="2695680" cy="3809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6337440" y="1000080"/>
            <a:ext cx="2806560" cy="221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4"/>
          <a:stretch/>
        </p:blipFill>
        <p:spPr>
          <a:xfrm>
            <a:off x="4865760" y="4113360"/>
            <a:ext cx="4500360" cy="2813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5"/>
          <a:stretch/>
        </p:blipFill>
        <p:spPr>
          <a:xfrm>
            <a:off x="2786040" y="1000080"/>
            <a:ext cx="34196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3A5D-5A55-4547-B9D7-B3D5E3E0210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5756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m.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71360" y="1195560"/>
            <a:ext cx="80722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iesg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s una situación que, en caso de darse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transforma en un problem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ara el proyecto… Por lo tanto, es neces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dentific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“en forma temprana” los posible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aus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manej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los riesg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obabilidad de ocurr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terminar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sto del riesg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impacto), si es que se convierte en realidad (por lo tanto pasa a ser un problem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das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ecau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ntingencia (cobertura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05-26T12:42:09Z</dcterms:modified>
  <cp:revision>996</cp:revision>
  <dc:subject/>
  <dc:title>Programas de Extención</dc:title>
</cp:coreProperties>
</file>