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0E18E4-AF73-4D81-AF35-42802289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9F6E88B-1A7D-413D-B4C2-92CD0B948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48D6DA-DFF2-425D-93E0-B9608EC949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DD0608-9772-4EC3-93FB-3F1F9A744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0FB98A-CBFD-439F-99F8-13983ED52A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80547A-6A76-4D73-AF05-8D5BD5216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1C0166-1F8D-4408-99A8-17B593BD2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7F59F2-839B-4DD8-A1DC-A316D255A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879DE6-3BEA-48DE-93AE-6D456C13D8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FACB91-53DA-4826-8013-9EF7FF533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E8B620-4151-4986-ADFE-71DCAF218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5401E9-CFEF-4360-88F2-9E04A5E98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941751-6EA0-4174-96EE-1FFDE80AA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DEFABE-54FE-4C48-8077-E3B3D66D07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BBCF99-291F-48F0-95A4-DA48FC5F5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38892B-AEFA-4FA7-BED6-C3000199E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328AF0-66D3-44AB-9163-994E81485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FE3FAC-E8DD-4F54-A7A9-FCEE19017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FD8FFD-AED8-4A16-9D36-6C8E071DB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A74741-7BF3-45ED-8FE7-91A37A8EF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73A894-F66B-447D-BAEF-860BF0C55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22EFF2-23CD-4DEF-B1CE-45E4E3811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50C666-AD43-4E99-8B28-EEF27A488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0289F4-7811-40AE-92FC-FF13164A68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A7144A-FCE8-458C-A86E-0138251E0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D675F3-14D4-40BD-88EA-13759D6559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E21D3B-2E5A-4F4E-A8D6-E31582495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D34EF3-9257-4CF0-B866-008B1C58A3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4F151E-EF42-4E0A-A408-0F95547E21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5B27F6-8D96-46F8-B0E7-02A1059ED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65C276-610A-4F5E-AD12-5D077F9BD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01682A-3B48-4D2E-9879-9DF298534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558736-93E1-4AF5-A849-F046D3ACF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2A4C5E-01B3-41A1-80BF-FEAC5301D3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1CC16D-D8DA-4903-A82B-431E1CEA39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5AD027-8270-4B35-BBA6-23756B7FAE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5E7DA9-28A1-4E28-8CD1-BA94142B5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8A24A9-DA10-4692-A459-F919EB18E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A8E2B5-7ED0-4F40-8400-E39B6286E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AA4FA0-4C62-438A-9294-B9DE4761D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3F2368-C4EF-4358-B00B-F45196BD0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994ACD-7C02-4B0E-88D9-874E6F1DF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5A877E-8F7B-4F6B-820F-0C78DE34A5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79FB7F-7E4B-404E-8203-C101DEC89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A016DC-13BE-4BCF-AE4D-24BECBB13E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87E626-0664-48F9-BDCF-936BDA39A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CE83AF-26D1-4424-9ECC-60814A432B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D51202-E614-4829-90F2-835B8CD108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B9A1E1-A9C3-4C9C-BF8D-64FFACF376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657-F133-4C29-BCCB-20ABCBB9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2C4-9E90-41ED-B762-A6EC34E5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0FB-078F-455E-B566-376473F4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9F8-70B7-4386-BDF8-82C3C8E3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D19-30D6-4E10-8E51-6D77DEA8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DF6-3A4F-4756-B7D1-940C89C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280-139B-462E-B0B8-4FDC241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ADE-6261-4031-B3D3-DA1A2822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78D-4458-4DFE-8907-B814CDB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64D-35DF-44BB-849A-4FFD612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F94-0B10-42BE-9C1D-9CD64A2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46D-DAB7-47B6-835D-1CE8812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95A-5156-4869-AB44-7116575A49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032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1480" y="392868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Diseño: Arquitectónico y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1120" y="5692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5EB-5D1B-4071-A4A7-4F50A92D0A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486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8120" y="1143000"/>
            <a:ext cx="84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de una Arquitectura Física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ules_arc"/>
          <p:cNvPicPr/>
          <p:nvPr/>
        </p:nvPicPr>
        <p:blipFill>
          <a:blip r:embed="rId1"/>
          <a:stretch/>
        </p:blipFill>
        <p:spPr>
          <a:xfrm>
            <a:off x="1801800" y="1782720"/>
            <a:ext cx="601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5A9-2EAA-4BD0-AC96-DA6DAEFEC1C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159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mdb_arquitectura"/>
          <p:cNvPicPr/>
          <p:nvPr/>
        </p:nvPicPr>
        <p:blipFill>
          <a:blip r:embed="rId1"/>
          <a:stretch/>
        </p:blipFill>
        <p:spPr>
          <a:xfrm>
            <a:off x="1763640" y="1628640"/>
            <a:ext cx="65534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830680" y="58197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BC9-948D-4E85-B9CF-4713FE6742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9080" y="54000"/>
            <a:ext cx="792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2000" y="1197000"/>
            <a:ext cx="770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tendencia hacia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rquitecturas físicas de tres cap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unca ha sido tan fuerte como ahora. Todo gracias al espectacular crecimiento de las aplicacione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arquitectura de tres capas permite que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interfaces de usuarios, la lógica empresaria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os dato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dan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por separado.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posiblemente operen en máquinas diferentes con conexión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factor destacable de esta arquitectura es la posibilidad de que un browser pueda acceder a l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ógica empresarial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 la información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mientras que ésta permanece 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salvo tras un firewal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9A9-6B5B-4FBC-A7FE-1AC9BDD775F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5791320"/>
            <a:ext cx="65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340000" y="1905120"/>
            <a:ext cx="5638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E8C-8B09-4737-8292-C4DE66B99F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137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303200"/>
            <a:ext cx="770400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a arquitectura es una especialización de la Arquitectura Cliente/Serv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1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programa que utiliza el usuario para acceder a la funcionalidad del sistema. Este programa, que generalmente es un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navegad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forma parte del 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2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ervidor Web, servidor de aplicación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y posiblemente algunos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accesorios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como por ejemplo: adm. de transacciones, adm. de servicios internos, adm. de seguridad, etc. Esta capa forma parte del servidor, aunque sus componentes pueden ejecutar en diferente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3: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á compuesto por el modelo de datos del sistema, y por el administrador de estos datos (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ABD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). Esta capa forma parte del servidor, aunque puede correr en cualquier máqu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A041-A429-4A78-83E8-4159D5B229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9218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86000" y="1052640"/>
            <a:ext cx="75070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a arquitectura necesita de "pegamento Web", que es un software que une el mundo HTML, con entornos capaces de soportar aplicaciones empresariales (adm. de transacciones, seguridad, datawarehouse, etc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Una vez que las compañías se han instalado en el mundo de las aplicaciones Web de tres capas,</a:t>
            </a:r>
            <a:r>
              <a:rPr b="0" i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00"/>
                </a:solidFill>
                <a:latin typeface="Tahoma"/>
              </a:rPr>
              <a:t>obtienen importantes ventaj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calabilidad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utilización del cód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ción de transacciones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flexibilidad, adaptabilidad y capacidad de expa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manteni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9E3-7B4E-4572-A83B-5D1136F084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151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673360" y="188928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411280" y="5851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E293-5E5E-41F0-886C-46FC2592B3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935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en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93800" y="907920"/>
            <a:ext cx="4913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2EA-538B-4347-8FF9-AAB3C6DADA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2 Arquitectura Lóg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7788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Arquitectura Lógica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xpresa cuáles son los componentes lógicos (subsistemas, o macro-funciones) que participan en nuestra solución, y la relación entre ell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especificación de esta arquitectura, e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similar a la arq.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Se especifican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actores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relaciones entre ellos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sólo que los actores ahora son: subsistemas de mi solución, macro-funciones de la misma o entidades externa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n lo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diagramas que expresan tanto la arq. lógica como la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, se puede utilizar casi cualquier simbología que clarifique el escenario (DFD, Diagr. de clases, bloques, casos de uso, dibujo informal, etc)... a menos que existan restricciones al respec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 continuación se muestran algunos ejemplos de Arquitecturas Lógicas de Sistem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B861-CA2F-4FAC-ABB8-8367CDC0C4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12560" y="44280"/>
            <a:ext cx="772308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DFD-1"/>
          <p:cNvPicPr/>
          <p:nvPr/>
        </p:nvPicPr>
        <p:blipFill>
          <a:blip r:embed="rId1"/>
          <a:stretch/>
        </p:blipFill>
        <p:spPr>
          <a:xfrm>
            <a:off x="1273320" y="1565280"/>
            <a:ext cx="76197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"/>
          <p:cNvSpPr/>
          <p:nvPr/>
        </p:nvSpPr>
        <p:spPr>
          <a:xfrm>
            <a:off x="1785960" y="0"/>
            <a:ext cx="5859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519-A90C-4D64-9AA1-C03F75C088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240" y="115920"/>
            <a:ext cx="757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DFD-2"/>
          <p:cNvPicPr/>
          <p:nvPr/>
        </p:nvPicPr>
        <p:blipFill>
          <a:blip r:embed="rId1"/>
          <a:stretch/>
        </p:blipFill>
        <p:spPr>
          <a:xfrm>
            <a:off x="2427120" y="1268280"/>
            <a:ext cx="5313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2D8-DD9E-441E-AC2D-C524A21DA0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ejemplo2"/>
          <p:cNvPicPr/>
          <p:nvPr/>
        </p:nvPicPr>
        <p:blipFill>
          <a:blip r:embed="rId1"/>
          <a:stretch/>
        </p:blipFill>
        <p:spPr>
          <a:xfrm>
            <a:off x="1339920" y="1341360"/>
            <a:ext cx="769608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16160" y="4437000"/>
          <a:ext cx="6172200" cy="21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4437000"/>
                    <a:ext cx="61722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9E2-7926-44D4-A05A-2AD5EA0F97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948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figure4_lg"/>
          <p:cNvPicPr/>
          <p:nvPr/>
        </p:nvPicPr>
        <p:blipFill>
          <a:blip r:embed="rId1"/>
          <a:stretch/>
        </p:blipFill>
        <p:spPr>
          <a:xfrm>
            <a:off x="2087640" y="1916280"/>
            <a:ext cx="5940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FB5D-29CA-4190-949B-E4CB9147F3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668680" y="1413000"/>
            <a:ext cx="4856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126-9E4F-4D67-84AE-7AD08AB7E7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71440" y="1079640"/>
            <a:ext cx="76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C2AC-BC2D-4B16-A07F-7FF4132249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75080" y="3708360"/>
          <a:ext cx="48765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3708360"/>
                    <a:ext cx="48765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52600" y="1125360"/>
            <a:ext cx="76564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modelo de datos consiste en identificar gráficamente las entidades (o tablas) que participan en mi sistema, ya sean nuevas o existe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Identificar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 primari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y las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s foráne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 cada 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F97D-C1E7-4E3E-B734-BC882638568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9232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od_datos"/>
          <p:cNvPicPr/>
          <p:nvPr/>
        </p:nvPicPr>
        <p:blipFill>
          <a:blip r:embed="rId1"/>
          <a:stretch/>
        </p:blipFill>
        <p:spPr>
          <a:xfrm>
            <a:off x="2819520" y="1335240"/>
            <a:ext cx="4548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F54-5EC8-4098-B3C3-A820BAE879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6680" y="523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7640" y="1593720"/>
            <a:ext cx="4537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19D-0410-42FC-AC19-9F06B227F6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 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213920"/>
            <a:ext cx="788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detallad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i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tiene que tener en cuenta los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última versión) y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arquitectónic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a efectos del proyecto especificaremos el Diseño Detallado a través d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seño Detallado de Mód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Interfaces de Usu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ccionario de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3D3-8B8E-4B51-BB5C-33212BD0DE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dfd-1"/>
          <p:cNvPicPr/>
          <p:nvPr/>
        </p:nvPicPr>
        <p:blipFill>
          <a:blip r:embed="rId1"/>
          <a:stretch/>
        </p:blipFill>
        <p:spPr>
          <a:xfrm>
            <a:off x="3352680" y="2362320"/>
            <a:ext cx="5600880" cy="42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fd-2"/>
          <p:cNvPicPr/>
          <p:nvPr/>
        </p:nvPicPr>
        <p:blipFill>
          <a:blip r:embed="rId2"/>
          <a:stretch/>
        </p:blipFill>
        <p:spPr>
          <a:xfrm>
            <a:off x="914400" y="1197000"/>
            <a:ext cx="2362320" cy="1881000"/>
          </a:xfrm>
          <a:prstGeom prst="rect">
            <a:avLst/>
          </a:prstGeom>
          <a:ln w="0">
            <a:noFill/>
          </a:ln>
        </p:spPr>
      </p:pic>
      <p:sp>
        <p:nvSpPr>
          <p:cNvPr id="156" name="7 Conector recto"/>
          <p:cNvSpPr/>
          <p:nvPr/>
        </p:nvSpPr>
        <p:spPr>
          <a:xfrm flipH="1" flipV="1">
            <a:off x="3428640" y="4059000"/>
            <a:ext cx="1143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B1EB-6693-4D27-B312-7BAD28E118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3200" y="2307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PARTE 4: 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0960-A25D-4274-924C-F8B584AB22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6280" y="981000"/>
            <a:ext cx="4995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F6F-E351-429D-A8BC-BDA38CE6E55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77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32000" y="2133720"/>
            <a:ext cx="452592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ebe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tener las interfac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entrada/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uno de los módulos del sistema se debe tener un identificador, que luego será usado en el diccionario de datos, para especific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ID, Nombre (o descripción), Subsistema (o componente), Función, Parámetros de Entrada, Parámetros de Sa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26160" y="2492280"/>
            <a:ext cx="3417840" cy="436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32000" y="1052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sistema o sub-sistema se debe descomponer en una serie d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ódulos interrelacionad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E3E-C74B-410A-B535-2EB5667674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77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r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l sistema, identificando cada uno de sus compon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continuación se muestran ejemplos de modelos de navegación, par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268360" y="3983040"/>
            <a:ext cx="5975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7B6-AEEA-4545-B9FE-30CE23FC1F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60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3" descr="naveg"/>
          <p:cNvPicPr/>
          <p:nvPr/>
        </p:nvPicPr>
        <p:blipFill>
          <a:blip r:embed="rId1"/>
          <a:stretch/>
        </p:blipFill>
        <p:spPr>
          <a:xfrm>
            <a:off x="1476360" y="1600200"/>
            <a:ext cx="4952880" cy="24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naveg3"/>
          <p:cNvPicPr/>
          <p:nvPr/>
        </p:nvPicPr>
        <p:blipFill>
          <a:blip r:embed="rId2"/>
          <a:stretch/>
        </p:blipFill>
        <p:spPr>
          <a:xfrm>
            <a:off x="4549680" y="4278240"/>
            <a:ext cx="43434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B4F0-C6D4-41CE-ABEC-92CC27897B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668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268280" y="2044800"/>
          <a:ext cx="77677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044800"/>
                    <a:ext cx="77677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BE0C-3DF3-4323-8EF6-2ABE7D30A0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2320" y="44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 Interfaz de Usuar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195640" y="1523880"/>
          <a:ext cx="588780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23880"/>
                    <a:ext cx="58878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043000" y="5010120"/>
            <a:ext cx="63453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la Interfaz de Usuario hay que defin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1 Patrón de interfaz a usar (si hay algu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2 Diseño de cada Inter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809-0123-4015-BCD0-888B367B818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1 Patrón de Interfaz a Usar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828800" y="1122480"/>
          <a:ext cx="655956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22480"/>
                    <a:ext cx="65595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510-8D4E-459F-9EDD-F1E64F88A6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17280"/>
            <a:ext cx="777240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3.2 Diseño de Cada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24000" y="1623960"/>
          <a:ext cx="58881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3960"/>
                    <a:ext cx="58881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4"/>
          <p:cNvSpPr/>
          <p:nvPr/>
        </p:nvSpPr>
        <p:spPr>
          <a:xfrm>
            <a:off x="1763640" y="5154480"/>
            <a:ext cx="717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iseña cada interfaz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que guarde relación con el modelo de navegación (3.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objetivo e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ducir la sor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3C1-2FE1-46E9-AF56-AF0B8C852C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2720" y="4392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pant_2"/>
          <p:cNvPicPr/>
          <p:nvPr/>
        </p:nvPicPr>
        <p:blipFill>
          <a:blip r:embed="rId1"/>
          <a:stretch/>
        </p:blipFill>
        <p:spPr>
          <a:xfrm>
            <a:off x="1611360" y="2079720"/>
            <a:ext cx="72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589-AE2F-4157-8DE7-B9B92D3061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55800" y="43920"/>
            <a:ext cx="8153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3" descr="pant_1"/>
          <p:cNvPicPr/>
          <p:nvPr/>
        </p:nvPicPr>
        <p:blipFill>
          <a:blip r:embed="rId1"/>
          <a:stretch/>
        </p:blipFill>
        <p:spPr>
          <a:xfrm>
            <a:off x="2241720" y="1341360"/>
            <a:ext cx="5715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6AD-7D36-44EF-8766-71F82206D5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428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3600" y="1492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1 Propósit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2 Ámbito (Definición del Problema)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3 Definiciones, Siglas y Abreviatur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4 Referenci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5 Visión General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6 Servicios a Brindar por 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4A1-5095-40CE-94B4-CB8B1205A5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pant_4"/>
          <p:cNvPicPr/>
          <p:nvPr/>
        </p:nvPicPr>
        <p:blipFill>
          <a:blip r:embed="rId1"/>
          <a:stretch/>
        </p:blipFill>
        <p:spPr>
          <a:xfrm>
            <a:off x="1384200" y="2271600"/>
            <a:ext cx="75805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3E9A-15A1-4329-A3A7-4B1505E1BD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7440" y="43920"/>
            <a:ext cx="75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pant_5"/>
          <p:cNvPicPr/>
          <p:nvPr/>
        </p:nvPicPr>
        <p:blipFill>
          <a:blip r:embed="rId1"/>
          <a:stretch/>
        </p:blipFill>
        <p:spPr>
          <a:xfrm>
            <a:off x="1620720" y="2492280"/>
            <a:ext cx="71992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382-5AF2-4787-B3CE-AD21377AFB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4 Diccionari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1052640"/>
            <a:ext cx="8001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ccionario de da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mplementa el diseño mostrado en todos los puntos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diccionario de datos tiene 2 componentes: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specificación de Módulos </a:t>
            </a:r>
            <a:r>
              <a:rPr b="0" i="1" lang="es-ES" sz="1800" spc="-1" strike="noStrike">
                <a:solidFill>
                  <a:srgbClr val="ffff00"/>
                </a:solidFill>
                <a:latin typeface="Tahoma"/>
              </a:rPr>
              <a:t>(artefactos de diseño)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Módulo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ág.Web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módulo especificado en el punto 3.1, se indica su función, los parámetros que recibe, y los parámetros que reto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Dato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tabla se especifican los campos y su form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169236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2295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28B-8934-41AC-B09E-E7DE8DF102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j. de Especificac.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5960" y="1213920"/>
            <a:ext cx="7129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reso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dministración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el ingreso/actualización de sus datos personales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UT (Char(13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 H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licitud de Cert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ertif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solicitar un certificado´tipo A, B, y/o C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úmero de matrícula (Char(9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úmero de solicitud (Entero Serial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6762-A9A2-4F6C-ACC7-8BDA1CE0A0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Especificación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2052720" y="2108160"/>
          <a:ext cx="63356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4"/>
          <p:cNvSpPr/>
          <p:nvPr/>
        </p:nvSpPr>
        <p:spPr>
          <a:xfrm>
            <a:off x="1332000" y="11253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cada tabla se especifican los campos, su formato y su valid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7C5-167B-49F5-A3D0-ECF7353969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. Matriz de Trazad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00120" y="1052640"/>
            <a:ext cx="74916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es un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de contr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principal es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ver que el diseño refleja los requisi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pecific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de sus funciones tiene que ver con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ontrol de la calidad del diseñ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es muy úti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i uno aprende a sacar p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cho de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debe ir completándose en la medida que el trabajo de diseño avanza. Esta es una actividad paralela a la del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jemplo de un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366B-C120-4790-AAB0-18A99CE974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74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00120"/>
            <a:ext cx="7429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En el Doc. de Diseño, la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matriz de trazad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debe mapear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rtefactos de Diseñ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on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Req.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ólo los req. funcionales son mape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conflictos o duda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7200" y="1285560"/>
            <a:ext cx="77868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Documento de Diseño (DD) es el producto de la fase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ormalmente, a este documento lo puede acompañar un prototipo del sistema (y es aconsejable que así se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formato del documento de diseño depende un poco del tipo de proyecto, y de las tecnologías involucr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. por lo tanto, pueden ajustarlo a sus necesidade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pero no en este curso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71760" y="114264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 pero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UIDAD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el DD no puede faltar n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que después se necesite durante la imple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Utilicen ReqAdmin para mape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los Módulos del Sistema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, con los Requisitos de Software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e va a revis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en la inspección d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D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íjense que l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ces de trazado se obtienen automáticamente en ReqAdm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D0B-F42F-46F1-8A8B-9320E6AA35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520" y="43920"/>
            <a:ext cx="8610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196640"/>
            <a:ext cx="7199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1 Arquitectur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2 Arquitectura Lógic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esto viene del Doc. de Req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Modelo de Dato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tallado de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Modelo de Navegación del Sistem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Interf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e Usuario 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todas las impor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iccionari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1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Diseñ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20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 Arquitectura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delo de Dato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(si correspond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iseño Detallado de los Principales Módulos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Interfaces de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24080" y="1500120"/>
            <a:ext cx="7819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2.  El protocolo de Revisión es igual al del Doc. de Req.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Se escogerán requisitos funcionales de software al azar, y el diseñador deberá explicar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 cómo del diseño permite su cumpl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0F7B-2D71-435A-B1E7-B39E5769E5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43000"/>
            <a:ext cx="7507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1 Propósito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el propósito d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5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2 Alcance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establece el alcance del sistema a desarrollar (¿qué está dentro y qué está fuera?)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3 Definiciones, acrónimos y abreviaciones.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stado de acrónimos, con su sign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4 Referencias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 colocan las referencias de los documentos utilizados para construir el 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5 Descripción gener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a grandes rasgos, 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D04C-43DD-404D-99EB-6A88DDDAE3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777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Arial"/>
              </a:rPr>
              <a:t>1.6 Servicios a Brindar por el Producto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e identifican los servicios que debe brindar el producto, entiénd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Cons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ABM (altas, bajas y modificaciones) de datos sobre entidades (mantened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Emisión de formularios por pantalla/impr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Otros proc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3809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9D32-2ABE-42F0-B156-E250CE5270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44280"/>
            <a:ext cx="77770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2: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Diseño Arquitectón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3840" y="1170000"/>
            <a:ext cx="765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arquitectónic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a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tener en cuenta los 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sección 3.2 del Doc. de Req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muchas técnicas y lenguajes para especificar la arquitectur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un sistema. Nosotros consideraremos que el DA está formado po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1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2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Lóg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l Soft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3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Dat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 la D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D464-BF36-4529-A67C-2C2BC15DC5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2.1 Arquitectura Fí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1330200"/>
            <a:ext cx="758016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xpresa cuáles son los componentes físicos (cliente, servidor, servidor Web, BD, etc) que participan en nuestra solución, y la relación entre ell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especificación de la Arquitectura Física normalmente consta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uno o má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e los mismos (actores y relaciones entre ell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de lo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se debe especificar el nombre y la función de cad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t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el tipo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que exist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ntre ell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si existe alguna). También se pueden incluir ejemplos para clarificar aspectos un tanto abstrac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ípicamente,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rquitectura física es una formalización del ambiente operacional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finido en Docum. de Req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488360" y="0"/>
            <a:ext cx="1692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8-27T15:57:52Z</dcterms:modified>
  <cp:revision>966</cp:revision>
  <dc:subject/>
  <dc:title>Programas de Extención </dc:title>
</cp:coreProperties>
</file>