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58B765-2F8C-4678-8CC9-B346D26A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839E2A-5F2C-4AC8-80AF-24CEA8DF7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1794B7-E9BC-4195-BA92-22B0A19F4D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085F9D-0B64-4D22-904D-2FD50A795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D3DE0B-1B7E-4FA1-AC49-D024EB86B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B341DA-49E0-4163-BFF4-EC4CCCF08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49EEDD-35AC-4D75-8DA0-93FDF9EA6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3EDD57-A81D-40E4-84D4-61F1291B2C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611A34-03E7-48BB-99EC-629A4FCC7E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C7A4CC-9DC9-460E-85FD-5ED6588CA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117003-11C9-4BDC-B0FB-C91F90140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CA72CD-AE83-49F9-8EB3-943930F052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203B9F-C016-4566-A5B0-1738A257A3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2C4FA2-AE69-4777-A655-AA9B6CFF0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4041C7-4451-4905-B5DC-CBE62D32F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269CB2-275E-4172-B3FB-B06EB68506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D5DE05-18C4-44A3-AD3F-B15AD3BCBB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F7896D-7B43-4DB8-8E4F-F28437CD1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ED0C19-6CDD-44BE-89D4-64C4B70E8D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ECD258-853D-461B-9150-4DEF07EA0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2270F9-C42B-40DB-B85E-E1CBBA0C16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C78F62-4EF1-4241-B35D-88501C079D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E989EF-1AE7-4BE4-BC00-4940C4A01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17369E-3A13-46F4-AE76-E0920E82A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9DEACB-2550-4E89-AE94-BB813490F2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900822-A317-44D6-8229-42EC5F6DE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82F6AB-7C33-4FCA-9EBC-C2CF1A1F43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66E2BB-95A0-4C66-BB39-9B6736BCA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C86CF2-15BD-4DD1-8A4D-84B34132A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FD1DB1-D1DD-4E35-9535-6BC328ADF4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594CC9-523A-4230-9637-EE4236D33A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AE81B1-CE0A-4885-8C7A-A520B395F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5DAA8E-D2F6-4BCD-A7DA-24E8D43E7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DF22AC-BEC5-49F9-94E0-E2A6BF1442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6D5EC2-4411-4C35-A5FF-CB2C4A06EC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59E4E8-E094-40F6-BFCA-0534548FA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F47C16-09F2-45E8-BC1B-9782527D11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89C8BA-F765-4B86-85BD-C2B7D1F675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CF2C44-091C-4ED3-AA95-CC19B157B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53EE6C-BA07-47F6-90CB-23131BB67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237D04-E0FD-4B43-89C8-14EDC6F77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F996B3-ABA6-4BCC-94CE-2BF08B9A1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881EE7-D0E1-4FB2-86FD-8F890E3C52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4C09EE-EE4F-4652-9597-463339789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EB798E-56C1-4D95-B56F-CB5A5F1DE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94A44E-C81A-409B-BD9E-E2B2B46DD0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474B02-3269-4CD3-8B1C-FC84DC98B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CA4FBC-0F96-44BA-AAD6-B4BE328DF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AD7821-7D08-47FB-811C-2FB3C1DC8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C43-C4FD-45F2-A50E-DD1D0683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469-B0F6-4888-B3D7-BA6C191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DE2-F64D-47EA-8FB7-8BEB2B60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A97-E4DB-4117-A40B-3C40A103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C04-D709-4F19-9CA2-4435E7BF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E13-D9E9-44D4-9BE2-E1F6EFE6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BF8-C031-44E1-9848-84BBF30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D7F-AD14-4784-B325-F71CC4F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241-127F-475F-88C9-D4FFD4E4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25C-7B88-4A0B-A054-774CF617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ABF-AE46-4AC1-A746-E794653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747-81F2-462C-A115-C7931ED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F246-44D3-43F1-87C9-0F3E44D49E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032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1480" y="392868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Diseño: Arquitectónico y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1120" y="5692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430-4E40-4B76-8AD7-D4EBA0DE65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486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8120" y="1143000"/>
            <a:ext cx="84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de una Arquitectura Física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ules_arc"/>
          <p:cNvPicPr/>
          <p:nvPr/>
        </p:nvPicPr>
        <p:blipFill>
          <a:blip r:embed="rId1"/>
          <a:stretch/>
        </p:blipFill>
        <p:spPr>
          <a:xfrm>
            <a:off x="1801800" y="1782720"/>
            <a:ext cx="601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0D2-12DF-4CAF-BDAA-B8F1E02579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159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mdb_arquitectura"/>
          <p:cNvPicPr/>
          <p:nvPr/>
        </p:nvPicPr>
        <p:blipFill>
          <a:blip r:embed="rId1"/>
          <a:stretch/>
        </p:blipFill>
        <p:spPr>
          <a:xfrm>
            <a:off x="1763640" y="1628640"/>
            <a:ext cx="65534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830680" y="58197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3D7-ADAD-4F74-805E-49CB1F4559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9080" y="54000"/>
            <a:ext cx="792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2000" y="1197000"/>
            <a:ext cx="770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tendencia hacia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rquitecturas físicas de tres cap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unca ha sido tan fuerte como ahora. Todo gracias al espectacular crecimiento de las aplicacione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arquitectura de tres capas permite que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interfaces de usuarios, la lógica empresaria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os dato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dan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por separado.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posiblemente operen en máquinas diferentes con conexión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factor destacable de esta arquitectura es la posibilidad de que un browser pueda acceder a l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ógica empresarial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 la información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mientras que ésta permanece 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salvo tras un firewal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9051-C5C8-473A-8919-BF3649BC0B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5791320"/>
            <a:ext cx="65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340000" y="1905120"/>
            <a:ext cx="5638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6C12-09A4-4C5E-914E-5C394430B6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137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303200"/>
            <a:ext cx="770400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a arquitectura es una especialización de la Arquitectura Cliente/Serv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1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programa que utiliza el usuario para acceder a la funcionalidad del sistema. Este programa, que generalmente es un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navegad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forma parte del 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2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ervidor Web, servidor de aplicación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y posiblemente algunos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accesorios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como por ejemplo: adm. de transacciones, adm. de servicios internos, adm. de seguridad, etc. Esta capa forma parte del servidor, aunque sus componentes pueden ejecutar en diferente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3: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á compuesto por el modelo de datos del sistema, y por el administrador de estos datos (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ABD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). Esta capa forma parte del servidor, aunque puede correr en cualquier máqu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3E2-D292-4F25-B77D-CE424DDC33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9218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86000" y="1052640"/>
            <a:ext cx="75070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a arquitectura necesita de "pegamento Web", que es un software que une el mundo HTML, con entornos capaces de soportar aplicaciones empresariales (adm. de transacciones, seguridad, datawarehouse, etc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Una vez que las compañías se han instalado en el mundo de las aplicaciones Web de tres capas,</a:t>
            </a:r>
            <a:r>
              <a:rPr b="0" i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00"/>
                </a:solidFill>
                <a:latin typeface="Tahoma"/>
              </a:rPr>
              <a:t>obtienen importantes ventaj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calabilidad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utilización del cód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ción de transacciones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flexibilidad, adaptabilidad y capacidad de expa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manteni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FA9-1221-4DF2-BD14-09DEFD134CC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151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673360" y="188928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411280" y="5851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7FDC-330C-4CC1-99A0-1C626BCD76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935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en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93800" y="907920"/>
            <a:ext cx="4913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AB5-231D-4AC8-B15F-433FBE3B9B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2 Arquitectura Lóg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7788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Arquitectura Lógica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xpresa cuáles son los componentes lógicos (subsistemas, o macro-funciones) que participan en nuestra solución, y la relación entre ell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especificación de esta arquitectura, e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similar a la arq.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Se especifican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actores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relaciones entre ellos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sólo que los actores ahora son: subsistemas de mi solución, macro-funciones de la misma o entidades externa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n lo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diagramas que expresan tanto la arq. lógica como la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, se puede utilizar casi cualquier simbología que clarifique el escenario (DFD, Diagr. de clases, bloques, casos de uso, dibujo informal, etc)... a menos que existan restricciones al respec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 continuación se muestran algunos ejemplos de Arquitecturas Lógicas de Sistem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313-4A58-4786-A8FC-B365E149E9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12560" y="44280"/>
            <a:ext cx="772308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DFD-1"/>
          <p:cNvPicPr/>
          <p:nvPr/>
        </p:nvPicPr>
        <p:blipFill>
          <a:blip r:embed="rId1"/>
          <a:stretch/>
        </p:blipFill>
        <p:spPr>
          <a:xfrm>
            <a:off x="1273320" y="1565280"/>
            <a:ext cx="76197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"/>
          <p:cNvSpPr/>
          <p:nvPr/>
        </p:nvSpPr>
        <p:spPr>
          <a:xfrm>
            <a:off x="1785960" y="0"/>
            <a:ext cx="5859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A67-07CF-478E-AEEB-3116C785E1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240" y="115920"/>
            <a:ext cx="757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DFD-2"/>
          <p:cNvPicPr/>
          <p:nvPr/>
        </p:nvPicPr>
        <p:blipFill>
          <a:blip r:embed="rId1"/>
          <a:stretch/>
        </p:blipFill>
        <p:spPr>
          <a:xfrm>
            <a:off x="2427120" y="1268280"/>
            <a:ext cx="5313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B3E-C163-4AC0-A0BB-EAAC12A1B2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ejemplo2"/>
          <p:cNvPicPr/>
          <p:nvPr/>
        </p:nvPicPr>
        <p:blipFill>
          <a:blip r:embed="rId1"/>
          <a:stretch/>
        </p:blipFill>
        <p:spPr>
          <a:xfrm>
            <a:off x="1339920" y="1341360"/>
            <a:ext cx="769608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16160" y="4437000"/>
          <a:ext cx="6172200" cy="21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4437000"/>
                    <a:ext cx="61722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5EC-FB7F-47AD-80CB-49A7110619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948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figure4_lg"/>
          <p:cNvPicPr/>
          <p:nvPr/>
        </p:nvPicPr>
        <p:blipFill>
          <a:blip r:embed="rId1"/>
          <a:stretch/>
        </p:blipFill>
        <p:spPr>
          <a:xfrm>
            <a:off x="2087640" y="1916280"/>
            <a:ext cx="5940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C7F7-2DBE-4BAF-9456-BE16624A1E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668680" y="1413000"/>
            <a:ext cx="4856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595-C105-4F45-B79C-750751FF10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71440" y="1079640"/>
            <a:ext cx="76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3906-D496-4B4D-801A-D7E49AC8FB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75080" y="3708360"/>
          <a:ext cx="48765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3708360"/>
                    <a:ext cx="48765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52600" y="1125360"/>
            <a:ext cx="76564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modelo de datos consiste en identificar gráficamente las entidades (o tablas) que participan en mi sistema, ya sean nuevas o existe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Identificar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 primari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y las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s foráne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 cada 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A43-96A9-4434-B469-9F96543EF3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9232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od_datos"/>
          <p:cNvPicPr/>
          <p:nvPr/>
        </p:nvPicPr>
        <p:blipFill>
          <a:blip r:embed="rId1"/>
          <a:stretch/>
        </p:blipFill>
        <p:spPr>
          <a:xfrm>
            <a:off x="2819520" y="1335240"/>
            <a:ext cx="4548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48D-E788-4F18-A63C-5D3286F636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6680" y="523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7640" y="1593720"/>
            <a:ext cx="4537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ED8-6C6A-4175-A15F-F7204112E1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 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213920"/>
            <a:ext cx="788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detallad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i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tiene que tener en cuenta los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última versión) y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arquitectónic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a efectos del proyecto especificaremos el Diseño Detallado a través d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seño Detallado de Mód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Interfaces de Usu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ccionario de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4425-A1F5-49DF-910C-1BAE265FEE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dfd-1"/>
          <p:cNvPicPr/>
          <p:nvPr/>
        </p:nvPicPr>
        <p:blipFill>
          <a:blip r:embed="rId1"/>
          <a:stretch/>
        </p:blipFill>
        <p:spPr>
          <a:xfrm>
            <a:off x="3352680" y="2362320"/>
            <a:ext cx="5600880" cy="42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fd-2"/>
          <p:cNvPicPr/>
          <p:nvPr/>
        </p:nvPicPr>
        <p:blipFill>
          <a:blip r:embed="rId2"/>
          <a:stretch/>
        </p:blipFill>
        <p:spPr>
          <a:xfrm>
            <a:off x="914400" y="1197000"/>
            <a:ext cx="2362320" cy="1881000"/>
          </a:xfrm>
          <a:prstGeom prst="rect">
            <a:avLst/>
          </a:prstGeom>
          <a:ln w="0">
            <a:noFill/>
          </a:ln>
        </p:spPr>
      </p:pic>
      <p:sp>
        <p:nvSpPr>
          <p:cNvPr id="156" name="7 Conector recto"/>
          <p:cNvSpPr/>
          <p:nvPr/>
        </p:nvSpPr>
        <p:spPr>
          <a:xfrm flipH="1" flipV="1">
            <a:off x="3428640" y="4059000"/>
            <a:ext cx="1143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1F6-A43F-4AA4-A808-8ADAC360A9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3200" y="2307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PARTE 4: 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486-4B23-44A1-ADA2-707F4D79B2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6280" y="981000"/>
            <a:ext cx="4995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6A8C-78B1-43FB-9CF1-D4EC1E376C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77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32000" y="2133720"/>
            <a:ext cx="452592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ebe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tener las interfac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entrada/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uno de los módulos del sistema se debe tener un identificador, que luego será usado en el diccionario de datos, para especific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ID, Nombre (o descripción), Subsistema (o componente), Función, Parámetros de Entrada, Parámetros de Sa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26160" y="2492280"/>
            <a:ext cx="3417840" cy="436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32000" y="1052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sistema o sub-sistema se debe descomponer en una serie d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ódulos interrelacionad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FA6-4F68-4155-8F16-9DD46C4454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77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r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l sistema, identificando cada uno de sus compon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continuación se muestran ejemplos de modelos de navegación, par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268360" y="3983040"/>
            <a:ext cx="5975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371-0E4E-471E-A0DD-70793604C4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60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3" descr="naveg"/>
          <p:cNvPicPr/>
          <p:nvPr/>
        </p:nvPicPr>
        <p:blipFill>
          <a:blip r:embed="rId1"/>
          <a:stretch/>
        </p:blipFill>
        <p:spPr>
          <a:xfrm>
            <a:off x="1476360" y="1600200"/>
            <a:ext cx="4952880" cy="24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naveg3"/>
          <p:cNvPicPr/>
          <p:nvPr/>
        </p:nvPicPr>
        <p:blipFill>
          <a:blip r:embed="rId2"/>
          <a:stretch/>
        </p:blipFill>
        <p:spPr>
          <a:xfrm>
            <a:off x="4549680" y="4278240"/>
            <a:ext cx="43434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B23D-287A-4AFF-9EED-21CCA4F49D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668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268280" y="2044800"/>
          <a:ext cx="77677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044800"/>
                    <a:ext cx="77677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4D93-F79D-4C68-8BA8-CFE42039E4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2320" y="44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 Interfaz de Usuar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195640" y="1523880"/>
          <a:ext cx="588780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23880"/>
                    <a:ext cx="58878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043000" y="5010120"/>
            <a:ext cx="63453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la Interfaz de Usuario hay que defin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1 Patrón de interfaz a usar (si hay algu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2 Diseño de cada Inter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0D2-5B6A-46D1-BB66-59D4C92879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1 Patrón de Interfaz a Usar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828800" y="1122480"/>
          <a:ext cx="655956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22480"/>
                    <a:ext cx="65595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1454-648D-4982-9C70-28014D84F84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17280"/>
            <a:ext cx="777240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3.2 Diseño de Cada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24000" y="1623960"/>
          <a:ext cx="58881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3960"/>
                    <a:ext cx="58881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4"/>
          <p:cNvSpPr/>
          <p:nvPr/>
        </p:nvSpPr>
        <p:spPr>
          <a:xfrm>
            <a:off x="1763640" y="5154480"/>
            <a:ext cx="717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iseña cada interfaz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que guarde relación con el modelo de navegación (3.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objetivo e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ducir la sor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ABA6-5439-4F3D-BB2E-78BC0DE521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2720" y="4392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pant_2"/>
          <p:cNvPicPr/>
          <p:nvPr/>
        </p:nvPicPr>
        <p:blipFill>
          <a:blip r:embed="rId1"/>
          <a:stretch/>
        </p:blipFill>
        <p:spPr>
          <a:xfrm>
            <a:off x="1611360" y="2079720"/>
            <a:ext cx="72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D2B4-B140-415B-B01C-7206E6C80F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55800" y="43920"/>
            <a:ext cx="8153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3" descr="pant_1"/>
          <p:cNvPicPr/>
          <p:nvPr/>
        </p:nvPicPr>
        <p:blipFill>
          <a:blip r:embed="rId1"/>
          <a:stretch/>
        </p:blipFill>
        <p:spPr>
          <a:xfrm>
            <a:off x="2241720" y="1341360"/>
            <a:ext cx="5715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DCE-DC94-4A56-B862-BF97004F71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428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3600" y="1492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1 Propósit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2 Ámbito (Definición del Problema)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3 Definiciones, Siglas y Abreviatur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4 Referenci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5 Visión General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6 Servicios a Brindar por 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3D8-A484-4C2C-AB1F-62EC5A06BFC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pant_4"/>
          <p:cNvPicPr/>
          <p:nvPr/>
        </p:nvPicPr>
        <p:blipFill>
          <a:blip r:embed="rId1"/>
          <a:stretch/>
        </p:blipFill>
        <p:spPr>
          <a:xfrm>
            <a:off x="1384200" y="2271600"/>
            <a:ext cx="75805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2516-A69A-491F-9C9C-1C75FBE240C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7440" y="43920"/>
            <a:ext cx="75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pant_5"/>
          <p:cNvPicPr/>
          <p:nvPr/>
        </p:nvPicPr>
        <p:blipFill>
          <a:blip r:embed="rId1"/>
          <a:stretch/>
        </p:blipFill>
        <p:spPr>
          <a:xfrm>
            <a:off x="1620720" y="2492280"/>
            <a:ext cx="71992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BEF-BA9F-45AB-BE64-7E05E1772F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4 Diccionari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1052640"/>
            <a:ext cx="8001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ccionario de da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mplementa el diseño mostrado en todos los puntos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diccionario de datos tiene 2 componentes: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specificación de Módulos </a:t>
            </a:r>
            <a:r>
              <a:rPr b="0" i="1" lang="es-ES" sz="1800" spc="-1" strike="noStrike">
                <a:solidFill>
                  <a:srgbClr val="ffff00"/>
                </a:solidFill>
                <a:latin typeface="Tahoma"/>
              </a:rPr>
              <a:t>(artefactos de diseño)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Módulo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ág.Web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módulo especificado en el punto 3.1, se indica su función, los parámetros que recibe, y los parámetros que reto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Dato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tabla se especifican los campos y su form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169236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2295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F49A-2DD5-4BBB-941C-CB1BB591F7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j. de Especificac.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5960" y="1213920"/>
            <a:ext cx="7129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reso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dministración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el ingreso/actualización de sus datos personales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UT (Char(13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 H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licitud de Cert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ertif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solicitar un certificado´tipo A, B, y/o C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úmero de matrícula (Char(9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úmero de solicitud (Entero Serial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92CB-EE63-4F8B-A87C-6ABEB95AAD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Especificación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2052720" y="2108160"/>
          <a:ext cx="63356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4"/>
          <p:cNvSpPr/>
          <p:nvPr/>
        </p:nvSpPr>
        <p:spPr>
          <a:xfrm>
            <a:off x="1332000" y="11253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cada tabla se especifican los campos, su formato y su valid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771-600F-47AB-B742-B1E5CDE55C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. Matriz de Trazad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00120" y="1052640"/>
            <a:ext cx="74916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es un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de contr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principal es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ver que el diseño refleja los requisi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pecific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de sus funciones tiene que ver con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ontrol de la calidad del diseñ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es muy úti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i uno aprende a sacar p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cho de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debe ir completándose en la medida que el trabajo de diseño avanza. Esta es una actividad paralela a la del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jemplo de un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4BD-BF09-45D3-8F86-BD3016CBC4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74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00120"/>
            <a:ext cx="7429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En el Doc. de Diseño, la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matriz de trazad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debe mapear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rtefactos de Diseñ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on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Req.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ólo los req. funcionales son mape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conflictos o duda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7200" y="1285560"/>
            <a:ext cx="77868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Documento de Diseño (DD) es el producto de la fase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ormalmente, a este documento lo puede acompañar un prototipo del sistema (y es aconsejable que así se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formato del documento de diseño depende un poco del tipo de proyecto, y de las tecnologías involucr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. por lo tanto, pueden ajustarlo a sus necesidade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pero no en este curso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71760" y="114264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 pero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UIDAD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el DD no puede faltar n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que después se necesite durante la imple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Utilicen ReqAdmin para mape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los Módulos del Sistema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, con los Requisitos de Software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e va a revis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en la inspección d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D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íjense que l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ces de trazado se obtienen automáticamente en ReqAdm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D96-0206-4C0D-8EE8-DACC876F80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520" y="43920"/>
            <a:ext cx="8610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196640"/>
            <a:ext cx="7199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1 Arquitectur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2 Arquitectura Lógic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esto viene del Doc. de Req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Modelo de Dato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tallado de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Modelo de Navegación del Sistem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Interf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e Usuario 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todas las impor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iccionari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1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Diseñ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20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 Arquitectura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delo de Dato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(si correspond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iseño Detallado de los Principales Módulos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Interfaces de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24080" y="1500120"/>
            <a:ext cx="7819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2.  El protocolo de Revisión es igual al del Doc. de Req.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Se escogerán requisitos funcionales de software al azar, y el diseñador deberá explicar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 cómo del diseño permite su cumpl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5EB-BD38-4946-B4C8-871B7CD9A4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43000"/>
            <a:ext cx="7507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1 Propósito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el propósito d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5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2 Alcance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establece el alcance del sistema a desarrollar (¿qué está dentro y qué está fuera?)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3 Definiciones, acrónimos y abreviaciones.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stado de acrónimos, con su sign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4 Referencias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 colocan las referencias de los documentos utilizados para construir el 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5 Descripción gener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a grandes rasgos, 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0C2E-30D7-4DE5-A334-D267B79058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777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Arial"/>
              </a:rPr>
              <a:t>1.6 Servicios a Brindar por el Producto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e identifican los servicios que debe brindar el producto, entiénd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Cons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ABM (altas, bajas y modificaciones) de datos sobre entidades (mantened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Emisión de formularios por pantalla/impr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Otros proc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3809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0A5D-1304-4F44-AEB7-0BCEFC4FD2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44280"/>
            <a:ext cx="77770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2: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Diseño Arquitectón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3840" y="1170000"/>
            <a:ext cx="765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arquitectónic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a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tener en cuenta los 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sección 3.2 del Doc. de Req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muchas técnicas y lenguajes para especificar la arquitectur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un sistema. Nosotros consideraremos que el DA está formado po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1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2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Lóg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l Soft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3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Dat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 la D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9D09-7934-42B7-8C4D-5AD458E739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2.1 Arquitectura Fí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1330200"/>
            <a:ext cx="758016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xpresa cuáles son los componentes físicos (cliente, servidor, servidor Web, BD, etc) que participan en nuestra solución, y la relación entre ell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especificación de la Arquitectura Física normalmente consta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uno o má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e los mismos (actores y relaciones entre ell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de lo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se debe especificar el nombre y la función de cad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t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el tipo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que exist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ntre ell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si existe alguna). También se pueden incluir ejemplos para clarificar aspectos un tanto abstrac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ípicamente,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rquitectura física es una formalización del ambiente operacional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finido en Docum. de Req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488360" y="0"/>
            <a:ext cx="1692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8-27T15:57:52Z</dcterms:modified>
  <cp:revision>966</cp:revision>
  <dc:subject/>
  <dc:title>Programas de Extención </dc:title>
</cp:coreProperties>
</file>