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.wmf" ContentType="image/x-wmf"/>
  <Override PartName="/ppt/media/image28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5.jpeg" ContentType="image/jpeg"/>
  <Override PartName="/ppt/media/image35.png" ContentType="image/png"/>
  <Override PartName="/ppt/media/image10.png" ContentType="image/png"/>
  <Override PartName="/ppt/media/image1.jpeg" ContentType="image/jpeg"/>
  <Override PartName="/ppt/media/image9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30.jpeg" ContentType="image/jpeg"/>
  <Override PartName="/ppt/media/image15.png" ContentType="image/png"/>
  <Override PartName="/ppt/media/image31.jpeg" ContentType="image/jpeg"/>
  <Override PartName="/ppt/media/image11.png" ContentType="image/png"/>
  <Override PartName="/ppt/media/image36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21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216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BF31306-356A-4206-88D8-7ECDE63A9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91BBF44-6F87-41CC-BFFC-3BF89816E39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1C99493-D8A3-49EC-B1E4-10CC29D49F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9621220-E431-48D7-B188-A4BA68D417D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383DF11-5D38-466C-BF4F-71A6623DE4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DFEF5D3-86D4-4330-92B7-D1DD13DFE5E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C1EF86D-9434-41DC-94C7-6A8A56CA87D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2D064A1-B8CE-4DBE-9F06-8109EBCA3DA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322F7B4-48E4-4227-B399-9AB714F1BE7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1551B43-6E6B-4FC6-801A-A40B1CEEB4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C330E5E-F3D2-4EF2-B88C-F80766AEEF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BA4DCF2-63FB-45A9-A1C2-0ED1714591F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3E3F7AE-570D-4E68-BB1D-3E461F6506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593E5C3-88D4-4DCA-A1C4-8F119041B75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2EADD66-D189-44D4-94C8-87CB5D79FEE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567888D-CBFC-45BD-9E56-396231798C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FC68AEB-618C-43E0-BB0A-8D34548867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EDABC99-88B7-42E0-B16A-1CE9B4CECE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67A72F8-8FB2-411A-89B6-8DE7DB62C20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2AFF9DF-0954-466E-818B-5EBFACB0B8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C642585-481A-4CA1-B922-06B0B83641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72975AF-0382-4163-8583-BE4D4FC32CF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F1469E4-41CC-4D54-BA82-8889DCE8773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2F7FDFB-F0B5-4F9C-8931-843E60A8F6B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2F9C094-CEB4-40CF-87FB-39C5FDD37D0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168079B-A690-4CFD-A066-19BE8F7ADBA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EF3B57A-BAD3-4DC9-B3C2-237B8D8892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0247196-3DDB-418E-8BDE-2982BE77F6A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01F3A01-5E57-433C-AD65-1C6E375486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C28D7AA-EBCA-4C3A-8EF1-2C03714C87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CC803EB-64E9-4231-A226-9C14CA74AB3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7D6854E-F050-4799-AEF7-12911F16B1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E526F54-A881-46BE-BC1F-747818C828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3D0A160C-D558-4CF8-8BD8-690900D20A8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A4F6B3D-0F56-4517-897C-E63CAE264A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9A00D67-8F1C-4FF8-BF3A-21B7808441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5B83ABA-AD8D-421E-80F4-1580A76CB63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3F26631-3C6B-4F60-A2BF-BBE6C6B51CC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D86CCF2-6C27-47AB-89FD-DC5A291798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E43A469-BC38-4B15-9AAA-70385950F0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EA58D74-B46B-4B4E-B0DD-32C0780EC8C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8413B5A-64DE-42E9-94E7-801A163858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80AEE16-650A-4F83-BF44-60C568D47F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58E9291-B337-4D3C-8ADC-C44A03F6CE7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5A52FB6-1669-47BD-B422-CE9B0BE9E94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A4BD32C-1121-439A-842C-36A4D86DE20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4D2FAEB-F1C9-485A-A74E-0697B48DB88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9904888-4393-4C10-8D44-6362EA56FDC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96252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9DB56CA-F9D0-4B2E-BFE5-38F77B11B3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98400" y="4409640"/>
            <a:ext cx="5600880" cy="417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5A89-0A29-4935-8E75-7AD94AA2B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A622-28A3-4C79-A701-D21C158A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CEB3-1F26-434B-8E44-2B0564A29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34E8-B347-4A8C-8235-44CA47A58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AA0E-734F-4C14-825E-04D507F3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1C68-9870-4D2F-850B-DD456CA0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57C2-9B62-43A5-8E2B-841FD3A7A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841E-4B42-45EA-B2A3-954394DA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325A-FD7A-4BCC-BE79-D0C704C95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2134-94A4-407C-B85C-613058F6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FAD2-5571-43BF-A324-95177387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17E0-7166-4150-8D44-9196A1A4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6D4E-8FD3-4C38-B2B2-AF18F9B49E9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00320" y="18572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CC51A – Ingeniería de Softwa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71480" y="3928680"/>
            <a:ext cx="7035840" cy="91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Documento de Diseño: Arquitectónico y Detall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681120" y="569268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Sergio Ochoa 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DCB4-37B3-4D46-A19C-1B159C75D0C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547280" y="43920"/>
            <a:ext cx="74869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2.1 Arquitectura Física (cont.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708120" y="1143000"/>
            <a:ext cx="84358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jemplo de una Arquitectura Física </a:t>
            </a: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(o Ambiente Operacion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4" descr="rules_arc"/>
          <p:cNvPicPr/>
          <p:nvPr/>
        </p:nvPicPr>
        <p:blipFill>
          <a:blip r:embed="rId1"/>
          <a:stretch/>
        </p:blipFill>
        <p:spPr>
          <a:xfrm>
            <a:off x="1801800" y="1782720"/>
            <a:ext cx="601020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85CD-8102-4A44-860F-4A303F26115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36680" y="115920"/>
            <a:ext cx="777240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2.1 Arquitectura Física (cont.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5" name="Picture 3" descr="mdb_arquitectura"/>
          <p:cNvPicPr/>
          <p:nvPr/>
        </p:nvPicPr>
        <p:blipFill>
          <a:blip r:embed="rId1"/>
          <a:stretch/>
        </p:blipFill>
        <p:spPr>
          <a:xfrm>
            <a:off x="1763640" y="1628640"/>
            <a:ext cx="6553440" cy="381636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2830680" y="581976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rquitectura Inform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EEAB4-4B4F-445B-B59E-744CE02F188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9080" y="54000"/>
            <a:ext cx="7920000" cy="85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2.1 Arquitectura Física de 3 capa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332000" y="1197000"/>
            <a:ext cx="770400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spcBef>
                <a:spcPts val="300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La tendencia hacia las </a:t>
            </a:r>
            <a:r>
              <a:rPr b="0" lang="es-AR" sz="2400" spc="-1" strike="noStrike">
                <a:solidFill>
                  <a:srgbClr val="ffff00"/>
                </a:solidFill>
                <a:latin typeface="Arial"/>
              </a:rPr>
              <a:t>arquitecturas físicas de tres capas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nunca ha sido tan fuerte como ahora. Todo gracias al espectacular crecimiento de las aplicaciones Web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spcBef>
                <a:spcPts val="176"/>
              </a:spcBef>
              <a:spcAft>
                <a:spcPts val="26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spcBef>
                <a:spcPts val="300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La arquitectura de tres capas permite que las </a:t>
            </a:r>
            <a:r>
              <a:rPr b="0" lang="es-AR" sz="2400" spc="-1" strike="noStrike">
                <a:solidFill>
                  <a:srgbClr val="ffff00"/>
                </a:solidFill>
                <a:latin typeface="Arial"/>
              </a:rPr>
              <a:t>interfaces de usuarios, la lógica empresarial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y </a:t>
            </a:r>
            <a:r>
              <a:rPr b="0" lang="es-AR" sz="2400" spc="-1" strike="noStrike">
                <a:solidFill>
                  <a:srgbClr val="ffff00"/>
                </a:solidFill>
                <a:latin typeface="Arial"/>
              </a:rPr>
              <a:t>los datos 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residan </a:t>
            </a:r>
            <a:r>
              <a:rPr b="0" lang="es-AR" sz="2400" spc="-1" strike="noStrike">
                <a:solidFill>
                  <a:srgbClr val="ffff00"/>
                </a:solidFill>
                <a:latin typeface="Arial"/>
              </a:rPr>
              <a:t>por separado.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Y posiblemente operen en máquinas diferentes con conexión en r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spcBef>
                <a:spcPts val="176"/>
              </a:spcBef>
              <a:spcAft>
                <a:spcPts val="26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spcBef>
                <a:spcPts val="300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Un factor destacable de esta arquitectura es la posibilidad de que un browser pueda acceder a la </a:t>
            </a:r>
            <a:r>
              <a:rPr b="0" lang="es-AR" sz="2400" spc="-1" strike="noStrike">
                <a:solidFill>
                  <a:srgbClr val="ffff00"/>
                </a:solidFill>
                <a:latin typeface="Arial"/>
              </a:rPr>
              <a:t>lógica empresarial 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y </a:t>
            </a:r>
            <a:r>
              <a:rPr b="0" lang="es-AR" sz="2400" spc="-1" strike="noStrike">
                <a:solidFill>
                  <a:srgbClr val="ffff00"/>
                </a:solidFill>
                <a:latin typeface="Arial"/>
              </a:rPr>
              <a:t>a la información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, mientras que ésta permanece a </a:t>
            </a:r>
            <a:r>
              <a:rPr b="0" lang="es-AR" sz="2400" spc="-1" strike="noStrike">
                <a:solidFill>
                  <a:srgbClr val="ffff00"/>
                </a:solidFill>
                <a:latin typeface="Arial"/>
              </a:rPr>
              <a:t>salvo tras un firewall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C23FB-E2E5-45AB-9E66-48D644B280D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2360" y="0"/>
            <a:ext cx="802800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2.1 Arquitectura Física de 3 Capa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547640" y="5791320"/>
            <a:ext cx="658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rquitectura Física de Tres Cap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2340000" y="1905120"/>
            <a:ext cx="56386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D5A62-7D8E-40BE-9D99-168465E53E9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16000" y="43920"/>
            <a:ext cx="813744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2.1 Arquitectura Física de 3 Capa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332000" y="1303200"/>
            <a:ext cx="7704000" cy="61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249"/>
              </a:spcBef>
              <a:spcAft>
                <a:spcPts val="374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Esta arquitectura es una especialización de la Arquitectura Cliente/Servid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76"/>
              </a:spcBef>
              <a:spcAft>
                <a:spcPts val="264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249"/>
              </a:spcBef>
              <a:spcAft>
                <a:spcPts val="374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Tahoma"/>
              </a:rPr>
              <a:t>CAPA 1: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 Está compuesto por el programa que utiliza el usuario para acceder a la funcionalidad del sistema. Este programa, que generalmente es un 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</a:rPr>
              <a:t>navegador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, forma parte del clie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76"/>
              </a:spcBef>
              <a:spcAft>
                <a:spcPts val="264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249"/>
              </a:spcBef>
              <a:spcAft>
                <a:spcPts val="374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Tahoma"/>
              </a:rPr>
              <a:t>CAPA 2: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 Está compuesto por el 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</a:rPr>
              <a:t>servidor Web, servidor de aplicación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 y posiblemente algunos 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</a:rPr>
              <a:t>accesorios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, como por ejemplo: adm. de transacciones, adm. de servicios internos, adm. de seguridad, etc. Esta capa forma parte del servidor, aunque sus componentes pueden ejecutar en diferentes máquin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76"/>
              </a:spcBef>
              <a:spcAft>
                <a:spcPts val="264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249"/>
              </a:spcBef>
              <a:spcAft>
                <a:spcPts val="374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ffff00"/>
                </a:solidFill>
                <a:latin typeface="Tahoma"/>
              </a:rPr>
              <a:t>CAPA 3: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Está compuesto por el modelo de datos del sistema, y por el administrador de estos datos (</a:t>
            </a:r>
            <a:r>
              <a:rPr b="0" lang="es-AR" sz="2000" spc="-1" strike="noStrike">
                <a:solidFill>
                  <a:srgbClr val="ffff00"/>
                </a:solidFill>
                <a:latin typeface="Tahoma"/>
              </a:rPr>
              <a:t>SABD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). Esta capa forma parte del servidor, aunque puede correr en cualquier máqui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2162-13CC-4DA3-8C2F-36727BBD63E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43920"/>
            <a:ext cx="79218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2.1 Arquitectura Física de 3 capa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386000" y="1052640"/>
            <a:ext cx="7507080" cy="61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3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Esta arquitectura necesita de "pegamento Web", que es un software que une el mundo HTML, con entornos capaces de soportar aplicaciones empresariales (adm. de transacciones, seguridad, datawarehouse, etc.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88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3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ffffff"/>
                </a:solidFill>
                <a:latin typeface="Tahoma"/>
              </a:rPr>
              <a:t>Una vez que las compañías se han instalado en el mundo de las aplicaciones Web de tres capas,</a:t>
            </a:r>
            <a:r>
              <a:rPr b="0" i="1" lang="es-AR" sz="2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AR" sz="2200" spc="-1" strike="noStrike">
                <a:solidFill>
                  <a:srgbClr val="ffff00"/>
                </a:solidFill>
                <a:latin typeface="Tahoma"/>
              </a:rPr>
              <a:t>obtienen importantes ventaja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spcBef>
                <a:spcPts val="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Escalabilidad mejora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Mayor segur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Reutilización del códig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Administración de transacciones mejora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Mayor flexibilidad, adaptabilidad y capacidad de expans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17136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Tahoma"/>
              </a:rPr>
              <a:t>Mayor mantenibi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CE75-0846-4F69-B372-8C07A682E4E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16000" y="44280"/>
            <a:ext cx="815184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2.1 Arquitectura Física de 3 Capa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2673360" y="1889280"/>
            <a:ext cx="4800600" cy="35956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2411280" y="585144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Otra Arquitectura Física de Tres Cap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A7FD-AB0E-466B-AF8D-F8CCE6A059D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4280"/>
            <a:ext cx="793584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2.1 Arquitectura Física en Capa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593800" y="907920"/>
            <a:ext cx="491364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7653D-BA70-4B4A-8F13-44D907B6C65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9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2.2 Arquitectura Lógi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32000" y="1267920"/>
            <a:ext cx="77882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0" lang="es-ES" sz="2100" spc="-1" strike="noStrike">
                <a:solidFill>
                  <a:srgbClr val="ffff00"/>
                </a:solidFill>
                <a:latin typeface="Arial"/>
              </a:rPr>
              <a:t>Arquitectura Lógica</a:t>
            </a:r>
            <a:r>
              <a:rPr b="1" i="1" lang="es-E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expresa cuáles son los componentes lógicos (subsistemas, o macro-funciones) que participan en nuestra solución, y la relación entre ellos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La especificación de esta arquitectura, es </a:t>
            </a:r>
            <a:r>
              <a:rPr b="0" lang="es-ES" sz="2100" spc="-1" strike="noStrike">
                <a:solidFill>
                  <a:srgbClr val="ffff00"/>
                </a:solidFill>
                <a:latin typeface="Arial"/>
              </a:rPr>
              <a:t>similar a la arq. física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11"/>
              </a:spcBef>
              <a:spcAft>
                <a:spcPts val="71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Arial"/>
              </a:rPr>
              <a:t>Se especifican </a:t>
            </a:r>
            <a:r>
              <a:rPr b="0" lang="es-ES" sz="1900" spc="-1" strike="noStrike">
                <a:solidFill>
                  <a:srgbClr val="ffff00"/>
                </a:solidFill>
                <a:latin typeface="Arial"/>
              </a:rPr>
              <a:t>actores </a:t>
            </a:r>
            <a:r>
              <a:rPr b="0" lang="es-ES" sz="1900" spc="-1" strike="noStrike">
                <a:solidFill>
                  <a:srgbClr val="ffffff"/>
                </a:solidFill>
                <a:latin typeface="Arial"/>
              </a:rPr>
              <a:t>y </a:t>
            </a:r>
            <a:r>
              <a:rPr b="0" lang="es-ES" sz="1900" spc="-1" strike="noStrike">
                <a:solidFill>
                  <a:srgbClr val="ffff00"/>
                </a:solidFill>
                <a:latin typeface="Arial"/>
              </a:rPr>
              <a:t>relaciones entre ellos</a:t>
            </a:r>
            <a:r>
              <a:rPr b="0" lang="es-ES" sz="1900" spc="-1" strike="noStrike">
                <a:solidFill>
                  <a:srgbClr val="ffffff"/>
                </a:solidFill>
                <a:latin typeface="Arial"/>
              </a:rPr>
              <a:t>, sólo que los actores ahora son: subsistemas de mi solución, macro-funciones de la misma o entidades externas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En los </a:t>
            </a:r>
            <a:r>
              <a:rPr b="0" lang="es-ES" sz="2100" spc="-1" strike="noStrike">
                <a:solidFill>
                  <a:srgbClr val="ffff00"/>
                </a:solidFill>
                <a:latin typeface="Arial"/>
              </a:rPr>
              <a:t>diagramas que expresan tanto la arq. lógica como la física</a:t>
            </a: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, se puede utilizar casi cualquier simbología que clarifique el escenario (DFD, Diagr. de clases, bloques, casos de uso, dibujo informal, etc)... a menos que existan restricciones al respecto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88"/>
              </a:spcBef>
              <a:spcAft>
                <a:spcPts val="788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A continuación se muestran algunos ejemplos de Arquitecturas Lógicas de Sistemas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037F-C5E4-44C1-8BC7-F0A37025B4B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12560" y="44280"/>
            <a:ext cx="7723080" cy="7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2.2 Arquitectura Lógica (cont..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2" name="Picture 3" descr="DFD-1"/>
          <p:cNvPicPr/>
          <p:nvPr/>
        </p:nvPicPr>
        <p:blipFill>
          <a:blip r:embed="rId1"/>
          <a:stretch/>
        </p:blipFill>
        <p:spPr>
          <a:xfrm>
            <a:off x="1273320" y="1565280"/>
            <a:ext cx="7619760" cy="50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Object 5"/>
          <p:cNvGraphicFramePr/>
          <p:nvPr/>
        </p:nvGraphicFramePr>
        <p:xfrm>
          <a:off x="2143080" y="1052640"/>
          <a:ext cx="5162760" cy="57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3080" y="1052640"/>
                    <a:ext cx="5162760" cy="57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Rectangle 2"/>
          <p:cNvSpPr/>
          <p:nvPr/>
        </p:nvSpPr>
        <p:spPr>
          <a:xfrm>
            <a:off x="1785960" y="0"/>
            <a:ext cx="585936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Documento de Diseñ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7176-C2E9-4F94-B42B-BF059BF6FDE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17240" y="115920"/>
            <a:ext cx="75754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2.2 Arquitectura Lógica (cont..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5" name="Picture 3" descr="DFD-2"/>
          <p:cNvPicPr/>
          <p:nvPr/>
        </p:nvPicPr>
        <p:blipFill>
          <a:blip r:embed="rId1"/>
          <a:stretch/>
        </p:blipFill>
        <p:spPr>
          <a:xfrm>
            <a:off x="2427120" y="1268280"/>
            <a:ext cx="53136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BD899-99C9-46BE-8B62-F442FA0E316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5640" y="43920"/>
            <a:ext cx="7993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2.2 Arquitectura Lógica (cont..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Picture 3" descr="ejemplo2"/>
          <p:cNvPicPr/>
          <p:nvPr/>
        </p:nvPicPr>
        <p:blipFill>
          <a:blip r:embed="rId1"/>
          <a:stretch/>
        </p:blipFill>
        <p:spPr>
          <a:xfrm>
            <a:off x="1339920" y="1341360"/>
            <a:ext cx="7696080" cy="232416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4"/>
          <p:cNvSpPr/>
          <p:nvPr/>
        </p:nvSpPr>
        <p:spPr>
          <a:xfrm>
            <a:off x="278604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Object 5"/>
          <p:cNvGraphicFramePr/>
          <p:nvPr/>
        </p:nvGraphicFramePr>
        <p:xfrm>
          <a:off x="2216160" y="4437000"/>
          <a:ext cx="6172200" cy="2139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16160" y="4437000"/>
                    <a:ext cx="6172200" cy="21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9D60-1697-4CBB-8E59-3672FF35C90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79480" y="44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2.2 Arquitectura Lógica (cont..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278604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4" descr="figure4_lg"/>
          <p:cNvPicPr/>
          <p:nvPr/>
        </p:nvPicPr>
        <p:blipFill>
          <a:blip r:embed="rId1"/>
          <a:stretch/>
        </p:blipFill>
        <p:spPr>
          <a:xfrm>
            <a:off x="2087640" y="1916280"/>
            <a:ext cx="594036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3F13A-BDE3-4E21-8E06-635384FE55E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42920" y="44280"/>
            <a:ext cx="80661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2.2 Arquitectura Lógica (cont..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278604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2668680" y="1413000"/>
            <a:ext cx="4856040" cy="52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DC16F-6326-4266-B150-028EC8D62FE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920" y="44280"/>
            <a:ext cx="806616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2.2 Arquitectura Lógica (cont..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278604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171440" y="1079640"/>
            <a:ext cx="764064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C403-30AD-4240-BC2D-96E7A9BA9E9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76320" y="44280"/>
            <a:ext cx="7772400" cy="90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2.3 Modelo de Dat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36" name="Object 3"/>
          <p:cNvGraphicFramePr/>
          <p:nvPr/>
        </p:nvGraphicFramePr>
        <p:xfrm>
          <a:off x="2575080" y="3708360"/>
          <a:ext cx="4876560" cy="30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5080" y="3708360"/>
                    <a:ext cx="4876560" cy="30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Text Box 4"/>
          <p:cNvSpPr/>
          <p:nvPr/>
        </p:nvSpPr>
        <p:spPr>
          <a:xfrm>
            <a:off x="8380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762120" y="167652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1452600" y="1125360"/>
            <a:ext cx="7656480" cy="24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El modelo de datos consiste en identificar gráficamente las entidades (o tablas) que participan en mi sistema, ya sean nuevas o existente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- Identificar la </a:t>
            </a:r>
            <a:r>
              <a:rPr b="0" lang="es-ES" sz="2200" spc="-1" strike="noStrike">
                <a:solidFill>
                  <a:srgbClr val="ffff00"/>
                </a:solidFill>
                <a:latin typeface="Tahoma"/>
              </a:rPr>
              <a:t>clave primaria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y las </a:t>
            </a:r>
            <a:r>
              <a:rPr b="0" lang="es-ES" sz="2200" spc="-1" strike="noStrike">
                <a:solidFill>
                  <a:srgbClr val="ffff00"/>
                </a:solidFill>
                <a:latin typeface="Tahoma"/>
              </a:rPr>
              <a:t>claves foráneas</a:t>
            </a: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 de cada un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Tahoma"/>
              </a:rPr>
              <a:t>- Podrían incluirse también otros campos..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6D5D-5084-4A3F-9DDA-B369FFA437E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92320" y="43920"/>
            <a:ext cx="7772400" cy="7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2.3 Modelo de Dat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8380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762120" y="167652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5" descr="mod_datos"/>
          <p:cNvPicPr/>
          <p:nvPr/>
        </p:nvPicPr>
        <p:blipFill>
          <a:blip r:embed="rId1"/>
          <a:stretch/>
        </p:blipFill>
        <p:spPr>
          <a:xfrm>
            <a:off x="2819520" y="1335240"/>
            <a:ext cx="454824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4C7E-6C24-49D2-B145-28D9CCAE693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36680" y="5238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iseño Detalla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2987640" y="1593720"/>
            <a:ext cx="453708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4E12-C3DB-47C9-8A8D-4F79A3B1F29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8600" y="44280"/>
            <a:ext cx="861048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3. Diseño Detalla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58560" y="1213920"/>
            <a:ext cx="78850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9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El diseño detallado tiene que ver con el </a:t>
            </a:r>
            <a:r>
              <a:rPr b="0" lang="es-ES" sz="2600" spc="-1" strike="noStrike">
                <a:solidFill>
                  <a:srgbClr val="ffff00"/>
                </a:solidFill>
                <a:latin typeface="Arial"/>
              </a:rPr>
              <a:t>diseño de las micro-componentes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de nuestro sistem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9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Obviamente, este diseño tiene que tener en cuenta los </a:t>
            </a:r>
            <a:r>
              <a:rPr b="0" lang="es-ES" sz="2600" spc="-1" strike="noStrike">
                <a:solidFill>
                  <a:srgbClr val="ffff00"/>
                </a:solidFill>
                <a:latin typeface="Arial"/>
              </a:rPr>
              <a:t>requisitos de software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(última versión) y el </a:t>
            </a:r>
            <a:r>
              <a:rPr b="0" lang="es-ES" sz="2600" spc="-1" strike="noStrike">
                <a:solidFill>
                  <a:srgbClr val="ffff00"/>
                </a:solidFill>
                <a:latin typeface="Arial"/>
              </a:rPr>
              <a:t>diseño arquitectónico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spcAft>
                <a:spcPts val="97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Para efectos del proyecto especificaremos el Diseño Detallado a través de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spcAft>
                <a:spcPts val="825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00"/>
                </a:solidFill>
                <a:latin typeface="Arial"/>
              </a:rPr>
              <a:t>Diseño Detallado de Módul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spcAft>
                <a:spcPts val="825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00"/>
                </a:solidFill>
                <a:latin typeface="Arial"/>
              </a:rPr>
              <a:t>Modelo de Navega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spcAft>
                <a:spcPts val="825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00"/>
                </a:solidFill>
                <a:latin typeface="Arial"/>
              </a:rPr>
              <a:t>Interfaces de Usuari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spcAft>
                <a:spcPts val="825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ffff00"/>
                </a:solidFill>
                <a:latin typeface="Arial"/>
              </a:rPr>
              <a:t>Diccionario de Dat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F1C8-A73D-4F56-BB90-43923BBF954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87280" y="44280"/>
            <a:ext cx="78487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3.1 Diseño Detallado de Módul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4" name="Picture 3" descr="dfd-1"/>
          <p:cNvPicPr/>
          <p:nvPr/>
        </p:nvPicPr>
        <p:blipFill>
          <a:blip r:embed="rId1"/>
          <a:stretch/>
        </p:blipFill>
        <p:spPr>
          <a:xfrm>
            <a:off x="3352680" y="2362320"/>
            <a:ext cx="5600880" cy="4295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dfd-2"/>
          <p:cNvPicPr/>
          <p:nvPr/>
        </p:nvPicPr>
        <p:blipFill>
          <a:blip r:embed="rId2"/>
          <a:stretch/>
        </p:blipFill>
        <p:spPr>
          <a:xfrm>
            <a:off x="914400" y="1197000"/>
            <a:ext cx="2362320" cy="1881000"/>
          </a:xfrm>
          <a:prstGeom prst="rect">
            <a:avLst/>
          </a:prstGeom>
          <a:ln w="0">
            <a:noFill/>
          </a:ln>
        </p:spPr>
      </p:pic>
      <p:sp>
        <p:nvSpPr>
          <p:cNvPr id="156" name="7 Conector recto"/>
          <p:cNvSpPr/>
          <p:nvPr/>
        </p:nvSpPr>
        <p:spPr>
          <a:xfrm flipH="1" flipV="1">
            <a:off x="3428640" y="4059000"/>
            <a:ext cx="114300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5AE65-82A9-47D8-9CAC-2A5E381B136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8600" y="44280"/>
            <a:ext cx="861048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Documento de Diseñ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73200" y="2307960"/>
            <a:ext cx="73915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800" spc="-1" strike="noStrike">
                <a:solidFill>
                  <a:srgbClr val="ffffff"/>
                </a:solidFill>
                <a:latin typeface="Arial"/>
              </a:rPr>
              <a:t>PARTE 1: Descripción General</a:t>
            </a:r>
            <a:r>
              <a:rPr b="1" i="1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800" spc="-1" strike="noStrike">
                <a:solidFill>
                  <a:srgbClr val="ffffff"/>
                </a:solidFill>
                <a:latin typeface="Arial"/>
              </a:rPr>
              <a:t>PARTE 2: Diseño Arquitectónico</a:t>
            </a:r>
            <a:r>
              <a:rPr b="1" i="1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800" spc="-1" strike="noStrike">
                <a:solidFill>
                  <a:srgbClr val="ffffff"/>
                </a:solidFill>
                <a:latin typeface="Arial"/>
              </a:rPr>
              <a:t>PARTE 3: Diseño Detall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ffffff"/>
                </a:solidFill>
                <a:latin typeface="Arial"/>
              </a:rPr>
              <a:t>PARTE 4: Matriz de Traz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749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0F97-2D7A-479E-BF66-F6AA611DFF6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87280" y="44280"/>
            <a:ext cx="784872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3.1 Diseño Detallado de Módul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816280" y="981000"/>
            <a:ext cx="4995720" cy="58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546A-26BC-4771-B46B-93F834C5FD5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58560" y="44280"/>
            <a:ext cx="7777080" cy="6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"/>
              </a:rPr>
              <a:t>3.1 Diseño Detallado de Módul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332000" y="2133720"/>
            <a:ext cx="4525920" cy="51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e deben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mantener las interfaces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de entrada/sal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8920" indent="-35892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da uno de los módulos del sistema se debe tener un identificador, que luego será usado en el diccionario de datos, para especifica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8200">
              <a:lnSpc>
                <a:spcPct val="1000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ahoma"/>
              </a:rPr>
              <a:t>ID, Nombre (o descripción), Subsistema (o componente), Función, Parámetros de Entrada, Parámetros de Sali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5726160" y="2492280"/>
            <a:ext cx="3417840" cy="43657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6"/>
          <p:cNvSpPr/>
          <p:nvPr/>
        </p:nvSpPr>
        <p:spPr>
          <a:xfrm>
            <a:off x="1332000" y="1052640"/>
            <a:ext cx="781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500"/>
              </a:spcBef>
              <a:spcAft>
                <a:spcPts val="1500"/>
              </a:spcAft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da sistema o sub-sistema se debe descomponer en una serie de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módulos interrelacionados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ECC2F-CC95-4907-9029-DDF8C9AA202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58920" y="115920"/>
            <a:ext cx="7850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3.2 </a:t>
            </a:r>
            <a:r>
              <a:rPr b="0" sz="4000" spc="-1" strike="noStrike">
                <a:solidFill>
                  <a:srgbClr val="ffff00"/>
                </a:solidFill>
                <a:latin typeface="Arial"/>
              </a:rPr>
              <a:t>Modelo de Navegac</a:t>
            </a:r>
            <a:r>
              <a:rPr b="0" lang="es-CL" sz="40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0" sz="4000" spc="-1" strike="noStrike">
                <a:solidFill>
                  <a:srgbClr val="ffff00"/>
                </a:solidFill>
                <a:latin typeface="Arial"/>
              </a:rPr>
              <a:t>del Sist</a:t>
            </a:r>
            <a:r>
              <a:rPr b="0" lang="es-CL" sz="4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31640" y="1341000"/>
            <a:ext cx="77770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5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specificar el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modelo de navegación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del sistema, identificando cada uno de sus componen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576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 continuación se muestran ejemplos de modelos de navegación, para We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2268360" y="3983040"/>
            <a:ext cx="597564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07275-C254-4B23-BA62-6BBC5372DB5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63600" y="44280"/>
            <a:ext cx="7772400" cy="88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3.2 </a:t>
            </a:r>
            <a:r>
              <a:rPr b="0" sz="4000" spc="-1" strike="noStrike">
                <a:solidFill>
                  <a:srgbClr val="ffff00"/>
                </a:solidFill>
                <a:latin typeface="Arial"/>
              </a:rPr>
              <a:t>Modelo de Navegac</a:t>
            </a:r>
            <a:r>
              <a:rPr b="0" lang="es-CL" sz="40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sz="4000" spc="-1" strike="noStrike">
                <a:solidFill>
                  <a:srgbClr val="ffff00"/>
                </a:solidFill>
                <a:latin typeface="Arial"/>
              </a:rPr>
              <a:t> del Sist</a:t>
            </a:r>
            <a:r>
              <a:rPr b="0" lang="es-CL" sz="4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1" name="Picture 3" descr="naveg"/>
          <p:cNvPicPr/>
          <p:nvPr/>
        </p:nvPicPr>
        <p:blipFill>
          <a:blip r:embed="rId1"/>
          <a:stretch/>
        </p:blipFill>
        <p:spPr>
          <a:xfrm>
            <a:off x="1476360" y="1600200"/>
            <a:ext cx="4952880" cy="24354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naveg3"/>
          <p:cNvPicPr/>
          <p:nvPr/>
        </p:nvPicPr>
        <p:blipFill>
          <a:blip r:embed="rId2"/>
          <a:stretch/>
        </p:blipFill>
        <p:spPr>
          <a:xfrm>
            <a:off x="4549680" y="4278240"/>
            <a:ext cx="434340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85F4-BA8A-4309-9251-D86E86FDE03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36680" y="44280"/>
            <a:ext cx="7772400" cy="88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3.2 </a:t>
            </a:r>
            <a:r>
              <a:rPr b="0" sz="4000" spc="-1" strike="noStrike">
                <a:solidFill>
                  <a:srgbClr val="ffff00"/>
                </a:solidFill>
                <a:latin typeface="Arial"/>
              </a:rPr>
              <a:t>Modelo de Navegac</a:t>
            </a:r>
            <a:r>
              <a:rPr b="0" lang="es-CL" sz="40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sz="4000" spc="-1" strike="noStrike">
                <a:solidFill>
                  <a:srgbClr val="ffff00"/>
                </a:solidFill>
                <a:latin typeface="Arial"/>
              </a:rPr>
              <a:t> del Sis</a:t>
            </a:r>
            <a:r>
              <a:rPr b="0" lang="es-CL" sz="4000" spc="-1" strike="noStrike">
                <a:solidFill>
                  <a:srgbClr val="ffff00"/>
                </a:solidFill>
                <a:latin typeface="Arial"/>
              </a:rPr>
              <a:t>t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75" name="Object 3"/>
          <p:cNvGraphicFramePr/>
          <p:nvPr/>
        </p:nvGraphicFramePr>
        <p:xfrm>
          <a:off x="1268280" y="2044800"/>
          <a:ext cx="7767720" cy="37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8280" y="2044800"/>
                    <a:ext cx="7767720" cy="37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4A90-DD28-4D5F-BDAB-934131A965F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92320" y="44280"/>
            <a:ext cx="77724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3.3 Interfaz de Usuario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79" name="Object 3"/>
          <p:cNvGraphicFramePr/>
          <p:nvPr/>
        </p:nvGraphicFramePr>
        <p:xfrm>
          <a:off x="2195640" y="1523880"/>
          <a:ext cx="5887800" cy="31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523880"/>
                    <a:ext cx="5887800" cy="31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Text Box 4"/>
          <p:cNvSpPr/>
          <p:nvPr/>
        </p:nvSpPr>
        <p:spPr>
          <a:xfrm>
            <a:off x="2043000" y="5010120"/>
            <a:ext cx="6345360" cy="15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ara la Interfaz de Usuario hay que defin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ahoma"/>
              </a:rPr>
              <a:t>3.3.1 Patrón de interfaz a usar (si hay alguno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ahoma"/>
              </a:rPr>
              <a:t>3.3.2 Diseño de cada Interfa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1D8B8-444B-480B-9B96-D080A19C950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9480" y="43920"/>
            <a:ext cx="822960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3.3.1 Patrón de Interfaz a Usar</a:t>
            </a: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84" name="Object 3"/>
          <p:cNvGraphicFramePr/>
          <p:nvPr/>
        </p:nvGraphicFramePr>
        <p:xfrm>
          <a:off x="1828800" y="1122480"/>
          <a:ext cx="6559560" cy="569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122480"/>
                    <a:ext cx="6559560" cy="56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4A19-0E83-4E88-BE85-D9C351E129E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58920" y="17280"/>
            <a:ext cx="7772400" cy="89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3.3.2 Diseño de Cada Interfaz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88" name="Object 3"/>
          <p:cNvGraphicFramePr/>
          <p:nvPr/>
        </p:nvGraphicFramePr>
        <p:xfrm>
          <a:off x="2124000" y="1623960"/>
          <a:ext cx="5888160" cy="31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4000" y="1623960"/>
                    <a:ext cx="5888160" cy="31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Text Box 4"/>
          <p:cNvSpPr/>
          <p:nvPr/>
        </p:nvSpPr>
        <p:spPr>
          <a:xfrm>
            <a:off x="1763640" y="5154480"/>
            <a:ext cx="7172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e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diseña cada interfaz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, que guarde relación con el modelo de navegación (3.2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l objetivo es 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ducir la sor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7E6C-1CFE-41C8-B21D-92614243022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82720" y="43920"/>
            <a:ext cx="815328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3.3.3 Diseño de Cada Interfaz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3" name="Picture 3" descr="pant_2"/>
          <p:cNvPicPr/>
          <p:nvPr/>
        </p:nvPicPr>
        <p:blipFill>
          <a:blip r:embed="rId1"/>
          <a:stretch/>
        </p:blipFill>
        <p:spPr>
          <a:xfrm>
            <a:off x="1611360" y="2079720"/>
            <a:ext cx="7208640" cy="38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6EC62-076E-438C-BA93-420BB6C1F39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55800" y="43920"/>
            <a:ext cx="8153280" cy="82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3.3.3 Diseño de Cada Interfaz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6" name="Picture 3" descr="pant_1"/>
          <p:cNvPicPr/>
          <p:nvPr/>
        </p:nvPicPr>
        <p:blipFill>
          <a:blip r:embed="rId1"/>
          <a:stretch/>
        </p:blipFill>
        <p:spPr>
          <a:xfrm>
            <a:off x="2241720" y="1341360"/>
            <a:ext cx="571500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8E483-41E9-45B5-98F1-0FA0E7AF6A4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25520" y="44280"/>
            <a:ext cx="86104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Doc. de Diseñ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63600" y="1492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7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3200" spc="-1" strike="noStrike">
                <a:solidFill>
                  <a:srgbClr val="ffffff"/>
                </a:solidFill>
                <a:latin typeface="Arial"/>
              </a:rPr>
              <a:t>PARTE 1: Descripción General</a:t>
            </a:r>
            <a:r>
              <a:rPr b="1" i="1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ffff"/>
                </a:solidFill>
                <a:latin typeface="Arial"/>
              </a:rPr>
              <a:t>1.1 Propósito del Sist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ffff"/>
                </a:solidFill>
                <a:latin typeface="Arial"/>
              </a:rPr>
              <a:t>1.2 Ámbito (Definición del Problema)</a:t>
            </a:r>
            <a:r>
              <a:rPr b="0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ffff"/>
                </a:solidFill>
                <a:latin typeface="Arial"/>
              </a:rPr>
              <a:t>1.3 Definiciones, Siglas y Abreviaturas</a:t>
            </a:r>
            <a:r>
              <a:rPr b="0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ffff"/>
                </a:solidFill>
                <a:latin typeface="Arial"/>
              </a:rPr>
              <a:t>1.4 Referencias</a:t>
            </a:r>
            <a:r>
              <a:rPr b="0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ffff"/>
                </a:solidFill>
                <a:latin typeface="Arial"/>
              </a:rPr>
              <a:t>1.5 Visión General</a:t>
            </a:r>
            <a:r>
              <a:rPr b="0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ffff"/>
                </a:solidFill>
                <a:latin typeface="Arial"/>
              </a:rPr>
              <a:t>1.6 Servicios a Brindar por el Produc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4882-B894-40B0-8CB5-FB9268C0A2C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3600" y="43920"/>
            <a:ext cx="7772400" cy="75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3.3.3 Diseño de Cada Interfaz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9" name="Picture 3" descr="pant_4"/>
          <p:cNvPicPr/>
          <p:nvPr/>
        </p:nvPicPr>
        <p:blipFill>
          <a:blip r:embed="rId1"/>
          <a:stretch/>
        </p:blipFill>
        <p:spPr>
          <a:xfrm>
            <a:off x="1384200" y="2271600"/>
            <a:ext cx="7580520" cy="32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385EC-FF0B-4820-BA17-7AF64F3436A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77440" y="43920"/>
            <a:ext cx="755820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3.3.3 Diseño de Cada Interfaz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2" name="Picture 3" descr="pant_5"/>
          <p:cNvPicPr/>
          <p:nvPr/>
        </p:nvPicPr>
        <p:blipFill>
          <a:blip r:embed="rId1"/>
          <a:stretch/>
        </p:blipFill>
        <p:spPr>
          <a:xfrm>
            <a:off x="1620720" y="2492280"/>
            <a:ext cx="719928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F56D4-20E2-49D0-974F-E16C61A8F53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63600" y="43920"/>
            <a:ext cx="7772400" cy="816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3.4 Diccionario de Dat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1143000" y="1052640"/>
            <a:ext cx="8001000" cy="39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2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El 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diccionario de dato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complementa el diseño mostrado en todos los puntos anterio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2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- El diccionario de datos tiene 2 componentes: </a:t>
            </a:r>
            <a:r>
              <a:rPr b="0" i="1" lang="es-ES" sz="2400" spc="-1" strike="noStrike">
                <a:solidFill>
                  <a:srgbClr val="ffff00"/>
                </a:solidFill>
                <a:latin typeface="Tahoma"/>
              </a:rPr>
              <a:t>Especificación de Módulos </a:t>
            </a:r>
            <a:r>
              <a:rPr b="0" i="1" lang="es-ES" sz="1800" spc="-1" strike="noStrike">
                <a:solidFill>
                  <a:srgbClr val="ffff00"/>
                </a:solidFill>
                <a:latin typeface="Tahoma"/>
              </a:rPr>
              <a:t>(artefactos de diseño)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y </a:t>
            </a:r>
            <a:r>
              <a:rPr b="0" i="1" lang="es-ES" sz="2400" spc="-1" strike="noStrike">
                <a:solidFill>
                  <a:srgbClr val="ffff00"/>
                </a:solidFill>
                <a:latin typeface="Tahoma"/>
              </a:rPr>
              <a:t>de Da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1749"/>
              </a:spcBef>
              <a:spcAft>
                <a:spcPts val="249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Especificación de Módulos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/Pág.Web</a:t>
            </a: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: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r cada módulo especificado en el punto 3.1, se indica su función, los parámetros que recibe, y los parámetros que retorn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120" indent="-277920">
              <a:lnSpc>
                <a:spcPct val="100000"/>
              </a:lnSpc>
              <a:spcBef>
                <a:spcPts val="1749"/>
              </a:spcBef>
              <a:spcAft>
                <a:spcPts val="249"/>
              </a:spcAft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ahoma"/>
              </a:rPr>
              <a:t>Especificación de Datos: </a:t>
            </a: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r cada tabla se especifican los campos y su forma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7451640" y="5084640"/>
            <a:ext cx="1692360" cy="17733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"/>
          <p:cNvPicPr/>
          <p:nvPr/>
        </p:nvPicPr>
        <p:blipFill>
          <a:blip r:embed="rId2"/>
          <a:stretch/>
        </p:blipFill>
        <p:spPr>
          <a:xfrm>
            <a:off x="2268360" y="5126040"/>
            <a:ext cx="229572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1699-B8BD-465D-87C9-4ADBD8B43E0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3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</a:rPr>
              <a:t>Ej. de Especificac. de Módul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785960" y="1213920"/>
            <a:ext cx="712944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D: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dentificador del módu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NOMBRE: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greso de Alum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UBSISTEM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Administración de alum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UNCIÓN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Este módulo permite al alumno el ingreso/actualización de sus datos personales, por pantalla, a través de un brows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ENTRADAS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RUT (Char(13)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ALIDAS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No Hay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ID: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dentificador del módu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NOMBRE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Solicitud de Certificad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UBSISTEM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Certificacio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FUNCIÓN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Este módulo permite al alumno solicitar un certificado´tipo A, B, y/o C, por pantalla, a través de un browse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ENTRADAS: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úmero de matrícula (Char(9)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ALIDAS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Número de solicitud (Entero Serial).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6319-1FA3-489F-97B1-E93C40794EB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3600" y="43920"/>
            <a:ext cx="7772400" cy="7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Especificación de Dat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213" name="Object 3"/>
          <p:cNvGraphicFramePr/>
          <p:nvPr/>
        </p:nvGraphicFramePr>
        <p:xfrm>
          <a:off x="2052720" y="2108160"/>
          <a:ext cx="6335640" cy="46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720" y="2108160"/>
                    <a:ext cx="6335640" cy="46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Text Box 4"/>
          <p:cNvSpPr/>
          <p:nvPr/>
        </p:nvSpPr>
        <p:spPr>
          <a:xfrm>
            <a:off x="1332000" y="1125360"/>
            <a:ext cx="765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or cada tabla se especifican los campos, su formato y su valid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72F9F-2AF5-41B0-A825-84F58623739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36680" y="43920"/>
            <a:ext cx="77724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4. Matriz de Trazado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1500120" y="1052640"/>
            <a:ext cx="7491600" cy="56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mat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z de trazado es un </a:t>
            </a:r>
            <a:r>
              <a:rPr b="0" i="1" lang="es-ES" sz="2400" spc="-1" strike="noStrike">
                <a:solidFill>
                  <a:srgbClr val="ffff00"/>
                </a:solidFill>
                <a:latin typeface="Tahoma"/>
              </a:rPr>
              <a:t>elemento de contro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u función principal es </a:t>
            </a:r>
            <a:r>
              <a:rPr b="0" i="1" lang="es-ES" sz="2400" spc="-1" strike="noStrike">
                <a:solidFill>
                  <a:srgbClr val="ffff00"/>
                </a:solidFill>
                <a:latin typeface="Tahoma"/>
              </a:rPr>
              <a:t>ver que el diseño refleja los requisitos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especific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Otra de sus funciones tiene que ver con el 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control de la calidad del diseño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realiz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ste </a:t>
            </a:r>
            <a:r>
              <a:rPr b="0" i="1" lang="es-ES" sz="2400" spc="-1" strike="noStrike">
                <a:solidFill>
                  <a:srgbClr val="ffff00"/>
                </a:solidFill>
                <a:latin typeface="Tahoma"/>
              </a:rPr>
              <a:t>elemento es muy útil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, si uno aprende a sacar pr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cho de é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a mat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z de trazado debe ir completándose en la medida que el trabajo de diseño avanza. Esta es una actividad paralela a la del dise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9080" indent="-28908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jemplo de una mat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z de trazad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55F6-34F9-4309-AD0F-417A4F8C9DC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32000" y="44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Arial"/>
              </a:rPr>
              <a:t>4 Matriz de Trazado (cont.)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762120" y="1523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Picture 6" descr=""/>
          <p:cNvPicPr/>
          <p:nvPr/>
        </p:nvPicPr>
        <p:blipFill>
          <a:blip r:embed="rId1"/>
          <a:stretch/>
        </p:blipFill>
        <p:spPr>
          <a:xfrm>
            <a:off x="1447920" y="1095480"/>
            <a:ext cx="74818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4 Matriz de Trazado (cont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500120" y="1500120"/>
            <a:ext cx="742968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99"/>
              </a:spcBef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En el Doc. de Diseño, la </a:t>
            </a:r>
            <a:r>
              <a:rPr b="0" lang="es-ES_tradnl" sz="3200" spc="-1" strike="noStrike">
                <a:solidFill>
                  <a:srgbClr val="ffff00"/>
                </a:solidFill>
                <a:latin typeface="Arial"/>
                <a:ea typeface="Arial"/>
              </a:rPr>
              <a:t>matriz de trazado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debe mapear </a:t>
            </a:r>
            <a:r>
              <a:rPr b="0" lang="es-ES_tradnl" sz="3200" spc="-1" strike="noStrike">
                <a:solidFill>
                  <a:srgbClr val="ffff00"/>
                </a:solidFill>
                <a:latin typeface="Arial"/>
                <a:ea typeface="Arial"/>
              </a:rPr>
              <a:t>Artefactos de Diseño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con </a:t>
            </a:r>
            <a:r>
              <a:rPr b="0" lang="es-ES_tradnl" sz="3200" spc="-1" strike="noStrike">
                <a:solidFill>
                  <a:srgbClr val="ffff00"/>
                </a:solidFill>
                <a:latin typeface="Arial"/>
                <a:ea typeface="Arial"/>
              </a:rPr>
              <a:t>Req. de Softwa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  <a:ea typeface="Arial"/>
              </a:rPr>
              <a:t>Sólo los req. funcionales son mapeabl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spcAft>
                <a:spcPts val="15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En caso de conflictos o dudas,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la información que vale es la que está en ReqAdm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99"/>
              </a:spcBef>
              <a:spcAft>
                <a:spcPts val="15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Conclusio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57200" y="1285560"/>
            <a:ext cx="7786800" cy="53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14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El Documento de Diseño (DD) es el producto de la fase de Diseñ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14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Normalmente, a este documento lo puede acompañar un prototipo del sistema (y es aconsejable que así se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14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El formato del documento de diseño depende un poco del tipo de proyecto, y de las tecnologías involucrad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14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.... por lo tanto, pueden ajustarlo a sus necesidades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(pero no en este curso)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Conclusion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71760" y="1142640"/>
            <a:ext cx="7286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... pero </a:t>
            </a:r>
            <a:r>
              <a:rPr b="1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CUIDADO,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en el DD no puede faltar nada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,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 que después se necesite durante la implement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14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Utilicen ReqAdmin para mapear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 los Módulos del Sistema (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MD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), con los Requisitos de Software (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RS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Esto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se va a revisar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 en la inspección del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DD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Fíjense que las 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matrices de trazado se obtienen automáticamente en ReqAdmin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9A25C-08A8-4219-98B5-D183F8D6C44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25520" y="43920"/>
            <a:ext cx="861048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Doc. de Diseñ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05080" y="1196640"/>
            <a:ext cx="719928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800" spc="-1" strike="noStrike">
                <a:solidFill>
                  <a:srgbClr val="ffffff"/>
                </a:solidFill>
                <a:latin typeface="Arial"/>
              </a:rPr>
              <a:t>PARTE 2: Diseño Arquitectónico</a:t>
            </a:r>
            <a:r>
              <a:rPr b="1" i="1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2.1 Arquitectura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Fís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2.2 Arquitectura Lógica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sz="1800" spc="-1" strike="noStrike">
                <a:solidFill>
                  <a:srgbClr val="ffff00"/>
                </a:solidFill>
                <a:latin typeface="Arial"/>
              </a:rPr>
              <a:t>(esto viene del Doc. de Req.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Modelo de Datos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800" spc="-1" strike="noStrike">
                <a:solidFill>
                  <a:srgbClr val="ffffff"/>
                </a:solidFill>
                <a:latin typeface="Arial"/>
              </a:rPr>
              <a:t>PARTE 3: Diseño Detall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3.1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iseño Detallado de Módul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3.2 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Modelo de Navegación del Sistema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Interf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es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de Usuario </a:t>
            </a:r>
            <a:r>
              <a:rPr b="0" sz="1800" spc="-1" strike="noStrike">
                <a:solidFill>
                  <a:srgbClr val="ffff00"/>
                </a:solidFill>
                <a:latin typeface="Arial"/>
              </a:rPr>
              <a:t>(todas las important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Diccionario de Da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sz="2800" spc="-1" strike="noStrike">
                <a:solidFill>
                  <a:srgbClr val="ffffff"/>
                </a:solidFill>
                <a:latin typeface="Arial"/>
              </a:rPr>
              <a:t>PARTE </a:t>
            </a:r>
            <a:r>
              <a:rPr b="1" i="1" lang="es-ES_tradnl" sz="28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i="1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i="1" lang="es-ES_tradnl" sz="2800" spc="-1" strike="noStrike">
                <a:solidFill>
                  <a:srgbClr val="ffffff"/>
                </a:solidFill>
                <a:latin typeface="Arial"/>
              </a:rPr>
              <a:t>Matriz de Traz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  <a:ea typeface="Arial"/>
              </a:rPr>
              <a:t>IMPORTAN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1213920" y="1143000"/>
            <a:ext cx="79297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1.  Para la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revisión del Documento de Diseño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de las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Iteraciones I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 y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II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, cada grupo debe preparar una presentación no más de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20 minutos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, explicand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3762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La Arquitectura de la Solu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3762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Modelo de Datos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Arial"/>
              </a:rPr>
              <a:t>(si correspond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3762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Diseño Detallado de los Principales Módulos de la solu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376200">
              <a:lnSpc>
                <a:spcPct val="100000"/>
              </a:lnSpc>
              <a:spcBef>
                <a:spcPts val="2401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Principales Interfaces de Usuari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  <a:ea typeface="Arial"/>
              </a:rPr>
              <a:t>IMPORTAN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1324080" y="1500120"/>
            <a:ext cx="78199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2.  El protocolo de Revisión es igual al del Doc. de Req.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14360" indent="-51408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  <a:ea typeface="Arial"/>
              </a:rPr>
              <a:t>Presentación del Produ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14360" indent="-51408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  <a:ea typeface="Arial"/>
              </a:rPr>
              <a:t>Observaciones del Te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14360" indent="-51408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  <a:ea typeface="Arial"/>
              </a:rPr>
              <a:t>Preguntas y Respues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14360" indent="-51408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  <a:ea typeface="Arial"/>
              </a:rPr>
              <a:t>Observaciones del Profesor:</a:t>
            </a:r>
            <a:r>
              <a:rPr b="0" lang="es-MX" sz="2400" spc="-1" strike="noStrike">
                <a:solidFill>
                  <a:srgbClr val="ffffff"/>
                </a:solidFill>
                <a:latin typeface="Arial"/>
                <a:ea typeface="Arial"/>
              </a:rPr>
              <a:t> Se escogerán requisitos funcionales de software al azar, y el diseñador deberá explicar</a:t>
            </a:r>
            <a:r>
              <a:rPr b="0" lang="es-MX" sz="2400" spc="-1" strike="noStrike">
                <a:solidFill>
                  <a:srgbClr val="ffff00"/>
                </a:solidFill>
                <a:latin typeface="Arial"/>
                <a:ea typeface="Arial"/>
              </a:rPr>
              <a:t> cómo del diseño permite su cumplimie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CC48-DED7-49F8-9695-BB4E01BFBAC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</a:rPr>
              <a:t>Parte 1: Descripción Gener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1640" y="1143000"/>
            <a:ext cx="7507080" cy="55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8800" indent="0">
              <a:lnSpc>
                <a:spcPct val="90000"/>
              </a:lnSpc>
              <a:spcBef>
                <a:spcPts val="134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1.1 Propósito.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arrativa que describe el propósito del sistema a desarroll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8800" indent="0">
              <a:lnSpc>
                <a:spcPct val="90000"/>
              </a:lnSpc>
              <a:spcBef>
                <a:spcPts val="1576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1.2 Alcance.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arrativa que establece el alcance del sistema a desarrollar (¿qué está dentro y qué está fuera?).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68800" indent="0">
              <a:lnSpc>
                <a:spcPct val="90000"/>
              </a:lnSpc>
              <a:spcBef>
                <a:spcPts val="134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1.3 Definiciones, acrónimos y abreviaciones.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istado de acrónimos, con su signific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8800" indent="0">
              <a:lnSpc>
                <a:spcPct val="90000"/>
              </a:lnSpc>
              <a:spcBef>
                <a:spcPts val="134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1.4 Referencias.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Se colocan las referencias de los documentos utilizados para construir el D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68800" indent="0">
              <a:lnSpc>
                <a:spcPct val="90000"/>
              </a:lnSpc>
              <a:spcBef>
                <a:spcPts val="1349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00"/>
                </a:solidFill>
                <a:latin typeface="Arial"/>
              </a:rPr>
              <a:t>1.5 Descripción general.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arrativa que describe a grandes rasgos, el sistema a desarroll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D3C3-40F3-430F-9158-5D92874008F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668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</a:rPr>
              <a:t>Parte 1: Descripción Gener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58560" y="1341000"/>
            <a:ext cx="7777080" cy="53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456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ffff00"/>
                </a:solidFill>
                <a:latin typeface="Arial"/>
              </a:rPr>
              <a:t>1.6 Servicios a Brindar por el Producto</a:t>
            </a: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Se identifican los servicios que debe brindar el producto, entiéndas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7488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- Consult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7488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- ABM (altas, bajas y modificaciones) de datos sobre entidades (mantenedore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7488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- Emisión de formularios por pantalla/impres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74880" indent="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- Otros proces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5334120" y="4410000"/>
            <a:ext cx="38098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76EA-2781-4E3B-B575-78200011D4A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31640" y="44280"/>
            <a:ext cx="777708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</a:rPr>
              <a:t>Parte 2:</a:t>
            </a: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 Diseño Arquitectónic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83840" y="1170000"/>
            <a:ext cx="7651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301"/>
              </a:spcBef>
              <a:spcAft>
                <a:spcPts val="13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El diseño arquitectónico tiene que ver con el </a:t>
            </a:r>
            <a:r>
              <a:rPr b="0" lang="es-ES" sz="2600" spc="-1" strike="noStrike">
                <a:solidFill>
                  <a:srgbClr val="ffff00"/>
                </a:solidFill>
                <a:latin typeface="Arial"/>
              </a:rPr>
              <a:t>diseño de las macro-componentes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de nuestro sistema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01"/>
              </a:spcBef>
              <a:spcAft>
                <a:spcPts val="13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Obviamente, este diseño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600" spc="-1" strike="noStrike">
                <a:solidFill>
                  <a:srgbClr val="ffff00"/>
                </a:solidFill>
                <a:latin typeface="Arial"/>
              </a:rPr>
              <a:t>tener en cuenta los requisitos de software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(sección 3.2 del Doc. de Req.)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01"/>
              </a:spcBef>
              <a:spcAft>
                <a:spcPts val="13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Existen </a:t>
            </a:r>
            <a:r>
              <a:rPr b="0" lang="es-ES" sz="2600" spc="-1" strike="noStrike">
                <a:solidFill>
                  <a:srgbClr val="ffff00"/>
                </a:solidFill>
                <a:latin typeface="Arial"/>
              </a:rPr>
              <a:t>muchas técnicas y lenguajes para especificar la arquitectura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de un sistema. Nosotros consideraremos que el DA está formado por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ffff00"/>
                </a:solidFill>
                <a:latin typeface="Arial"/>
              </a:rPr>
              <a:t>2.1 </a:t>
            </a:r>
            <a:r>
              <a:rPr b="1" i="1" lang="es-ES" sz="2200" spc="-1" strike="noStrike">
                <a:solidFill>
                  <a:srgbClr val="ffff00"/>
                </a:solidFill>
                <a:latin typeface="Arial"/>
              </a:rPr>
              <a:t>Arquitectura Física 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(o Ambiente Operaciona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ffff00"/>
                </a:solidFill>
                <a:latin typeface="Arial"/>
              </a:rPr>
              <a:t>2.2 </a:t>
            </a:r>
            <a:r>
              <a:rPr b="1" i="1" lang="es-ES" sz="2200" spc="-1" strike="noStrike">
                <a:solidFill>
                  <a:srgbClr val="ffff00"/>
                </a:solidFill>
                <a:latin typeface="Arial"/>
              </a:rPr>
              <a:t>Arquitectura Lógica 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(o Arquitectura del Softwar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ffff00"/>
                </a:solidFill>
                <a:latin typeface="Arial"/>
              </a:rPr>
              <a:t>2.3 </a:t>
            </a:r>
            <a:r>
              <a:rPr b="1" i="1" lang="es-ES" sz="2200" spc="-1" strike="noStrike">
                <a:solidFill>
                  <a:srgbClr val="ffff00"/>
                </a:solidFill>
                <a:latin typeface="Arial"/>
              </a:rPr>
              <a:t>Modelo de Datos </a:t>
            </a:r>
            <a:r>
              <a:rPr b="0" lang="es-ES" sz="1800" spc="-1" strike="noStrike">
                <a:solidFill>
                  <a:srgbClr val="ffff00"/>
                </a:solidFill>
                <a:latin typeface="Arial"/>
              </a:rPr>
              <a:t>(o Arquitectura de la Dat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A83B-4D07-4B93-A9B1-3F25D059E27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6680" y="43920"/>
            <a:ext cx="7772400" cy="8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2.1 Arquitectura Físic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258920" y="1330200"/>
            <a:ext cx="7580160" cy="51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01760" indent="-401760">
              <a:lnSpc>
                <a:spcPct val="90000"/>
              </a:lnSpc>
              <a:spcBef>
                <a:spcPts val="1375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343080"/>
                <a:tab algn="l" pos="62532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La </a:t>
            </a:r>
            <a:r>
              <a:rPr b="1" i="1" lang="es-ES" sz="2200" spc="-1" strike="noStrike">
                <a:solidFill>
                  <a:srgbClr val="ffff00"/>
                </a:solidFill>
                <a:latin typeface="Arial"/>
              </a:rPr>
              <a:t>Arquitectura Física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expresa cuáles son los componentes físicos (cliente, servidor, servidor Web, BD, etc) que participan en nuestra solución, y la relación entre ello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375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343080"/>
                <a:tab algn="l" pos="62532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La especificación de la Arquitectura Física normalmente consta de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</a:rPr>
              <a:t>uno o más diagramas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, y la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</a:rPr>
              <a:t>explicación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de los mismos (actores y relaciones entre ellos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375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343080"/>
                <a:tab algn="l" pos="62532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En la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</a:rPr>
              <a:t>explicación de los diagramas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se debe especificar el nombre y la función de cada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</a:rPr>
              <a:t>actor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, y el tipo de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</a:rPr>
              <a:t>relación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que existe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</a:rPr>
              <a:t>entre ellos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(si existe alguna). También se pueden incluir ejemplos para clarificar aspectos un tanto abstracto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01760" indent="-401760">
              <a:lnSpc>
                <a:spcPct val="90000"/>
              </a:lnSpc>
              <a:spcBef>
                <a:spcPts val="1375"/>
              </a:spcBef>
              <a:spcAft>
                <a:spcPts val="825"/>
              </a:spcAft>
              <a:buClr>
                <a:srgbClr val="ffffff"/>
              </a:buClr>
              <a:buFont typeface="Wingdings" charset="2"/>
              <a:buChar char=""/>
              <a:tabLst>
                <a:tab algn="l" pos="343080"/>
                <a:tab algn="l" pos="62532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Típicamente, la </a:t>
            </a:r>
            <a:r>
              <a:rPr b="0" lang="es-ES" sz="2200" spc="-1" strike="noStrike">
                <a:solidFill>
                  <a:srgbClr val="ffff00"/>
                </a:solidFill>
                <a:latin typeface="Arial"/>
              </a:rPr>
              <a:t>arquitectura física es una formalización del ambiente operacional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</a:rPr>
              <a:t> definido en Docum. de Req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7488360" y="0"/>
            <a:ext cx="169200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4T23:27:42Z</dcterms:created>
  <dc:creator>DCC</dc:creator>
  <dc:description/>
  <dc:language>en-US</dc:language>
  <cp:lastModifiedBy>Sergio</cp:lastModifiedBy>
  <dcterms:modified xsi:type="dcterms:W3CDTF">2009-08-27T15:57:52Z</dcterms:modified>
  <cp:revision>966</cp:revision>
  <dc:subject/>
  <dc:title>Programas de Extención </dc:title>
</cp:coreProperties>
</file>