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1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B850E3-8AF3-4E61-AF4B-2CA56CAFB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6200AA-82AF-47BE-A005-F0D02C37F8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D6D4F5-E41C-46AB-A10E-005B6DD67B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411597-8F40-4CA2-85F0-91D08A9C8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36144A-0491-493E-8942-0AF87E3C16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77F625-E78B-4D01-9FBA-BB74DFD28A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2F71DE-C2CC-414C-9F33-53DEEFF51E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5F7AC9-F7A9-4489-A121-7FFB2F723F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7A2798-B592-4DFD-98B9-6B7F2E9EFB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628CC1-B5A5-430A-B846-3743934146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5469A1-63F6-4427-BA71-3CF6280B8D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442E6E-95A3-4353-B6C9-E806B28AD1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9B0ED7-E53C-42C0-831E-5A0ED6A8CF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7F25E2-96BE-4F3A-8E73-3B512CE3D3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C2C86D-32B4-42C3-9D87-0A0BFA3ABD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48390B-0F5C-4EAF-B347-0493D24E8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9F3C81-89A8-4257-91C5-1C8DBBAD82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54CF5E-8F50-4A59-A876-1CC71B014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1E77F0-0F2B-4E9F-88DC-08D45B26FE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7C2FBB-769D-48B4-A049-0BCFD8C1ED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7318122-9590-4E1C-88BF-6C849D12E6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B07E10-8F62-45E6-BCFB-62FE1E501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BFF81B-9E96-4AA8-8C6B-F4C07B011E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F2E98B-F576-43C5-A395-A85E2FE3D7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C8DE30-5C97-4504-9AB9-87A97F7977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2C49ED-FDC7-4220-AF4F-A2EF422D3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B30323-21F5-4D19-9812-FF686920E5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DC661E-0BBB-443C-BBFF-7848042F6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38DBF2-F22D-42F1-BB46-176B4D2DA6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712340-9249-4B62-9605-8AE878920F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DABCE0-B751-4CFE-9734-8F92412BF7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C1BBF2-7B05-4A8C-9A46-0101896E19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524CDA-8B18-4423-AF94-37EF59945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77919E-5300-4D14-B3DE-5F6CFD9921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B41F2B-777F-458C-B6B0-32349D8C08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3B6680-D916-4DF3-93E4-42F86F58D4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207C99-117E-4783-92F3-597FAA2815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CE2005-64CD-405A-BA26-95CEBE4EEE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976189-BB87-4ACB-BE32-8C3A1C583D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3BC413-539C-49D6-A410-3DBAEB220B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7D83FA-CFEC-4CE1-9A1B-E2ADF9E5AA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C2C067-7A69-4BE1-9660-56A9083D5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0656BF-EEB5-47C4-BBA2-BF2A9DC5CD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624EED-51E2-41B2-BFCB-FBE90894B4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5499B7-713F-4CC4-95D7-A1ECF74586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C3465A-8CF6-4EB0-95D8-1820CC172E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361A38-ED24-49E1-892F-733CA06A3F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7804BC-99A4-4E04-8C2E-0AE365783C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DD6093-A723-490D-8DAB-D77A2A6830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B27-7DAA-4946-8EC0-B9580C52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1EE-F85D-4BA4-A5A1-E3CDF0AC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076-239F-425C-AC88-D44CE9E8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BA3-3BD8-4D23-AB4E-F27618BF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197-E2D7-46BC-B2B4-8BBBB90F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625-682D-4052-B426-DC219D6F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FAB-4313-4343-8577-3EFD1630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666-8534-4B21-BEE5-DEB8B2C5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0BC-1B3B-49C7-8F45-477CFC10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625-7B89-4EF4-8D3A-3985BA02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168-52B6-41C8-A424-57FEF9D4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043-4DEB-4A31-AEA0-A0EF630B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CE5C-6599-4A91-8DF0-814DD4AB90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0032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1480" y="392868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Diseño: Arquitectónico y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1120" y="5692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13C-B840-44CF-B38C-420A47D5A9B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7486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08120" y="1143000"/>
            <a:ext cx="84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 de una Arquitectura Física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rules_arc"/>
          <p:cNvPicPr/>
          <p:nvPr/>
        </p:nvPicPr>
        <p:blipFill>
          <a:blip r:embed="rId1"/>
          <a:stretch/>
        </p:blipFill>
        <p:spPr>
          <a:xfrm>
            <a:off x="1801800" y="1782720"/>
            <a:ext cx="60102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CEA8-CEF4-4002-91B4-B41016D5A7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6680" y="1159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Picture 3" descr="mdb_arquitectura"/>
          <p:cNvPicPr/>
          <p:nvPr/>
        </p:nvPicPr>
        <p:blipFill>
          <a:blip r:embed="rId1"/>
          <a:stretch/>
        </p:blipFill>
        <p:spPr>
          <a:xfrm>
            <a:off x="1763640" y="1628640"/>
            <a:ext cx="655344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830680" y="58197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In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84E0-8EA2-4C15-9FF5-D02765FD4A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9080" y="54000"/>
            <a:ext cx="7920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32000" y="1197000"/>
            <a:ext cx="770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tendencia hacia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rquitecturas físicas de tres cap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nunca ha sido tan fuerte como ahora. Todo gracias al espectacular crecimiento de las aplicacione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arquitectura de tres capas permite que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interfaces de usuarios, la lógica empresaria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os datos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idan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por separado.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posiblemente operen en máquinas diferentes con conexión en 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 factor destacable de esta arquitectura es la posibilidad de que un browser pueda acceder a l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ógica empresarial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 la información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, mientras que ésta permanece 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salvo tras un firewal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7E83-CBF4-4833-9D50-B927E9D18B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0"/>
            <a:ext cx="8028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47640" y="5791320"/>
            <a:ext cx="65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340000" y="1905120"/>
            <a:ext cx="5638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FECF-DCCA-4B1A-8A4B-B52CCDA150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1374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1303200"/>
            <a:ext cx="770400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a arquitectura es una especialización de la Arquitectura Cliente/Servi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1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programa que utiliza el usuario para acceder a la funcionalidad del sistema. Este programa, que generalmente es un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navegador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forma parte del 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2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ervidor Web, servidor de aplicación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y posiblemente algunos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accesorios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como por ejemplo: adm. de transacciones, adm. de servicios internos, adm. de seguridad, etc. Esta capa forma parte del servidor, aunque sus componentes pueden ejecutar en diferente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3: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á compuesto por el modelo de datos del sistema, y por el administrador de estos datos (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ABD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). Esta capa forma parte del servidor, aunque puede correr en cualquier máqu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7B45-A0BC-4638-B8E6-0F7B05C753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9218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86000" y="1052640"/>
            <a:ext cx="750708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sta arquitectura necesita de "pegamento Web", que es un software que une el mundo HTML, con entornos capaces de soportar aplicaciones empresariales (adm. de transacciones, seguridad, datawarehouse, etc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Una vez que las compañías se han instalado en el mundo de las aplicaciones Web de tres capas,</a:t>
            </a:r>
            <a:r>
              <a:rPr b="0" i="1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00"/>
                </a:solidFill>
                <a:latin typeface="Tahoma"/>
              </a:rPr>
              <a:t>obtienen importantes ventaj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calabilidad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Reutilización del códi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dministración de transacciones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flexibilidad, adaptabilidad y capacidad de expa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manteni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8E51-B889-423B-B41F-C63EEB110E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151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673360" y="188928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411280" y="58514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0E96-54DC-46EE-B351-E21F72017C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4280"/>
            <a:ext cx="7935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en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593800" y="907920"/>
            <a:ext cx="49136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9425-84FC-4824-91DD-0099139046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2.2 Arquitectura Lóg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2000" y="1267920"/>
            <a:ext cx="7788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Arquitectura Lógica</a:t>
            </a: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xpresa cuáles son los componentes lógicos (subsistemas, o macro-funciones) que participan en nuestra solución, y la relación entre ell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especificación de esta arquitectura, e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similar a la arq.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Se especifican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actores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relaciones entre ellos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, sólo que los actores ahora son: subsistemas de mi solución, macro-funciones de la misma o entidades externa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n lo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diagramas que expresan tanto la arq. lógica como la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, se puede utilizar casi cualquier simbología que clarifique el escenario (DFD, Diagr. de clases, bloques, casos de uso, dibujo informal, etc)... a menos que existan restricciones al respecto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A continuación se muestran algunos ejemplos de Arquitecturas Lógicas de Sistema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8D98-D532-43B6-A869-C908E946F4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12560" y="44280"/>
            <a:ext cx="7723080" cy="7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DFD-1"/>
          <p:cNvPicPr/>
          <p:nvPr/>
        </p:nvPicPr>
        <p:blipFill>
          <a:blip r:embed="rId1"/>
          <a:stretch/>
        </p:blipFill>
        <p:spPr>
          <a:xfrm>
            <a:off x="1273320" y="1565280"/>
            <a:ext cx="76197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2"/>
          <p:cNvSpPr/>
          <p:nvPr/>
        </p:nvSpPr>
        <p:spPr>
          <a:xfrm>
            <a:off x="1785960" y="0"/>
            <a:ext cx="5859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6A34-BA80-4403-A240-AACA392F68A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17240" y="115920"/>
            <a:ext cx="7575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DFD-2"/>
          <p:cNvPicPr/>
          <p:nvPr/>
        </p:nvPicPr>
        <p:blipFill>
          <a:blip r:embed="rId1"/>
          <a:stretch/>
        </p:blipFill>
        <p:spPr>
          <a:xfrm>
            <a:off x="2427120" y="1268280"/>
            <a:ext cx="5313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5A9B-D800-48BF-AFA6-FACD2EDC5B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ejemplo2"/>
          <p:cNvPicPr/>
          <p:nvPr/>
        </p:nvPicPr>
        <p:blipFill>
          <a:blip r:embed="rId1"/>
          <a:stretch/>
        </p:blipFill>
        <p:spPr>
          <a:xfrm>
            <a:off x="1339920" y="1341360"/>
            <a:ext cx="7696080" cy="2324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2216160" y="4437000"/>
          <a:ext cx="6172200" cy="21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6160" y="4437000"/>
                    <a:ext cx="617220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0246-16B5-4706-A3B6-9B46F9DF02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948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figure4_lg"/>
          <p:cNvPicPr/>
          <p:nvPr/>
        </p:nvPicPr>
        <p:blipFill>
          <a:blip r:embed="rId1"/>
          <a:stretch/>
        </p:blipFill>
        <p:spPr>
          <a:xfrm>
            <a:off x="2087640" y="1916280"/>
            <a:ext cx="59403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9DCD-C865-413F-A0AB-E037B7A42E0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668680" y="1413000"/>
            <a:ext cx="4856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1DDB-46E0-4870-A01E-AA7CCB905D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171440" y="1079640"/>
            <a:ext cx="7640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0F1B-4E75-4EF5-A0F6-3733A155351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6320" y="44280"/>
            <a:ext cx="77724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575080" y="3708360"/>
          <a:ext cx="487656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3708360"/>
                    <a:ext cx="487656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452600" y="1125360"/>
            <a:ext cx="765648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l modelo de datos consiste en identificar gráficamente las entidades (o tablas) que participan en mi sistema, ya sean nuevas o existen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Identificar la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 primaria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y las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s foráne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de cada u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Podrían incluirse también otros campos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0AEA-9B11-4A23-BDB3-C1FF16C5D4F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9232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mod_datos"/>
          <p:cNvPicPr/>
          <p:nvPr/>
        </p:nvPicPr>
        <p:blipFill>
          <a:blip r:embed="rId1"/>
          <a:stretch/>
        </p:blipFill>
        <p:spPr>
          <a:xfrm>
            <a:off x="2819520" y="1335240"/>
            <a:ext cx="4548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918E-FD47-4664-B550-2131E7F02F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6680" y="523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7640" y="1593720"/>
            <a:ext cx="45370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D22B-20F5-41AB-B224-63A488F81B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 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213920"/>
            <a:ext cx="788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detallad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i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tiene que tener en cuenta los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última versión) y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arquitectónico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ara efectos del proyecto especificaremos el Diseño Detallado a través d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seño Detallado de Módul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Interfaces de Usu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ccionario de Da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32A1-BACF-468A-95A3-851A8FE186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dfd-1"/>
          <p:cNvPicPr/>
          <p:nvPr/>
        </p:nvPicPr>
        <p:blipFill>
          <a:blip r:embed="rId1"/>
          <a:stretch/>
        </p:blipFill>
        <p:spPr>
          <a:xfrm>
            <a:off x="3352680" y="2362320"/>
            <a:ext cx="5600880" cy="42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dfd-2"/>
          <p:cNvPicPr/>
          <p:nvPr/>
        </p:nvPicPr>
        <p:blipFill>
          <a:blip r:embed="rId2"/>
          <a:stretch/>
        </p:blipFill>
        <p:spPr>
          <a:xfrm>
            <a:off x="914400" y="1197000"/>
            <a:ext cx="2362320" cy="1881000"/>
          </a:xfrm>
          <a:prstGeom prst="rect">
            <a:avLst/>
          </a:prstGeom>
          <a:ln w="0">
            <a:noFill/>
          </a:ln>
        </p:spPr>
      </p:pic>
      <p:sp>
        <p:nvSpPr>
          <p:cNvPr id="156" name="7 Conector recto"/>
          <p:cNvSpPr/>
          <p:nvPr/>
        </p:nvSpPr>
        <p:spPr>
          <a:xfrm flipH="1" flipV="1">
            <a:off x="3428640" y="4059000"/>
            <a:ext cx="1143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A8A0-6177-4523-9209-80E1239415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3200" y="23079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PARTE 4: 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F75C-373C-4CB5-8AC3-24BDE5D1C8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16280" y="981000"/>
            <a:ext cx="49957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4C88-DD89-4393-96D8-170AF74870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7770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32000" y="2133720"/>
            <a:ext cx="452592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debe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antener las interfac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entrada/sal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uno de los módulos del sistema se debe tener un identificador, que luego será usado en el diccionario de datos, para especific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ID, Nombre (o descripción), Subsistema (o componente), Función, Parámetros de Entrada, Parámetros de Sa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26160" y="2492280"/>
            <a:ext cx="3417840" cy="4365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332000" y="105264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sistema o sub-sistema se debe descomponer en una serie d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ódulos interrelacionad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B39E-B743-4ACF-83EE-BEC7FD8CFF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850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777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pecificar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l sistema, identificando cada uno de sus compon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 continuación se muestran ejemplos de modelos de navegación, para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268360" y="3983040"/>
            <a:ext cx="59756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1211-E64E-4DBC-BDD9-C4FCF3A646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360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Picture 3" descr="naveg"/>
          <p:cNvPicPr/>
          <p:nvPr/>
        </p:nvPicPr>
        <p:blipFill>
          <a:blip r:embed="rId1"/>
          <a:stretch/>
        </p:blipFill>
        <p:spPr>
          <a:xfrm>
            <a:off x="1476360" y="1600200"/>
            <a:ext cx="4952880" cy="2435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naveg3"/>
          <p:cNvPicPr/>
          <p:nvPr/>
        </p:nvPicPr>
        <p:blipFill>
          <a:blip r:embed="rId2"/>
          <a:stretch/>
        </p:blipFill>
        <p:spPr>
          <a:xfrm>
            <a:off x="4549680" y="4278240"/>
            <a:ext cx="43434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19F8-62A2-4F8E-9F78-B2ED867FC40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668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1268280" y="2044800"/>
          <a:ext cx="776772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2044800"/>
                    <a:ext cx="776772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65ED-4188-4AE6-B46F-066DA8BACFD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2320" y="4428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 Interfaz de Usuari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195640" y="1523880"/>
          <a:ext cx="588780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23880"/>
                    <a:ext cx="588780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043000" y="5010120"/>
            <a:ext cx="634536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la Interfaz de Usuario hay que defin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1 Patrón de interfaz a usar (si hay algu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2 Diseño de cada Interf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6488-8CE6-4E0F-B5F7-8ADC898B1F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9480" y="43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1 Patrón de Interfaz a Usar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1828800" y="1122480"/>
          <a:ext cx="655956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22480"/>
                    <a:ext cx="65595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57EC-3E43-475A-A409-C10B09A5FE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17280"/>
            <a:ext cx="777240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3.2 Diseño de Cada Interfa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2124000" y="1623960"/>
          <a:ext cx="588816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23960"/>
                    <a:ext cx="58881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4"/>
          <p:cNvSpPr/>
          <p:nvPr/>
        </p:nvSpPr>
        <p:spPr>
          <a:xfrm>
            <a:off x="1763640" y="5154480"/>
            <a:ext cx="7172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diseña cada interfaz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que guarde relación con el modelo de navegación (3.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objetivo e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ducir la sor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838E-EDE7-49DD-8C8B-B1EDE06246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82720" y="43920"/>
            <a:ext cx="81532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3" name="Picture 3" descr="pant_2"/>
          <p:cNvPicPr/>
          <p:nvPr/>
        </p:nvPicPr>
        <p:blipFill>
          <a:blip r:embed="rId1"/>
          <a:stretch/>
        </p:blipFill>
        <p:spPr>
          <a:xfrm>
            <a:off x="1611360" y="2079720"/>
            <a:ext cx="7208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EC88-CC33-4717-999B-EDF75065EB1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55800" y="43920"/>
            <a:ext cx="815328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6" name="Picture 3" descr="pant_1"/>
          <p:cNvPicPr/>
          <p:nvPr/>
        </p:nvPicPr>
        <p:blipFill>
          <a:blip r:embed="rId1"/>
          <a:stretch/>
        </p:blipFill>
        <p:spPr>
          <a:xfrm>
            <a:off x="2241720" y="1341360"/>
            <a:ext cx="5715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6389-DBA9-4CAF-953E-A4D9D6802A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520" y="44280"/>
            <a:ext cx="86104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3600" y="1492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1 Propósito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2 Ámbito (Definición del Problema)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3 Definiciones, Siglas y Abreviatur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4 Referenci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5 Visión General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6 Servicios a Brindar por el Produ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E1F2-6339-466B-997F-EE0DE53D1B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pant_4"/>
          <p:cNvPicPr/>
          <p:nvPr/>
        </p:nvPicPr>
        <p:blipFill>
          <a:blip r:embed="rId1"/>
          <a:stretch/>
        </p:blipFill>
        <p:spPr>
          <a:xfrm>
            <a:off x="1384200" y="2271600"/>
            <a:ext cx="75805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575F-A0AA-4011-BE18-16BBD30E42F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7440" y="43920"/>
            <a:ext cx="75582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" name="Picture 3" descr="pant_5"/>
          <p:cNvPicPr/>
          <p:nvPr/>
        </p:nvPicPr>
        <p:blipFill>
          <a:blip r:embed="rId1"/>
          <a:stretch/>
        </p:blipFill>
        <p:spPr>
          <a:xfrm>
            <a:off x="1620720" y="2492280"/>
            <a:ext cx="71992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1A77-FF89-4B5F-88E3-BC0D56A0FC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4 Diccionari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43000" y="1052640"/>
            <a:ext cx="80010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ccionario de da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complementa el diseño mostrado en todos los puntos anteri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diccionario de datos tiene 2 componentes: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specificación de Módulos </a:t>
            </a:r>
            <a:r>
              <a:rPr b="0" i="1" lang="es-ES" sz="1800" spc="-1" strike="noStrike">
                <a:solidFill>
                  <a:srgbClr val="ffff00"/>
                </a:solidFill>
                <a:latin typeface="Tahoma"/>
              </a:rPr>
              <a:t>(artefactos de diseño)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de Da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Módulo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Pág.Web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módulo especificado en el punto 3.1, se indica su función, los parámetros que recibe, y los parámetros que reto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Datos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tabla se especifican los campos y su form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7451640" y="5084640"/>
            <a:ext cx="1692360" cy="1773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2268360" y="5126040"/>
            <a:ext cx="2295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B2FA-30E1-4519-A00F-51CC8FD27BE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j. de Especificac.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5960" y="1213920"/>
            <a:ext cx="7129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greso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dministración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el ingreso/actualización de sus datos personales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RUT (Char(13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o H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olicitud de Certifi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ertif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solicitar un certificado´tipo A, B, y/o C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úmero de matrícula (Char(9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úmero de solicitud (Entero Serial)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CBDB-E899-46DC-B475-3581C4B9EE7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Especificación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2052720" y="2108160"/>
          <a:ext cx="633564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2108160"/>
                    <a:ext cx="63356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4"/>
          <p:cNvSpPr/>
          <p:nvPr/>
        </p:nvSpPr>
        <p:spPr>
          <a:xfrm>
            <a:off x="1332000" y="1125360"/>
            <a:ext cx="76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cada tabla se especifican los campos, su formato y su valid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2F4C-B995-496A-9274-A6D6528AADB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. Matriz de Trazad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00120" y="1052640"/>
            <a:ext cx="74916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es un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de contro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 función principal es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ver que el diseño refleja los requisi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pecific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de sus funciones tiene que ver con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control de la calidad del diseñ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e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es muy úti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i uno aprende a sacar p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cho de 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debe ir completándose en la medida que el trabajo de diseño avanza. Esta es una actividad paralela a la del dise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jemplo de un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6805-18F7-4D8A-9A9F-D04AFD149E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621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1447920" y="1095480"/>
            <a:ext cx="74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00120" y="1500120"/>
            <a:ext cx="7429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En el Doc. de Diseño, la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matriz de trazad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debe mapear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rtefactos de Diseñ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on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Req.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Sólo los req. funcionales son mape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conflictos o dudas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7200" y="1285560"/>
            <a:ext cx="77868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Documento de Diseño (DD) es el producto de la fase de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Normalmente, a este documento lo puede acompañar un prototipo del sistema (y es aconsejable que así se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formato del documento de diseño depende un poco del tipo de proyecto, y de las tecnologías involucr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. por lo tanto, pueden ajustarlo a sus necesidade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pero no en este curso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71760" y="1142640"/>
            <a:ext cx="72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 pero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CUIDADO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en el DD no puede faltar nad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que después se necesite durante la imple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Utilicen ReqAdmin para mape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los Módulos del Sistema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, con los Requisitos de Software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o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se va a revis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en la inspección d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D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íjense que la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rices de trazado se obtienen automáticamente en ReqAdmi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EB71-9411-4243-B4F2-3C54DF2A74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520" y="43920"/>
            <a:ext cx="86104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5080" y="1196640"/>
            <a:ext cx="7199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1 Arquitectur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2 Arquitectura Lógic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esto viene del Doc. de Req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Modelo de Dato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Detallado de Mód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.2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Modelo de Navegación del Sistem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Interf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e Usuario 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todas las importa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iccionari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1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Diseñ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20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La Arquitectura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odelo de Datos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(si correspond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iseño Detallado de los Principales Módulos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Interfaces de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24080" y="1500120"/>
            <a:ext cx="7819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2.  El protocolo de Revisión es igual al del Doc. de Req.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Profesor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Se escogerán requisitos funcionales de software al azar, y el diseñador deberá explicar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 cómo del diseño permite su cumpl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EB53-7343-43C5-A38B-E6A5E838D8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143000"/>
            <a:ext cx="750708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1 Propósito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el propósito d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576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2 Alcance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establece el alcance del sistema a desarrollar (¿qué está dentro y qué está fuera?)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3 Definiciones, acrónimos y abreviaciones.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stado de acrónimos, con su signifi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4 Referencias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 colocan las referencias de los documentos utilizados para construir el D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5 Descripción general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a grandes rasgos, 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DA71-EED5-487D-BE63-013405E2CD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8560" y="1341000"/>
            <a:ext cx="7777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00"/>
                </a:solidFill>
                <a:latin typeface="Arial"/>
              </a:rPr>
              <a:t>1.6 Servicios a Brindar por el Producto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e identifican los servicios que debe brindar el producto, entiénda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Cons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ABM (altas, bajas y modificaciones) de datos sobre entidades (mantened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Emisión de formularios por pantalla/impr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Otros proc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334120" y="4410000"/>
            <a:ext cx="3809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232A-E555-4AB0-84A1-4DB56F3AD93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1640" y="44280"/>
            <a:ext cx="77770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2: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Diseño Arquitectón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83840" y="1170000"/>
            <a:ext cx="765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arquitectónic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a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tener en cuenta los 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sección 3.2 del Doc. de Req.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xisten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muchas técnicas y lenguajes para especificar la arquitectur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un sistema. Nosotros consideraremos que el DA está formado por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1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2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Lóg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l Softwa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3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Datos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 la Dat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32A9-A151-40D6-95F7-5725B935271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2.1 Arquitectura Fí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258920" y="1330200"/>
            <a:ext cx="758016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expresa cuáles son los componentes físicos (cliente, servidor, servidor Web, BD, etc) que participan en nuestra solución, y la relación entre ello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especificación de la Arquitectura Física normalmente consta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uno o má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e los mismos (actores y relaciones entre ell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de lo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se debe especificar el nombre y la función de cad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cto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el tipo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que exist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ntre ello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(si existe alguna). También se pueden incluir ejemplos para clarificar aspectos un tanto abstrac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ípicamente,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rquitectura física es una formalización del ambiente operacional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definido en Docum. de Req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488360" y="0"/>
            <a:ext cx="16920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8-27T15:57:52Z</dcterms:modified>
  <cp:revision>966</cp:revision>
  <dc:subject/>
  <dc:title>Programas de Extención </dc:title>
</cp:coreProperties>
</file>