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35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11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B9ABD2-7345-48FF-8132-11CBC5794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652CA3-DC3B-4615-8AA8-1C0336F242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146EE4-62B1-43AC-AB10-5D8F0568EF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5BCA59-EF80-4E29-B643-7C7D3A0B14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B36F2D-8217-489F-AA56-2C9CC791CE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4FD847-5DAE-4F13-BC0E-72AE5A90FB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0DDE31-0E3D-404D-9B16-F6AD08AB80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0551CD-BEEE-45E1-9091-6459756D8D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B7252D-F6EB-47F3-97EA-348CEC1800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F4E588-C9C0-4501-871A-8453A05BF1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6C0D91-76D4-4F09-A9F5-8DC0DD571C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D5D4CB-EC9D-4D62-8F03-DD9003549D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E78EC20-8882-4181-A5D0-8388208400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1A42C1D-A81D-4CEC-9FFA-4E8D38CA7D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61DEA7-EC4E-4084-A241-4C45F9672C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901A94-117B-43E4-9862-EEC96ADDD2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FB98BB-BFC3-4104-80FA-D0AC4F80E7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7925A5C-8D96-4360-9B50-160338156B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36692D-6D4F-40C7-8898-E1102B4D8B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8FE9E7-D3AB-4C50-9070-14A63EFE8C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A9CCE8-B849-405D-9814-0B82DF131C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178557-1EA6-44C7-BDFD-CB5A997F60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61A09E0-D286-46E8-8FB5-E771E0580A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4553F7-CD5A-4323-8A47-023B5FE56A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2A8D49-89A3-4456-90B4-375A0AD145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BC5E0BB-6900-433B-B88E-D72A4E5516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C700F0-1859-4A4C-84DD-6B93F8F3AD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C0F7B0-8579-42E4-8099-7748210E14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F9BC9C-E836-4808-87FA-F1BFB114DE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A50DEB-18FF-4751-B5D1-0D1253725D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8FE9EF-1371-4C11-B845-541C2BD5F4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BCC516-2235-48F8-A298-C14710E103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E1FDB3D-E5A9-45E2-B2D5-36F2FD4570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B0720B-1C3D-45D9-ADF6-705FFA7245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F8D2A0-9523-4776-9237-1D692EB82B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E4DFBA5-4714-400B-BE6E-B2728C70BF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542A10-2791-4DBF-B323-6C576C6CBE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F0703D-09D3-4B7F-A52C-23EB907ECE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BAD881-952E-4253-AAC0-8D997458DB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FFD8652-F1ED-48B5-95BD-A46D2B0346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5435D5-FC4C-4F4A-AE36-860A974B44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7E7587-B5FB-4648-93DE-F68BF16FF5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D412E16-A93D-42C1-A6AE-2D1E360E5A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C92041-09C9-41CE-97BD-DE7B94DCB1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B02AAE8-7AAC-4E7E-89F6-D1D2A97085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054EA8-46C7-4802-8489-8AC0628E04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68F40C-34CC-4136-AC30-A6888170A9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F0ABAB-3DAD-4BC1-8E66-D7D572AA73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214C0D-4115-40E0-9EA9-78B7A51D3A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790-7DD8-412E-B294-6E0223F0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5E9-4234-4E67-A8C1-F3F3EE0D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C91-8906-4236-B91B-FCFC421D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210-6D43-4724-B254-43B08BAE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C4E-1C50-4259-804E-BEFD547C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E6B-E014-4C91-9352-B43C8732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A9F-137C-4ADB-BAB7-F675DF7C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6B3-CEAD-4F2E-8959-9C34432C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84E-587F-4058-9701-6AB268DA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BC0-C198-4912-BAD1-6037C0DB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C8F-F62F-4EDF-8E24-6576C88D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B33-9F92-440C-AB85-83D9E6F2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7825-9861-4B03-B564-4C876322CF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0032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C51A – Ingeniería de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1480" y="392868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Diseño: Arquitectónico y Deta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81120" y="56926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F03F-3ADC-4509-B71D-5BB3A889DD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7280" y="43920"/>
            <a:ext cx="7486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(cont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08120" y="1143000"/>
            <a:ext cx="84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 de una Arquitectura Física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(o Ambiente Operac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rules_arc"/>
          <p:cNvPicPr/>
          <p:nvPr/>
        </p:nvPicPr>
        <p:blipFill>
          <a:blip r:embed="rId1"/>
          <a:stretch/>
        </p:blipFill>
        <p:spPr>
          <a:xfrm>
            <a:off x="1801800" y="1782720"/>
            <a:ext cx="60102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4020-D54A-4A4A-B106-724E72D03B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6680" y="11592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(cont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Picture 3" descr="mdb_arquitectura"/>
          <p:cNvPicPr/>
          <p:nvPr/>
        </p:nvPicPr>
        <p:blipFill>
          <a:blip r:embed="rId1"/>
          <a:stretch/>
        </p:blipFill>
        <p:spPr>
          <a:xfrm>
            <a:off x="1763640" y="1628640"/>
            <a:ext cx="6553440" cy="3816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830680" y="58197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quitectura Inf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2A6A-4495-43BD-97D0-539E4E08A2F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9080" y="54000"/>
            <a:ext cx="7920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32000" y="1197000"/>
            <a:ext cx="7704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tendencia hacia las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arquitecturas físicas de tres capa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nunca ha sido tan fuerte como ahora. Todo gracias al espectacular crecimiento de las aplicacione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arquitectura de tres capas permite que las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interfaces de usuarios, la lógica empresarial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los datos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sidan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por separado.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Y posiblemente operen en máquinas diferentes con conexión en 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Un factor destacable de esta arquitectura es la posibilidad de que un browser pueda acceder a la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lógica empresarial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a la información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, mientras que ésta permanece a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salvo tras un firewall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E158-FD71-4C28-BB9D-570EC8B4A00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0"/>
            <a:ext cx="80280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547640" y="5791320"/>
            <a:ext cx="65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quitectura Física de Tres C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340000" y="1905120"/>
            <a:ext cx="56386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6C66-0327-428A-A8D8-DC850E9207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1374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2000" y="1303200"/>
            <a:ext cx="770400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ta arquitectura es una especialización de la Arquitectura Cliente/Servi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1: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Está compuesto por el programa que utiliza el usuario para acceder a la funcionalidad del sistema. Este programa, que generalmente es un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navegador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, forma parte del cl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2: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Está compuesto por el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servidor Web, servidor de aplicación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y posiblemente algunos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accesorios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, como por ejemplo: adm. de transacciones, adm. de servicios internos, adm. de seguridad, etc. Esta capa forma parte del servidor, aunque sus componentes pueden ejecutar en diferentes máqu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3: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tá compuesto por el modelo de datos del sistema, y por el administrador de estos datos (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SABD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). Esta capa forma parte del servidor, aunque puede correr en cualquier máqu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2353-8E49-4159-8FFC-188892F5F72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9218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86000" y="1052640"/>
            <a:ext cx="750708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3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sta arquitectura necesita de "pegamento Web", que es un software que une el mundo HTML, con entornos capaces de soportar aplicaciones empresariales (adm. de transacciones, seguridad, datawarehouse, etc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Una vez que las compañías se han instalado en el mundo de las aplicaciones Web de tres capas,</a:t>
            </a:r>
            <a:r>
              <a:rPr b="0" i="1" lang="es-A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200" spc="-1" strike="noStrike">
                <a:solidFill>
                  <a:srgbClr val="ffff00"/>
                </a:solidFill>
                <a:latin typeface="Tahoma"/>
              </a:rPr>
              <a:t>obtienen importantes ventaj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calabilidad mej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Reutilización del códi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Administración de transacciones mej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flexibilidad, adaptabilidad y capacidad de expan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manteni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35E5-05A4-4115-84FF-4C11F636C2B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1518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673360" y="1889280"/>
            <a:ext cx="4800600" cy="3595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411280" y="58514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a Arquitectura Física de Tres C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CBBF-762E-4E7E-A51F-F55219D1F73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4280"/>
            <a:ext cx="79358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en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593800" y="907920"/>
            <a:ext cx="49136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D280-499D-4976-9F33-8FCF1F9ECDC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2.2 Arquitectura Lóg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32000" y="1267920"/>
            <a:ext cx="7788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Arquitectura Lógica</a:t>
            </a:r>
            <a:r>
              <a:rPr b="1" i="1" lang="es-E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expresa cuáles son los componentes lógicos (subsistemas, o macro-funciones) que participan en nuestra solución, y la relación entre ell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La especificación de esta arquitectura, es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similar a la arq. física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Se especifican </a:t>
            </a:r>
            <a:r>
              <a:rPr b="0" lang="es-ES" sz="1900" spc="-1" strike="noStrike">
                <a:solidFill>
                  <a:srgbClr val="ffff00"/>
                </a:solidFill>
                <a:latin typeface="Arial"/>
              </a:rPr>
              <a:t>actores 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s-ES" sz="1900" spc="-1" strike="noStrike">
                <a:solidFill>
                  <a:srgbClr val="ffff00"/>
                </a:solidFill>
                <a:latin typeface="Arial"/>
              </a:rPr>
              <a:t>relaciones entre ellos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, sólo que los actores ahora son: subsistemas de mi solución, macro-funciones de la misma o entidades externas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En los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diagramas que expresan tanto la arq. lógica como la física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, se puede utilizar casi cualquier simbología que clarifique el escenario (DFD, Diagr. de clases, bloques, casos de uso, dibujo informal, etc)... a menos que existan restricciones al respecto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A continuación se muestran algunos ejemplos de Arquitecturas Lógicas de Sistema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4F32-903C-455C-A5A7-AB9EC4C22E0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12560" y="44280"/>
            <a:ext cx="7723080" cy="7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DFD-1"/>
          <p:cNvPicPr/>
          <p:nvPr/>
        </p:nvPicPr>
        <p:blipFill>
          <a:blip r:embed="rId1"/>
          <a:stretch/>
        </p:blipFill>
        <p:spPr>
          <a:xfrm>
            <a:off x="1273320" y="1565280"/>
            <a:ext cx="76197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5"/>
          <p:cNvGraphicFramePr/>
          <p:nvPr/>
        </p:nvGraphicFramePr>
        <p:xfrm>
          <a:off x="2143080" y="1052640"/>
          <a:ext cx="516276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052640"/>
                    <a:ext cx="516276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2"/>
          <p:cNvSpPr/>
          <p:nvPr/>
        </p:nvSpPr>
        <p:spPr>
          <a:xfrm>
            <a:off x="1785960" y="0"/>
            <a:ext cx="5859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Diseñ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35F4-A193-484C-AE36-55204C39C7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17240" y="115920"/>
            <a:ext cx="7575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DFD-2"/>
          <p:cNvPicPr/>
          <p:nvPr/>
        </p:nvPicPr>
        <p:blipFill>
          <a:blip r:embed="rId1"/>
          <a:stretch/>
        </p:blipFill>
        <p:spPr>
          <a:xfrm>
            <a:off x="2427120" y="1268280"/>
            <a:ext cx="5313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AFE2-FA6E-40E5-A41B-94D262468E4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ejemplo2"/>
          <p:cNvPicPr/>
          <p:nvPr/>
        </p:nvPicPr>
        <p:blipFill>
          <a:blip r:embed="rId1"/>
          <a:stretch/>
        </p:blipFill>
        <p:spPr>
          <a:xfrm>
            <a:off x="1339920" y="1341360"/>
            <a:ext cx="7696080" cy="2324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2216160" y="4437000"/>
          <a:ext cx="6172200" cy="21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6160" y="4437000"/>
                    <a:ext cx="617220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B1D1-571B-49CA-8B8A-30B63079164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9480" y="44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figure4_lg"/>
          <p:cNvPicPr/>
          <p:nvPr/>
        </p:nvPicPr>
        <p:blipFill>
          <a:blip r:embed="rId1"/>
          <a:stretch/>
        </p:blipFill>
        <p:spPr>
          <a:xfrm>
            <a:off x="2087640" y="1916280"/>
            <a:ext cx="594036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898A-5D9B-4D6F-B083-4C06113E13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44280"/>
            <a:ext cx="8066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668680" y="1413000"/>
            <a:ext cx="4856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9634-AA18-4730-9D30-FFE7370B0A4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44280"/>
            <a:ext cx="8066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171440" y="1079640"/>
            <a:ext cx="76406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E60D-C0E3-4646-81BD-DFB75E62394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6320" y="44280"/>
            <a:ext cx="77724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3 Model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575080" y="3708360"/>
          <a:ext cx="487656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3708360"/>
                    <a:ext cx="487656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452600" y="1125360"/>
            <a:ext cx="765648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l modelo de datos consiste en identificar gráficamente las entidades (o tablas) que participan en mi sistema, ya sean nuevas o existen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- Identificar la </a:t>
            </a:r>
            <a:r>
              <a:rPr b="0" lang="es-ES" sz="2200" spc="-1" strike="noStrike">
                <a:solidFill>
                  <a:srgbClr val="ffff00"/>
                </a:solidFill>
                <a:latin typeface="Tahoma"/>
              </a:rPr>
              <a:t>clave primaria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y las </a:t>
            </a:r>
            <a:r>
              <a:rPr b="0" lang="es-ES" sz="2200" spc="-1" strike="noStrike">
                <a:solidFill>
                  <a:srgbClr val="ffff00"/>
                </a:solidFill>
                <a:latin typeface="Tahoma"/>
              </a:rPr>
              <a:t>claves foránea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de cada un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- Podrían incluirse también otros campos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8636-E9D9-4FB0-8368-FFA56255199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92320" y="4392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3 Model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mod_datos"/>
          <p:cNvPicPr/>
          <p:nvPr/>
        </p:nvPicPr>
        <p:blipFill>
          <a:blip r:embed="rId1"/>
          <a:stretch/>
        </p:blipFill>
        <p:spPr>
          <a:xfrm>
            <a:off x="2819520" y="1335240"/>
            <a:ext cx="4548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C878-FF84-455B-AB79-28844002AC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6680" y="523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eño Detall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7640" y="1593720"/>
            <a:ext cx="45370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C134-5517-4EF5-8D26-394EA582FB1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8600" y="44280"/>
            <a:ext cx="861048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3. Diseño Detall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560" y="1213920"/>
            <a:ext cx="788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l diseño detallado tiene que ver con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de las micro-componente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nuestro sistem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bviamente, este diseño tiene que tener en cuenta los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requisitos de softwar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(última versión) y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arquitectónico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ara efectos del proyecto especificaremos el Diseño Detallado a través d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Diseño Detallado de Módul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Modelo de Naveg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Interfaces de Usu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Diccionario de Da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84BD-753F-47BB-BBC2-A7A9DE3526C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44280"/>
            <a:ext cx="78487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dfd-1"/>
          <p:cNvPicPr/>
          <p:nvPr/>
        </p:nvPicPr>
        <p:blipFill>
          <a:blip r:embed="rId1"/>
          <a:stretch/>
        </p:blipFill>
        <p:spPr>
          <a:xfrm>
            <a:off x="3352680" y="2362320"/>
            <a:ext cx="5600880" cy="429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dfd-2"/>
          <p:cNvPicPr/>
          <p:nvPr/>
        </p:nvPicPr>
        <p:blipFill>
          <a:blip r:embed="rId2"/>
          <a:stretch/>
        </p:blipFill>
        <p:spPr>
          <a:xfrm>
            <a:off x="914400" y="1197000"/>
            <a:ext cx="2362320" cy="1881000"/>
          </a:xfrm>
          <a:prstGeom prst="rect">
            <a:avLst/>
          </a:prstGeom>
          <a:ln w="0">
            <a:noFill/>
          </a:ln>
        </p:spPr>
      </p:pic>
      <p:sp>
        <p:nvSpPr>
          <p:cNvPr id="156" name="7 Conector recto"/>
          <p:cNvSpPr/>
          <p:nvPr/>
        </p:nvSpPr>
        <p:spPr>
          <a:xfrm flipH="1" flipV="1">
            <a:off x="3428640" y="4059000"/>
            <a:ext cx="1143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383E-AE6D-486F-9938-07900ABFD3B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44280"/>
            <a:ext cx="861048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3200" y="23079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1: Descripción General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2: Diseño Arquitectónico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3: Diseño Detal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PARTE 4: Matriz de Tra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2412-C128-4D7D-8CE4-609EB83E5C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44280"/>
            <a:ext cx="78487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816280" y="981000"/>
            <a:ext cx="499572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66A7-47C2-4268-9C2D-1BACD231145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7770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32000" y="2133720"/>
            <a:ext cx="452592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e debe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antener las interface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entrada/sal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da uno de los módulos del sistema se debe tener un identificador, que luego será usado en el diccionario de datos, para especific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ID, Nombre (o descripción), Subsistema (o componente), Función, Parámetros de Entrada, Parámetros de Sal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26160" y="2492280"/>
            <a:ext cx="3417840" cy="4365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1332000" y="1052640"/>
            <a:ext cx="78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da sistema o sub-sistema se debe descomponer en una serie d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ódulos interrelacionado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9E59-5F01-45EA-8DCD-BA23B009BE7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850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del Sist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31640" y="1341000"/>
            <a:ext cx="777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pecificar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odelo de navegació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l sistema, identificando cada uno de sus compon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 continuación se muestran ejemplos de modelos de navegación, para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268360" y="3983040"/>
            <a:ext cx="59756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0875-B9CB-4CAB-A3A1-C75111A4969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3600" y="44280"/>
            <a:ext cx="77724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 del Sist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1" name="Picture 3" descr="naveg"/>
          <p:cNvPicPr/>
          <p:nvPr/>
        </p:nvPicPr>
        <p:blipFill>
          <a:blip r:embed="rId1"/>
          <a:stretch/>
        </p:blipFill>
        <p:spPr>
          <a:xfrm>
            <a:off x="1476360" y="1600200"/>
            <a:ext cx="4952880" cy="2435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naveg3"/>
          <p:cNvPicPr/>
          <p:nvPr/>
        </p:nvPicPr>
        <p:blipFill>
          <a:blip r:embed="rId2"/>
          <a:stretch/>
        </p:blipFill>
        <p:spPr>
          <a:xfrm>
            <a:off x="4549680" y="4278240"/>
            <a:ext cx="43434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21B6-2069-47A9-AE82-DB9A589E0A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6680" y="44280"/>
            <a:ext cx="77724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 del Sis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1268280" y="2044800"/>
          <a:ext cx="7767720" cy="37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2044800"/>
                    <a:ext cx="7767720" cy="37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7FEF-6E9C-45B7-97D2-4E2E112F717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2320" y="4428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 Interfaz de Usuari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195640" y="1523880"/>
          <a:ext cx="588780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523880"/>
                    <a:ext cx="588780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2043000" y="5010120"/>
            <a:ext cx="634536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la Interfaz de Usuario hay que defin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3.3.1 Patrón de interfaz a usar (si hay algu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3.3.2 Diseño de cada Interf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8570-6877-4A46-A4C9-9544D2757F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9480" y="43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1 Patrón de Interfaz a Usar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1828800" y="1122480"/>
          <a:ext cx="655956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22480"/>
                    <a:ext cx="65595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BEA1-59EB-4C57-B58E-F609C2B9FE1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920" y="17280"/>
            <a:ext cx="7772400" cy="89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3.3.2 Diseño de Cada Interfa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2124000" y="1623960"/>
          <a:ext cx="588816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623960"/>
                    <a:ext cx="58881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4"/>
          <p:cNvSpPr/>
          <p:nvPr/>
        </p:nvSpPr>
        <p:spPr>
          <a:xfrm>
            <a:off x="1763640" y="5154480"/>
            <a:ext cx="7172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diseña cada interfaz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que guarde relación con el modelo de navegación (3.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objetivo es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ducir la sor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AE91-B97C-4284-B91D-F232C716DE5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82720" y="43920"/>
            <a:ext cx="81532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3" name="Picture 3" descr="pant_2"/>
          <p:cNvPicPr/>
          <p:nvPr/>
        </p:nvPicPr>
        <p:blipFill>
          <a:blip r:embed="rId1"/>
          <a:stretch/>
        </p:blipFill>
        <p:spPr>
          <a:xfrm>
            <a:off x="1611360" y="2079720"/>
            <a:ext cx="72086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A837-3500-4953-8CB9-608C4BDB096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55800" y="43920"/>
            <a:ext cx="815328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6" name="Picture 3" descr="pant_1"/>
          <p:cNvPicPr/>
          <p:nvPr/>
        </p:nvPicPr>
        <p:blipFill>
          <a:blip r:embed="rId1"/>
          <a:stretch/>
        </p:blipFill>
        <p:spPr>
          <a:xfrm>
            <a:off x="2241720" y="1341360"/>
            <a:ext cx="5715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0603-570A-4A30-989A-6AE2A6DF0F5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5520" y="44280"/>
            <a:ext cx="86104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.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3600" y="1492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ffffff"/>
                </a:solidFill>
                <a:latin typeface="Arial"/>
              </a:rPr>
              <a:t>PARTE 1: Descripción General</a:t>
            </a:r>
            <a:r>
              <a:rPr b="1" i="1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1 Propósito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2 Ámbito (Definición del Problema)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3 Definiciones, Siglas y Abreviaturas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4 Referencias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5 Visión General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6 Servicios a Brindar por el Produ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81F2-382F-492B-8B12-322F1569AA0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7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pant_4"/>
          <p:cNvPicPr/>
          <p:nvPr/>
        </p:nvPicPr>
        <p:blipFill>
          <a:blip r:embed="rId1"/>
          <a:stretch/>
        </p:blipFill>
        <p:spPr>
          <a:xfrm>
            <a:off x="1384200" y="2271600"/>
            <a:ext cx="758052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499C-B6E9-4023-AF91-E15EF3317D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77440" y="43920"/>
            <a:ext cx="75582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2" name="Picture 3" descr="pant_5"/>
          <p:cNvPicPr/>
          <p:nvPr/>
        </p:nvPicPr>
        <p:blipFill>
          <a:blip r:embed="rId1"/>
          <a:stretch/>
        </p:blipFill>
        <p:spPr>
          <a:xfrm>
            <a:off x="1620720" y="2492280"/>
            <a:ext cx="71992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8F23-F546-44A7-A44C-A4DBAA73106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4 Diccionari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43000" y="1052640"/>
            <a:ext cx="80010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l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ccionario de dat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complementa el diseño mostrado en todos los puntos anteri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l diccionario de datos tiene 2 componentes: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specificación de Módulos </a:t>
            </a:r>
            <a:r>
              <a:rPr b="0" i="1" lang="es-ES" sz="1800" spc="-1" strike="noStrike">
                <a:solidFill>
                  <a:srgbClr val="ffff00"/>
                </a:solidFill>
                <a:latin typeface="Tahoma"/>
              </a:rPr>
              <a:t>(artefactos de diseño)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de Da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749"/>
              </a:spcBef>
              <a:spcAft>
                <a:spcPts val="24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pecificación de Módulo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Pág.Web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 cada módulo especificado en el punto 3.1, se indica su función, los parámetros que recibe, y los parámetros que retor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749"/>
              </a:spcBef>
              <a:spcAft>
                <a:spcPts val="24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pecificación de Datos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 cada tabla se especifican los campos y su form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7451640" y="5084640"/>
            <a:ext cx="1692360" cy="1773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2268360" y="5126040"/>
            <a:ext cx="22957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F2F6-A4EF-4CDF-AC85-A2B1A78CBA1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j. de Especificac.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85960" y="1213920"/>
            <a:ext cx="7129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icador del mód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MBRE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greso de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SISTEM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dministración de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UNCIÓN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ste módulo permite al alumno el ingreso/actualización de sus datos personales, por pantalla, a través de un brows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TRA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RUT (Char(13)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ALI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o Ha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icador del mód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MBRE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olicitud de Certifi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SISTEM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ertific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UNCIÓN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ste módulo permite al alumno solicitar un certificado´tipo A, B, y/o C, por pantalla, a través de un brows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TRADAS: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úmero de matrícula (Char(9)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ALI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úmero de solicitud (Entero Serial)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6984-747E-40CA-955D-52BF3AE1435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Especificación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2052720" y="2108160"/>
          <a:ext cx="633564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2108160"/>
                    <a:ext cx="633564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4"/>
          <p:cNvSpPr/>
          <p:nvPr/>
        </p:nvSpPr>
        <p:spPr>
          <a:xfrm>
            <a:off x="1332000" y="1125360"/>
            <a:ext cx="765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cada tabla se especifican los campos, su formato y su valid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DB8B-E232-4103-B79F-6154384EA0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6680" y="43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4. Matriz de Trazad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00120" y="1052640"/>
            <a:ext cx="749160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 es un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lemento de contro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 función principal es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ver que el diseño refleja los requisit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specific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a de sus funciones tiene que ver con el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control de la calidad del diseñ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e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lemento es muy úti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si uno aprende a sacar p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cho de 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 debe ir completándose en la medida que el trabajo de diseño avanza. Esta es una actividad paralela a la del dise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jemplo de un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74ED-4DE0-48F6-91C3-9F6A7A75E13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4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4 Matriz de Trazado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6212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1447920" y="1095480"/>
            <a:ext cx="74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4 Matriz de Trazado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00120" y="1500120"/>
            <a:ext cx="7429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En el Doc. de Diseño, la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matriz de trazado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debe mapear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Artefactos de Diseño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on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Req.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Sólo los req. funcionales son mape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caso de conflictos o dudas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que vale es la que está en ReqAdm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7200" y="1285560"/>
            <a:ext cx="77868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l Documento de Diseño (DD) es el producto de la fase de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Normalmente, a este documento lo puede acompañar un prototipo del sistema (y es aconsejable que así se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l formato del documento de diseño depende un poco del tipo de proyecto, y de las tecnologías involucr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... por lo tanto, pueden ajustarlo a sus necesidade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pero no en este curso)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71760" y="1142640"/>
            <a:ext cx="7286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.. pero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CUIDADO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en el DD no puede faltar nada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que después se necesite durante la implem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Utilicen ReqAdmin para mapea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los Módulos del Sistema (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), con los Requisitos de Software (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R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sto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se va a revisa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en la inspección d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D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íjense que la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atrices de trazado se obtienen automáticamente en ReqAdmi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CD1E-892D-4CE3-8498-59955DB81C1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520" y="43920"/>
            <a:ext cx="861048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.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5080" y="1196640"/>
            <a:ext cx="7199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2: Diseño Arquitectónico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2.1 Arquitectur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2 Arquitectura Lógica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ffff00"/>
                </a:solidFill>
                <a:latin typeface="Arial"/>
              </a:rPr>
              <a:t>(esto viene del Doc. de Req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Modelo de Dato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3: Diseño Detal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3.1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eño Detallado de Mód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.2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Modelo de Navegación del Sistema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Interf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de Usuario </a:t>
            </a:r>
            <a:r>
              <a:rPr b="0" sz="1800" spc="-1" strike="noStrike">
                <a:solidFill>
                  <a:srgbClr val="ffff00"/>
                </a:solidFill>
                <a:latin typeface="Arial"/>
              </a:rPr>
              <a:t>(todas las important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Diccionari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Matriz de Tra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13920" y="114300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1.  Para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revisión del Documento de Diseñ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a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ones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cada grupo debe preparar una presentación no más d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20 minu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explica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La Arquitectura de la Sol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odelo de Datos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(si correspond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iseño Detallado de los Principales Módulos de la sol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incipales Interfaces de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324080" y="1500120"/>
            <a:ext cx="7819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2.  El protocolo de Revisión es igual al del Doc. de Req.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ción del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T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guntas y 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Profesor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 Se escogerán requisitos funcionales de software al azar, y el diseñador deberá explicar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 cómo del diseño permite su cumpl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4305-7A76-4094-ADDA-87B9925FE1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1: Descripció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1640" y="1143000"/>
            <a:ext cx="750708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1 Propósito.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describe el propósito del sistema a desarrol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576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2 Alcance.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establece el alcance del sistema a desarrollar (¿qué está dentro y qué está fuera?)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3 Definiciones, acrónimos y abreviaciones.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stado de acrónimos, con su signific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4 Referencias.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Se colocan las referencias de los documentos utilizados para construir el D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5 Descripción general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describe a grandes rasgos, el sistema a desarrol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D5CD-87C1-46CC-8EB1-E7342BDB517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1: Descripció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8560" y="1341000"/>
            <a:ext cx="77770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00"/>
                </a:solidFill>
                <a:latin typeface="Arial"/>
              </a:rPr>
              <a:t>1.6 Servicios a Brindar por el Producto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e identifican los servicios que debe brindar el producto, entiénda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Consu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ABM (altas, bajas y modificaciones) de datos sobre entidades (mantenedor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Emisión de formularios por pantalla/impre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Otros proce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334120" y="4410000"/>
            <a:ext cx="3809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79A8-0BBE-42EB-BAEC-93BDB6B225A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1640" y="44280"/>
            <a:ext cx="77770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2: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Diseño Arquitectón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83840" y="1170000"/>
            <a:ext cx="7651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l diseño arquitectónico tiene que ver con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de las macro-componente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nuestro sistem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bviamente, este diseño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tener en cuenta los requisitos de softwar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(sección 3.2 del Doc. de Req.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xisten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muchas técnicas y lenguajes para especificar la arquitectura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un sistema. Nosotros consideraremos que el DA está formado por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1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Física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mbiente Opera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2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Lógica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rquitectura del Softwa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3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Modelo de Datos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rquitectura de la Dat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29C7-C8C6-46CC-A539-3490BFC5E85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6680" y="43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2.1 Arquitectura Fís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258920" y="1330200"/>
            <a:ext cx="758016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Física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expresa cuáles son los componentes físicos (cliente, servidor, servidor Web, BD, etc) que participan en nuestra solución, y la relación entre ello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a especificación de la Arquitectura Física normalmente consta d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uno o más diagra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, y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xplicación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e los mismos (actores y relaciones entre ello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xplicación de los diagra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se debe especificar el nombre y la función de cad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acto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, y el tipo d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que exist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ntre ello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(si existe alguna). También se pueden incluir ejemplos para clarificar aspectos un tanto abstrac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ípicamente,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arquitectura física es una formalización del ambiente operacional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definido en Docum. de Req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7488360" y="0"/>
            <a:ext cx="16920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08-27T15:57:52Z</dcterms:modified>
  <cp:revision>966</cp:revision>
  <dc:subject/>
  <dc:title>Programas de Extención </dc:title>
</cp:coreProperties>
</file>