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6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9.png" ContentType="image/png"/>
  <Override PartName="/ppt/media/image9.png" ContentType="image/png"/>
  <Override PartName="/ppt/media/image37.wmf" ContentType="image/x-wmf"/>
  <Override PartName="/ppt/media/image40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3.wmf" ContentType="image/x-wmf"/>
  <Override PartName="/ppt/media/image41.jpeg" ContentType="image/jpe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EA0A-ACDB-499A-89E3-5E70B37BE2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63BCF-35D0-41D5-B7E9-BAAD2A9C2B5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93DD4-8843-446D-873B-FD95F66AE61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4DE04-0661-4EB9-A3EF-815ACCF8621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18D73-270A-4857-B359-C459C60D692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3B67-8DCA-4F08-B1F0-D0685AD8AAD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C033-4F9D-4CD6-A2F3-B7DD8F0D550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1D33-5994-4911-B805-BCC1F33EF8E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9DFA5-3B3C-4DDF-922F-8D2D5A728B7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94E5F-8BED-4A23-98BA-732AD2E2B82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D8D5-B3CD-4A7D-9EC1-9566DD99892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3DB6D-CA05-4C95-8AB2-7F4CDD216A3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88CA0-74BC-4CCE-951B-6EEFE66DD9D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body"/>
          </p:nvPr>
        </p:nvSpPr>
        <p:spPr>
          <a:xfrm>
            <a:off x="163440" y="4162320"/>
            <a:ext cx="6826320" cy="46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ldImg"/>
          </p:nvPr>
        </p:nvSpPr>
        <p:spPr>
          <a:xfrm>
            <a:off x="-3268800" y="1528920"/>
            <a:ext cx="9792000" cy="7343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DCD5-A27B-400F-8DFC-2C7C92C267D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8C7E-5A58-4B35-937D-9A34124EC8A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81E5-F533-47CB-A0DB-C5409488A4C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B167-32A4-441C-B52A-F7D6575FF17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C66D-3706-4950-92E3-BFCAF95C0E5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7769-0D98-4885-8839-C99502E3C00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FEE8A-5240-4011-A4A1-7F4908FC5FE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943CB-91C4-49D7-812E-ACDABF78A47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7272-4A84-423C-BAAC-DA9C7F2BA54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66892-F057-474C-B1A4-70E91285C92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DA50-A6D3-4E31-9ECC-E9D51576BBBD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BECF-45F6-4A71-8D6C-0AC4F43FDD4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6D0D-F736-45BA-B29D-776FE1A7837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E85F-925D-491F-95CC-8177334264C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FB94-5549-4A74-BF04-4E2E4F0A94A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014AC-4433-4116-B1AA-BAF213AD7ED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C141D-EF25-4593-AA93-7B9A8A21B5C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7D64-52C4-4415-87E9-39F0565A0E1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23A88-1721-4D55-8DEE-0A283D0FC01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7D75-DC08-4886-AC23-FF40DE128AC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3E024-1066-4168-844A-2C7748B4691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4817-3766-45C3-B1B4-B781528AF45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9BC2F-6F23-4D7F-AEBA-BC70C44627F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05B57-7B96-49FE-A4B1-D3BD1C78B01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57240" y="4571640"/>
            <a:ext cx="53481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U Funciona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envia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recibi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Permitir el mostrar un Msg de tex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Conocer el status de los usuarios conec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U de Calida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sea fácil de us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10446-39B6-43C4-A256-A0764657407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6BC23-2836-4D59-AD05-0571693E3E0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16B0-9030-4B14-9338-3DD5FB6CC8E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A8773-1FB8-4FBC-A0CF-E2992F66059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499F-16E7-4473-9415-655B625BC66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45C2-6FD0-4646-82C4-AC77FEA890F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007A8-56C3-4561-AF2B-2EF366BD4CB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C4F41-8A0C-4046-A9C5-82B6CBA17F1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BA6D-EB75-43AC-B45F-BE3A43BA05D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E134-67B7-4A61-839D-09FCA09850B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7323-EB10-41EF-BD3E-E2669970AF54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D98E0-0A6C-4188-916A-94E34F22FF8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B88C-FA88-4CC7-8EEA-F429E1FF005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525A-A032-4AAF-9EB0-67778131548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C99E-F2F5-47CF-8A23-5DF06DE5923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8CB8-C321-4BFB-A4CA-43BFF74BF9E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2F9E7-F4CA-42A8-99E9-FEB065AD1C5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D23D1-8EA2-45F9-A1CF-0DB1FF26F26E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91FC6-FFB6-413E-B809-566FB6BB8AA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3D31-4431-426C-B8FE-DC7AF86EB0EC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0B71-47F9-4AD3-B45E-AB9E67DC2F4A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57240" y="4571640"/>
            <a:ext cx="534816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00000"/>
                </a:solidFill>
                <a:latin typeface="Times New Roman"/>
              </a:rPr>
              <a:t>RS asociados a los RU definido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funciones bajo una arq. C/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usuario se identifique con un nombre de usuario al ingresar a la s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ervidor mantenga un registro de los usuarios conectados a la sesión de c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cliente provea una ventana pública (donde se muestran los mensajes) y una caja de texto donde se pueden ingresar los msg de tex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tenga un componente encargado de la E/S de mensaj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oftware pueda enviar un msg al servid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el servidor pueda enviarle un msg a todos los clientes conectados a la sesión de ch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os clientes cuando reciban un mensaje, lo muestren en la ventana pública a continuación del último mensaje recibid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os mensajes muestren (al comienzo del mensaje) el nombre del emisor del ms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Que la interfaz del chat se parezca a esto…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99C8-BF9A-462A-A4D4-DC168DF50DC8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745E-A588-4D1B-AA25-CF8507990F52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0171-66DE-4A21-BEA4-C91B1C66B98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4992-6220-4913-8AF3-C7A77543643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5EC4-F48B-468E-8BC0-B583302A1A21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F849-D165-4664-993E-6C953CE03A93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0505-B8A7-487F-B961-7F80E0298C5F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59E55-BDF2-4B6E-9489-B79FC33F4BA0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57266-2F59-4899-861B-2F2E4DB947E7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7614-A76D-4FB1-BA42-4C5C91B87E9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DBDD2-2F22-4A59-A10B-75C56FE9985B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03494-901F-419A-A47D-A05D7AC01B76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C4105-DCE4-4C12-8B59-14FB55AEB049}" type="slidenum">
              <a:rPr b="0" lang="es-C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ECAD-E1FB-4744-A8F8-8A2D1C379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4C8A-20C3-4620-ADDE-65B24E4B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2D86-3C87-42F1-87F3-03FC2C1AE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14300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3292560"/>
            <a:ext cx="2379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2F16-CB4D-451F-95B9-9C77CDF0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26EB-DBE2-4CDF-AEF5-FAFC2C62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8DBA-FC6C-4FAA-A728-718D2C89E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1939-9B66-4996-9858-503D101D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7359-7BBB-496B-AD82-282F90AA5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362C-E089-42AB-AD25-2A13E9F4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13DD-FB75-4919-9815-5E7EE0FB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329256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565A-33DD-43C4-86B3-71FA893C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143000"/>
            <a:ext cx="360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3292560"/>
            <a:ext cx="73915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6DB1-1BAE-4199-AECA-DBF679B9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14300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A935-72E5-4756-8590-D18EB4F7B14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9AB0-CBEE-4029-AECB-A94AB17A660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Rectangle 1028"/>
          <p:cNvSpPr/>
          <p:nvPr/>
        </p:nvSpPr>
        <p:spPr>
          <a:xfrm>
            <a:off x="1357200" y="5357880"/>
            <a:ext cx="778680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Sergio Ochoa 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Versión 2.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1030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28573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de Requisitos de Usuario y de Software según la ESA </a:t>
            </a:r>
            <a:r>
              <a:rPr b="1" i="1" lang="es-ES" sz="3200" spc="-1" strike="noStrike">
                <a:solidFill>
                  <a:srgbClr val="ffff00"/>
                </a:solidFill>
                <a:latin typeface="Arial"/>
                <a:ea typeface="Arial"/>
              </a:rPr>
              <a:t>(European Space Agency)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6403-41A9-4808-A260-E54C95B74E9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92936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apturar los Req.de </a:t>
            </a: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61800" y="1414440"/>
            <a:ext cx="6381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oces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terativ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(especificación y valida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realiza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trevista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  los clientes/usuarios (vea la clase sobre entrevist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usa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uestion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Se revisan todos los informes, manuales, formularios y código fuente de lo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istemas legado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involucrad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e establecen acuerdo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 respecto a los límites del sistem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760" indent="-401760">
              <a:lnSpc>
                <a:spcPct val="8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requisitos se validan usando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rototipos del sistem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 constru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7629480" y="5838840"/>
            <a:ext cx="1514520" cy="1019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6608880" y="1000080"/>
            <a:ext cx="236700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4B181-61AA-4F46-9BFD-EE9D7F47F2A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eterminación del Ambiente Oper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4280" y="3600000"/>
            <a:ext cx="7966080" cy="28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una narrativ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puede apoyarse d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agr. de contexto o de bloqu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que permita mostrar el uso del sistema en un contexto más ampl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sas a revisar en la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finición del escenario: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cursos involucrados (hardware y software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ipos de comunicac. a usar (telef., LAN, WAN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1840" indent="-2854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Interfaces con otros sistemas (en producción o en desarrollo) involucrados en el escenario de trabaj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5334120" y="907920"/>
            <a:ext cx="3809880" cy="234324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5"/>
          <p:cNvSpPr/>
          <p:nvPr/>
        </p:nvSpPr>
        <p:spPr>
          <a:xfrm>
            <a:off x="1214280" y="1285920"/>
            <a:ext cx="410544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el primer pas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para definir los requisitos de softwar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tablece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l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cenari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n el que </a:t>
            </a:r>
            <a:r>
              <a:rPr b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operará el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3BF1-C565-4E9C-B5F3-0AEA94CCEB7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4280" y="1500120"/>
            <a:ext cx="5878800" cy="50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Los tipos de requisitos de usuarios son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Capacidades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requeridas por los usuarios para resolver un problema o determinar un objetiv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Calidad</a:t>
            </a:r>
            <a:r>
              <a:rPr b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del software para funcionar o garantizar su normal funcionamient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301"/>
              </a:spcBef>
              <a:spcAft>
                <a:spcPts val="1624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de Restricciones</a:t>
            </a:r>
            <a:r>
              <a:rPr b="0" lang="es-CL" sz="2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600" spc="-1" strike="noStrike">
                <a:solidFill>
                  <a:srgbClr val="ffffff"/>
                </a:solidFill>
                <a:latin typeface="Arial"/>
                <a:ea typeface="Arial"/>
              </a:rPr>
              <a:t>impuestas por los usuarios, sobre la forma como debe ser resuelto el problema, o logrado el objetiv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7238880" y="907920"/>
            <a:ext cx="1905120" cy="22194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7236000" y="3267000"/>
            <a:ext cx="1908000" cy="1530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7581960" y="486900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D84E4-9C50-4ABF-8157-008A699E2EF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4280" y="135684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90000"/>
              </a:lnSpc>
              <a:spcBef>
                <a:spcPts val="901"/>
              </a:spcBef>
              <a:spcAft>
                <a:spcPts val="22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ff"/>
                </a:solidFill>
                <a:latin typeface="Arial"/>
                <a:ea typeface="Arial"/>
              </a:rPr>
              <a:t>Algunos problemas en la definición de URs so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rrectit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mpletitu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Independencia de otros requisit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799"/>
              </a:spcBef>
              <a:spcAft>
                <a:spcPts val="2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Ambigüeda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2461-7860-41CD-8A63-61556C41EC2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357200" y="977760"/>
            <a:ext cx="778680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91DF-A5A7-4BCD-9EE2-862F7B5561C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81532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Ejemplo de Especificac. de Req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1428480"/>
            <a:ext cx="77724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tilla basada en la propuesta de Tom Gilb (Gilb, 1988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D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RC2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MBRE: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Probabilidad de que dos mediciones básicas sean consisten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1000 mediciones básicas comparadas usando 3 cifras signific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CTUAL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ntre 90% y 9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ACEPTABLE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98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IFICADO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99.5%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80000"/>
              </a:lnSpc>
              <a:spcBef>
                <a:spcPts val="876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UTORIDAD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minuta del 20/12/2008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A09AF-6BD1-4B6C-B31C-83B221D2C96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8153280" cy="90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Otro Ejemplo 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548840" cy="53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52520" indent="0">
              <a:lnSpc>
                <a:spcPct val="80000"/>
              </a:lnSpc>
              <a:spcBef>
                <a:spcPts val="104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D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C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MBRE: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sist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CAL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Probabilidad de que se muestre un dato inconsistente, sin que se advierta su inconsiste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RUEB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obre una base de datos 100% consistente, se ingresan inconsistencias hasta hacerla 98% inconsistente. Luego se cuentan los datos inconsistentes no detectad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CTUAL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00% (no hay detecció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EOR ACEPTABLE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5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LANIFIC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1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2520" indent="0">
              <a:lnSpc>
                <a:spcPct val="8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UTORIDAD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ntrevista con Usuario (05/12/2008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3DF0D-90C8-469F-A73B-443EB7E3875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85920" y="1557000"/>
            <a:ext cx="732456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escala: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es la medición que se hará de un atributo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e decir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 es lo que se mid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y en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 unidad de medid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una medición teórica (por ej. en kilogramos, metros, etc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medición práctica asociada se llam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ueb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(por ej. uso de una pes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escala dic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?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se m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prueba dic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ómo?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se mi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Veamos el siguiente ejemplo d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cala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7380360" y="190440"/>
            <a:ext cx="172872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8C23-2358-4E89-9AE5-30F833684EE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14000" y="1499760"/>
            <a:ext cx="74725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Supongamos el atributo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mistosidad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(facilidad de uso) de un softwar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Facilidad de Aprendiz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 = minutos de aprendizaj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 = 5 min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- Productiv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CALA = tareas por 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LAN = 20 tare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amistosida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no tiene escala, se define a través de sus sub-atributos: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facilidad de aprendizaj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, y </a:t>
            </a:r>
            <a:r>
              <a:rPr b="0" i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productividad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451560" y="2786040"/>
            <a:ext cx="26924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35AB5-1B0C-4FB3-AB2F-5CC4436EDDA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Escal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4280" y="1213920"/>
            <a:ext cx="5857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Hay que definir las cosas en aquel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vel de detall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que nos permita controlar los parámetros críticos del sistem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abstract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como “amistosidad”, normalmente necesitan explo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437040" indent="-4370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ambiguo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 como “mejor que el sistema actual”, siempre necesitan explos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7518240" y="4826160"/>
            <a:ext cx="1625760" cy="2017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7066080" y="981000"/>
            <a:ext cx="207792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8D78F-EEA7-47B4-ADC2-0B4FD7B756E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  <a:ea typeface="Arial"/>
              </a:rPr>
              <a:t>Estructura de la Present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1428480"/>
            <a:ext cx="7772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Motivació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Softwar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Administración (control y monitoreo) de Requisitos durante un Proyect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001"/>
              </a:spcBef>
              <a:spcAft>
                <a:spcPts val="2401"/>
              </a:spcAft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Bibliografía y cas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5A43-3A76-4B97-908B-AF3C5683590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Prueb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3920" y="1356840"/>
            <a:ext cx="53578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prueba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el modo de medir un atribu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Idealmente la prueba se refiere 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ceptos ya conocido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y medidos en la organ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mejor partir con una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ueba poco precis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antes que partir sin una prueb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spués se podrá mejorar.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pruebas tienen que especificarse por escri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más vale una prueba mediocre por escrito, que una prueba perfecta sin especificar (que está en la cabeza de alguien)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7107120" y="0"/>
            <a:ext cx="2036880" cy="22766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5" descr=""/>
          <p:cNvPicPr/>
          <p:nvPr/>
        </p:nvPicPr>
        <p:blipFill>
          <a:blip r:embed="rId2"/>
          <a:stretch/>
        </p:blipFill>
        <p:spPr>
          <a:xfrm>
            <a:off x="6481800" y="3357720"/>
            <a:ext cx="26622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889D-04B4-43D4-9BC6-E838358F9EB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Prueba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4280" y="1628640"/>
            <a:ext cx="77155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econoce el cost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e la medición (para el presupuesto y el pla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Todos sabrá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que el alcance del objetivo se puede y se va a medi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e puede preparar un punteo preliminar de 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un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plan de prueba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para los atributos más crític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-2602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 no se dice lo contrario, la prueba es aplicable durante las pruebas de acept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-26028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tiempos o las fases pueden especificarse entre paréntesis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 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diseño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inspe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codificación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pruebas de unida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01800" indent="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RUEBA (producción)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= usar datos de uso del sistem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7686720" y="0"/>
            <a:ext cx="14572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D969-B69B-4C49-A6E7-8A0AFB863A9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Peor Ca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428840" y="1700280"/>
            <a:ext cx="7572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peor caso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s el peor nivel aceptabl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bajo cualquier circunstanci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Cualquier valor menor significa que hubo fraca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bviamente, para tener éxito no podemos tener todos los atributos en este nive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idea es llegar al nivel planific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eor 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de cada atributo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be ponerse 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un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trato leg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 no se cumple, el proveedor está en deud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e podrían incluso definir mul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144440" indent="-2854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s partes interesadas deben firmar: cliente y proveed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12FF0-E44D-4E32-BF34-06BC45D82E1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Peor Caso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85920" y="1571400"/>
            <a:ext cx="7400880" cy="50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determinar el peor cas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magine un nivel que sea siempre inace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mpiece a subir el nivel hasta llegar a un punto en donde en “ciertos casos” sería aceptab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 es necesario defina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ás de un peor cas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 Uno para cada período.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marcha blanca) = 80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operación inicial) = 9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EOR (después de garantía) = 9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392120" indent="0">
              <a:lnSpc>
                <a:spcPct val="100000"/>
              </a:lnSpc>
              <a:spcBef>
                <a:spcPts val="751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6500880" y="0"/>
            <a:ext cx="26431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D7BA8-3483-460E-BE82-80633D1D22D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172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57200" y="1642680"/>
            <a:ext cx="73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aquel nivel que se desea alcanzar, en conjunto con los demás atribu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te es el </a:t>
            </a: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límite de la definición de éxi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na vez que este límite es alcanzado, ya no es necesario asignar más recursos allí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Alcanzar el nivel planificado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o significa “perfección”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Éste es un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vel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que debe ser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lcanzable y real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-2685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Debe ser </a:t>
            </a:r>
            <a:r>
              <a:rPr b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nsistente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con los niveles planificados de los demás atribu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9" name="Object 4"/>
          <p:cNvGraphicFramePr/>
          <p:nvPr/>
        </p:nvGraphicFramePr>
        <p:xfrm>
          <a:off x="1752480" y="5518080"/>
          <a:ext cx="7391520" cy="133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5518080"/>
                    <a:ext cx="739152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1" name="Picture 5" descr=""/>
          <p:cNvPicPr/>
          <p:nvPr/>
        </p:nvPicPr>
        <p:blipFill>
          <a:blip r:embed="rId3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CD2C-EF3F-461F-8100-F5FD57FC803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4280" y="1557360"/>
            <a:ext cx="778680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¿Cómo se define el nivel planifica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No es fácil, y es un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ceso iterativ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muy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imilar</a:t>
            </a: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hacer un presupuest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o una carta Gant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 del recurso “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nero”, es el presupuest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l nivel planificado del recurso “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tiempo” es la duració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estimada del proye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Ideas que ayud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información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yectos similar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información históric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de la empres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74600" indent="-2242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Usar información d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roductos de la competenci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1ACA-9D64-4E00-81F1-8695026E1AC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85560" y="0"/>
            <a:ext cx="7172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4280" y="1600200"/>
            <a:ext cx="76248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¿Cómo se define el nivel planificado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empre conviene partir con niveles planificados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definidos, aunque sea a oj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general es sano ser un </a:t>
            </a:r>
            <a:r>
              <a:rPr b="0" i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“poco” optimi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, pero sólo al interior del equipo de trabaj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sí obligamos a los diseñadores a pensar má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Eso nos permite mejorar nuestros produc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46360" indent="-31428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Hay que estar dispuesto a retractars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56040" indent="-3560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os usuarios/clientes/desarrolladores deben entender que son estimaciones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Picture 4" descr=""/>
          <p:cNvPicPr/>
          <p:nvPr/>
        </p:nvPicPr>
        <p:blipFill>
          <a:blip r:embed="rId4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5"/>
          <p:cNvSpPr/>
          <p:nvPr/>
        </p:nvSpPr>
        <p:spPr>
          <a:xfrm>
            <a:off x="1285920" y="5516640"/>
            <a:ext cx="7694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ADVERTENCIA: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 Los niveles especificados en este documento representan las mejores estimaciones disponibles hasta la fase de ***. No comprometen a ninguna de las partes involucradas, excepto que se diga explícitamente lo contrario. Sólo existen para ayudar a encontrar soluciones factible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509C-DB32-451F-8E57-76EEB3354F7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72439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Planific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57200" y="1628280"/>
            <a:ext cx="77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 que hace difícil pensar en los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niveles planificad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es que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todos deben satisfacers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establecer el nivel planificado de un atributo,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hay que considerar todos los atributos que interactúan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on é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consideran las interac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evalúan las opciones del cl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s aquí donde se considera la facti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-343080">
              <a:lnSpc>
                <a:spcPct val="80000"/>
              </a:lnSpc>
              <a:spcBef>
                <a:spcPts val="624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En el peor de los casos, basta ver cada atributo por separ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63640" indent="0">
              <a:lnSpc>
                <a:spcPct val="80000"/>
              </a:lnSpc>
              <a:spcBef>
                <a:spcPts val="249"/>
              </a:spcBef>
              <a:spcAft>
                <a:spcPts val="4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876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“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Si un sistema no necesita ser confiable, puede satisfacer cualquier otro requisito”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(Ley cero de la confiabilidad de Weinberg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0419-CC05-4E56-84CE-BA4B7254174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Mejor Cas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85920" y="1600200"/>
            <a:ext cx="7534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ejor caso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 el mejor valor que se sabe ha sido alcanzado en alguna situación. También se llama niv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record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Para calificar se usan paréntesis; por 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competidor xx) = 80% (revista YY, Nov.20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competidor xx, futuro) = 90% (revista YY, Nov.2000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90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MEJOR (prototipo ideal, nuestro) = 95%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199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uso del </a:t>
            </a:r>
            <a:r>
              <a:rPr b="1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mejor caso es op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Sirve para informar los límites de la ingeniería actu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100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No es una idea irrealizable (operación 100% continua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Picture 5" descr=""/>
          <p:cNvPicPr/>
          <p:nvPr/>
        </p:nvPicPr>
        <p:blipFill>
          <a:blip r:embed="rId1"/>
          <a:stretch/>
        </p:blipFill>
        <p:spPr>
          <a:xfrm>
            <a:off x="7715160" y="1890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15279-FC9C-4712-98D0-D6D2B4DDFC2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Actu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356840" y="1672920"/>
            <a:ext cx="75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nivel actual</a:t>
            </a:r>
            <a:r>
              <a:rPr b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s el nivel de un atributo contra el que queremos compar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yuda 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ntende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valua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, y aprobar los otros nive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ún cuando no hay un sistema que se reemplace, el proceso o su equivalente, se está haciendo.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 ahí se puede tomar el nivel 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1440" indent="-332640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comparación también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uede hacerse con la competencia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u otros sistem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i="1" lang="es-ES" sz="2800" spc="-1" strike="noStrike">
                <a:solidFill>
                  <a:srgbClr val="ffff00"/>
                </a:solidFill>
                <a:latin typeface="Arial"/>
                <a:ea typeface="Arial"/>
              </a:rPr>
              <a:t>nivel actual es opcional</a:t>
            </a:r>
            <a:r>
              <a:rPr b="1" i="1" lang="es-ES" sz="2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7496280" y="160200"/>
            <a:ext cx="13525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259C-DC38-4574-965D-6F064B615D4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Motivació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386000" y="2178000"/>
            <a:ext cx="7758000" cy="36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8E88-EBC8-488C-8654-E8118373D47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l Nivel Actual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285560" y="1700280"/>
            <a:ext cx="755316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90000"/>
              </a:lnSpc>
              <a:spcBef>
                <a:spcPts val="7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  <a:ea typeface="Arial"/>
              </a:rPr>
              <a:t>Diferencia entre “nivel actual” y “mejor nivel”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desde donde partim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nivel no es el punto de partida, sino el nivel más alto que alguna vez se ha medi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Usualmente, 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lanific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mejor que 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ctual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Casi siempre el niv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lanificad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es peor que el “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ejor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” nive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593720" indent="-457200">
              <a:lnSpc>
                <a:spcPct val="90000"/>
              </a:lnSpc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La excepción es cuando se quiere hacer avanzar el estado del ar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7496280" y="160200"/>
            <a:ext cx="135252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84A8C-1615-445F-88BC-7B64FD7B114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La Autor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285560" y="5084640"/>
            <a:ext cx="75531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0">
              <a:lnSpc>
                <a:spcPct val="80000"/>
              </a:lnSpc>
              <a:spcBef>
                <a:spcPts val="62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La autoridad es opcional </a:t>
            </a:r>
            <a:r>
              <a:rPr b="0" lang="es-ES" sz="2000" spc="-1" strike="noStrike">
                <a:solidFill>
                  <a:srgbClr val="ffff00"/>
                </a:solidFill>
                <a:latin typeface="Arial"/>
                <a:ea typeface="Arial"/>
              </a:rPr>
              <a:t>(pero es muy útil tenerla)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y puede haber más de una. Por ejemplo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UTORIDAD = Documento de análisis de Juan Pérez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0">
              <a:lnSpc>
                <a:spcPct val="80000"/>
              </a:lnSpc>
              <a:spcBef>
                <a:spcPts val="561"/>
              </a:spcBef>
              <a:spcAft>
                <a:spcPts val="67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UTORIDAD = Anexo A del contrato, sección 5.6b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7315200" y="0"/>
            <a:ext cx="1828800" cy="28764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1285920" y="1557360"/>
            <a:ext cx="60228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a autoridad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Indica </a:t>
            </a:r>
            <a:r>
              <a:rPr b="0" i="1" lang="es-E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qué, quién o quién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 sustentan el requisito?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la orden de un jef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manual de procedimien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requisito ya aprobad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un contra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1022400" indent="-343080">
              <a:lnSpc>
                <a:spcPct val="90000"/>
              </a:lnSpc>
              <a:spcBef>
                <a:spcPts val="624"/>
              </a:spcBef>
              <a:spcAft>
                <a:spcPts val="624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O incluso, una ocurrencia basada en la experiencias prev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F084-9371-407A-A608-AD6FE145F86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s de Req. de Ca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285560" y="1335240"/>
            <a:ext cx="5195880" cy="28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s atributos </a:t>
            </a:r>
            <a:r>
              <a:rPr b="0" i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deberían ser revisados cuidadosament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a la hora de especificar un sistema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sto es porque aparecen en la mayoría de los proyec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re los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 Típic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igur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1538280" y="4581360"/>
            <a:ext cx="7391520" cy="2046240"/>
            <a:chOff x="1538280" y="4581360"/>
            <a:chExt cx="7391520" cy="2046240"/>
          </a:xfrm>
        </p:grpSpPr>
        <p:sp>
          <p:nvSpPr>
            <p:cNvPr id="186" name="Rectangle 5"/>
            <p:cNvSpPr/>
            <p:nvPr/>
          </p:nvSpPr>
          <p:spPr>
            <a:xfrm>
              <a:off x="5303880" y="4581360"/>
              <a:ext cx="362592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ntendi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prendi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O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ceptación de Us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5121360" y="4581360"/>
              <a:ext cx="18252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Rectangle 7"/>
            <p:cNvSpPr/>
            <p:nvPr/>
          </p:nvSpPr>
          <p:spPr>
            <a:xfrm>
              <a:off x="1538280" y="4581360"/>
              <a:ext cx="3583080" cy="20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nciona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ertine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Precis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tero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herenc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Segur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Line 8"/>
            <p:cNvSpPr/>
            <p:nvPr/>
          </p:nvSpPr>
          <p:spPr>
            <a:xfrm>
              <a:off x="1538280" y="6627600"/>
              <a:ext cx="73915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Line 9"/>
            <p:cNvSpPr/>
            <p:nvPr/>
          </p:nvSpPr>
          <p:spPr>
            <a:xfrm>
              <a:off x="1538280" y="4581360"/>
              <a:ext cx="0" cy="20462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Line 10"/>
            <p:cNvSpPr/>
            <p:nvPr/>
          </p:nvSpPr>
          <p:spPr>
            <a:xfrm>
              <a:off x="5121360" y="4581360"/>
              <a:ext cx="0" cy="20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Line 11"/>
            <p:cNvSpPr/>
            <p:nvPr/>
          </p:nvSpPr>
          <p:spPr>
            <a:xfrm>
              <a:off x="8929800" y="4581360"/>
              <a:ext cx="0" cy="20462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Line 12"/>
            <p:cNvSpPr/>
            <p:nvPr/>
          </p:nvSpPr>
          <p:spPr>
            <a:xfrm>
              <a:off x="5303880" y="4581360"/>
              <a:ext cx="0" cy="20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Line 13"/>
            <p:cNvSpPr/>
            <p:nvPr/>
          </p:nvSpPr>
          <p:spPr>
            <a:xfrm>
              <a:off x="5121360" y="4581360"/>
              <a:ext cx="18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Line 14"/>
            <p:cNvSpPr/>
            <p:nvPr/>
          </p:nvSpPr>
          <p:spPr>
            <a:xfrm>
              <a:off x="1538280" y="4581360"/>
              <a:ext cx="358308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Line 15"/>
            <p:cNvSpPr/>
            <p:nvPr/>
          </p:nvSpPr>
          <p:spPr>
            <a:xfrm>
              <a:off x="5303880" y="4581360"/>
              <a:ext cx="36259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97" name="Picture 16" descr=""/>
          <p:cNvPicPr/>
          <p:nvPr/>
        </p:nvPicPr>
        <p:blipFill>
          <a:blip r:embed="rId1"/>
          <a:stretch/>
        </p:blipFill>
        <p:spPr>
          <a:xfrm>
            <a:off x="6469200" y="1000080"/>
            <a:ext cx="267480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EB20F-95E0-4393-B6BC-7CDBF0423C3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s de Req. de Calida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57200" y="1356840"/>
            <a:ext cx="5214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ntre los </a:t>
            </a:r>
            <a:r>
              <a:rPr b="0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 Típico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figura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1467000" y="2852640"/>
            <a:ext cx="7391160" cy="2183040"/>
            <a:chOff x="1467000" y="2852640"/>
            <a:chExt cx="7391160" cy="2183040"/>
          </a:xfrm>
        </p:grpSpPr>
        <p:sp>
          <p:nvSpPr>
            <p:cNvPr id="202" name="Rectangle 5"/>
            <p:cNvSpPr/>
            <p:nvPr/>
          </p:nvSpPr>
          <p:spPr>
            <a:xfrm>
              <a:off x="5232240" y="2852640"/>
              <a:ext cx="362556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Port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apt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Instanci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ecuació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emplaz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5049720" y="2852640"/>
              <a:ext cx="18216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Rectangle 7"/>
            <p:cNvSpPr/>
            <p:nvPr/>
          </p:nvSpPr>
          <p:spPr>
            <a:xfrm>
              <a:off x="1467000" y="2852640"/>
              <a:ext cx="3582720" cy="218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nteni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naliz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Cambi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Est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Demost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Line 8"/>
            <p:cNvSpPr/>
            <p:nvPr/>
          </p:nvSpPr>
          <p:spPr>
            <a:xfrm>
              <a:off x="1467000" y="50356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Line 9"/>
            <p:cNvSpPr/>
            <p:nvPr/>
          </p:nvSpPr>
          <p:spPr>
            <a:xfrm>
              <a:off x="1467000" y="2852640"/>
              <a:ext cx="0" cy="2183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Line 10"/>
            <p:cNvSpPr/>
            <p:nvPr/>
          </p:nvSpPr>
          <p:spPr>
            <a:xfrm>
              <a:off x="5049720" y="2852640"/>
              <a:ext cx="0" cy="21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Line 11"/>
            <p:cNvSpPr/>
            <p:nvPr/>
          </p:nvSpPr>
          <p:spPr>
            <a:xfrm>
              <a:off x="8858160" y="2852640"/>
              <a:ext cx="0" cy="218304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Line 12"/>
            <p:cNvSpPr/>
            <p:nvPr/>
          </p:nvSpPr>
          <p:spPr>
            <a:xfrm>
              <a:off x="5232240" y="2852640"/>
              <a:ext cx="0" cy="218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Line 13"/>
            <p:cNvSpPr/>
            <p:nvPr/>
          </p:nvSpPr>
          <p:spPr>
            <a:xfrm>
              <a:off x="5049720" y="2852640"/>
              <a:ext cx="182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Line 14"/>
            <p:cNvSpPr/>
            <p:nvPr/>
          </p:nvSpPr>
          <p:spPr>
            <a:xfrm>
              <a:off x="1467000" y="2852640"/>
              <a:ext cx="358272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Line 15"/>
            <p:cNvSpPr/>
            <p:nvPr/>
          </p:nvSpPr>
          <p:spPr>
            <a:xfrm>
              <a:off x="5232240" y="2852640"/>
              <a:ext cx="36255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Group 16"/>
          <p:cNvGrpSpPr/>
          <p:nvPr/>
        </p:nvGrpSpPr>
        <p:grpSpPr>
          <a:xfrm>
            <a:off x="1467000" y="5033880"/>
            <a:ext cx="7391160" cy="1668600"/>
            <a:chOff x="1467000" y="5033880"/>
            <a:chExt cx="7391160" cy="1668600"/>
          </a:xfrm>
        </p:grpSpPr>
        <p:sp>
          <p:nvSpPr>
            <p:cNvPr id="214" name="Rectangle 17"/>
            <p:cNvSpPr/>
            <p:nvPr/>
          </p:nvSpPr>
          <p:spPr>
            <a:xfrm>
              <a:off x="5232240" y="5033880"/>
              <a:ext cx="362556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nfiabilidad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Madure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Tolerancia a Falla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cuperabilida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Rectangle 18"/>
            <p:cNvSpPr/>
            <p:nvPr/>
          </p:nvSpPr>
          <p:spPr>
            <a:xfrm>
              <a:off x="5049720" y="5033880"/>
              <a:ext cx="18216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Rectangle 19"/>
            <p:cNvSpPr/>
            <p:nvPr/>
          </p:nvSpPr>
          <p:spPr>
            <a:xfrm>
              <a:off x="1467000" y="5033880"/>
              <a:ext cx="3582720" cy="166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  <a:ea typeface="Arial"/>
                </a:rPr>
                <a:t>Eficiencia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ndimient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1" marL="45720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Uso de Recurso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Line 20"/>
            <p:cNvSpPr/>
            <p:nvPr/>
          </p:nvSpPr>
          <p:spPr>
            <a:xfrm>
              <a:off x="1467000" y="50338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Line 21"/>
            <p:cNvSpPr/>
            <p:nvPr/>
          </p:nvSpPr>
          <p:spPr>
            <a:xfrm>
              <a:off x="1467000" y="6702480"/>
              <a:ext cx="7391160" cy="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Line 22"/>
            <p:cNvSpPr/>
            <p:nvPr/>
          </p:nvSpPr>
          <p:spPr>
            <a:xfrm>
              <a:off x="1467000" y="5033880"/>
              <a:ext cx="0" cy="1668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Line 23"/>
            <p:cNvSpPr/>
            <p:nvPr/>
          </p:nvSpPr>
          <p:spPr>
            <a:xfrm>
              <a:off x="5049720" y="5033880"/>
              <a:ext cx="0" cy="166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Line 24"/>
            <p:cNvSpPr/>
            <p:nvPr/>
          </p:nvSpPr>
          <p:spPr>
            <a:xfrm>
              <a:off x="5232240" y="5033880"/>
              <a:ext cx="0" cy="166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Line 25"/>
            <p:cNvSpPr/>
            <p:nvPr/>
          </p:nvSpPr>
          <p:spPr>
            <a:xfrm>
              <a:off x="8858160" y="5033880"/>
              <a:ext cx="0" cy="1668600"/>
            </a:xfrm>
            <a:prstGeom prst="line">
              <a:avLst/>
            </a:prstGeom>
            <a:ln cap="sq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23" name="Picture 26" descr=""/>
          <p:cNvPicPr/>
          <p:nvPr/>
        </p:nvPicPr>
        <p:blipFill>
          <a:blip r:embed="rId1"/>
          <a:stretch/>
        </p:blipFill>
        <p:spPr>
          <a:xfrm>
            <a:off x="6786720" y="982800"/>
            <a:ext cx="2357280" cy="176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CD03-2C87-4B2C-8A55-6A88C6866FD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Requisitos de Calidad (cont...)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6" name="Rectangle 26"/>
          <p:cNvSpPr/>
          <p:nvPr/>
        </p:nvSpPr>
        <p:spPr>
          <a:xfrm>
            <a:off x="2987640" y="4076640"/>
            <a:ext cx="2735280" cy="25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1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3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4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2a1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2a1000"/>
                </a:solidFill>
                <a:latin typeface="Arial"/>
                <a:ea typeface="Arial"/>
              </a:rPr>
              <a:t>Req. Funcional 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42640" y="1356840"/>
            <a:ext cx="80010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Los requisitos de calidad son transversales a los requisitos funcion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También se los suele llamar “aspectos de diseño” de un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Rectangle 28"/>
          <p:cNvSpPr/>
          <p:nvPr/>
        </p:nvSpPr>
        <p:spPr>
          <a:xfrm>
            <a:off x="28076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Manteni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Rectangle 30"/>
          <p:cNvSpPr/>
          <p:nvPr/>
        </p:nvSpPr>
        <p:spPr>
          <a:xfrm>
            <a:off x="41648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Port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Rectangle 31"/>
          <p:cNvSpPr/>
          <p:nvPr/>
        </p:nvSpPr>
        <p:spPr>
          <a:xfrm>
            <a:off x="5522040" y="3406680"/>
            <a:ext cx="546120" cy="2737080"/>
          </a:xfrm>
          <a:prstGeom prst="rect">
            <a:avLst/>
          </a:prstGeom>
          <a:solidFill>
            <a:srgbClr val="c0c0c0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ff"/>
                </a:solidFill>
                <a:latin typeface="Arial"/>
                <a:ea typeface="Arial"/>
              </a:rPr>
              <a:t>Usab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F5E0-EF9C-4C39-91C1-8CB75018650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213920" y="-360"/>
            <a:ext cx="792972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285920" y="1357200"/>
            <a:ext cx="78580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tributos de requisitos de usu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forma completa de especificar requisitos, es parecida a la propuesta de Tom Gilb (vista en transparencias anterior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or razones de background del equipo de trabajo, y de tiempo para desarrollar el proyecto, especificaremos los requisitos de la siguiente maner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quisitos Funcional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y de </a:t>
            </a:r>
            <a:r>
              <a:rPr b="0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Restric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especifica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Identificador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 Identifica unívocamente al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escripción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Describe el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Prioridad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Indica una prioridad. Por ej.(alta-media-baj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Usuarios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Identifica los tipos de usuario que se verán afectados por este requisi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Fuente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Referencia a la fuente de donde surgió el requisito (documento, grupo, entrevista, etc.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DF00D-A7D2-4817-863D-94C785FEB07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Especificac. de Req.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56840" y="1285560"/>
            <a:ext cx="764388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Atributos de requisitos de softwar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uisitos de Calidad relev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se recomienda utilizar el formato completo de especific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90000"/>
              </a:lnSpc>
              <a:spcBef>
                <a:spcPts val="15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</a:t>
            </a:r>
            <a:r>
              <a:rPr b="0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uisitos de Calidad poco relev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se recomienda utilizar el mismo formato (simplificado) que para los Requisitos Funcionales y de Restri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En nuestro caso utilizaremos los formatos propuestos en </a:t>
            </a:r>
            <a:r>
              <a:rPr b="1" i="1" lang="es-CL" sz="2400" spc="-1" strike="noStrike">
                <a:solidFill>
                  <a:srgbClr val="ffff66"/>
                </a:solidFill>
                <a:latin typeface="Arial"/>
                <a:ea typeface="Arial"/>
              </a:rPr>
              <a:t>ReqAdmin:</a:t>
            </a: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http://anakena.dcc.uchile.cl/~reqadmin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87BE-6A58-444F-A599-3674CBCE062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Revisiones del UR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22280" y="1213920"/>
            <a:ext cx="5678640" cy="557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salidas de esta etapa deben se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ormalmente revisada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urante la actividad de revisión de Requisitos de Usuarios (UR/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tá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volucrad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los: usuarios, clientes, analistas, administrador del proyecto, y los tést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 aconsejable realiza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visiones periódic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antes de la revisión fina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o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ejorará la calidad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y la disponibilidad del producto final de la fase (UR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tretch/>
        </p:blipFill>
        <p:spPr>
          <a:xfrm>
            <a:off x="6950160" y="5214960"/>
            <a:ext cx="219384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32807-0300-44F4-9696-7A6FE45F211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285920" y="1143000"/>
            <a:ext cx="74628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(DR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1. Introdu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1 Propósito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describe el propósito del sistema a desarrol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2 Alcance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el alcance del sistema a desarrollar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3. Contexto (Descripción general)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Narrativa que describe a grandes rasgos, el sistema a desarroll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4 Definiciones, acrónimos y abrevia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acrónimos, con su signific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488960" indent="0">
              <a:lnSpc>
                <a:spcPct val="90000"/>
              </a:lnSpc>
              <a:spcBef>
                <a:spcPts val="1800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1.5 Referenci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Se colocan las referencias de los documentos utilizados para construir el D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3683-1434-430B-A6A6-0870D9BFC16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213920" y="1142640"/>
            <a:ext cx="79297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3 Características de los Usua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los diferentes tipos de usuarios que interactuarán con el software, y las características de cada uno de ellos (atribuciones, y limitacion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2 Perspectivas del Product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que es lo que se espera obtener con el producto de software en desarroll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1400"/>
              </a:spcBef>
              <a:spcAft>
                <a:spcPts val="18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3 Ambiente Operacion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Narrativa que establece las características del escenario de trabajo del softwar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5"/>
          <p:cNvGraphicFramePr/>
          <p:nvPr/>
        </p:nvGraphicFramePr>
        <p:xfrm>
          <a:off x="2143080" y="1052640"/>
          <a:ext cx="5162760" cy="57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3080" y="1052640"/>
                    <a:ext cx="5162760" cy="57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Rectangle 2"/>
          <p:cNvSpPr/>
          <p:nvPr/>
        </p:nvSpPr>
        <p:spPr>
          <a:xfrm>
            <a:off x="1785960" y="0"/>
            <a:ext cx="678672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Arial"/>
              </a:rPr>
              <a:t>Documento de Requisito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0"/>
            <a:ext cx="80722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. de Ambiente Operacion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9" name="Object 7"/>
          <p:cNvGraphicFramePr/>
          <p:nvPr/>
        </p:nvGraphicFramePr>
        <p:xfrm>
          <a:off x="1044720" y="1285920"/>
          <a:ext cx="7956360" cy="53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4720" y="1285920"/>
                    <a:ext cx="7956360" cy="53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7A07-19CD-4701-BAD7-8CCCD3106B0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85920" y="1142640"/>
            <a:ext cx="7858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800"/>
              </a:spcBef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18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4 Suposiciones y Dependenci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(por escrito) todas aquellas suposiciones, que se han hecho (con el consentimiento del cliente/usuario), sobre alguna característica del software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5 Restricciones General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cuáles son las restricciones de funcionamiento del software. Por ej. que funcione en Windows y UNIX, que funcione en el actual ambiente operacional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800"/>
              </a:spcBef>
              <a:spcAft>
                <a:spcPts val="10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2.6 Descripción del Modelo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iagrama + explicación del modelo de funcionamiento global actual. Se puede utilizar DFD, diagramas de procesos, de transición de estados, et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8698-0A05-4380-BB12-3D02F37DE4A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964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1199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3. Requisitos del Sistem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spcAft>
                <a:spcPts val="15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3.1 Requisitos de Usuari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representan la necesidad del usuario/cliente.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1 Requisitos de Capac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especifican las capacidades que debe poseer el software (lo que debe poder realizar el software), para satisfacer las necesidades del cliente/usuario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2 Requisitos de Calida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de calidad del producto de software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3" marL="17064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1.3 Requisitos de Restric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istado de requisitos que especifican restricciones a cerca de cómo debe ser construido (se refiere a conexiones con otros sistemas, o adhesión a los estándares de la empresa) y operado el software. Estos requisitos se deben especificar según el formato preestableci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80000"/>
              </a:lnSpc>
              <a:spcBef>
                <a:spcPts val="1199"/>
              </a:spcBef>
              <a:spcAft>
                <a:spcPts val="1125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DDC53-C721-4DE4-B587-70FF84C7CBA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rcicio 1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85920" y="1356840"/>
            <a:ext cx="7678800" cy="53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cuáles son los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quisitos de usuari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de un cha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46040" indent="-446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pecifíquelos en una hoja…. (5 minutos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0" name="Picture 4" descr=""/>
          <p:cNvPicPr/>
          <p:nvPr/>
        </p:nvPicPr>
        <p:blipFill>
          <a:blip r:embed="rId1"/>
          <a:stretch/>
        </p:blipFill>
        <p:spPr>
          <a:xfrm>
            <a:off x="2587680" y="2421000"/>
            <a:ext cx="39290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1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D54C1-1DD7-4273-9058-A708B03C0DA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422360" y="27147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ffffff"/>
                </a:solidFill>
                <a:latin typeface="Arial"/>
                <a:ea typeface="Arial"/>
              </a:rPr>
              <a:t>Definición de Requisitos de Software ...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Rectangle 2052"/>
          <p:cNvSpPr/>
          <p:nvPr/>
        </p:nvSpPr>
        <p:spPr>
          <a:xfrm>
            <a:off x="1619280" y="4994280"/>
            <a:ext cx="7238880" cy="10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 nuestro caso, sólo involucra la sección 3.2 del documento de requi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86B83-3889-4F66-923F-7EE84C042910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285920" y="0"/>
            <a:ext cx="78580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efinición de Req. de Software (SR).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213920" y="1213920"/>
            <a:ext cx="4581720" cy="52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Fase de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análisis del problema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propósito es analizar las definiciones de requisitos de usuarios en el URD, y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producir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 conjunto de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o más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mpleto, consistentes y correct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osi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RD </a:t>
            </a:r>
            <a:r>
              <a:rPr b="0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(Doc. de Req. de Soft.)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tien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a visión del problema, desde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punto de vista del desarrollado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y no del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47840" indent="-447840">
              <a:lnSpc>
                <a:spcPct val="100000"/>
              </a:lnSpc>
              <a:spcBef>
                <a:spcPts val="125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ben usarse prototip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validar los requisitos (es recomenda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7" name="Picture 4" descr=""/>
          <p:cNvPicPr/>
          <p:nvPr/>
        </p:nvPicPr>
        <p:blipFill>
          <a:blip r:embed="rId1"/>
          <a:stretch/>
        </p:blipFill>
        <p:spPr>
          <a:xfrm>
            <a:off x="5821200" y="1700280"/>
            <a:ext cx="3322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12864-CDEA-4FA6-A221-98DE8365AB4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R: Entradas / Activida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28840" y="1285560"/>
            <a:ext cx="75009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Entrad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Usuarios (URD), última versió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El estándar establece otras entradas, pero no las consideraremos para nuestro desarrol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00"/>
                </a:solidFill>
                <a:latin typeface="Arial"/>
                <a:ea typeface="Arial"/>
              </a:rPr>
              <a:t>Actividad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onstrucción del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odelo Lógic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pecificación de los 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 través del S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visiones del S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66CE-C430-44DA-9C7F-D0B57CBC2C5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R: 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071720" y="1142640"/>
            <a:ext cx="575280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1049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Construcción del Modelo Lógi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 un modelo arquitectónico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independiente de la implementación del sistema requerido por el usuari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uede ser construido por </a:t>
            </a:r>
            <a:r>
              <a:rPr b="1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escomposición “top-down”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la función principal, inferido del URD, en una jerarquía de fun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ueden realizarse Caminatas (“Walkthroughs”), revisiones e inspecciones para </a:t>
            </a:r>
            <a:r>
              <a:rPr b="1" i="1" lang="es-CL" sz="20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asegurar que se cumplen las especificaciones de cada nivel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antes de descender al siguie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n esta etapa puede reemplazarse parcialmente por diagramas de casos de us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4" name="Picture 2052" descr=""/>
          <p:cNvPicPr/>
          <p:nvPr/>
        </p:nvPicPr>
        <p:blipFill>
          <a:blip r:embed="rId1"/>
          <a:stretch/>
        </p:blipFill>
        <p:spPr>
          <a:xfrm>
            <a:off x="6756480" y="1484280"/>
            <a:ext cx="23875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1D3B4-BFC5-4ADE-9B8A-C32E9C46F8E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499760" y="1428480"/>
            <a:ext cx="76438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be satisfacer las siguientes regl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unciones (o componentes) deben tener un propósito únic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 Sus nombres deben tener una estructura declarativa (qué hacen, en vez de cómo lo hacen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func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ben estar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 el nivel apropiad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(de granularidad) en el que aparec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24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terfac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entre módulos o funciones deben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inimizars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C137-1F4E-4A61-848A-5E1A88866AF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357200" y="1213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be satisfacer las siguientes regl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ada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b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scomponer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no más de 7 sub-funcione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modelo deb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omiti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información d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mplementación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rs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os atributos de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ndimi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 de cada función (capacidad, velocidad, etc.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dentifica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la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ones crítica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Se deben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utilizar herramientas CASE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construir el modelo lógico (dentro de lo posibl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663C-5A73-4CC1-95EE-556A7FAF52C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4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Ciclo de Vida ES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3" name="Picture 5" descr="ESA2"/>
          <p:cNvPicPr/>
          <p:nvPr/>
        </p:nvPicPr>
        <p:blipFill>
          <a:blip r:embed="rId1"/>
          <a:stretch/>
        </p:blipFill>
        <p:spPr>
          <a:xfrm>
            <a:off x="41400" y="1143000"/>
            <a:ext cx="9042120" cy="564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A76B-AEFA-4A14-8DDF-D14F5E0D152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510000" y="2247840"/>
            <a:ext cx="2984400" cy="2681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2" descr=""/>
          <p:cNvPicPr/>
          <p:nvPr/>
        </p:nvPicPr>
        <p:blipFill>
          <a:blip r:embed="rId2"/>
          <a:stretch/>
        </p:blipFill>
        <p:spPr>
          <a:xfrm>
            <a:off x="2295360" y="5108400"/>
            <a:ext cx="5705640" cy="16066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027"/>
          <p:cNvSpPr/>
          <p:nvPr/>
        </p:nvSpPr>
        <p:spPr>
          <a:xfrm>
            <a:off x="2071800" y="1143000"/>
            <a:ext cx="671508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(Primera aproximación al diseñ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C1A1-DAC6-4CE4-AC31-FD1B7056036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071440" y="1142640"/>
            <a:ext cx="671508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Construcción del modelo lóg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00"/>
                </a:solidFill>
                <a:latin typeface="Arial"/>
                <a:ea typeface="Arial"/>
              </a:rPr>
              <a:t>(Primera aproximación al diseñ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3786120" y="2071800"/>
            <a:ext cx="2500560" cy="22460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3" descr="ejemplo2"/>
          <p:cNvPicPr/>
          <p:nvPr/>
        </p:nvPicPr>
        <p:blipFill>
          <a:blip r:embed="rId2"/>
          <a:stretch/>
        </p:blipFill>
        <p:spPr>
          <a:xfrm>
            <a:off x="1571760" y="4429080"/>
            <a:ext cx="717840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73040" y="0"/>
            <a:ext cx="777096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mplo de Modelo Lóg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143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4" name="Picture 8" descr=""/>
          <p:cNvPicPr/>
          <p:nvPr/>
        </p:nvPicPr>
        <p:blipFill>
          <a:blip r:embed="rId1"/>
          <a:stretch/>
        </p:blipFill>
        <p:spPr>
          <a:xfrm>
            <a:off x="34920" y="2997360"/>
            <a:ext cx="90597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6B297-CEB8-4FC4-9224-60F7FCA45BF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357200" y="1071360"/>
            <a:ext cx="74628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… Se recomienda identificar l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funcio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interfac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operacional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curs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verific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us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manten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transport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confi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ndimi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documen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escalabi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l estándar establece además requisitos d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tests de acep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inform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820800" indent="-285840">
              <a:lnSpc>
                <a:spcPct val="80000"/>
              </a:lnSpc>
              <a:spcBef>
                <a:spcPts val="400"/>
              </a:spcBef>
              <a:spcAft>
                <a:spcPts val="4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oper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E043-4F12-4533-90A5-E50E6AC6B1A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642680" y="1571760"/>
            <a:ext cx="70722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Revisiones del SR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a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alid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esta fase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ben ser revisadas formalment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urante la etapa de Revisión de Requisitos de Software (SR/R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biese ser una revisión técnic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articipa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ben ser los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suarios, personal de operaciones, desarrolladores y administrador de proyecto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D7D5-DAA0-4BE0-8958-9F5833C5738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2640" y="1213920"/>
            <a:ext cx="80010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Funcionales.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qué debe hacer</a:t>
            </a:r>
            <a:r>
              <a:rPr b="0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l software. Se derivan del modelo lógic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Interfaces (de interacción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hardware, software o elementos de bases de datos con los que el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sistema o sus componentes interactúan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o se comunica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ben ser clasificados en requisito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interfaces de software, hardware y comunicacion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utilizars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diagramas de bloques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ara ilustrar parte de este tipo de requisi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675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Operacionale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forma en que correrá el sistema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se comunicará con los operadores humano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Incluyen todas las interfaces de usuario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interacción humano-computador, y requisitos logísticos y organizacionales. Por ejemplo, se usará teclado/mouse?, ¿cuán fácil de usar será el sistema?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775F-A8BB-448E-954F-DD1A8C4FA5E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85920" y="1285920"/>
            <a:ext cx="78580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Recursos (o uso de recursos de Hardwar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asociados al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uso de los recursos físico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, tales como: CPU, memoria principal, espacio en disco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Usabi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requisitos asociados a (las características de) l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interfaz de usuario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del sistem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requisitos asociados a los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patrones de interfaz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e navegación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Mantenibilidad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uán fácil debe ser reparar fallas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y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adaptar el software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 nuevos requisi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ebiera especificarse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n forma cuantitativa, tal como el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tiempo medio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 para reparar una fall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E75A6-8024-4DC2-B13A-050D176F8391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285920" y="1213920"/>
            <a:ext cx="785808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Transportabilidad (portabilidad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 facilidad par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utilizar el sistema en otros ambient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Incluye hardware, sistemas operativos o escenarios de trabajo. Incluye el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sfuerzo de realizar el transporte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 una plataforma a otr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Confiabilida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os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tiempos medios (aceptables) entre falla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Requisitos de Rendimien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tablecen valores numéricos para variables medibles, asociadas a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apacidad de procesamient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que es percibida por el usuario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ser incluidos en l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cuantitativa para cada fun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o especificados en forma independiente. Especificaciones cualitativas no son aceptable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atributos de rendimient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deben ser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presentados como rangos de valores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: peor caso, valor nominal a ser usado en la planificación; mejor caso, para indicar potencial de crecimiento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17830-DF24-4AFC-A636-176197556FB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lasificación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357200" y="1428480"/>
            <a:ext cx="77868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quisitos de Documentación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documentación adicional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a la requerida en el estándar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calabil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specifica la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apacidad del sistema para mantener su rendimiento medio,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onforme aumenta el número de usuarios, procesos y/o solicitud de servicios del sistema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pecificación 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e atributos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 los requisitos e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igual a la del URD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estándar de la ESA propone además </a:t>
            </a:r>
            <a:r>
              <a:rPr b="0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otras categorías de requisito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que nosotros no vamos a considerar (por el momento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8B7DB-E351-48ED-8590-ADB2C5C6F76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Tipos Req de Soft. Adicionale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85920" y="1000080"/>
            <a:ext cx="7858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Seguridad de la Inform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para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asegurar (proteger) la información que maneja el sistema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contra amenazas a la confidencialidad, integridad y disponibilidad tanto de los servicios como de los dat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Seguridad de la Oper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requisitos para reducir la posibilidad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daño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que pue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producirse debido a una falla del software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Por ej. corrupción de la BD ante un corte de energía, o la necesidad de apagar el servidor para poder “matar” threads que han quedado vivo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Verificación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n las restriccione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el software se verificará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Pueden incluir requisito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simul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emulación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tests vivos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con entradas simuladas, tests vivos con entradas reales, e interfaz con ambientes de testeo, sobrecarga o stress por transacciones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quisitos de Tests de Aceptación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Especifica las restricciones d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cómo se validará el software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80000"/>
              </a:lnSpc>
              <a:spcBef>
                <a:spcPts val="1199"/>
              </a:spcBef>
              <a:spcAft>
                <a:spcPts val="6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Impone </a:t>
            </a:r>
            <a:r>
              <a:rPr b="0" i="1" lang="es-CL" sz="1600" spc="-1" strike="noStrike">
                <a:solidFill>
                  <a:srgbClr val="ffff00"/>
                </a:solidFill>
                <a:latin typeface="Arial"/>
                <a:ea typeface="Arial"/>
              </a:rPr>
              <a:t>restricciones al SVVP </a:t>
            </a:r>
            <a:r>
              <a:rPr b="0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Software Validation and Verification Plan), si éste se construye (no es el caso de nuestro proyecto)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B55C-F642-4592-B6DD-91A3DF173F3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4280" y="0"/>
            <a:ext cx="6072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1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Fase de Definición de Requisitos de Usuari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3920" y="3139560"/>
            <a:ext cx="7858440" cy="38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Lo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analistas son los responsables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 esta tare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identificar estos requisitos, debe definirse formalmente un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ontraparte: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Clientes y Usuarios dedicación al proyecto y poder de decis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Hay qu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ntrevistar a los clientes/usuari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Hay que indagar, investigar, y si es necesario,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hay que ir más allá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lo que los usuarios/clientes nos dic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>
            <a:off x="7286760" y="0"/>
            <a:ext cx="1857240" cy="2286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5"/>
          <p:cNvSpPr/>
          <p:nvPr/>
        </p:nvSpPr>
        <p:spPr>
          <a:xfrm>
            <a:off x="1357200" y="1285920"/>
            <a:ext cx="58788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500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ropósito es refinar una idea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os de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finir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lo que se espera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l sistema computacional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BC8F1-62B2-4E7A-AC40-519F29B5C04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ompletitud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42640" y="1213920"/>
            <a:ext cx="8001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rincipalmente debemos considerar dos aspect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¿Se han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considerado todos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os requisitos de usuario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¿Se ha especificado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una actividad para validar </a:t>
            </a:r>
            <a:r>
              <a:rPr b="0" i="1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ada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onjunto posible de </a:t>
            </a:r>
            <a:r>
              <a:rPr b="0" i="1" lang="es-CL" sz="1800" spc="-1" strike="noStrike">
                <a:solidFill>
                  <a:srgbClr val="ffff00"/>
                </a:solidFill>
                <a:latin typeface="Arial"/>
                <a:ea typeface="Arial"/>
              </a:rPr>
              <a:t>entradas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spcAft>
                <a:spcPts val="100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bemos incluir una matriz de trazado (o matriz de trazabilidad) en el SRD para probar completitu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9" name="Picture 4" descr=""/>
          <p:cNvPicPr/>
          <p:nvPr/>
        </p:nvPicPr>
        <p:blipFill>
          <a:blip r:embed="rId1"/>
          <a:stretch/>
        </p:blipFill>
        <p:spPr>
          <a:xfrm>
            <a:off x="2986200" y="3654360"/>
            <a:ext cx="4228920" cy="31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CF61D-D8CC-43BA-ACEA-7A1B40A8340D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Consistencia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88640" y="1214280"/>
            <a:ext cx="8055000" cy="28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Un conjunto de requisitos e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istente si y sólo si ningún subconjunto de requisitos entra en conflicto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xisten muchos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tipos de inconsistencias</a:t>
            </a:r>
            <a:r>
              <a:rPr b="1" i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Términos diferentes para nombrar el mismo objet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El mismo término para nombrar diferentes objet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75"/>
              </a:spcBef>
              <a:spcAft>
                <a:spcPts val="675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contrapuesto (dicen cosas total o parcialmente contraria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Picture 4" descr=""/>
          <p:cNvPicPr/>
          <p:nvPr/>
        </p:nvPicPr>
        <p:blipFill>
          <a:blip r:embed="rId1"/>
          <a:stretch/>
        </p:blipFill>
        <p:spPr>
          <a:xfrm>
            <a:off x="6227640" y="3989520"/>
            <a:ext cx="2916360" cy="2868480"/>
          </a:xfrm>
          <a:prstGeom prst="rect">
            <a:avLst/>
          </a:prstGeom>
          <a:ln w="0">
            <a:noFill/>
          </a:ln>
        </p:spPr>
      </p:pic>
      <p:sp>
        <p:nvSpPr>
          <p:cNvPr id="324" name="Rectangle 5"/>
          <p:cNvSpPr/>
          <p:nvPr/>
        </p:nvSpPr>
        <p:spPr>
          <a:xfrm>
            <a:off x="1214280" y="4214880"/>
            <a:ext cx="49420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751"/>
              </a:spcAft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uplicación de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La duplicación de requisitos debe ser evitada. Aunque a veces es requerida para un mejor entendimiento del SRD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125"/>
              </a:spcBef>
              <a:spcAft>
                <a:spcPts val="1125"/>
              </a:spcAft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Cuando ocurran duplicaciones, deben hacerse referencias cruzadas para mejorar alteracio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2810-432D-4429-9C99-C5848C72B8F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Salida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371600" y="1499760"/>
            <a:ext cx="712944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ocumento de requisitos de software (SRD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lanes de testeo del sistema (Plan de Pruebas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500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estándar establece otras salidas, pero nosotros no las consideraremos en nuestro proy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3500280" y="4357800"/>
            <a:ext cx="3384720" cy="23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DD63-20D8-444F-88EC-FA989C40CCE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77709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Ejercicio 2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13920" y="1285560"/>
            <a:ext cx="7929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termine cuáles son los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s de software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 un chat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specifíquelos en una hoja…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01040" indent="-401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Haga un matching entre los req. de usuario y los de software (5 minutos)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2" name="Picture 4" descr=""/>
          <p:cNvPicPr/>
          <p:nvPr/>
        </p:nvPicPr>
        <p:blipFill>
          <a:blip r:embed="rId1"/>
          <a:stretch/>
        </p:blipFill>
        <p:spPr>
          <a:xfrm>
            <a:off x="3059280" y="2133720"/>
            <a:ext cx="381636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8445C-9026-48AA-8F85-9C5571ED094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213920" y="0"/>
            <a:ext cx="7929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571760" y="1213920"/>
            <a:ext cx="7038720" cy="459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1. Introducció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opósi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Alcan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finiciones, acronismos y abrevi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fer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Resu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10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... es igual a la introducción del URD</a:t>
            </a:r>
            <a:r>
              <a:rPr b="1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i="1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Sólo debe redefinirse o agregarse la información que se estime conven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6" name="Picture 4" descr=""/>
          <p:cNvPicPr/>
          <p:nvPr/>
        </p:nvPicPr>
        <p:blipFill>
          <a:blip r:embed="rId1"/>
          <a:stretch/>
        </p:blipFill>
        <p:spPr>
          <a:xfrm>
            <a:off x="8129520" y="1000080"/>
            <a:ext cx="101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7846-0D0C-4DB4-A0CC-63AA456B272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28440" y="1071360"/>
            <a:ext cx="7910280" cy="58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800"/>
              </a:spcBef>
              <a:spcAft>
                <a:spcPts val="14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con proyectos actu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Establecer cuáles son los proyectos, con los que está relacionado el software a construir. Establecer claramente la relación con cada uno de éstos (por ej. comparten los datos del “profesor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Relación con proyectos predecesores y sucesor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Idem al anterior, pero para proyectos predecesores, y suceso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unción y propósito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 cuál es la función principal, y el propósito del sistema a desarrolla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Bef>
                <a:spcPts val="1800"/>
              </a:spcBef>
              <a:spcAft>
                <a:spcPts val="1001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Consideraciones ambiental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pecifica aquellas consideraciones que deben ser tenidas en cuenta para el normal funcionamiento del software a desarrollar (por ej. “se debe realizar un backup diario”, o “la temp. no debe superar los 35ºC”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0" name="Picture 4" descr=""/>
          <p:cNvPicPr/>
          <p:nvPr/>
        </p:nvPicPr>
        <p:blipFill>
          <a:blip r:embed="rId1"/>
          <a:stretch/>
        </p:blipFill>
        <p:spPr>
          <a:xfrm>
            <a:off x="0" y="1000080"/>
            <a:ext cx="101448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1F0D-BBFD-419C-B159-CE6BA79FB03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576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2. Descripción Gener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Relación con otros sistemas.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tablecer cuáles son los sistemas existentes, con los que está relacionado el software a construir. Establecer claramente la relación con cada uno de éstos (por ej. comparten la tabla “persona”, de la B.D. “personal”)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Restricciones generales</a:t>
            </a:r>
            <a:r>
              <a:rPr b="1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Básicamente son las mismas del URD. Pueden incorporar las actualizaciones que hayan surgido al analizar los requisitos de softwar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escripción del modelo.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Narrativa que establece, a grandes rasgos, cómo va a funcionar el sistema. Representa el modelo lógico del sistema. Pueden utilizarse diagramas de bloques, u otro tipo de diagramas genéricos, si lo dese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100000"/>
              </a:lnSpc>
              <a:spcBef>
                <a:spcPts val="123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4" name="Picture 1028" descr=""/>
          <p:cNvPicPr/>
          <p:nvPr/>
        </p:nvPicPr>
        <p:blipFill>
          <a:blip r:embed="rId1"/>
          <a:stretch/>
        </p:blipFill>
        <p:spPr>
          <a:xfrm>
            <a:off x="0" y="1071720"/>
            <a:ext cx="84312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7315F-8E28-48C0-AF65-E055C873F329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42640" y="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Documento de Req. de Softwar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85920" y="1142640"/>
            <a:ext cx="73245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3. Requisitos Específic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fun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ndi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interfa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operacion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recur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verific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aceptación de tes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document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inform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transport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ca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confiabil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mantens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  <a:ea typeface="Arial"/>
              </a:rPr>
              <a:t>Requisitos de seguridad de la oper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8258040" y="1000080"/>
            <a:ext cx="88596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ADF7F-8900-4B54-AAD5-929925D6C74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En nuestro caso.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85560" y="1285920"/>
            <a:ext cx="7173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pecificaremos los requisitos de software en la </a:t>
            </a: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ección 3.2 del documen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requisi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3.2 Requisit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un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faz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peracion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cursos (Ambiente Operacional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Us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Manteni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ort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Confi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Interoper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Rendimien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ocument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scalabil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49"/>
              </a:spcBef>
              <a:spcAft>
                <a:spcPts val="2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4. Matriz de trazabilidad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de requisitos de usuarios vs requisitos de softwa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8242200" y="0"/>
            <a:ext cx="90180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BCEE-595E-4E56-905C-DD76FC5FA48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Arial"/>
              </a:rPr>
              <a:t>4. Matriz de Trazad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55" name="Picture 3" descr=""/>
          <p:cNvPicPr/>
          <p:nvPr/>
        </p:nvPicPr>
        <p:blipFill>
          <a:blip r:embed="rId1"/>
          <a:stretch/>
        </p:blipFill>
        <p:spPr>
          <a:xfrm>
            <a:off x="1285920" y="1928880"/>
            <a:ext cx="774540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126A-A2AC-402E-B826-B6B2BA45678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1214280" y="1357200"/>
            <a:ext cx="666936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Debe usarse la experiencia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de ingenieros, especialistas, personal clave que conozca el negocio y la organización clien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los ayudarán a especificar/revisar los requis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entregable de la fase es 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RD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  <a:ea typeface="Arial"/>
              </a:rPr>
              <a:t>(Documento de Requisitos de Usuari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el cua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s crítico para el resto del proyecto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porque define la base sobre la cual se aceptará el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spcAft>
                <a:spcPts val="15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este curso el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URD está contenido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rincipalmente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las </a:t>
            </a: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ecciones 1 y 3.1 del Documento de Requisitos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7896240" y="1123920"/>
            <a:ext cx="1247760" cy="933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7885080" y="115920"/>
            <a:ext cx="1258920" cy="944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3"/>
          <a:stretch/>
        </p:blipFill>
        <p:spPr>
          <a:xfrm>
            <a:off x="7885080" y="2104920"/>
            <a:ext cx="1258920" cy="941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4"/>
          <a:stretch/>
        </p:blipFill>
        <p:spPr>
          <a:xfrm>
            <a:off x="7875720" y="3095640"/>
            <a:ext cx="1268280" cy="1800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5"/>
          <a:stretch/>
        </p:blipFill>
        <p:spPr>
          <a:xfrm>
            <a:off x="7869240" y="4941720"/>
            <a:ext cx="1274760" cy="19162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2"/>
          <p:cNvSpPr/>
          <p:nvPr/>
        </p:nvSpPr>
        <p:spPr>
          <a:xfrm>
            <a:off x="1214280" y="0"/>
            <a:ext cx="60724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Fase de Definición de Requisitos de Usuario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EA35-0F72-4440-BAA3-0B624E893D0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285560" y="1285560"/>
            <a:ext cx="7553160" cy="53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Los documentos URD y SRD deben ser “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ocumentos comple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”. Esto significa que todos los requisitos conocidos deben ser incluidos cuando son producid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Sin embargo, es altamente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probable que aparezcan nuevos requisi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después de las aprobaciones de los document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or ello, es necesario establecer al inicio del proyecto,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procedimientos para manejar nuevos requisito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 necesario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no comprometer la integridad del diseño</a:t>
            </a:r>
            <a:r>
              <a:rPr b="0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cuando se incorporan nuevos requisitos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100"/>
              </a:spcBef>
              <a:spcAft>
                <a:spcPts val="1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Dichos requisitos, si es que son aceptados tanto por el usuario como por el diseñador, debiesen ser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manejados de la misma forma que los requisitos originales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D540-280A-4D9A-8D1F-2CFF1857B91C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28840" y="1671480"/>
            <a:ext cx="7029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procedimiento para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corporar un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nuevo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 de usuario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s el sigui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Generar un nuevo manuscrito del UR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Convenir una revisión de los UR, y si el cambio es aceptado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Repetir las fases SR, AD, y DD para incorporar el nuevo requisito y sus consecuenc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800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l procedimiento para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incorporar un 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nuevo </a:t>
            </a:r>
            <a:r>
              <a:rPr b="1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requisito de software es similar</a:t>
            </a:r>
            <a:r>
              <a:rPr b="1" i="1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200EF-32BA-4EC1-A725-F6F76D740D6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285920" y="1071360"/>
            <a:ext cx="78580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Otra forma de manejar nuevos requisitos es el de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instituir un Comité de Revisión de Software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después de U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/R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en vez de DD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/R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Otra forma es el uso de un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enfoque de ciclo de vida de desarrollo evolutivo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. Sin embargo, esto sólo alarga la administración de los nuevos requisitos para el release posterior al que está en preparación, lo que puede no ser suficiente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calidad del trabajo hecho para las fases UR y SR 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puede ser medido por el número de requisitos que aparecen en fases posterior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825"/>
              </a:spcBef>
              <a:spcAft>
                <a:spcPts val="825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Especial énfasis </a:t>
            </a:r>
            <a:r>
              <a:rPr b="0" i="1" lang="es-CL" sz="2200" spc="-1" strike="noStrike">
                <a:solidFill>
                  <a:srgbClr val="ffff00"/>
                </a:solidFill>
                <a:latin typeface="Arial"/>
                <a:ea typeface="Arial"/>
              </a:rPr>
              <a:t>debe dársele a la aparición de nuevos requisitos.</a:t>
            </a:r>
            <a:r>
              <a:rPr b="0" lang="es-CL" sz="2200" spc="-1" strike="noStrike">
                <a:solidFill>
                  <a:srgbClr val="ffffff"/>
                </a:solidFill>
                <a:latin typeface="Arial"/>
                <a:ea typeface="Arial"/>
              </a:rPr>
              <a:t> Un número de apariciones importantes es un signo claro que el software muy probablemente no será un éxito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553A0-F44A-4571-89C6-7BE12D27105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  <a:ea typeface="Arial"/>
              </a:rPr>
              <a:t>Admin. de Req. en un Proyect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071360" y="1071360"/>
            <a:ext cx="80722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76"/>
              </a:spcBef>
              <a:spcAft>
                <a:spcPts val="14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disponibilidad de herramientas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puede ser crítica para un proyecto con cambios de requisitos frecue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royectos donde se conviene (entre el cliente y el desarrollador) en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congelar los requisitos</a:t>
            </a:r>
            <a:r>
              <a:rPr b="0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la fase SR, el uso de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métodos basados en pape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para realizar análisis de requisitos y especificación de diseño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pueden ser suficient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349"/>
              </a:spcBef>
              <a:spcAft>
                <a:spcPts val="1199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En proyectos donde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no es posible congelar los requisito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, puede ser </a:t>
            </a:r>
            <a:r>
              <a:rPr b="0" i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esencial el uso de herrami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  <a:ea typeface="Arial"/>
              </a:rPr>
              <a:t> de ingeniería de software que permitan que nuevos requisitos y cambios al diseño sean asimilados rápidamente para evitar atrasos se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24080" y="1356840"/>
            <a:ext cx="78199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Junto con la entrega del Documento de Requisitos, todos los grupos deben entregar al profesor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un documento firmado por el cliente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donde consten los requisitos que se van a abordar en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ón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ón II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En caso de dudas o conflictos en algún requisito,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que vale es la que está en ReqAdmi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213920" y="1143000"/>
            <a:ext cx="79297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3.  Para la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revisión del Documento de Requisitos 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de las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teraciones 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 y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II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cada grupo debe preparar una presentación no más de </a:t>
            </a:r>
            <a:r>
              <a:rPr b="0" lang="es-MX" sz="3200" spc="-1" strike="noStrike">
                <a:solidFill>
                  <a:srgbClr val="ffff00"/>
                </a:solidFill>
                <a:latin typeface="Arial"/>
                <a:ea typeface="Arial"/>
              </a:rPr>
              <a:t>15 minutos</a:t>
            </a: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, explicand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oblema a resol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Contexto del proyec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Principales requisitos de Usuarios involucrados en las Iteraciones I y I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Arial"/>
              </a:rPr>
              <a:t>Matriz de traz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37224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00"/>
                </a:solidFill>
                <a:latin typeface="Arial"/>
                <a:ea typeface="Arial"/>
              </a:rPr>
              <a:t>La información se contrastará con lo que hay en ReqAdmi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ff00"/>
                </a:solidFill>
                <a:latin typeface="Arial"/>
                <a:ea typeface="Arial"/>
              </a:rPr>
              <a:t>IMPORTAN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23720" y="1500120"/>
            <a:ext cx="73911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  <a:ea typeface="Arial"/>
              </a:rPr>
              <a:t>4.  El protocolo de Revisión es el siguien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sentación del Produ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Tes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Preguntas y Respuest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14360" indent="-514080">
              <a:lnSpc>
                <a:spcPct val="100000"/>
              </a:lnSpc>
              <a:spcBef>
                <a:spcPts val="2999"/>
              </a:spcBef>
              <a:buClr>
                <a:srgbClr val="ffff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Arial"/>
                <a:ea typeface="Arial"/>
              </a:rPr>
              <a:t>Observaciones del Profeso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38F5-55F6-44A8-BD9B-DEF263FB731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00"/>
                </a:solidFill>
                <a:latin typeface="Arial"/>
                <a:ea typeface="Arial"/>
              </a:rPr>
              <a:t>UR: Entradas/Salidas de la Fase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04720" y="1356840"/>
            <a:ext cx="6453000" cy="401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No hay entradas formales</a:t>
            </a:r>
            <a:r>
              <a:rPr b="0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para esta fa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.. aunque es posible utilizar informes, código fuente,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documentación de sistemas legados o estudios hechos al respect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para iniciar esta fase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También se pueden considerar como entradas, los documentos que detalles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estudio de factibilidad técnica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realizado (en caso de existir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La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salida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 de esta fase es el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URD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l </a:t>
            </a:r>
            <a:r>
              <a:rPr b="1" lang="es-CL" sz="2000" spc="-1" strike="noStrike" u="sng">
                <a:solidFill>
                  <a:srgbClr val="ffff00"/>
                </a:solidFill>
                <a:uFillTx/>
                <a:latin typeface="Arial"/>
                <a:ea typeface="Arial"/>
              </a:rPr>
              <a:t>URD representa la visión del usuario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, acerca del problema a resolver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7931160" y="1773360"/>
            <a:ext cx="1212840" cy="16174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2"/>
          <a:stretch/>
        </p:blipFill>
        <p:spPr>
          <a:xfrm>
            <a:off x="6486480" y="5172120"/>
            <a:ext cx="2657520" cy="168588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6"/>
          <p:cNvSpPr/>
          <p:nvPr/>
        </p:nvSpPr>
        <p:spPr>
          <a:xfrm>
            <a:off x="1405080" y="5545080"/>
            <a:ext cx="530064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1880" indent="-461880">
              <a:lnSpc>
                <a:spcPct val="80000"/>
              </a:lnSpc>
              <a:spcBef>
                <a:spcPts val="1001"/>
              </a:spcBef>
              <a:spcAft>
                <a:spcPts val="1250"/>
              </a:spcAft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Esta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  <a:ea typeface="Arial"/>
              </a:rPr>
              <a:t>fase termina con aprobación formal del URD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  <a:ea typeface="Arial"/>
              </a:rPr>
              <a:t>a través de una o más actividades de revisión UR/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ABA7-6068-4BD7-8126-81CFE61BEE2F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172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00"/>
                </a:solidFill>
                <a:latin typeface="Arial"/>
                <a:ea typeface="Arial"/>
              </a:rPr>
              <a:t>UR: Actividades de la Fa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4280" y="1143000"/>
            <a:ext cx="5786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Capturar y Especificar</a:t>
            </a:r>
            <a:r>
              <a:rPr b="0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 los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requisitos del usuario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terminar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Ambiente Operacion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Revisar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el URD (en hitos preestablecidos), hasta lograr su aprob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99680" indent="-499680">
              <a:lnSpc>
                <a:spcPct val="80000"/>
              </a:lnSpc>
              <a:spcBef>
                <a:spcPts val="1749"/>
              </a:spcBef>
              <a:spcAft>
                <a:spcPts val="1049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Generar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set inicial de pruebas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de sistema, que se emplearán para verificar que el software es adecuado (el responsable de esto es el </a:t>
            </a:r>
            <a:r>
              <a:rPr b="1" lang="es-CL" sz="2800" spc="-1" strike="noStrike">
                <a:solidFill>
                  <a:srgbClr val="ffff00"/>
                </a:solidFill>
                <a:latin typeface="Arial"/>
                <a:ea typeface="Arial"/>
              </a:rPr>
              <a:t>téster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7520040" y="4941720"/>
            <a:ext cx="1623960" cy="1916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6789600" y="1484280"/>
            <a:ext cx="235440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1T13:26:24Z</dcterms:created>
  <dc:creator>Sergio Ochoa</dc:creator>
  <dc:description/>
  <dc:language>en-US</dc:language>
  <cp:lastModifiedBy>Sergio</cp:lastModifiedBy>
  <dcterms:modified xsi:type="dcterms:W3CDTF">2009-08-27T15:55:26Z</dcterms:modified>
  <cp:revision>226</cp:revision>
  <dc:subject/>
  <dc:title>Ingeniería de Software</dc:title>
</cp:coreProperties>
</file>