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33A3-3B57-4BA1-8502-06165E9E5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FA06-A060-4A53-BCD2-1D89F138BE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E80F-D770-42B8-834F-C4F2DCCBADA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035D-3591-4357-BD3C-4C71D3C8329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37D5-71C3-4FF9-932F-A20FFDB91A4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9E10-E28C-4E2E-B10F-4999B345BA3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69B4-FC0B-4484-B62F-A81F8A58A15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A89-E7CA-40F6-902A-19F4683EE46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80D2-642B-4ABA-9407-17A76CFE877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D7C8-3DC2-4002-99AA-0CA1CCEB9EC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5FC7-1094-4BEC-8958-10DAD3704B9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5E5C-DCDD-4856-9932-6B2A2BA7A39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7ECF-4777-4F37-849D-9C4658F40AE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E73F-F13A-412B-9570-23E205DF9D5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7713-3DCA-4E43-B392-C449C8B3D6C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75C-2812-49EC-B0BD-1F9FDCB35F1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C691-C279-4305-83AA-68D2A58650D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00EE-C564-4E8D-8DE0-43B4E159BB2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1237-688F-4277-A4B2-9B835A0E81D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6A2-F61F-4379-8CC9-4E5701FB396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DE67-9239-4445-A3C7-AB8DEA6EF3F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ED34-60DF-484C-89A2-32D63DB44DA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9F2F-EEA9-4CFA-BC67-BF888E8FAE4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1DA9-B4A0-4413-90E9-3769035785C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00D6-75C5-41DC-8524-2C416EF72A3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5661-7127-43F9-9D28-9AE023FDB1A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C57-3B59-4387-9C9A-E998476CB14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4A67-46DD-40FF-8117-F3704253964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CCE4-2643-4CCC-861D-68BE8E7E392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FA2-84A2-42AC-82D3-FB98AE50E67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B7C0-C970-4CFD-AF18-3BF6F31C774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AB5D-3FAD-449B-AD65-14E8F412B05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41C-5DCD-40D4-B8EF-C90161385CF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FD78-EB69-48EA-8D96-EC476B02B36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38E0-2334-4532-9635-57CF89F38D2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7D77-1B38-4F0C-AF65-53449394FAE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48E-6826-4531-9460-56E5ED60248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FB77-8D65-4E8A-8E7C-94A91D6F691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4719-3D40-426C-BC0C-380D757ED32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DB67-07CF-4C27-B9B8-0196CF8D712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F693-6E5A-47DC-81C5-1409C67E828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4DA5-F0B9-45EC-B952-FBF1885FB07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2A2-FF04-40FA-84E6-8D2790EAB36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430-2323-4B0C-9ED3-5BF23A71010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998B-1824-44D5-BD6E-0AD4B3304D4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EC6D-2C2C-4EF5-94BB-159460284F8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386D-9122-4CC9-9310-9568DA08D4C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86F4-D477-4F40-B845-18CEAC31EE2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2EB6-EDDD-4161-89CE-6F360F255C5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5F39-6902-491E-AD1A-D88A97F6135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FA3E-91D6-43F3-B947-13998F5BDE1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6664-1110-4CDE-8E26-167A5CE4FA1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B83-CCCF-43E7-AF2C-663628DE99E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5354-900E-4C15-B489-7D564BE1DCB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F3A0-20C4-4A34-94D3-D03B646EAAD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BBFC-983A-403C-A7AD-63D7F088E4E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415D-A977-4B6D-A381-133575568D6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9B20-C5CD-457C-945D-2DD49E3DBC2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0A4E-A8A5-4655-B1F5-EE2617EDF77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B0BF-B0F3-4F96-AEBE-8FA33B44098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B212-E392-486F-8C82-EAC460F0D17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06D7-B044-4D4D-9E80-211190C8F3A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1B27-8DA0-4473-947E-4F3E3069CDA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E879-D111-4D07-9280-4C2F26AF499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3C8B-57F3-4AF3-B98A-C2F3F6E682A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0A3A-6FF7-4327-8C66-52573555C82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ADD-65C5-4125-BE76-1AF4087BEEE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1262-1666-495F-91CA-8F44827ED88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1011D-7DFE-42CD-92EA-E2C65C0BA41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3199-53F4-4EBD-9F48-2CB9248895D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1F0F-5FCF-4C71-A85E-BAAD4C320A9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2F6-EF1A-4D09-975F-9559240D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7049-0B64-49B1-80B5-1A4BAAD4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5D9-C594-46A9-8A31-D321C10B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FBA-EAFE-4F86-B9F7-6F6DF95A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48A-5E8C-4683-8C67-76A61E7A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36A-966D-4447-8AD2-AFCA8632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336-518A-4D85-A70F-C02E826D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6EA6-36EF-4770-8CFF-DCCC74BD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248-EE75-4F15-93BA-5C07004D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D5A6-2B9D-4C0B-97E7-40E012F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EAD-FC22-4321-B2DC-B58BDA87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9883-308E-4DD0-B086-4F4F0DEE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C3A4-4812-4391-A7EC-B8EBB60321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851D-EB4A-41E8-BA7B-D725C23D1E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C0FE-74F7-4C27-BF32-9F37BEC518A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BD38-332F-4FF1-8FC6-B1C67E7EF8B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B091-CB40-4EF0-AAB9-8867AAB8AB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E78B-91FA-4A58-B2D6-466758641C6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B70A-469E-4E9E-B52F-D44F8A208A6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536-64F5-4195-A610-796AFC5BFD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12/200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AF88-1D08-4A9F-84C5-41D4094323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12/200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01C-6B7D-4503-AD38-E8090CAC6B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EC7-3298-4115-88C1-60243E39138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2A7-9381-4D41-AEFB-EA6940DD157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5501-68FF-4805-82D7-96D998B86D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9D14-73FB-4C92-A335-63F8FF3FC1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B923-D36D-47BE-BA68-B735EA2915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5F4-0DD5-41CB-931A-4A0D6509AC2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77CE-4EE8-4724-A798-3A9E74BEED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E9CE-B575-412A-A0B7-429183E73C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8B57-8F74-404E-AE9B-5264E705ED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09C1-1C9E-4A02-AD0F-3B12F69474D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00B6-E652-4768-BD1A-E57463267D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B791-B4A2-498C-852F-406D051DB9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A73A-9C9B-4371-9B87-4B6AB688546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C52A-2B06-47C0-BF0C-F5B992F8959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8E91-87B4-4EFD-BC9A-4F2FCAE7FF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1165-2078-4D98-916E-F569A33FC5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A9CB-C74D-4A68-A6D0-EEE115303F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3493-6223-4F5F-8385-C3132EAD00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F4E0-D998-4169-A6CF-58DCA50175C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BB54-DD3E-4D15-9F46-624129CA65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407F-5DAF-4725-B50E-47461F652F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BB8-30F9-4E77-959E-80C269BEDB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8C6-4F43-41E9-8B7C-56FA41413E5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4A86-0D4F-4B69-85BA-8C137EC068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1C8A-BEDE-43E7-AAD4-CC6111ED61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9113-6225-4241-AA10-92F4A823A4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288-5139-42D2-9BF1-6E87FA44CCA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47D2-F746-48B5-AA3F-A40AA5087DB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099A-6A0C-479A-A950-0AA5A96546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52F-31E1-45FC-AE50-BBA7A6BDC8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973E-D366-4721-92C9-40A72A4E20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72D3-7434-48DF-B804-63C20E5FC9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26DF-F68A-4596-BDA1-45D768DA02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D858-615B-4A59-AF0C-98CFA3D8F87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822F-9B5C-42F6-857B-DE68570A67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2092-171E-45AC-BB51-EF95BECBF5D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842A-2D9F-4366-B6FA-0A6C7A18AB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72B7-B0FC-4B9B-B1B2-70B2D8353B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5B29-5B18-4D24-B189-1A48F3CFE6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767A-E0F7-465A-A1F7-38B49559458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BE36-0371-4517-AB9D-18E3B23DC7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8BAE-370E-4B67-B491-8A4541C774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0857-0DE4-472B-A77E-C78494DC94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BBB-5FFE-4825-AB65-B75F088E8F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FC7B-0DCC-4B8A-BB5A-89674175A5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025F-1AA3-4BF4-95D7-CBE12A17D9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D948-BDFB-4E5A-805C-C82864DF22E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28B8-A6CC-44F5-A913-2DEE6B81DAD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85A1-625F-4E58-A107-FB5FCF63FB1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A4E5-B1A8-4B63-A0D7-C4C522009EF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E2C7-F964-47C2-B1EB-9E947C4BDCB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C041-5412-43A3-BCA7-17D2D4B7DC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40B7-BB57-4166-87CC-76BB7FC163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3055-3F63-4189-BC95-50DAAFD230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EEA4-3998-4E2D-A5E1-EAF8B65E43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CD91-21D7-4517-AA88-8416307434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B697-DD5D-451A-AB55-B9BDF19B402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01F-6929-494E-B76C-9B50772001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1C1B-E235-45F6-B85F-2A82A6CD80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4080" y="1356840"/>
            <a:ext cx="7819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l profesor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23720" y="1500120"/>
            <a:ext cx="739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A64E-FBF8-411B-AF65-897A969BAA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80F4-F55D-4D0A-93B8-F5924819FA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los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27T15:55:26Z</dcterms:modified>
  <cp:revision>226</cp:revision>
  <dc:subject/>
  <dc:title>Ingeniería de Software</dc:title>
</cp:coreProperties>
</file>