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.wmf" ContentType="image/x-wmf"/>
  <Override PartName="/ppt/media/image41.jpeg" ContentType="image/jpe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74DB-09FF-4988-ADF8-BD2DFAC67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58E1-7645-4082-A466-9613E7B6583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F0E5-B0CE-4502-9D51-B94F030E20B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B132-38C7-42A1-9B88-013100ED51D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D737-FED7-477A-BFE2-9465C8B6E5A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7D20-EEC5-45B1-96F4-8859777844F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495B-294C-4312-A1E2-BAE290DF05C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45CF-5798-4EF2-BB7D-87963568CA0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0062-EDBC-4A3F-9A50-CC795CEE772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5DA3-8413-4926-9D44-7DB3FBBC377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7DE1-1971-4965-809E-D02B42496AC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CF5F-7A68-4BFB-9FA4-447015655D0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3C43-C440-4B6E-84AB-8A8479C3D05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63440" y="4162320"/>
            <a:ext cx="68263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-3268800" y="1528920"/>
            <a:ext cx="9792000" cy="734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9438-2283-4938-9ED6-EABDE0AAA36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12A3-F67C-4528-BAAF-28EDAC240F6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D13E-248F-41A7-80FD-1313097EF2A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13D7-BF72-42B0-BED7-78A5F45D46E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A68-B0B1-4920-AE45-1078E7F4F9A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274E-0EB5-4912-B234-71574FA9D05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3E2D-0193-4191-B601-27996960BA8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AF44-D0C3-4998-9578-30D6F6DB8A1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ECAC-647A-4FF2-A8C8-59E8A1A368F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6211-14B9-42BF-8F4F-A6AE99EC03A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9423-A6E9-4BF2-B734-1A92F9E0D21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AD81-9117-42A3-BD7A-7BB39ACB6F2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D9D2-A867-4A17-97E8-1E105AD4E2D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D7D0-31E8-478F-95CA-8E5614791D0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8813-8F7D-4898-AF7C-13104098818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64B6-8AD8-403D-8DAA-62A02CE440E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9F28-4684-4772-8B1A-6528570CCC1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3CCF-E07A-49A3-B37C-C9950DB2C95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3172-98F8-4DBD-AC87-4CB281248E6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2F94-975C-4DA3-AD96-D5B97190040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942E-C1F1-4DCD-99CA-0CE12B28E5D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3B71-0D3A-46D8-9AF0-A90B5E78D76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5B6D-F9C1-495F-AF4D-168614FB9EA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E5A4-AB8E-4853-B751-42F2A5705D6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Funciona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envi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recibi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mostr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ocer el status de los usuarios conec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de Cal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sea fácil de us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9045-9F09-46EE-8A47-52BF6410679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4FBF-1774-4C2C-85FE-F6D3C3D7656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B63E-4D12-4833-A6C9-E48F0D6533F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C36D-E025-4161-A643-50E3CF79737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7E99-B516-4FF0-964A-6092DB44734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98F7-E058-494A-AC8B-ABBC68AC5FE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D09A-C3EE-4C4A-B878-19905367DE6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C7B8-F5D4-4EF1-807F-3CB9DFEB46A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41A0-0924-4485-A973-DB48B5A1835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BA13-FB1B-4CBB-A055-C14F5308F92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A7CC-4DCD-4A9D-AE24-AEC2FDABA53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5E52-47B6-408C-9268-E94DB610A89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4F1F-7746-48C5-8222-4A719EF6372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63CC-4A68-45E6-A804-35EEB75750B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F5EF-CC05-4F04-94FA-6C3D06DC3B5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3E0E-A959-48D4-85CA-BB6813F4F8A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7F8A-59A6-436E-86D2-95B603647B6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1546-3A91-4C62-AF6A-6EDAB8D976B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8D2C-E890-46C2-88BF-31D00BA2F29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3F09-C39C-498A-9620-C3F342A6375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C72C-E344-4DC5-80BE-DA2AA29AC5B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S asociados a los RU defini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funciones bajo una arq. C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usuario se identifique con un nombre de usuario al ingresar a la s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mantenga un registro de los usuario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cliente provea una ventana pública (donde se muestran los mensajes) y una caja de texto donde se pueden ingresar los msg de tex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tenga un componente encargado de la E/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pueda enviar un msg al serv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pueda enviarle un msg a todos los cliente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clientes cuando reciban un mensaje, lo muestren en la ventana pública a continuación del último mensaje recibi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mensajes muestren (al comienzo del mensaje) el nombre del emisor del ms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a interfaz del chat se parezca a esto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13FE-EC70-4959-9D6D-9798A11AA83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F016-A100-4751-AE31-5A745BAA0A8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F2EC-0964-4498-A38B-D478185243A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6B41-BD42-4C79-9FED-8EB24502C27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DC6B-1483-4624-BF2F-52EDE165EA2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E476-D9AD-463E-89CD-FDFEEA492B4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C197-075D-4323-9562-41403A79D48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F0B4-9288-4546-A38C-E70DFF46986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CD84-36FE-4D6B-8201-402F52F8017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AADC-8B6A-4234-BA79-E97D7AFA0F8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C8C1-6BE3-4B78-8586-F631F496CF8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CF24-D2C6-4641-8F65-3997CC8ABE3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27AE-1347-4FF6-B4DB-CF0AF435F07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D80-4534-4EE4-A906-9779E142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C07-B8A4-480C-A051-5F840429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369-FC81-4B1B-BC8E-8DE871CC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918-4BC2-491D-B674-2DEBB387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0B9-1BB1-45CD-830D-D12BB19F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F7F-22D3-4E54-A3CD-BB5925D9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83F-7B24-44A3-BFC9-1219F836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B27-7D22-40AA-9700-E1E00D3A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CA3-43C6-408F-BA5C-5E50BCFA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906-C506-42D8-B2FB-C57CDF5D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C11-C45B-4843-8214-BF41311E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D29-A360-4F79-AF78-1EE7E238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80D2-5E63-47C6-8BD2-D0CA11EF3F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AEF2-2F9E-44BA-9D4D-ABF06D3493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1028"/>
          <p:cNvSpPr/>
          <p:nvPr/>
        </p:nvSpPr>
        <p:spPr>
          <a:xfrm>
            <a:off x="1357200" y="5357880"/>
            <a:ext cx="7786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Versión 2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1030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de Requisitos de Usuario y de Software según la ES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(European Space Agency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702B-5B88-4062-9F1E-5458B57B9C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929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apturar los Req.de 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1800" y="1414440"/>
            <a:ext cx="6381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ces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terativ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especificación y valida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aliz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 los clientes/usuarios (vea la clase sobre entrevist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us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uestion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visan todos los informes, manuales, formularios y código fuente de 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istemas lega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involuc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 establecen acuer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respecto a los límites del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se validan usand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totipos del sistem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constru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629480" y="5838840"/>
            <a:ext cx="1514520" cy="101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608880" y="1000080"/>
            <a:ext cx="2367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00C3-388B-4E00-9751-7FAB6DDBADD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4280" y="3600000"/>
            <a:ext cx="796608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una narrativ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puede apoyarse d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agr. de contexto o de bloqu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que permita mostrar el uso del sistema en un contexto más ampl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sas a revisar en la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finición del escenari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 involucrados (hardware y softwar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ipos de comunicac. a usar (telef., LAN, WAN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nterfaces con otros sistemas (en producción o en desarrollo) involucrados en el escenario de trabaj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34120" y="907920"/>
            <a:ext cx="3809880" cy="234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14280" y="1285920"/>
            <a:ext cx="4105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rimer pa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para definir los requisitos de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tablec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cen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el qu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erará el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EC3E-3D15-4AE7-B40A-00AA175EB83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4280" y="1500120"/>
            <a:ext cx="5878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os tipos de requisitos de usuarios so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pacidades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requeridas por los usuarios para resolver un problema o determinar un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lidad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oftware para funcionar o garantizar su normal funcionamien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Restriccione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mpuestas por los usuarios, sobre la forma como debe ser resuelto el problema, o logrado el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238880" y="907920"/>
            <a:ext cx="1905120" cy="221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236000" y="3267000"/>
            <a:ext cx="190800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581960" y="486900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AC73-11D2-4512-944D-888926A82E7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4280" y="13568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Algunos problemas en la definición de URs s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rrec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mple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cia de otros requisi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mbigü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C2F1-9959-493A-BF8E-45BCCD1071B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57200" y="977760"/>
            <a:ext cx="77868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38A1-C200-4882-9CA4-9DEC2DC5B96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Ejemplo de Especificac. de Req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tilla basada en la propuesta de Tom Gilb (Gilb, 1988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C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dos mediciones básicas sean consist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1000 mediciones básicas comparadas usando 3 cifras signific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90% y 9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8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9.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minuta del 20/12/200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D9AC-6FBD-425D-A269-F66BA2F5AC6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Otro Ejemplo 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54884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0">
              <a:lnSpc>
                <a:spcPct val="80000"/>
              </a:lnSpc>
              <a:spcBef>
                <a:spcPts val="10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C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00% (no hay detec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ntrevista con Usuario (05/12/2008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CB89-5739-462B-A42D-62EC79F8EE0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920" y="1557000"/>
            <a:ext cx="73245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escala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es la medición que se hará de un atributo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deci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es lo que se mid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y en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unidad de medid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una medición teórica (por ej. en kilogramos, metros, et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medición práctica asociada se llam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(por ej. uso de una pes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scal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ómo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Veamos el siguiente ejemplo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380360" y="190440"/>
            <a:ext cx="1728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F19E-005A-4206-8122-4A7EA061861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14000" y="1499760"/>
            <a:ext cx="74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upongamos el atribut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(facilidad de uso) de un softw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Facilidad de Aprendiz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minut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5 min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P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tareas por 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20 tare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no tiene escala, se define a través de sus sub-atributos: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facilidad de aprendizaj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iv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51560" y="2786040"/>
            <a:ext cx="26924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7D32-EB34-4312-B6A3-65830966C0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4280" y="1213920"/>
            <a:ext cx="5857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ay que definir las cosas en aqu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 de detall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que nos permita controlar los parámetros crític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bstract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amistosidad”, normalment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mbigu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mejor que el sistema actual”, siempr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7518240" y="4826160"/>
            <a:ext cx="1625760" cy="201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7066080" y="981000"/>
            <a:ext cx="20779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FC2F-CE3B-4353-BC8C-7F61DAC8D91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tiv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dministración (control y monitoreo) de Requisitos durante un Proy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ibliografía y cas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5D8B-6055-48DF-8CE9-19F845753E1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5357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el modo de medir un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ealmente la prueba se refiere 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ya conoci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y medidos en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mejor partir con un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 poco precis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que partir sin una prueb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spués se podrá mejorar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s tienen que especificarse por escri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ás vale una prueba mediocre por escrito, que una prueba perfecta sin especificar (que está en la cabeza de alguien)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27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6481800" y="3357720"/>
            <a:ext cx="2662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F5B7-AAC9-497C-866B-942C7E2B031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4280" y="1628640"/>
            <a:ext cx="7715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noce el cos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la medición (para el presupuesto y el pla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sabrá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que el alcance del objetivo se puede y se va a med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puede preparar un punteo preliminar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lan de prueb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ara los atributos más crí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dice lo contrario, la prueba es aplicable durante las pruebas de acep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tiempos o las fases pueden especificarse entre paréntesis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diseño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codifica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pruebas de unid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produc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datos de uso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86720" y="0"/>
            <a:ext cx="1457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6971-D603-4729-B70D-77CB1C31D1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8840" y="170028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peor cas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eor nivel aceptabl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ajo cualquier circunsta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ualquier valor menor significa que hubo fraca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bviamente, para tener éxito no podemos tener todos los atributos en este ni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idea es llegar al nivel planifi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de cada atribut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be ponerse 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n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trato leg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cumple, el proveedor está en deu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e podrían incluso definir m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s partes interesadas deben firmar: cliente y provee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8A38-98DC-41AC-AA11-1C8B9CBAB6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85920" y="1571400"/>
            <a:ext cx="7400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determinar el peor ca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magine un nivel que sea siempre in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mpiece a subir el nivel hasta llegar a un punto en donde en “ciertos casos” sería 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es necesario defina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ás de un 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 Uno para cada períod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marcha blanca) = 8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operación inicial) = 9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después de garantía) = 9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1C6D-B3B2-4C9B-AAAD-2F1E7DD6FD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7200" y="1642680"/>
            <a:ext cx="73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aquel nivel que se desea alcanzar, en conjunto con los demá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e es 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ímite de la definición de éxi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a vez que este límite es alcanzado, ya no es necesario asignar más recursos all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lcanzar el nivel planificado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 significa “perfección”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Éste es u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canzable y real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sistent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n los niveles planificados de los demás atrib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1752480" y="5518080"/>
          <a:ext cx="739152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518080"/>
                    <a:ext cx="739152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9AEB-E47C-40AD-AE50-B08870A4F6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4280" y="1557360"/>
            <a:ext cx="77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 es fácil, y es u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ceso iterativ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muy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imilar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cer un presupues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o una carta Gant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nero”, es el presupues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iempo” es la dur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stimada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eas que ayud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yectos simila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formación históric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 la empre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ductos de la competenc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D4E9-F1FA-4366-B7A8-B26217BC8F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624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empre conviene partir con niveles planificado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definidos, aunque sea a oj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general es sano ser un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“poco” optim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pero sólo al interior del equipo de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sí obligamos a los diseñadores a pensar má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o nos permite mejorar nuestros produ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Hay que estar dispuesto a retract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usuarios/clientes/desarrolladores deben entender que son estimacione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285920" y="5516640"/>
            <a:ext cx="7694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DVERTENCI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os niveles especificados en este documento representan las mejores estimaciones disponibles hasta la fase de ***. No comprometen a ninguna de las partes involucradas, excepto que se diga explícitamente lo contrario. Sólo existen para ayudar a encontrar soluciones factibl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6D23-A626-460E-8309-EB97160549D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7200" y="162828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 que hace difícil pensar en los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iveles planific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que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deben satisfacers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establecer el nivel planificado de un atributo,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considerar todos los atributos que interactúa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n las intera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evalúan las opciones de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 la facti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el peor de los casos, basta ver cada atributo por separ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un sistema no necesita ser confiable, puede satisfacer cualquier otro requisito”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(Ley cero de la confiabilidad de Weinberg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37C9-984B-4768-9F1A-92ABE03BE58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Mej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534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el mejor valor que se sabe ha sido alcanzado en alguna situación. También se llama niv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rd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calificar se usan paréntesis;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) = 8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, futuro) = 9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prototipo ideal, nuestro) = 95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es op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rve para informar los límites de la ingeniería ac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es una idea irrealizable (operación 100% continu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771516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4AC9-601E-4FB5-B659-B2CB40AF601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56840" y="1672920"/>
            <a:ext cx="75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el nivel de un atributo contra el que queremos compa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yuda 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tend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alu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y aprobar los otros nive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ún cuando no hay un sistema que se reemplace, el proceso o su equivalente, se está haciendo.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ahí se puede tomar el nivel 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omparación tambié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ede hacerse con la compet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 otros siste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 es opcional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3BEA-0C58-4C3A-98B0-999A6BA5CC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otiv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386000" y="2178000"/>
            <a:ext cx="7758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B956-3025-4417-ABD3-B3791D97F6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85560" y="1700280"/>
            <a:ext cx="7553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iferencia entre “nivel actual” y “mejor nivel”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desde donde partim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 no es el punto de partida, sino el nivel más alto que alguna vez se ha med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ualmente,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mej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si siempre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pe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xcepción es cuando se quiere hacer avanzar el estado del a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181-2C59-465E-BBF5-168C4099A3B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Autor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85560" y="5084640"/>
            <a:ext cx="7553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62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a autoridad es opcional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(pero es muy útil tenerla)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y puede haber más de una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Documento de análisis de Juan Pére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Anexo A del contrato, sección 5.6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8764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285920" y="1557360"/>
            <a:ext cx="6022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ndic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, quién o quié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ustentan el requisito?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la orden de un jef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manual de procedimi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requisito ya aprob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contr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 incluso, una ocurrencia basada en la experiencias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21C2-9F90-446E-AAC6-5B9B6621803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85560" y="1335240"/>
            <a:ext cx="51958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atribut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deberían ser revisados cuidadosament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 la hora de especificar un sistem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 es porque aparecen en la mayoría de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1538280" y="4581360"/>
            <a:ext cx="7391520" cy="2046240"/>
            <a:chOff x="1538280" y="4581360"/>
            <a:chExt cx="7391520" cy="2046240"/>
          </a:xfrm>
        </p:grpSpPr>
        <p:sp>
          <p:nvSpPr>
            <p:cNvPr id="186" name="Rectangle 5"/>
            <p:cNvSpPr/>
            <p:nvPr/>
          </p:nvSpPr>
          <p:spPr>
            <a:xfrm>
              <a:off x="5303880" y="4581360"/>
              <a:ext cx="36259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t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r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eptación de U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5121360" y="4581360"/>
              <a:ext cx="1825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538280" y="4581360"/>
              <a:ext cx="358308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iona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rtin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cis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her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gur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1538280" y="6627600"/>
              <a:ext cx="73915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153828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512136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892980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530388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5121360" y="4581360"/>
              <a:ext cx="18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1538280" y="4581360"/>
              <a:ext cx="35830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5303880" y="4581360"/>
              <a:ext cx="3625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7" name="Picture 16" descr=""/>
          <p:cNvPicPr/>
          <p:nvPr/>
        </p:nvPicPr>
        <p:blipFill>
          <a:blip r:embed="rId1"/>
          <a:stretch/>
        </p:blipFill>
        <p:spPr>
          <a:xfrm>
            <a:off x="6469200" y="1000080"/>
            <a:ext cx="2674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8EB3-6713-41E1-B166-23F6B6315FC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7200" y="1356840"/>
            <a:ext cx="521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1467000" y="2852640"/>
            <a:ext cx="7391160" cy="2183040"/>
            <a:chOff x="1467000" y="2852640"/>
            <a:chExt cx="7391160" cy="2183040"/>
          </a:xfrm>
        </p:grpSpPr>
        <p:sp>
          <p:nvSpPr>
            <p:cNvPr id="202" name="Rectangle 5"/>
            <p:cNvSpPr/>
            <p:nvPr/>
          </p:nvSpPr>
          <p:spPr>
            <a:xfrm>
              <a:off x="5232240" y="2852640"/>
              <a:ext cx="36255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t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ap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tanc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cu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empla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5049720" y="2852640"/>
              <a:ext cx="1821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1467000" y="2852640"/>
              <a:ext cx="358272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teni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i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mb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most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467000" y="50356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146700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>
              <a:off x="504972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885816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23224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5049720" y="2852640"/>
              <a:ext cx="18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>
              <a:off x="1467000" y="2852640"/>
              <a:ext cx="35827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232240" y="2852640"/>
              <a:ext cx="362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16"/>
          <p:cNvGrpSpPr/>
          <p:nvPr/>
        </p:nvGrpSpPr>
        <p:grpSpPr>
          <a:xfrm>
            <a:off x="1467000" y="5033880"/>
            <a:ext cx="7391160" cy="1668600"/>
            <a:chOff x="1467000" y="5033880"/>
            <a:chExt cx="7391160" cy="1668600"/>
          </a:xfrm>
        </p:grpSpPr>
        <p:sp>
          <p:nvSpPr>
            <p:cNvPr id="214" name="Rectangle 17"/>
            <p:cNvSpPr/>
            <p:nvPr/>
          </p:nvSpPr>
          <p:spPr>
            <a:xfrm>
              <a:off x="5232240" y="5033880"/>
              <a:ext cx="36255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fi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dure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lerancia a Fall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u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5049720" y="5033880"/>
              <a:ext cx="1821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1467000" y="5033880"/>
              <a:ext cx="358272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iciencia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ndi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o de Recur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0"/>
            <p:cNvSpPr/>
            <p:nvPr/>
          </p:nvSpPr>
          <p:spPr>
            <a:xfrm>
              <a:off x="1467000" y="50338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1"/>
            <p:cNvSpPr/>
            <p:nvPr/>
          </p:nvSpPr>
          <p:spPr>
            <a:xfrm>
              <a:off x="1467000" y="67024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2"/>
            <p:cNvSpPr/>
            <p:nvPr/>
          </p:nvSpPr>
          <p:spPr>
            <a:xfrm>
              <a:off x="146700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504972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523224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885816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3" name="Picture 26" descr=""/>
          <p:cNvPicPr/>
          <p:nvPr/>
        </p:nvPicPr>
        <p:blipFill>
          <a:blip r:embed="rId1"/>
          <a:stretch/>
        </p:blipFill>
        <p:spPr>
          <a:xfrm>
            <a:off x="6786720" y="982800"/>
            <a:ext cx="23572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E1AB-C23C-49F9-9058-A4443356DF7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Requisitos de Calidad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2987640" y="4076640"/>
            <a:ext cx="2735280" cy="25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2640" y="135684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calidad son transversales a los requisitos fun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ambién se los suele llamar “aspectos de diseño” de un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28076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Manten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41648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Por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55220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Us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FA5A-FC78-4186-95DF-5ACC234EA6B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85920" y="13572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usu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forma completa de especificar requisitos, es parecida a la propuesta de Tom Gilb (vista en transparencias anteri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r razones de background del equipo de trabajo, y de tiempo para desarrollar el proyecto, especificaremos los requisitos de la siguiente mane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quisitos Funcion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y de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stric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especific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dentificador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 Identifica unívocamente a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scripción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Describe e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Prioridad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ndica una prioridad. Por ej.(alta-media-baj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Usuarios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dentifica los tipos de usuario que se verán afectados por este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Fuente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Referencia a la fuente de donde surgió el requisito (documento, grupo, entrevista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7C00-FC8C-4B90-9F56-21370957FC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643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formato completo de espec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poco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mismo formato (simplificado) que para los Requisitos Funcionales y de Restri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n nuestro caso utilizaremos los formatos propuestos en </a:t>
            </a:r>
            <a:r>
              <a:rPr b="1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Admin: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http://anakena.dcc.uchile.cl/~reqadmi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BE3C-C5E9-4416-BE33-C15E87C5480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Revisiones del U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22280" y="1213920"/>
            <a:ext cx="56786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salidas de esta etapa deben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ormalmente revisada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actividad de revisión de Requisitos de Usuarios (U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tá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volucr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los: usuarios, clientes, analistas, administrador del proyecto, y los té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aconsejable realiza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visiones periódic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antes de la revisión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ejorará la calidad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y la disponibilidad del producto final de la fase (U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950160" y="5214960"/>
            <a:ext cx="2193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391C-9FC1-474E-86F4-7C516FBCE8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4628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(D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1 Propósito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el propósito d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2 Alcance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el alcance del sistema a desarrollar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3. Contexto (Descripción general)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a grandes rasgos, 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4 Definiciones, acrónimos y abrevi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acrónimos, con su signific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5 Referenci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Se colocan las referencias de los documentos utilizados para construir el D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8F28-0A3B-43B2-BED7-8493CCF79AA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Características de los 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os diferentes tipos de usuarios que interactuarán con el software, y las características de cada uno de ellos (atribuciones, y limitacion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2 Perspectivas del Produ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que es lo que se espera obtener con el producto de software en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Ambiente Oper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as características del escenario de trabajo del softwa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2"/>
          <p:cNvSpPr/>
          <p:nvPr/>
        </p:nvSpPr>
        <p:spPr>
          <a:xfrm>
            <a:off x="1785960" y="0"/>
            <a:ext cx="6786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Requisi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. de Ambiente Oper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Object 7"/>
          <p:cNvGraphicFramePr/>
          <p:nvPr/>
        </p:nvGraphicFramePr>
        <p:xfrm>
          <a:off x="1044720" y="1285920"/>
          <a:ext cx="795636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285920"/>
                    <a:ext cx="795636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6FC4-BA86-4FAB-B6AB-B1CC80B1855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858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4 Suposiciones y Dependenci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(por escrito) todas aquellas suposiciones, que se han hecho (con el consentimiento del cliente/usuario), sobre alguna característica del software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5 Restricciones General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es son las restricciones de funcionamiento del software. Por ej. que funcione en Windows y UNIX, que funcione en el actual ambiente operacional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6 Descripción del Modelo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iagrama + explicación del modelo de funcionamiento global actual. Se puede utilizar DFD, diagramas de procesos, de transición de estad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A9B1-7403-4A02-A1C6-E281D5B7B6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64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11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3. Requisitos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5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1 Requisitos de Usuari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representan la necesidad del usuario/cliente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1 Requisitos de Capac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las capacidades que debe poseer el software (lo que debe poder realizar el software), para satisfacer las necesidades del cliente/usuario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2 Requisitos de C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de calidad del producto de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3 Requisitos de Restric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restricciones a cerca de cómo debe ser construido (se refiere a conexiones con otros sistemas, o adhesión a los estándares de la empresa) y operado el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6253-B5F9-44E8-9EA0-9E8D3924D6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5920" y="1356840"/>
            <a:ext cx="7678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uari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587680" y="2421000"/>
            <a:ext cx="3929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72B5-231E-43F7-BA7D-54C3EC49960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22360" y="27147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052"/>
          <p:cNvSpPr/>
          <p:nvPr/>
        </p:nvSpPr>
        <p:spPr>
          <a:xfrm>
            <a:off x="1619280" y="4994280"/>
            <a:ext cx="723888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, sólo involucra la sección 3.2 del documento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6AE6-6BDD-4949-9E9D-F56C688586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de Req. de Software (SR)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458172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Fase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análisis del problem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propósito es analizar las definiciones de requisitos de usuarios en el URD, y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roducir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 más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mpleto, consistentes y correc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si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RD 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(Doc. de Req. de Soft.)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tien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a visión del problema, desde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desarrollado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y no d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ben usarse prototip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validar los requisitos (es recomend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821200" y="1700280"/>
            <a:ext cx="3322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F99B-8097-446C-A042-8B454DCBB6B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Entradas / Activida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28840" y="1285560"/>
            <a:ext cx="75009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 (URD), última versió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entradas, pero no las consideraremos para nuestro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Lóg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pecificación de lo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travé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036B-182E-4535-A299-7494CD68E4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1720" y="1142640"/>
            <a:ext cx="57528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Modelo Lóg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 un modelo arquitectónico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independiente de la implementación del sistema requerido por 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construido por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scomposición “top-down”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la función principal, inferido del URD, en una jerarquía de fun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n realizarse Caminatas (“Walkthroughs”), revisiones e inspecciones para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segurar que se cumplen las especificaciones de cada nive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de descender al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n esta etapa puede reemplazarse parcialmente por diagramas de casos de u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6756480" y="1484280"/>
            <a:ext cx="2387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3B63-49DA-44BB-B3E9-E475B77BA1C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99760" y="1428480"/>
            <a:ext cx="7643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 (o componentes) deben tener un propósito ún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Sus nombres deben tener una estructura declarativa (qué hacen, en vez de cómo lo hace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estar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 el nivel apropiad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de granularidad) en el que apare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terfac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entre módulos o funciones debe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inimizars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C229-E310-472B-ABA4-4299F272A8F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57200" y="1213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scompone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más de 7 sub-fu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modelo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mit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nformación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mplement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s atributos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nd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 de cada función (capacidad, velocidad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a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ones crític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tilizar herramientas CAS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construir el modelo lógico (dentro de lo posi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E2E1-DFF1-4D1A-AE68-63C5561C003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iclo de Vida E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Picture 5" descr="ESA2"/>
          <p:cNvPicPr/>
          <p:nvPr/>
        </p:nvPicPr>
        <p:blipFill>
          <a:blip r:embed="rId1"/>
          <a:stretch/>
        </p:blipFill>
        <p:spPr>
          <a:xfrm>
            <a:off x="41400" y="1143000"/>
            <a:ext cx="90421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CBC6-0245-45E2-A6A4-BF420F08D2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510000" y="2247840"/>
            <a:ext cx="298440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2295360" y="5108400"/>
            <a:ext cx="5705640" cy="1606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27"/>
          <p:cNvSpPr/>
          <p:nvPr/>
        </p:nvSpPr>
        <p:spPr>
          <a:xfrm>
            <a:off x="2071800" y="1143000"/>
            <a:ext cx="6715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F5CF-4B56-4670-87BA-46F16D3247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071440" y="1142640"/>
            <a:ext cx="6715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3786120" y="2071800"/>
            <a:ext cx="2500560" cy="2246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ejemplo2"/>
          <p:cNvPicPr/>
          <p:nvPr/>
        </p:nvPicPr>
        <p:blipFill>
          <a:blip r:embed="rId2"/>
          <a:stretch/>
        </p:blipFill>
        <p:spPr>
          <a:xfrm>
            <a:off x="1571760" y="4429080"/>
            <a:ext cx="7178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 de Modelo Lóg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34920" y="2997360"/>
            <a:ext cx="9059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4AEE-D6D6-4615-85FA-53A50CAF26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57200" y="1071360"/>
            <a:ext cx="7462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… Se recomienda identificar 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escal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l estándar establece además requisitos 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CCD2-4692-49E6-8F4A-C58099F9EA0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42680" y="1571760"/>
            <a:ext cx="7072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alid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esta fase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n ser revisadas formalme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urante la etapa de Revisión de Requisitos de Software (S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biese ser una revis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articip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ser 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suarios, personal de operaciones, desarrolladores y administrador de proyec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0C64-35EF-4E85-9798-EA92FE1B39E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Funcionales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qué debe hacer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oftware. Se derivan del modelo 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Interfaces (de interacció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hardware, software o elementos de bases de datos con los qu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stema o sus componentes interactúan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o se comunica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clasificados en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terfaces de software, hardware y comunicacion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utilizars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iagramas de bloque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ra ilustrar parte de este tipo de requisi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Operacion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forma en que correrá el sistema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comunicará con los operadores humano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cluyen todas las interfaces de usuari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interacción humano-computador, y requisitos logísticos y organizacionales. Por ejemplo, se usará teclado/mouse?, ¿cuán fácil de usar será el sistema?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5DAB-E373-466D-8B1D-B43B746AC3B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920" y="1285920"/>
            <a:ext cx="7858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cursos (o uso de recursos de Hardwar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asociados a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so de los recursos físic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, tales como: CPU, memoria principal, espacio en dis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a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(las características de)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interfaz de usuario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los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patrones de interfaz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 naveg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Manteni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uán fácil debe ser reparar falla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adaptar el softwar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nuevos requisi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biera especificars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n forma cuantitativa, tal como e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tiempo medi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para reparar una fal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350A-B256-476A-A986-E137DB9603D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85920" y="1213920"/>
            <a:ext cx="785808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Transportabilidad (portabilidad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facilidad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utilizar el sistema en otros ambient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Incluye hardware, sistemas operativos o escenarios de trabajo. Incluy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fuerzo de realizar el transporte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una plataforma a ot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Confiabili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iempos medios (aceptables) entre falla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ndi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blecen valores numéricos para variables medibles, asociadas a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apacidad de procesa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es percibida por el usuari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ser incluidos e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cuantitativa para cada fun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o especificados en forma independiente. Especificaciones cualitativas no son acept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tributos de rendi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esentados como rangos de valor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: peor caso, valor nominal a ser usado en la planificación; mejor caso, para indicar potencial de crec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DFD9-3159-4AB2-80B5-43210D19B8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57200" y="1428480"/>
            <a:ext cx="77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Documentación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adicional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la requerida en el estánd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cal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apacidad del sistema para mantener su rendimiento medio,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forme aumenta el número de usuarios, procesos y/o solicitud de servicios 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 atribu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los requisitos e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gual a la del URD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estándar de la ESA propone ademá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tras categorías de requisi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nosotros no vamos a considerar (por el mom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58CF-F71E-466E-9E94-49A447CF09A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Tipos Req de Soft. Adiciona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5920" y="100008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segurar (proteger) la información que maneja el sistema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contra amenazas a la confidencialidad, integridad y disponibilidad tanto de los servicios como de los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Oper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reducir la posibilidad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añ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pue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oducirse debido a una falla d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Por ej. corrupción de la BD ante un corte de energía, o la necesidad de apagar el servidor para poder “matar” threads que han quedado viv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Verific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el software se verificar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incluir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ests vivo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on entradas simuladas, tests vivos con entradas reales, e interfaz con ambientes de testeo, sobrecarga o stress por transaccion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validará 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mpon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stricciones al SVVP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Software Validation and Verification Plan), si éste se construye (no es el caso de nuestro proyect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E37E-E2F8-445B-84F8-6316832A27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3920" y="3139560"/>
            <a:ext cx="785844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analistas son los responsable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est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identificar estos requisitos, debe definirse formalmente un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traparte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lientes y Usuarios dedicación al proyecto y poder de decis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r a los clientes/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indagar, investigar, y si es necesario,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ir más allá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los usuarios/clientes nos di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357200" y="1285920"/>
            <a:ext cx="5878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pósito es refinar una idea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os d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fini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se esper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l sistema comput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5CD6-B16A-48AE-A9A1-7BA678FBDA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mpletitud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rincipalmente debemos considerar do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n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onsiderado todos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usuari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 especificado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na actividad para validar </a:t>
            </a:r>
            <a:r>
              <a:rPr b="0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junto posible de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ntrad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mos incluir una matriz de trazado (o matriz de trazabilidad) en el SRD para probar completit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986200" y="3654360"/>
            <a:ext cx="42289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2C59-4C59-4769-8007-3AF7D1102C3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nsistencia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88640" y="1214280"/>
            <a:ext cx="8055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requisitos e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stente si y sólo si ningún subconjunto de requisitos entra en conflicto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xisten mucho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tipos de inconsistencias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érminos diferentes para nombrar el mismo obje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l mismo término para nombrar diferentes obje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contrapuesto (dicen cosas total o parcialmente contra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6227640" y="3989520"/>
            <a:ext cx="2916360" cy="2868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5"/>
          <p:cNvSpPr/>
          <p:nvPr/>
        </p:nvSpPr>
        <p:spPr>
          <a:xfrm>
            <a:off x="1214280" y="4214880"/>
            <a:ext cx="4942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uplicación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a duplicación de requisitos debe ser evitada. Aunque a veces es requerida para un mejor entendimiento del S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uando ocurran duplicaciones, deben hacerse referencias cruzadas para mejorar alteraci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AFFF-E062-499A-9D92-B74BFACD61E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1499760"/>
            <a:ext cx="7129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software (S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lanes de testeo del sistema (Plan de Prueb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salidas, pero nosotros no las consideraremos en nuestro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3500280" y="4357800"/>
            <a:ext cx="33847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7250-230A-4EBE-BE41-5493AA0411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3920" y="1285560"/>
            <a:ext cx="7929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ga un matching entre los req. de usuario y los de software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8163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096F-01F6-4CAF-AD67-F75F1DE426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71760" y="1213920"/>
            <a:ext cx="703872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pó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ones, acronismos y abrevi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s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es igual a la introducción del URD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Sólo debe redefinirse o agregarse la información que se estime conven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12952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7B0D-0F55-4544-9FB5-4EFD4AE84E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10280" cy="58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actu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stablecer cuáles son los proyectos, con los que está relacionado el software a construir. Establecer claramente la relación con cada uno de éstos (por ej. comparten los datos del “profesor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predecesores y sucesor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dem al anterior, pero para proyectos predecesores, y suces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 y propósi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 es la función principal, y el propósito del sistema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deraciones ambient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pecifica aquellas consideraciones que deben ser tenidas en cuenta para el normal funcionamiento del software a desarrollar (por ej. “se debe realizar un backup diario”, o “la temp. no debe superar los 35ºC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0761-9EFC-4BA3-B13D-55753AD153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76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lación con otros sistemas.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tablecer cuáles son los sistemas existentes, con los que está relacionado el software a construir. Establecer claramente la relación con cada uno de éstos (por ej. comparten la tabla “persona”, de la B.D. “personal”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stricciones generale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Básicamente son las mismas del URD. Pueden incorporar las actualizaciones que hayan surgido al analizar los requisitos de softwar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scripción del modelo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, a grandes rasgos, cómo va a funcionar el sistema. Representa el modelo lógico del sistema. Pueden utilizarse diagramas de bloques, u otro tipo de diagramas genéricos, si lo dese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1028" descr=""/>
          <p:cNvPicPr/>
          <p:nvPr/>
        </p:nvPicPr>
        <p:blipFill>
          <a:blip r:embed="rId1"/>
          <a:stretch/>
        </p:blipFill>
        <p:spPr>
          <a:xfrm>
            <a:off x="0" y="1071720"/>
            <a:ext cx="84312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429F-E7AA-48EC-88F7-3B02E4766F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32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 Requisitos Especí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aceptación de te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8258040" y="1000080"/>
            <a:ext cx="885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94EB-C04C-48BE-8596-8D87C05C97A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285920"/>
            <a:ext cx="7173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pecificaremos los requisitos de software en l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ección 3.2 del docum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2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u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fa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r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cursos (Ambiente Operac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ten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r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fi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oper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nd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ocu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scal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bilidad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requisitos de usuarios vs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8242200" y="0"/>
            <a:ext cx="901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1968-0CB4-4883-97C3-EC01818747D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7745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4FC3-BAA0-42F1-91AA-AE4CC99255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14280" y="1357200"/>
            <a:ext cx="6669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 usarse la experienci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ingenieros, especialistas, personal clave que conozca el negocio y la organización cl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los ayudarán a especificar/revisar los requis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ntregable de la fase es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Documento de Requisitos de Usuari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el cua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 crítico para el resto del proye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porque define la base sobre la cual se aceptará el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este curso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está contenido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incipalment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cciones 1 y 3.1 del Documento de Requisi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896240" y="1123920"/>
            <a:ext cx="124776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7885080" y="2104920"/>
            <a:ext cx="1258920" cy="94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7875720" y="3095640"/>
            <a:ext cx="126828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7869240" y="4941720"/>
            <a:ext cx="1274760" cy="1916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400D-F8E4-4814-98FE-24AFAB07112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85560" y="1285560"/>
            <a:ext cx="75531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os documentos URD y SRD deben ser “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ocumentos comple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”. Esto significa que todos los requisitos conocidos deben ser incluidos cuando son producid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Sin embargo, es altament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bable que aparezcan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las aprobaciones de los documen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or ello, es necesario establecer al inicio del proyecto,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cedimientos para manejar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 necesario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no comprometer la integridad del diseñ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cuando se incorporan nuevos requisito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Dichos requisitos, si es que son aceptados tanto por el usuario como por el diseñador, debiesen ser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manejados de la misma forma que los requisitos origina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96BD-564A-4DA6-89B3-6D86D1EE6BC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28840" y="167148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usuario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el sigu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Generar un nuevo manuscrito del U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venir una revisión de los UR, y si el cambio es aceptad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petir las fases SR, AD, y DD para incorporar el nuevo requisito y sus consecuenc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software es similar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BE96-8B4B-4178-9EDC-DADFD5C3C62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85920" y="1071360"/>
            <a:ext cx="7858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de manejar nuevos requisitos es el d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instituir un Comité de Revisión de Softwar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U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en vez de D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es el uso de un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enfoque de ciclo de vida de desarrollo evolutiv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Sin embargo, esto sólo alarga la administración de los nuevos requisitos para el release posterior al que está en preparación, lo que puede no ser sufici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calidad del trabajo hecho para las fases UR y SR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uede ser medido por el número de requisitos que aparecen en fases posteri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pecial énfasis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be dársele a la aparición de nuevos requisitos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Un número de apariciones importantes es un signo claro que el software muy probablemente no será un éxi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73DB-6DB1-4B0E-B783-9690DEEF9F5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isponibilidad de herramientas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puede ser crítica para un proyecto con cambios de requisitos frecu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se conviene (entre el cliente y el desarrollador) e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gelar los requisi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 fase SR, el uso 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étodos basados en pape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realizar análisis de requisitos y especificación de diseñ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ueden ser suficie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no es posible congelar los requisit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puede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encial el uso de herrami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ingeniería de software que permitan que nuevos requisitos y cambios al diseño sean asimilados rápidamente para evitar atrasos se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24080" y="1356840"/>
            <a:ext cx="7819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Junto con la entrega del Documento de Requisitos, todos los grupos deben entregar al profesor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un documento firmado por el client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donde consten los requisitos que se van a abordar en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dudas o conflictos en algún requisito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3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Requisitos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15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blema a resol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ontexto del proye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requisitos de Usuarios involucrados en las Iteraciones I y 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atriz de traz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se contrastará con lo que hay en ReqAdm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23720" y="1500120"/>
            <a:ext cx="7391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4.  El protocolo de Revisión es el siguie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Profes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C0B9-2B95-468C-B795-8F65BCB27D1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R: Entradas/Salidas de la F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4720" y="1356840"/>
            <a:ext cx="64530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hay entradas formales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esta f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.. aunque es posible utilizar informes, código fuente,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sistemas legados o estudios hechos al respec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para iniciar esta fas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n considerar como entradas, los documentos que detall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tudio de factibilidad técnica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alizado (en caso de existi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ali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esta fase 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R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RD representa la visión del usu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cerca del problema a resol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931160" y="1773360"/>
            <a:ext cx="1212840" cy="1617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486480" y="5172120"/>
            <a:ext cx="2657520" cy="168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405080" y="5545080"/>
            <a:ext cx="5300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t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ase termina con aprobación formal del UR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a través de una o más actividades de revisión UR/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5E04-CFEE-4D21-9E6F-2FC6CE6D8AB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4280" y="1143000"/>
            <a:ext cx="578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apturar y Especificar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los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quisitos del usuari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visar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l URD (en hitos preestablecidos), hasta lograr su aprob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Gener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set inicial de prueb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 sistema, que se emplearán para verificar que el software es adecuado (el responsable de esto es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téste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520040" y="4941720"/>
            <a:ext cx="1623960" cy="191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789600" y="1484280"/>
            <a:ext cx="2354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09-08-27T15:55:26Z</dcterms:modified>
  <cp:revision>226</cp:revision>
  <dc:subject/>
  <dc:title>Ingeniería de Software</dc:title>
</cp:coreProperties>
</file>