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3.wmf" ContentType="image/x-wmf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488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1240" indent="-284040">
              <a:spcBef>
                <a:spcPts val="1488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488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488"/>
              </a:spcBef>
              <a:buClr>
                <a:srgbClr val="000066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488"/>
              </a:spcBef>
              <a:buClr>
                <a:srgbClr val="000066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4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4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6320" y="1370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EJEMPLO: Portal de Venta de una Multitiend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1676520" y="2666880"/>
            <a:ext cx="6400800" cy="175284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784680"/>
            <a:ext cx="6400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Primavera 2009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spcBef>
                <a:spcPts val="1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spcBef>
                <a:spcPts val="1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66"/>
                </a:solidFill>
                <a:latin typeface="Tahoma"/>
              </a:rPr>
              <a:t>Prof. Sergio Ochoa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77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la Estructura Estática de la Solu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24000" y="1595520"/>
            <a:ext cx="8280360" cy="5073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77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la Estructura Estática de la Solu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89440" cy="1898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7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la Dinámica de la Solu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3889080"/>
            <a:ext cx="896472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5000"/>
              </a:lnSpc>
              <a:spcBef>
                <a:spcPts val="1199"/>
              </a:spcBef>
              <a:spcAft>
                <a:spcPts val="1650"/>
              </a:spcAft>
              <a:buClr>
                <a:srgbClr val="0000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os sistemas están acoplados por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1199"/>
              </a:spcBef>
              <a:spcAft>
                <a:spcPts val="1650"/>
              </a:spcAft>
              <a:buClr>
                <a:srgbClr val="0000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coplamiento por datos implica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Independencia entre sistemas….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or lo tanto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no tiene sentido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plantear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un modelo de control gener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1199"/>
              </a:spcBef>
              <a:spcAft>
                <a:spcPts val="1650"/>
              </a:spcAft>
              <a:buClr>
                <a:srgbClr val="0000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or lo tanto, los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modelos de control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son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tallado: Sistema de Venta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3"/>
          <p:cNvGrpSpPr/>
          <p:nvPr/>
        </p:nvGrpSpPr>
        <p:grpSpPr>
          <a:xfrm>
            <a:off x="395280" y="1066680"/>
            <a:ext cx="7488360" cy="5818320"/>
            <a:chOff x="395280" y="1066680"/>
            <a:chExt cx="7488360" cy="5818320"/>
          </a:xfrm>
        </p:grpSpPr>
        <p:graphicFrame>
          <p:nvGraphicFramePr>
            <p:cNvPr id="95" name="Object 9"/>
            <p:cNvGraphicFramePr/>
            <p:nvPr/>
          </p:nvGraphicFramePr>
          <p:xfrm>
            <a:off x="574920" y="1066680"/>
            <a:ext cx="7308720" cy="581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4920" y="1066680"/>
                      <a:ext cx="7308720" cy="581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Line 12"/>
            <p:cNvSpPr/>
            <p:nvPr/>
          </p:nvSpPr>
          <p:spPr>
            <a:xfrm>
              <a:off x="395280" y="4581360"/>
              <a:ext cx="5472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inámica: Sistema de Venta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3" name="Object 10"/>
          <p:cNvGraphicFramePr/>
          <p:nvPr/>
        </p:nvGraphicFramePr>
        <p:xfrm>
          <a:off x="4067280" y="3040200"/>
          <a:ext cx="5076720" cy="38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040200"/>
                    <a:ext cx="507672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826400" y="0"/>
            <a:ext cx="1317600" cy="2349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4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7" name="Object 13"/>
          <p:cNvGraphicFramePr/>
          <p:nvPr/>
        </p:nvGraphicFramePr>
        <p:xfrm>
          <a:off x="0" y="1079640"/>
          <a:ext cx="5832360" cy="22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079640"/>
                    <a:ext cx="58323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02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tallado: SubSist. de Pedido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7"/>
          <p:cNvGrpSpPr/>
          <p:nvPr/>
        </p:nvGrpSpPr>
        <p:grpSpPr>
          <a:xfrm>
            <a:off x="7020000" y="5229360"/>
            <a:ext cx="2124000" cy="1628640"/>
            <a:chOff x="7020000" y="5229360"/>
            <a:chExt cx="2124000" cy="1628640"/>
          </a:xfrm>
        </p:grpSpPr>
        <p:graphicFrame>
          <p:nvGraphicFramePr>
            <p:cNvPr id="115" name="Object 8"/>
            <p:cNvGraphicFramePr/>
            <p:nvPr/>
          </p:nvGraphicFramePr>
          <p:xfrm>
            <a:off x="7070760" y="5229360"/>
            <a:ext cx="2073240" cy="162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70760" y="5229360"/>
                      <a:ext cx="2073240" cy="16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Line 9"/>
            <p:cNvSpPr/>
            <p:nvPr/>
          </p:nvSpPr>
          <p:spPr>
            <a:xfrm>
              <a:off x="7020000" y="6213240"/>
              <a:ext cx="1552320" cy="6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8" name="Rectangle 11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539640" y="907920"/>
          <a:ext cx="5832720" cy="595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907920"/>
                    <a:ext cx="58327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788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tallado: SubSist. de Pedido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14"/>
          <p:cNvGraphicFramePr/>
          <p:nvPr/>
        </p:nvGraphicFramePr>
        <p:xfrm>
          <a:off x="0" y="1484280"/>
          <a:ext cx="9144000" cy="49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9144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2"/>
          <a:stretch/>
        </p:blipFill>
        <p:spPr>
          <a:xfrm>
            <a:off x="34920" y="836640"/>
            <a:ext cx="2984400" cy="185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"/>
          <p:cNvPicPr/>
          <p:nvPr/>
        </p:nvPicPr>
        <p:blipFill>
          <a:blip r:embed="rId3"/>
          <a:stretch/>
        </p:blipFill>
        <p:spPr>
          <a:xfrm>
            <a:off x="720720" y="2962440"/>
            <a:ext cx="759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2"/>
          <a:stretch/>
        </p:blipFill>
        <p:spPr>
          <a:xfrm>
            <a:off x="0" y="1074600"/>
            <a:ext cx="7236000" cy="5783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6516720" y="5241960"/>
            <a:ext cx="2627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216000" y="1125360"/>
            <a:ext cx="7020000" cy="4735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6732720" y="5329080"/>
            <a:ext cx="241128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488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eñe la Arquitectura de un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ortal para una Multitienda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lea cuidadosamente el enunciad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2173320" y="1968480"/>
            <a:ext cx="4991040" cy="4749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: Patrón de Navegación del Port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"/>
          <p:cNvPicPr/>
          <p:nvPr/>
        </p:nvPicPr>
        <p:blipFill>
          <a:blip r:embed="rId2"/>
          <a:stretch/>
        </p:blipFill>
        <p:spPr>
          <a:xfrm>
            <a:off x="685800" y="2900520"/>
            <a:ext cx="777096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5440"/>
            <a:ext cx="777096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488"/>
              </a:spcBef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En el ejemplo del Portal de Ventas de las Multitiendas, se le solicita hacer la descomposición modular del subsistema de pagos, para ver dónde vive cada módulo dentro de la arquitec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1488"/>
              </a:spcBef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Además se le solicita bosquejar las páginas Web que estarían involucrada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4427640" y="3165480"/>
            <a:ext cx="4608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488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eñe la Arquitectura de un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ortal para una Multitienda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lea cuidadosamente el enunciad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622920" y="0"/>
            <a:ext cx="2521080" cy="2398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1" name="Object 6"/>
          <p:cNvGraphicFramePr/>
          <p:nvPr/>
        </p:nvGraphicFramePr>
        <p:xfrm>
          <a:off x="108000" y="2801880"/>
          <a:ext cx="9144000" cy="372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01880"/>
                    <a:ext cx="914400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Proceso de Diseño, en el marco de un Desarrollo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1979640" y="836640"/>
          <a:ext cx="532620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36640"/>
                    <a:ext cx="53262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 Req. Funcion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909720"/>
            <a:ext cx="7770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spcBef>
                <a:spcPts val="148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Requisitos Funcion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sistema debe permitir la venta de productos a través del portal Web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Sólo clientes registrados en una multitienda pueden compr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poder accederse a través de un nombre de usuario y clave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a multitienda anfitriona es responsable de validar al usuario (cliente) y de realizar la venta/despacho/etc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mostrar el catálogo de productos disponibles, así como también el detalle de cada uno de es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stock de artículos del catálogo debe actualizarse en líne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permitir que el cliente pueda modificar su pedido (carro de compras) mientras éste no haya sido pag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8055000" y="692280"/>
            <a:ext cx="1089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 Req. Funcion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770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148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Requisitos Funcion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cliente debe poder pagar con una tarjeta de Crédito/débi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a multitienda anfitriona recibe el dinero, factura y realiza los enví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cobrar el 5% de comisión por vent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roceso de venta tiene que ser transparente para las multitien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as ventas tienen que registrarse en la multitienda anfitriona y en el port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Debe poder realizarse un análisis del comportamiento del consumidor, utilizando una herramienta extern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os empleados del portal deben poder administrar los datos del portal utilizando una herramienta extern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055000" y="692280"/>
            <a:ext cx="1089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0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 Req. de Calidad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7199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Requisitos de Calidad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spcAft>
                <a:spcPts val="349"/>
              </a:spcAft>
              <a:buClr>
                <a:srgbClr val="ff3300"/>
              </a:buClr>
              <a:buSzPct val="140000"/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El proceso de venta tiene que ser transparente para las multitienda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055000" y="-1440"/>
            <a:ext cx="108900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24000" y="3573360"/>
          <a:ext cx="8820000" cy="3036960"/>
        </p:xfrm>
        <a:graphic>
          <a:graphicData uri="http://schemas.openxmlformats.org/drawingml/2006/table">
            <a:tbl>
              <a:tblPr/>
              <a:tblGrid>
                <a:gridCol w="3095640"/>
                <a:gridCol w="2784240"/>
                <a:gridCol w="2940120"/>
              </a:tblGrid>
              <a:tr h="184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ndimiento (aceptable con una carga de transacc. alta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Extensi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88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0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l Context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224000"/>
            <a:ext cx="8064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599"/>
              </a:spcBef>
              <a:spcAft>
                <a:spcPts val="18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Contexto de la Solución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no quieren que el hecho de implementar el portal les genere muchos cambios a su actual infraestruc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quieren mantener la independencia de datos, respecto del port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quieren que las ventas a través del portal sean transparentes para sus 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quieren mantener su privacidad (dentro de lo posible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l Ambiente Operacion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948440" y="0"/>
            <a:ext cx="1195560" cy="2133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2" name="Object 7"/>
          <p:cNvGraphicFramePr/>
          <p:nvPr/>
        </p:nvGraphicFramePr>
        <p:xfrm>
          <a:off x="0" y="1413000"/>
          <a:ext cx="795672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79567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io</cp:lastModifiedBy>
  <dcterms:modified xsi:type="dcterms:W3CDTF">2009-08-06T13:46:53Z</dcterms:modified>
  <cp:revision>278</cp:revision>
  <dc:subject/>
  <dc:title>Introducción a los Patrones  (Diseño y Arquitectura)</dc:title>
</cp:coreProperties>
</file>