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CEAE-B322-4CED-AA07-EC73C4935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B354-6774-42D6-BE1E-39090A7CBD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522-D012-4AFD-AE2E-CB1B145E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3FB-5DB0-4ECF-89AE-44A52FF1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AAB-304E-4706-99A8-49B0A307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5C3-8ECD-4D12-8004-62C346DD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1A8-4466-4806-A333-60540850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CA1-33DC-4794-B97A-BA729609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FC2-0DC6-4F90-891F-445CE989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5CB-7BD4-491A-BA9A-1990E17E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D8E-D49F-446C-B617-A937B895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80C-A970-48A9-943D-C6F4D0A5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299-244C-44E4-BFBA-84A91D69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163-CFE0-4E88-BD6B-D768B8BD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ED52-6CFB-4154-9A32-21997ADCF90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2 - Versión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entrevistado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rab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ada entrev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sta 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onentes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Traten entre todos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que le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4280" y="1071720"/>
            <a:ext cx="650088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si todo lo anterior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ista de pregunta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parada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d550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d55000"/>
                </a:solidFill>
                <a:latin typeface="Arial"/>
                <a:ea typeface="Arial"/>
              </a:rPr>
              <a:t>El cliente siempre pretende validar al fin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 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encontrado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e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119640" y="4606920"/>
            <a:ext cx="302436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1414440" cy="863640"/>
            <a:chOff x="5967360" y="3794040"/>
            <a:chExt cx="1414440" cy="86364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067440" y="3898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643720" y="2357280"/>
            <a:ext cx="2016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>
            <a:off x="3857760" y="399420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1"/>
          <a:stretch/>
        </p:blipFill>
        <p:spPr>
          <a:xfrm>
            <a:off x="6772320" y="4916520"/>
            <a:ext cx="237168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30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4" name="AutoShape 20"/>
          <p:cNvCxnSpPr>
            <a:stCxn id="132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Text Box 7"/>
          <p:cNvSpPr/>
          <p:nvPr/>
        </p:nvSpPr>
        <p:spPr>
          <a:xfrm>
            <a:off x="7340760" y="1461960"/>
            <a:ext cx="16430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quiere el c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7" name="AutoShape 20"/>
          <p:cNvCxnSpPr/>
          <p:nvPr/>
        </p:nvCxnSpPr>
        <p:spPr>
          <a:xfrm flipH="1">
            <a:off x="721440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09-08-11T14:13:43Z</dcterms:modified>
  <cp:revision>193</cp:revision>
  <dc:subject/>
  <dc:title>Ingeniería de Software   </dc:title>
</cp:coreProperties>
</file>