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7D2C-83A4-4E3A-A358-5EEF29AC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8C3-476D-4C54-95D1-B8AE202ADB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206-17F8-4348-94DC-3EE12AD3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5B4-123E-433F-8601-B427420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B88-2DB5-4DE8-B461-4AAE1D78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44C-04BE-491B-A8A6-491A5EC0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44F-11BB-441F-BFCD-DB3903B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353-B10F-4309-9D61-20596131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AA5-A77F-4AE0-9842-0F8748E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D8F-88A8-4765-B916-5DAF42FC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7D9-A4D8-46CC-BDE1-2E2C19E5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24E-B47A-47CD-B16F-BF8294D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155-EC1B-4822-8C5C-8978190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90E-FD14-4FE3-8485-6E25F396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B3E-73F1-4245-9922-8CDD7851288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2 - Versión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rab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ada entrev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sta 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onentes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4280" y="1071720"/>
            <a:ext cx="650088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asi todo lo anterior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-5241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lista de pregunta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reparad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d55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d550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d55000"/>
                </a:solidFill>
                <a:latin typeface="Arial"/>
                <a:ea typeface="Arial"/>
              </a:rPr>
              <a:t>El cliente siempre pretende validar al fina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encontrado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119640" y="4606920"/>
            <a:ext cx="30243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643720" y="2357280"/>
            <a:ext cx="2016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>
            <a:off x="3857760" y="3994200"/>
            <a:ext cx="115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11T14:13:43Z</dcterms:modified>
  <cp:revision>193</cp:revision>
  <dc:subject/>
  <dc:title>Ingeniería de Software   </dc:title>
</cp:coreProperties>
</file>