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DBBF-A0AD-4FDB-9F2B-1B7951205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78B3-568A-4ACF-A53D-BAA4427A2B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D17-7A9B-4908-B280-4C94EA59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269-4325-4E0C-A8FC-E1CE53BE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48A-8F05-4A99-9915-B08E4725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CD9-5C72-4440-B8B8-77776441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CFB-D5B4-4681-959E-0DC60ADE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C5F-6681-4191-BA2F-9A9EE0FA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28A-4934-4FFB-89AF-AF3612B7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AAF-F05D-4129-8B57-F2DE8DE5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648-A3D4-4F8A-83B8-FF6597D3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928-BA92-44CE-81D4-1CE35DC4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294-FCA4-4F2D-B406-5148814D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415-FE13-4D65-A700-FB649662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8E5B-85EF-4889-8374-F53253D53A1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y Levantamiento de Requisi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lase 2 - Versión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5388120" cy="55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 y 1 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estirse igual (o similar)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s entrevistadores (máxim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ól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uno pregun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el otro toma no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Llevar una pau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on las pregun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la entrevist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ía, hora, tema a tratar, entrevistados, carg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rab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cada entrev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sta (audio), pero sea sut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Que el usuario/cliente sepa que l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sas confiden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no saldrán a la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Obten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pia de todos lo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 formulari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volucrados en el sistema (si existe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23080" y="1484280"/>
            <a:ext cx="2286000" cy="3238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443640" y="5059440"/>
            <a:ext cx="266544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335772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ráigase el modelo de datos actu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detallado), en caso de existir sistemas leg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ápiz y papel, aunque no lo use (podría necesitarl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38520" cy="2757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1285920" y="4508640"/>
            <a:ext cx="7750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use jerg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omputacional, ni regionalis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puntualida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es fundament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Trate al cliente con respeto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SIEMPR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trate de demostrar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uánto sabe usted de ésto: La estrella es el Client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4280" y="1249200"/>
            <a:ext cx="7678800" cy="30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scuch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s opiniones del cliente/usuario, aunque parezcan descabel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repit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preguntas, siempre primero revise la cinta de sesione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uéstre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l client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que ha comprendi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critiqu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falencias de los actuales sistemas, ni las del personal que lo construyó o que lo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214960" y="4518000"/>
            <a:ext cx="3929040" cy="2340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1214280" y="4078440"/>
            <a:ext cx="3929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i va a pedi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algo adicional que requiere un esfuerzo importante del cliente/usuario,</a:t>
            </a:r>
            <a:r>
              <a:rPr b="0" lang="en-GB" sz="2000" spc="-1" strike="noStrike">
                <a:solidFill>
                  <a:srgbClr val="40458c"/>
                </a:solidFill>
                <a:latin typeface="Arial"/>
                <a:ea typeface="MS Gothic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égueles algo a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anarse a la secretari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el cliente, es casi tan importante como ganarse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5760" y="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4280" y="1031760"/>
            <a:ext cx="494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nga en cuenta todo lo ant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abier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guiada por el client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l cliente diga tod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r “Positivo”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. 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TÉNGASE !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entrevista se usa par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obtener una idea aproximad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l problema a resolv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rmalmente se obtiene mucha basura, por lo que hay 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parar la paja, del trigo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claramente quién será l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contrapart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en el proyecto, y quiénes serán los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interlocutores válid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069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6120" y="1142640"/>
            <a:ext cx="5256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rate d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traerse toda la documentació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pueda, para poder analizar mejor el problema a resolver, determinar su alcance e implicancias sobre otros siste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Formularios actuales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se usan en el sistema (o solicitar un screenshot de las pantall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proyectos previ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tanto exitosos como fracasa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odelo de dat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ctu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po y cantidad d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usuarios del sist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hard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spon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soft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7267680" y="148428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4240" y="1200240"/>
            <a:ext cx="548496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6400" indent="-36324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cursos de comunicacion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stricciones del desarrol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plazos, lenguajes de desarrollo o BD a utilizar, browsers usados para Front-End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dea general de l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acro-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l sistema (2 – 4 componentes), y sus prioridades de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ent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ivel de innovació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involucra el proyecto, para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987640" cy="1973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6300720" y="4384800"/>
            <a:ext cx="28432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Arial"/>
                <a:ea typeface="Arial"/>
              </a:rPr>
              <a:t>Después de la Primera Entrevis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43040" y="114300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Traten entre todos de </a:t>
            </a: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nder</a:t>
            </a:r>
            <a:r>
              <a:rPr b="0" lang="es-MX" sz="3200" spc="-1" strike="noStrike">
                <a:solidFill>
                  <a:srgbClr val="ff884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escenario, el problema y la posible solución (de grano grueso)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 sea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armar el puzzl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531200" y="2714760"/>
            <a:ext cx="1523880" cy="131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5715000" y="4280040"/>
            <a:ext cx="3343320" cy="2506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1643040" y="4260960"/>
            <a:ext cx="39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740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560" y="1143000"/>
            <a:ext cx="53578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tre 30’  y 1 hor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emi-abier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guiada por el cliente y el entrevistador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a idea e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ocer má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 detalle lo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ub-problemas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a resolver, el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en caso de dudas) y la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os usuari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Revisen los puntos crític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dentificados en la primera entrevist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Que guíe el entrevistador, pero que le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permita al cliente expresar todo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tinúen siendo “positivos”,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 Sin embargo si hay alarmas tempranas, pónganle el aviso a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786720" y="4913280"/>
            <a:ext cx="236376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514332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No prometan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…… CONTÉNGANSE !!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Usen esta entrevista para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mpletar la información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 relevada y clarificar aspectos oscur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Lleven la lista de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preguntas preparadas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Traten de mantener al cliente en la línea de lo que es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relev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aractericen a los clientes/usuari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terminen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lara y formalmente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1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mpromiso de tiempo de su contraparte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None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6477120" y="4857840"/>
            <a:ext cx="26384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 la Tercera en Adelant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4280" y="1071720"/>
            <a:ext cx="650088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y 35’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si todo lo anterior.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evista focalizad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guiada por el entrevistad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 utiliza par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letar/profundiz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 información relevada 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arific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pectos osc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sted debe hacer que el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i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se manteng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 la línea de 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e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eva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btener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uario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ea realis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ueste lo que cu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da que no tengamos la certeza, de que va a poder (o no) realiz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lista de pregunta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parada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6780240" y="1000080"/>
            <a:ext cx="23637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39546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4229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97664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21436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3920" y="1314000"/>
            <a:ext cx="5110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los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requisitos conflictivo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(al menos una vez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tod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usted considere necesari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... pero con cuidado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avance del proy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a través de prototipos (buenos prototipos !!!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sól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está escrito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en los requisitos.... Cualquier otra cosa está fuera de lo que usted debe realiza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Sea dir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el tiempo del cliente también vale .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470640" y="4857840"/>
            <a:ext cx="2673360" cy="2000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6429240" y="1285920"/>
            <a:ext cx="271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  <a:ea typeface="Arial"/>
              </a:rPr>
              <a:t>Esfuércese por </a:t>
            </a:r>
            <a:r>
              <a:rPr b="1" lang="es-CL" sz="2300" spc="-1" strike="noStrike">
                <a:solidFill>
                  <a:srgbClr val="d55000"/>
                </a:solidFill>
                <a:latin typeface="Arial"/>
                <a:ea typeface="Arial"/>
              </a:rPr>
              <a:t>Validar en forma temprana</a:t>
            </a:r>
            <a:r>
              <a:rPr b="0" lang="es-CL" sz="2300" spc="-1" strike="noStrike">
                <a:solidFill>
                  <a:srgbClr val="d55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d550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MX" sz="2300" spc="-1" strike="noStrike">
                <a:solidFill>
                  <a:srgbClr val="d55000"/>
                </a:solidFill>
                <a:latin typeface="Arial"/>
                <a:ea typeface="Arial"/>
              </a:rPr>
              <a:t>El cliente siempre pretende validar al fin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868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0640" y="1142640"/>
            <a:ext cx="524988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óngale presión al Cli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… Es por tu propi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nstálele el software (prototipo) al cliente, y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segúrese de que los prototipos sean valid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suario/cliente SIEMPRE está ocup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por lo tanto no va a validar nada a menos que usted lo fue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 prototipos involucra una etap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enamiento que usted debe ofrec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e incluir en el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6572160" y="4768920"/>
            <a:ext cx="25718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0240" y="1187280"/>
            <a:ext cx="79246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ebe hacer el sistema?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servic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iénes y cuántos son los usuarios?, ¿Qué debería hacer cada uno con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usuar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calidad se espera que tenga el software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req. de calidad del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son los formularios que actualmente contienen la información a procesar por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datos y servicios básicos a manejar por 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 es el escenario en el que funcionará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atos están involucrados en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ámbito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a cerca del funcionamiento del software o del proceso de desarrollo d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de tecnología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7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Se han hecho sistemas de este tipo antes en la empres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ómo les ha ido a los desarrolladore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fueron los principales problemas encontrado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Cada una de estas preguntas pueden ser desglosadas en varias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struir confianza/ acuerdo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ntre el proveedor y los clientes/usuarios.... aprovéchenlas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epárense MUY BIEN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para cada entrevista... Su imagen y la de su empresa depende en gran medida de el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que usted es seri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y que sabe hacer su trabaj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compromiso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 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lare y limite el problema (junto con el cliente)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.. y luego póngalo por escrito (docum. de requisitos), y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que el cliente lo firme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85920" y="1071720"/>
            <a:ext cx="7858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uidadoso al consultar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... pero no se quede con ninguna du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efectivo en su trabajo…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No pierda tiempo, ni improvis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Documente todos los acuer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y ojalá que éstos sean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públic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(para clientes/usuarios y desarrolladores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Genere y mantenga una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visión compartida d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just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crít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 entregar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pia de las minut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 las entrevistas, a todos los particip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tra opción es pasar la documentación en limpio,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cerla firma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or el cliente /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l entrevistador debe ser alguien con buena capacidad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municación </a:t>
            </a: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Arial"/>
              </a:rPr>
              <a:t>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bilidades social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be ser cuidadoso, formal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no impul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19040" y="1142640"/>
            <a:ext cx="78249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i la respuesta es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, entonces vas a tener que trabajar duro para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identificar y delimitar el problema a resolve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Todo apor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una parte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mportante de es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.. También hay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otros recurso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complementarios: formularios, sistemas legad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13683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39620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etalles sobre Entrev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gunda/Terc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Entrevistas de Vali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71280"/>
            <a:ext cx="7340760" cy="7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4160" y="1143000"/>
            <a:ext cx="76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ocer, clarificar, o limitar el problema a resolv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dentificar a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tor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involucr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struir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fianz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liente-desarrollado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stablecer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istema sin ambigüedad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Valida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trabajo ya hech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Dar visibilidad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al trabajo realiza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el primer paso,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en el desarrollo de un proyecto de softwa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7483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En un proyecto chico o en un equipo de trabajo chico (3-7 personas),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todos deberíamos conocer </a:t>
            </a:r>
            <a:r>
              <a:rPr b="0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y</a:t>
            </a:r>
            <a:r>
              <a:rPr b="1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comprender el problema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 resolver, y sus implicanci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unque tengamos responsabilidades distintas (roles distintos), debemos conocer el problema, de primera man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Esto no es sólo responsabilidad de los analistas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o del adm. del proyect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Hay muchas cosas que requieren intuición y buen criterio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Y eso se puede lograr sólo si comprendo el problema y el desafío que este represent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42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5243400"/>
            <a:ext cx="121428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929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abierta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como para abordar el tema) y revisarla (si es posible en grup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 focalizad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iseñada para sacarle el resto de la información al clien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 pueden hacer más entrevistas si es neces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ga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MENOR CANTIDAD POSIBLE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entrevist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Graben las entrevista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119640" y="4606920"/>
            <a:ext cx="302436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3920" y="1143000"/>
            <a:ext cx="7929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visar los ítems más importante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respecto a los requisitos) con el cliente (se debe obtener un OK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Validen con los usuarios, los requisitos entregados por el cliente….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estar aline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sentirse parte del proce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bajen rápido y focaliz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igan y analicen todos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curso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que puedan: formularios, sistemas legados, manuales de proceso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99280" y="5929200"/>
            <a:ext cx="28447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5600" y="2286000"/>
            <a:ext cx="11523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1º y 2º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3687840" y="1562040"/>
            <a:ext cx="1414440" cy="863640"/>
            <a:chOff x="3687840" y="1562040"/>
            <a:chExt cx="1414440" cy="863640"/>
          </a:xfrm>
        </p:grpSpPr>
        <p:sp>
          <p:nvSpPr>
            <p:cNvPr id="115" name="Rectangle 4"/>
            <p:cNvSpPr/>
            <p:nvPr/>
          </p:nvSpPr>
          <p:spPr>
            <a:xfrm>
              <a:off x="3687840" y="1562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3787920" y="1666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. de Usuari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5967360" y="3794040"/>
            <a:ext cx="1414440" cy="863640"/>
            <a:chOff x="5967360" y="3794040"/>
            <a:chExt cx="1414440" cy="863640"/>
          </a:xfrm>
        </p:grpSpPr>
        <p:sp>
          <p:nvSpPr>
            <p:cNvPr id="118" name="Rectangle 11"/>
            <p:cNvSpPr/>
            <p:nvPr/>
          </p:nvSpPr>
          <p:spPr>
            <a:xfrm>
              <a:off x="5967360" y="3794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6067440" y="3898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ción de Softw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1960560" y="3290760"/>
            <a:ext cx="1414440" cy="863640"/>
            <a:chOff x="1960560" y="3290760"/>
            <a:chExt cx="1414440" cy="863640"/>
          </a:xfrm>
        </p:grpSpPr>
        <p:sp>
          <p:nvSpPr>
            <p:cNvPr id="121" name="Rectangle 14"/>
            <p:cNvSpPr/>
            <p:nvPr/>
          </p:nvSpPr>
          <p:spPr>
            <a:xfrm>
              <a:off x="1960560" y="329076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2060640" y="3395520"/>
              <a:ext cx="1212840" cy="48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5643720" y="2357280"/>
            <a:ext cx="2016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2º/3º 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    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en adelant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2583000" y="2066760"/>
            <a:ext cx="1079280" cy="122400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AutoShape 20"/>
          <p:cNvCxnSpPr/>
          <p:nvPr/>
        </p:nvCxnSpPr>
        <p:spPr>
          <a:xfrm>
            <a:off x="5102280" y="1994040"/>
            <a:ext cx="1573920" cy="18007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21"/>
          <p:cNvCxnSpPr/>
          <p:nvPr/>
        </p:nvCxnSpPr>
        <p:spPr>
          <a:xfrm>
            <a:off x="3374640" y="3722760"/>
            <a:ext cx="2592720" cy="5040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27" name="Rectangle 2"/>
          <p:cNvSpPr/>
          <p:nvPr/>
        </p:nvSpPr>
        <p:spPr>
          <a:xfrm>
            <a:off x="3857760" y="3994200"/>
            <a:ext cx="115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Contex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1"/>
          <a:stretch/>
        </p:blipFill>
        <p:spPr>
          <a:xfrm>
            <a:off x="6772320" y="4916520"/>
            <a:ext cx="2371680" cy="19414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571680" y="1347840"/>
            <a:ext cx="1713960" cy="863640"/>
            <a:chOff x="571680" y="1347840"/>
            <a:chExt cx="1713960" cy="863640"/>
          </a:xfrm>
        </p:grpSpPr>
        <p:sp>
          <p:nvSpPr>
            <p:cNvPr id="130" name="Rectangle 4"/>
            <p:cNvSpPr/>
            <p:nvPr/>
          </p:nvSpPr>
          <p:spPr>
            <a:xfrm>
              <a:off x="571680" y="1347840"/>
              <a:ext cx="17139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692640" y="1452600"/>
              <a:ext cx="14698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a a resol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Rectangle 4"/>
          <p:cNvSpPr/>
          <p:nvPr/>
        </p:nvSpPr>
        <p:spPr>
          <a:xfrm>
            <a:off x="7286760" y="1347840"/>
            <a:ext cx="17143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AutoShape 21"/>
          <p:cNvCxnSpPr/>
          <p:nvPr/>
        </p:nvCxnSpPr>
        <p:spPr>
          <a:xfrm>
            <a:off x="2286000" y="1704600"/>
            <a:ext cx="1357920" cy="14364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cxnSp>
        <p:nvCxnSpPr>
          <p:cNvPr id="134" name="AutoShape 20"/>
          <p:cNvCxnSpPr>
            <a:stCxn id="132" idx="1"/>
          </p:cNvCxnSpPr>
          <p:nvPr/>
        </p:nvCxnSpPr>
        <p:spPr>
          <a:xfrm flipH="1">
            <a:off x="5071680" y="1779480"/>
            <a:ext cx="2215440" cy="69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5" name="Text Box 7"/>
          <p:cNvSpPr/>
          <p:nvPr/>
        </p:nvSpPr>
        <p:spPr>
          <a:xfrm>
            <a:off x="7340760" y="1461960"/>
            <a:ext cx="16430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quiere el c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 flipH="1" flipV="1">
            <a:off x="1357200" y="2204640"/>
            <a:ext cx="642960" cy="107172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7" name="AutoShape 20"/>
          <p:cNvCxnSpPr/>
          <p:nvPr/>
        </p:nvCxnSpPr>
        <p:spPr>
          <a:xfrm flipH="1">
            <a:off x="7214400" y="2214360"/>
            <a:ext cx="429480" cy="157212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09-08-11T14:13:43Z</dcterms:modified>
  <cp:revision>193</cp:revision>
  <dc:subject/>
  <dc:title>Ingeniería de Software   </dc:title>
</cp:coreProperties>
</file>