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9268-09FD-4AD5-8658-9296672DB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7730-5BEE-41CB-AF3D-002B68EDAE3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F5AD-6412-4E09-907A-9212FC716AB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B57D-3992-48A3-8D3F-B1B355AE4D2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B78C-0A23-450B-867E-3A5F5FA590A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7473-7ABD-4C59-A450-8E2D0F1D72C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0A2E-EA46-472D-A3CA-6C4A6C95A73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BCFE-1BAE-4E7D-AD23-7952C54D722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3C5F-7712-40D9-B1B6-E07F31075BB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DF2C-0CD8-4A67-B2BE-646ABCFAEEA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2674-B680-428A-8539-239DA15C0CA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76E3-3D7B-457F-A44F-38463A3B060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8097-705B-407C-863F-20EE300BF83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273E-3D17-43DC-A106-68DFDCCF3E2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4BD9-6199-4BE1-9ADA-96A1E81BF52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5E98-6780-4787-B34F-889B83549D0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4B67-6018-4941-ADCE-6CCAC660C64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9FC0-B666-4633-9E23-0B2EC4FF6F3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5CC4-6664-45E0-A05D-8432C97D4AB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7031-44AC-4769-8BA1-24827D2EC9C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B56F-AD3C-44AB-BC35-4766E33C441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9685-9D40-43FE-AB64-2F716F9B9D9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EB78-CA6B-4948-AFE8-1A5EC3DC869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0" name="PlaceHolder 1"/>
          <p:cNvSpPr>
            <a:spLocks noGrp="1"/>
          </p:cNvSpPr>
          <p:nvPr>
            <p:ph type="sldImg"/>
          </p:nvPr>
        </p:nvSpPr>
        <p:spPr>
          <a:xfrm>
            <a:off x="1900080" y="800280"/>
            <a:ext cx="3519720" cy="2639880"/>
          </a:xfrm>
          <a:prstGeom prst="rect">
            <a:avLst/>
          </a:prstGeom>
          <a:ln w="0">
            <a:noFill/>
          </a:ln>
        </p:spPr>
      </p:sp>
      <p:sp>
        <p:nvSpPr>
          <p:cNvPr id="161"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8FD7-167A-419D-85CD-EF8636499CB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76FA-F652-493E-8EEC-65250F66E0C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7FED-4F59-4C80-A995-C124DAF164A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667F-E896-490C-BC14-47CA00C3074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98D9-4D51-4630-A274-02E6542CAE4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02FB-7CF3-410C-AC75-29059941A92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8E04-4EC5-47A8-B578-24E8F083BAE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900080" y="800280"/>
            <a:ext cx="3519720" cy="2639880"/>
          </a:xfrm>
          <a:prstGeom prst="rect">
            <a:avLst/>
          </a:prstGeom>
          <a:ln w="0">
            <a:noFill/>
          </a:ln>
        </p:spPr>
      </p:sp>
      <p:sp>
        <p:nvSpPr>
          <p:cNvPr id="164"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4158-33B3-4DAF-BD72-C4CBBC37C34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E64F-8D2F-40CC-9190-9D323E65F00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AD92-276E-47E6-A175-70EE6B1649B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0AB0-4E2E-4682-A646-59A2CE270D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8" name="Group 3"/>
          <p:cNvGrpSpPr/>
          <p:nvPr/>
        </p:nvGrpSpPr>
        <p:grpSpPr>
          <a:xfrm>
            <a:off x="4160880" y="9151920"/>
            <a:ext cx="3109680" cy="447480"/>
            <a:chOff x="4160880" y="9151920"/>
            <a:chExt cx="3109680" cy="447480"/>
          </a:xfrm>
        </p:grpSpPr>
        <p:sp>
          <p:nvSpPr>
            <p:cNvPr id="179"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81"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1"/>
          <p:cNvSpPr>
            <a:spLocks noGrp="1"/>
          </p:cNvSpPr>
          <p:nvPr>
            <p:ph type="sldImg"/>
          </p:nvPr>
        </p:nvSpPr>
        <p:spPr>
          <a:xfrm>
            <a:off x="1266840" y="727200"/>
            <a:ext cx="4781520" cy="35859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A1CA3-16F1-4675-8E59-8FD06FB4F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2796B-5760-4CCF-8A04-713003123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D1A39-A33C-484A-AFAB-02D508B12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3CF07-CF4E-4079-B7D5-487475DB6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4FBC7-9F68-46B2-AE9A-E72D7D2F7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62862-C61D-48BC-ACCC-FDF50405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0E7F7-B142-4069-AE0A-F48D5AEB4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74A52-DAFB-4486-819B-A0B7759C6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E7B87-6877-404A-BABB-DC6187125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D424-C30E-4E35-A44E-65F172C1C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F3A4-DD30-455E-8968-7ADE482D1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0225-5C4A-4253-A3C4-970548839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2F2C-3ACC-451F-9B8A-871CA084CE8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0"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2"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3" name="Picture 2" descr=""/>
          <p:cNvPicPr/>
          <p:nvPr/>
        </p:nvPicPr>
        <p:blipFill>
          <a:blip r:embed="rId1"/>
          <a:stretch/>
        </p:blipFill>
        <p:spPr>
          <a:xfrm>
            <a:off x="7086600" y="5143680"/>
            <a:ext cx="2057400" cy="1714320"/>
          </a:xfrm>
          <a:prstGeom prst="rect">
            <a:avLst/>
          </a:prstGeom>
          <a:ln w="0">
            <a:noFill/>
          </a:ln>
        </p:spPr>
      </p:pic>
      <p:pic>
        <p:nvPicPr>
          <p:cNvPr id="94" name="Picture 3" descr=""/>
          <p:cNvPicPr/>
          <p:nvPr/>
        </p:nvPicPr>
        <p:blipFill>
          <a:blip r:embed="rId2"/>
          <a:stretch/>
        </p:blipFill>
        <p:spPr>
          <a:xfrm>
            <a:off x="0" y="5429160"/>
            <a:ext cx="1744560" cy="1428840"/>
          </a:xfrm>
          <a:prstGeom prst="rect">
            <a:avLst/>
          </a:prstGeom>
          <a:ln w="0">
            <a:noFill/>
          </a:ln>
        </p:spPr>
      </p:pic>
      <p:pic>
        <p:nvPicPr>
          <p:cNvPr id="95"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encontrados</a:t>
            </a:r>
            <a:r>
              <a:rPr b="0" lang="es-ES" sz="2000" spc="-1" strike="noStrike">
                <a:solidFill>
                  <a:srgbClr val="ffffff"/>
                </a:solidFill>
                <a:latin typeface="Arial"/>
                <a:ea typeface="Arial"/>
              </a:rPr>
              <a:t> (contradictorios), y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9"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1"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3"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5"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NT 4.0 tiene entre 6 y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2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7"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Más de 2 millones de líneas de código </a:t>
            </a:r>
            <a:r>
              <a:rPr b="0" lang="es-ES_tradnl" sz="2000" spc="-1" strike="noStrike">
                <a:solidFill>
                  <a:srgbClr val="ffffff"/>
                </a:solidFill>
                <a:latin typeface="Arial"/>
                <a:ea typeface="Arial"/>
              </a:rPr>
              <a:t>(más la funcionalidad reusada a través de librerías).</a:t>
            </a:r>
            <a:endParaRPr b="0" lang="en-US" sz="20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09"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1"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Desarrollar Software</a:t>
            </a:r>
            <a:r>
              <a:rPr b="1" lang="es-ES" sz="2400" spc="-1" strike="noStrike">
                <a:solidFill>
                  <a:srgbClr val="ffffff"/>
                </a:solidFill>
                <a:latin typeface="Arial"/>
                <a:ea typeface="Arial"/>
              </a:rPr>
              <a:t>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3 Marcador de contenido" descr=""/>
          <p:cNvPicPr/>
          <p:nvPr/>
        </p:nvPicPr>
        <p:blipFill>
          <a:blip r:embed="rId1"/>
          <a:stretch/>
        </p:blipFill>
        <p:spPr>
          <a:xfrm>
            <a:off x="2000160" y="2571840"/>
            <a:ext cx="3876840" cy="1628640"/>
          </a:xfrm>
          <a:prstGeom prst="rect">
            <a:avLst/>
          </a:prstGeom>
          <a:ln w="0">
            <a:noFill/>
          </a:ln>
        </p:spPr>
      </p:pic>
      <p:sp>
        <p:nvSpPr>
          <p:cNvPr id="117"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26E0-D5BB-4B47-B6F9-517BEA0E248C}"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19"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0" name="6 Tabla" descr=""/>
          <p:cNvPicPr/>
          <p:nvPr/>
        </p:nvPicPr>
        <p:blipFill>
          <a:blip r:embed="rId2"/>
          <a:stretch/>
        </p:blipFill>
        <p:spPr>
          <a:xfrm>
            <a:off x="2000160" y="4211640"/>
            <a:ext cx="3876840" cy="542880"/>
          </a:xfrm>
          <a:prstGeom prst="rect">
            <a:avLst/>
          </a:prstGeom>
          <a:ln w="0">
            <a:noFill/>
          </a:ln>
        </p:spPr>
      </p:pic>
      <p:sp>
        <p:nvSpPr>
          <p:cNvPr id="121"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3"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25"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27"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29"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1"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
          <p:cNvPicPr/>
          <p:nvPr/>
        </p:nvPicPr>
        <p:blipFill>
          <a:blip r:embed="rId1"/>
          <a:stretch/>
        </p:blipFill>
        <p:spPr>
          <a:xfrm>
            <a:off x="1857240" y="2400480"/>
            <a:ext cx="5762880" cy="2342880"/>
          </a:xfrm>
          <a:prstGeom prst="rect">
            <a:avLst/>
          </a:prstGeom>
          <a:ln w="0">
            <a:noFill/>
          </a:ln>
        </p:spPr>
      </p:pic>
      <p:sp>
        <p:nvSpPr>
          <p:cNvPr id="133"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6"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38"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0"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2"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4"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46"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48"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0"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2"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se construyen con equipos de ingenieros”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multi-persona de software multi-versiones”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13920" y="1261800"/>
            <a:ext cx="792972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n:</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Objetivos clar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lanes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Un ambiente 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95D3-D237-41CF-A295-A9D3222D7AE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30456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icio 1: Competencia </a:t>
            </a:r>
            <a:endParaRPr b="0" lang="en-US" sz="4400" spc="-1" strike="noStrike">
              <a:solidFill>
                <a:srgbClr val="ffff00"/>
              </a:solidFill>
              <a:latin typeface="Times New Roman"/>
            </a:endParaRPr>
          </a:p>
        </p:txBody>
      </p:sp>
      <p:sp>
        <p:nvSpPr>
          <p:cNvPr id="88"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8-06T13:44:47Z</dcterms:modified>
  <cp:revision>205</cp:revision>
  <dc:subject/>
  <dc:title>Ingeniería de Software   </dc:title>
</cp:coreProperties>
</file>