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2EF33-578C-4B1E-AB61-4F2CD03B7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nkedHashSet no mueve uno ionsertado previamente. Si se inserta uno que ya estaba, no hace 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67D-C32C-445A-8629-529F7BA3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F31-6D2B-4E4D-8688-371861A3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D34-D931-4149-8A21-A3C67729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DD7-29F3-44E1-9FA5-D12F5406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506-151F-422C-B618-1A664153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FEA-7228-4BB5-BABB-0E6D28D9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A6F-42C7-407F-93C4-625A9C55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8FD-214A-4EE1-A578-224D2931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0AA-A12A-4743-81CC-92040145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4A9-D6EC-439A-BE61-4B3E9B7C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C95-0207-44D8-8C87-4A55311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B4F-8243-470A-842D-57E75DBB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7D39E-3406-4A11-80B4-73B348819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50R – Taller de implementación de estructuras de datos y algorit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ones e 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ián Ser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idado con re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es seguro si se modifica durante la it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modifica algún elemento de la colección de otra manera, se pueden producir inconsis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uándo usar Itera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necesita eliminar algunos elementos de l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r sobre varias colecciones al mism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Collection&lt;E&gt; extends Iterable&lt;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list = new ArrayList&lt;String&gt;(c)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si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comparaciones de conju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Set son iguales si contienen los mismos elementos, independiente de la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o más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según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lo un poco más lento que Hash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de 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co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r todos los duplicados de un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ndo orde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Linked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co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ción de objetos en base a posición numérica en l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úsqueda de la posición de un objeto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 sólo en algunos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aca la primera aparición del e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 addAll agregan al final de la 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listas son iguales si contienen los mismos elementos en el mism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grupo de objetos o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z =&gt; Está implementada por otras c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clase má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s las sub clases tienen un constructor que puede recibir una Collection como argu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acceso a 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void swap(List&lt;E&gt; a, int i, int j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tmp = a.get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i, a.get(j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j, tm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ext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previous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set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add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terator&lt;Type&gt; it = list.listIterato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767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subList(fromIndex, toIndex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 = list.subList(fromIdx, toIdx).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 list.subList(fromIdx, toIdx).last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767960"/>
            <a:ext cx="960120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List&lt;E&gt; dealHand(List&lt;E&gt; d, int n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dSize = d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View = d.subList(dSize - n, dSiz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and = new ArrayList&lt;E&gt;(hView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iew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shuffle(List&lt;?&gt; l, Random r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l.size(); i &gt; 1; i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(l, i - 1, r.nextInt(i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4000"/>
          </a:bodyPr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umHands = Integer.parseInt(args[0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ardsPerHand = Integer.parseInt(args[1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suit = new String[] {"spades", "hearts", "diamonds", "clubs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rank = new String[] {"ace","2","3","4","5","6","7","8","9","10","jack","queen","king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deck = new ArrayList&lt;String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0; i &lt; suit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j = 0; j &lt; rank.length; j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k.add(rank[j] + " of " + suit[i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.shuffle(de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=0; i &lt; numHands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dealHand(deck, cardsPerHa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Deal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hearts, jack of spades, 3 of spades, 4 of spades, king of diamond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4 of diamonds, ace of clubs, 6 of clubs, jack of hearts, queen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7 of spades, 5 of spades, 2 of diamonds, queen of diamonds, 9 of club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spades, 6 of diamonds, ace of spades, 3 of hearts, ace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 se v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da por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(E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&lt;E&gt; iterato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971800"/>
          <a:ext cx="8153280" cy="2673360"/>
        </p:xfrm>
        <a:graphic>
          <a:graphicData uri="http://schemas.openxmlformats.org/drawingml/2006/table">
            <a:tbl>
              <a:tblPr/>
              <a:tblGrid>
                <a:gridCol w="2238480"/>
                <a:gridCol w="2557440"/>
                <a:gridCol w="33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 espe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ert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er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l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k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llave =&gt; Un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ut(K key, V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get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emove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Key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Value(Object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putAll(Map&lt;? extends K, ? extends V&gt; m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ta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K&gt; ke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llection&lt;V&gt; valu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Map.Entry&lt;K,V&gt;&gt; entr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erface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getKe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getVa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setValue(V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ogas a las d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et que con elementos orde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compa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subSet(E fromE, E to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headSet(E to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tailSet(E from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fir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 sin contar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ount = dictionary.subSet("doorbell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 todas las palabras que empiezan con 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"f", "g"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All(Collection&lt;? extends E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tain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char ch = 'a'; ch &lt;= 'z';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rom = String.valueOf(ch++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to = String.valueOf(ch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from + ": "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from, to).size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, incluyendo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", "pick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do amb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a mitad, hasta n (sin inclui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1 = dictionary.head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mitad, desde n (incluyen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2 = dictionary.tail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predecessor = ss.headSet(o).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a 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subMap(K fromKey, 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headMap(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tailMap(K from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fir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la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 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: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: 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: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[] toArr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&gt; T[] toArray(T[] 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rer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Object o : col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face Iterator&lt;E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oid filtrar(Collection&lt;?&gt; c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terator&lt;?&gt; it = c.iterator(); it.hasNext();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condicion(it.next(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.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1:07:01Z</dcterms:created>
  <dc:creator/>
  <dc:description/>
  <dc:language>en-US</dc:language>
  <cp:lastModifiedBy>LBGM CMM</cp:lastModifiedBy>
  <cp:lastPrinted>2009-04-22T19:24:48Z</cp:lastPrinted>
  <dcterms:modified xsi:type="dcterms:W3CDTF">2009-08-13T19:48:08Z</dcterms:modified>
  <cp:revision>50</cp:revision>
  <dc:subject/>
  <dc:title>CC50R – Taller de implementación de estructuras de datos y algoritmos</dc:title>
</cp:coreProperties>
</file>