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45851F-6BC6-42D5-8040-BC8D8D4E7F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LinkedHashSet no mueve uno ionsertado previamente. Si se inserta uno que ya estaba, no hace n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DB43-58D6-4F61-B94A-478DDD1C7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A90E-7942-4340-9EF8-B46E0A6A2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BE93-541A-4D87-AEBE-7446E0B5C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7BE9-E9B5-4F72-B0B4-A18A941E9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8D52-CE01-41F7-B9E8-C536A6DB7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073F-DB3D-4B40-9821-39319C6C9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9081-89CD-4069-A6FD-5E0D2AB83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FE7C-93D4-452F-829A-B5D4A195F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9E37-78EC-462B-9F22-E6ADB98E3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EF81-39A7-42AE-9C1B-81BF3F25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0EC0-DBB8-4F3A-8AAE-3CE968F2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04FD-5AD3-44F2-8E5A-9FFB8EA6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F36437-F09C-40B2-9A69-D9A08C0ADB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C50R – Taller de implementación de estructuras de datos y algorit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ecciones e iter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stián Serp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idado con remo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ólo es seguro si se modifica durante la ite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se modifica algún elemento de la colección de otra manera, se pueden producir inconsistenci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Cuándo usar Iterat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se necesita eliminar algunos elementos de la cole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erar sobre varias colecciones al mismo tie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 Collection&lt;E&gt; extends Iterable&lt;E&gt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&lt;String&gt; list = new ArrayList&lt;String&gt;(c);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os de colec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ed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ed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z 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ección sin elementos duplic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te comparaciones de conjun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s Set son iguales si contienen los mismos elementos, independiente de la implemen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ciones de 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h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ás ráp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ración en des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e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cho más l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ración en orden según va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edHash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ólo un poco más lento que Hash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ración en orden de inser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uco 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minar todos los duplicados de una cole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ion&lt;T&gt; ns = new HashSet&lt;T&gt;(c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rvando orden orig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ion&lt;T&gt; ns = new LinkedHashSet&lt;T&gt;(c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z 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ección con elementos duplic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ipulación de objetos en base a posición numérica en la l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úsqueda de la posición de un objeto específ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ón de ran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ciones de 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ay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ás ráp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ed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jor sólo en algunos ca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gua, no debe usa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icularid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 saca la primera aparición del ele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y addAll agregan al final de la li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s listas son iguales si contienen los mismos elementos en el mismo 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grupo de objetos o ele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faz =&gt; Está implementada por otras cl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la clase más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s las sub clases tienen un constructor que puede recibir una Collection como argu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 acceso a posi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3265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static &lt;E&gt; void swap(List&lt;E&gt; a, int i, int j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tmp = a.get(i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set(i, a.get(j)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set(j, tmp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stIt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lean hasPrevious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previous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nextIndex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previousIndex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oid set(E 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oid add(E 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stIt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Iterator&lt;Type&gt; it = list.listIterator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" y="4572000"/>
            <a:ext cx="87678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ciones de ran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.subList(fromIndex, toIndex).clear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i = list.subList(fromIdx, toIdx).indexOf(o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j = list.subList(fromIdx, toIdx).lastIndexOf(o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 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767960"/>
            <a:ext cx="9601200" cy="440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6000"/>
          </a:bodyPr>
          <a:p>
            <a:pPr marL="414360" indent="-310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static &lt;E&gt; List&lt;E&gt; dealHand(List&lt;E&gt; d, int n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dSize = d.siz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&lt;E&gt; hView = d.subList(dSize - n, dSiz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&lt;E&gt; hand = new ArrayList&lt;E&gt;(hView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View.clear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 h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 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static void shuffle(List&lt;?&gt; l, Random r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(int i = l.size(); i &gt; 1; i-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ap(l, i - 1, r.nextInt(i)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 De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546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64000"/>
          </a:bodyPr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static void main(String[] args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numHands = Integer.parseInt(args[0]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cardsPerHand = Integer.parseInt(args[1]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ng[] suit = new String[] {"spades", "hearts", "diamonds", "clubs"}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ng[] rank = new String[] {"ace","2","3","4","5","6","7","8","9","10","jack","queen","king"}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&lt;String&gt; deck = new ArrayList&lt;String&gt;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(int i = 0; i &lt; suit.length; i++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(int j = 0; j &lt; rank.length; j++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k.add(rank[j] + " of " + suit[i]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ions.shuffle(deck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(int i=0; i &lt; numHands; i++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.out.println(dealHand(deck, cardsPerHand)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 Deal 4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8 of hearts, jack of spades, 3 of spades, 4 of spades, king of diamonds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4 of diamonds, ace of clubs, 6 of clubs, jack of hearts, queen of hearts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7 of spades, 5 of spades, 2 of diamonds, queen of diamonds, 9 of clubs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8 of spades, 6 of diamonds, ace of spades, 3 of hearts, ace of hearts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oritmos de 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uff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e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lace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ary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xOfSub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IndexOfSub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z Que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a se vi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da por Linked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cione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siz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lean isEmpty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lean contains(Object element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oolean add(E element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oolean remove(Object element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erator&lt;E&gt; iterator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étodos Que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90720" y="2971800"/>
          <a:ext cx="8153280" cy="2673360"/>
        </p:xfrm>
        <a:graphic>
          <a:graphicData uri="http://schemas.openxmlformats.org/drawingml/2006/table">
            <a:tbl>
              <a:tblPr/>
              <a:tblGrid>
                <a:gridCol w="2238480"/>
                <a:gridCol w="2557440"/>
                <a:gridCol w="3357360"/>
              </a:tblGrid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_tradn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cep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_tradn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or especi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_tradn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erta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_tradn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(e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_tradn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ffer(e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_tradn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imina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_tradn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move(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_tradn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ll(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_tradn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ina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_tradn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ment(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_tradn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ek(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z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ocia obje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 llave =&gt; Un va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cione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put(K key, V valu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get(Object ke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remove(Object ke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lean containsKey(Object ke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lean containsValue(Object valu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siz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lean isEmpty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ciones mas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id putAll(Map&lt;? extends K, ? extends V&gt; m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id clear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tas de colec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Set&lt;K&gt; keySet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Collection&lt;V&gt; values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Set&lt;Map.Entry&lt;K,V&gt;&gt; entrySet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interface Entry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getKey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getValu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setValue(V valu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ciones de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h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e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edHash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álogas a las de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hta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gua, no debe usa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z Sorted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 Set que con elementos orden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ón de rang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o a bor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o a compar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étodos Sorted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edSet&lt;E&gt; subSet(E fromE, E to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edSet&lt;E&gt; headSet(E toElement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edSet&lt;E&gt; tailSet(E fromElement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first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last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 Sorted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ántas palabras hay entre doorbell y pickle sin contar pick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count = dictionary.subSet("doorbell", "pickle").siz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 Sorted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mina todas las palabras que empiezan con 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ctionary.subSet("f", "g").clear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ciones mas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lean containsAll(Collection&lt;?&gt; c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oolean addAll(Collection&lt;? extends E&gt; c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oolean removeAll(Collection&lt;?&gt; c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oolean retainAll(Collection&lt;?&gt; c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oid clear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 Sorted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(char ch = 'a'; ch &lt;= 'z'; 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ng from = String.valueOf(ch++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ng to = String.valueOf(ch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.out.println(from + ": " 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ctionary.subSet(from, to).size()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 Sorted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ántas palabras hay entre doorbell y pickle, incluyendo pick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 = dictionary.subSet("doorbell", "pickl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\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).siz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 Sorted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luyendo amb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 = dictionary.subSet("doorbell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\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, "pickle").siz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 Sorted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era mitad, hasta n (sin incluir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rtedSet&lt;String&gt; volume1 = dictionary.headSet("n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gunda mitad, desde n (incluyendo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rtedSet&lt;String&gt; volume2 = dictionary.tailSet("n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 Sorted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 predecessor = ss.headSet(o).last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z Sorted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3265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a Sorted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edMap&lt;K, V&gt; subMap(K fromKey, K toKe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edMap&lt;K, V&gt; headMap(K toKe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edMap&lt;K, V&gt; tailMap(K fromKe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firstKey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lastKey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: Hash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: Array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: Hash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ue: Linked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ciones de arreg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[] toArray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T&gt; T[] toArray(T[] a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rrer Colec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-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er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-e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(Object o : colle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.out.println(o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rad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interface Iterator&lt;E&gt;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lean hasNext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next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oid remov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c void filtrar(Collection&lt;?&gt; c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(Iterator&lt;?&gt; it = c.iterator(); it.hasNext();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(!condicion(it.next()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.remov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3T01:07:01Z</dcterms:created>
  <dc:creator/>
  <dc:description/>
  <dc:language>en-US</dc:language>
  <cp:lastModifiedBy>LBGM CMM</cp:lastModifiedBy>
  <cp:lastPrinted>2009-04-22T19:24:48Z</cp:lastPrinted>
  <dcterms:modified xsi:type="dcterms:W3CDTF">2009-08-13T19:48:08Z</dcterms:modified>
  <cp:revision>50</cp:revision>
  <dc:subject/>
  <dc:title>CC50R – Taller de implementación de estructuras de datos y algoritmos</dc:title>
</cp:coreProperties>
</file>