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F5B50-0B54-4ADD-864A-5C5081392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LinkedHashSet no mueve uno ionsertado previamente. Si se inserta uno que ya estaba, no hace 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7A4-B249-4F8E-9636-C2EB1B51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6BA-13F5-42E8-834A-3A8E7765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C6F2-A8B0-442A-8208-38454E30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973-0442-453B-9BBE-A437C74D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9AF-6A8F-4DD1-8575-E01B36A9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DA0-1A9C-48A9-A36F-12531692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5FBB-FF94-43A9-AC24-80BF4F0E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1B0-5E4D-4985-A218-6FE71065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D9F-90BC-4928-8BB1-5947CD2D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DC96-3E96-4CA4-8485-B078DD08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91A-2BAE-4632-A27F-53473427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426-4672-4925-B9D0-2304E07F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71864-61E7-419D-8EDE-4ABF6ACC7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50R – Taller de implementación de estructuras de datos y algorit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ones e iter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tián Serp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idado con re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ólo es seguro si se modifica durante la it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modifica algún elemento de la colección de otra manera, se pueden producir inconsisten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uándo usar Itera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necesita eliminar algunos elementos de la col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r sobre varias colecciones al mismo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Collection&lt;E&gt; extends Iterable&lt;E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String&gt; list = new ArrayList&lt;String&gt;(c)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ón sin elementos du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comparaciones de conju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 Set son iguales si contienen los mismos elementos, independiente de la imple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ráp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des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o más l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orden según v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ólo un poco más lento que Hash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orden de in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co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r todos los duplicados de una col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&lt;T&gt; ns = new HashSet&lt;T&gt;(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ando orde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&lt;T&gt; ns = new LinkedHashSet&lt;T&gt;(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ón con elementos du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ción de objetos en base a posición numérica en la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úsqueda de la posición de un objeto espec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ón de ra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ráp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 sólo en algunos c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ua, no debe us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ular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saca la primera aparición del ele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 addAll agregan al final de la 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listas son iguales si contienen los mismos elementos en el mismo 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grupo de objetos o 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z =&gt; Está implementada por otras c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clase más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s las sub clases tienen un constructor que puede recibir una Collection como argu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acceso a 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3265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&lt;E&gt; void swap(List&lt;E&gt; a, int i, int j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tmp = a.get(i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set(i, a.get(j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set(j, tm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hasPreviou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previou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nextIndex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previousIndex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set(E 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add(E 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Iterator&lt;Type&gt; it = list.listIterator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8767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de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.subList(fromIndex, toIndex)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 = list.subList(fromIdx, toIdx).indexOf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j = list.subList(fromIdx, toIdx).lastIndexOf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767960"/>
            <a:ext cx="9601200" cy="440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&lt;E&gt; List&lt;E&gt; dealHand(List&lt;E&gt; d, int n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dSize = d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E&gt; hView = d.subList(dSize - n, dSiz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E&gt; hand = new ArrayList&lt;E&gt;(hView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View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void shuffle(List&lt;?&gt; l, Random r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l.size(); i &gt; 1; i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p(l, i - 1, r.nextInt(i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4000"/>
          </a:bodyPr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numHands = Integer.parseInt(args[0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cardsPerHand = Integer.parseInt(args[1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[] suit = new String[] {"spades", "hearts", "diamonds", "clubs"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[] rank = new String[] {"ace","2","3","4","5","6","7","8","9","10","jack","queen","king"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String&gt; deck = new ArrayList&lt;String&gt;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0; i &lt; suit.length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j = 0; j &lt; rank.length; j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k.add(rank[j] + " of " + suit[i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s.shuffle(deck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=0; i &lt; numHands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dealHand(deck, cardsPerHand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Deal 4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8 of hearts, jack of spades, 3 of spades, 4 of spades, king of diamond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4 of diamonds, ace of clubs, 6 of clubs, jack of hearts, queen of hea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7 of spades, 5 of spades, 2 of diamonds, queen of diamonds, 9 of club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8 of spades, 6 of diamonds, ace of spades, 3 of hearts, ace of hea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os d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uff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OfSub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IndexOfSub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 se v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da por 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isEmpt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(Object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add(E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move(Object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or&lt;E&gt; iterato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odos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90720" y="2971800"/>
          <a:ext cx="8153280" cy="2673360"/>
        </p:xfrm>
        <a:graphic>
          <a:graphicData uri="http://schemas.openxmlformats.org/drawingml/2006/table">
            <a:tbl>
              <a:tblPr/>
              <a:tblGrid>
                <a:gridCol w="2238480"/>
                <a:gridCol w="2557440"/>
                <a:gridCol w="335736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 especi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ert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er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imin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ove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l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in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ek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 ob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llave =&gt; Un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put(K key, V valu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get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remove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Key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Value(Object valu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isEmpt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mas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putAll(Map&lt;? extends K, ? extends V&gt; m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tas de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et&lt;K&gt; key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ollection&lt;V&gt; value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et&lt;Map.Entry&lt;K,V&gt;&gt; entry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interface Entr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getKe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getValu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setValue(V 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ogas a las d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ua, no debe us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Set que con elementos orden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ón de ran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o a bo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o a compar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od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subSet(E fromE, E to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headSet(E to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tailSet(E from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fir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la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ntas palabras hay entre doorbell y pickle sin contar pick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count = dictionary.subSet("doorbell", "pickle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 todas las palabras que empiezan con 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tionary.subSet("f", "g")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mas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addAll(Collection&lt;? extends E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move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tain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char ch = 'a'; ch &lt;= 'z'; 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rom = String.valueOf(ch++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to = String.valueOf(ch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from + ": "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tionary.subSet(from, to).size(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ntas palabras hay entre doorbell y pickle, incluyendo pick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= dictionary.subSet("doorbell", "pickl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\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yendo amb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= dictionary.subSet("doorbel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\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, "pickle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a mitad, hasta n (sin inclui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Set&lt;String&gt; volume1 = dictionary.headSet("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a mitad, desde n (incluyend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Set&lt;String&gt; volume2 = dictionary.tailSet("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predecessor = ss.headSet(o).la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orte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3265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a Sorte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subMap(K fromKey, K to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headMap(K to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tailMap(K from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firstKe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lastKe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: 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: 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: 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: 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de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[] toArra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T&gt; T[] toArray(T[] a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rer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-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-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Object o : coll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interface Iterator&lt;E&gt;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hasNex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nex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remov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void filtrar(Collection&lt;?&gt; c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terator&lt;?&gt; it = c.iterator(); it.hasNext();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!condicion(it.next(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.remov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01:07:01Z</dcterms:created>
  <dc:creator/>
  <dc:description/>
  <dc:language>en-US</dc:language>
  <cp:lastModifiedBy>LBGM CMM</cp:lastModifiedBy>
  <cp:lastPrinted>2009-04-22T19:24:48Z</cp:lastPrinted>
  <dcterms:modified xsi:type="dcterms:W3CDTF">2009-08-13T19:48:08Z</dcterms:modified>
  <cp:revision>50</cp:revision>
  <dc:subject/>
  <dc:title>CC50R – Taller de implementación de estructuras de datos y algoritmos</dc:title>
</cp:coreProperties>
</file>