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581EF-EADE-4A7C-B2B3-0452E7651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LinkedHashSet no mueve uno ionsertado previamente. Si se inserta uno que ya estaba, no hace 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624-B409-4485-AE66-1AA3C817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739-05EB-4139-A26E-999019D8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B49-AD4C-473E-A569-798034F3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927-2387-4134-9A5E-50B8434C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75E-BC4B-47FA-A543-CC0BCC4F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732-003B-42C1-B45E-89C56357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BC3-1157-4851-AA02-FBEA8C56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5A1-3EBA-41E2-8884-D9E85747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36E-9FB2-4F12-84B1-5D3A42E8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921-E4FB-4198-8F98-D8BFDCED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F6E-70AE-4245-8FE0-B9144B78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91F-9231-474B-99F4-5B19A11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E61B9-0580-46DD-B982-FDE46F6FB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50R – Taller de implementación de estructuras de datos y algorit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ones e 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tián Serp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idado con re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es seguro si se modifica durante la it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modifica algún elemento de la colección de otra manera, se pueden producir inconsiste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uándo usar Itera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necesita eliminar algunos elementos de l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r sobre varias colecciones al mismo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ollection&lt;E&gt; extends Iterable&lt;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list = new ArrayList&lt;String&gt;(c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si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comparaciones de conju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Set son iguales si contienen los mismos elementos, independiente de la imple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des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segú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ólo un poco más lento que Hash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 en orden de 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co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r todos los duplicados de una col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ndo orde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&lt;T&gt; ns = new LinkedHashSet&lt;T&gt;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cción con elementos duplic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ción de objetos en base a posición numérica en l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úsqueda de la posición de un objet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ráp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 sólo en algun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r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aca la primera aparición del e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y addAll agregan al final de l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listas son iguales si contienen los mismos elementos en el mism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grupo de objetos o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z =&gt; Está implementada por otras c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clase más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s las sub clases tienen un constructor que puede recibir una Collection como arg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acceso a 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void swap(List&lt;E&gt; a, int i, int j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tmp = a.get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i, a.get(j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set(j, tm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previou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ext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previousIndex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set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add(E 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terator&lt;Type&gt; it = list.listIterator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767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.subList(fromIndex, toIndex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list.subList(fromIdx, toIdx).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 list.subList(fromIdx, toIdx).lastIndexOf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767960"/>
            <a:ext cx="960120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&lt;E&gt; List&lt;E&gt; dealHand(List&lt;E&gt; d, int n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dSize = d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View = d.subList(dSize - n, dSiz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E&gt; hand = new ArrayList&lt;E&gt;(hView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iew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shuffle(List&lt;?&gt; l, Random r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l.size(); i &gt; 1; i-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(l, i - 1, r.nextInt(i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4000"/>
          </a:bodyPr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numHands = Integer.parseInt(args[0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ardsPerHand = Integer.parseInt(args[1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suit = new String[] {"spades", "hearts", "diamonds", "clubs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rank = new String[] {"ace","2","3","4","5","6","7","8","9","10","jack","queen","king"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&lt;String&gt; deck = new ArrayList&lt;String&gt;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 = 0; i &lt; suit.length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j = 0; j &lt; rank.length; j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k.add(rank[j] + " of " + suit[i]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s.shuffle(deck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nt i=0; i &lt; numHands; i+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dealHand(deck, cardsPerHa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6120" indent="-207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Deal 4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hearts, jack of spades, 3 of spades, 4 of spades, king of diamond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4 of diamonds, ace of clubs, 6 of clubs, jack of hearts, queen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7 of spades, 5 of spades, 2 of diamonds, queen of diamonds, 9 of club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8 of spades, 6 of diamonds, ace of spades, 3 of hearts, ace of hea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os d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IndexOfSub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 se v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da por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(E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(Object 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or&lt;E&gt; iterato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971800"/>
          <a:ext cx="8153280" cy="2673360"/>
        </p:xfrm>
        <a:graphic>
          <a:graphicData uri="http://schemas.openxmlformats.org/drawingml/2006/table">
            <a:tbl>
              <a:tblPr/>
              <a:tblGrid>
                <a:gridCol w="2238480"/>
                <a:gridCol w="2557440"/>
                <a:gridCol w="3357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 espe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ert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er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l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in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ek(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 ob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llave =&gt; Un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ut(K key, V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get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remove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Key(Object 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Value(Object valu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isEmpt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putAll(Map&lt;? extends K, ? extends V&gt; m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tas de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K&gt; ke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ollection&lt;V&gt; valu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et&lt;Map.Entry&lt;K,V&gt;&gt; entry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interface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getKe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getValu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setValue(V 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ciones d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ogas a las 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ua, no debe u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Set que con elementos orden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ón de ra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bor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o a compar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subSet(E fromE, E to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headSet(E to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Set&lt;E&gt; tailSet(E fromEleme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fir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 sin contar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count = dictionary.subSet("doorbell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 todas las palabras que empiezan con 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"f", "g").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mas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contains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addAll(Collection&lt;? extends E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move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lean retainAll(Collection&lt;?&gt; 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cle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char ch = 'a'; ch &lt;= 'z';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from = String.valueOf(ch++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to = String.valueOf(ch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from + ": " 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tionary.subSet(from, to).size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ntas palabras hay entre doorbell y pickle, incluyendo pick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", "pick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do amb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= dictionary.subSet("doorbel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\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, "pickle").siz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a mitad, hasta n (sin incluir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1 = dictionary.head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mitad, desde n (incluyen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edSet&lt;String&gt; volume2 = dictionary.tailSet("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Sorted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predecessor = ss.headSet(o).las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z Sorte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a Sorte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subMap(K fromKey, 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headMap(K to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tedMap&lt;K, V&gt; tailMap(K fromKe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fir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lastKe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: Hash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: Array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: Hash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: Linked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ciones de 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[] toArray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&gt; T[] toArray(T[] 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rer Col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-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Object o : coll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.out.println(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interface Iterator&lt;E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 has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nex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id 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void filtrar(Collection&lt;?&gt; c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(Iterator&lt;?&gt; it = c.iterator(); it.hasNext();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!condicion(it.next(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.remove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7:01Z</dcterms:created>
  <dc:creator/>
  <dc:description/>
  <dc:language>en-US</dc:language>
  <cp:lastModifiedBy>LBGM CMM</cp:lastModifiedBy>
  <cp:lastPrinted>2009-04-22T19:24:48Z</cp:lastPrinted>
  <dcterms:modified xsi:type="dcterms:W3CDTF">2009-08-13T19:48:08Z</dcterms:modified>
  <cp:revision>50</cp:revision>
  <dc:subject/>
  <dc:title>CC50R – Taller de implementación de estructuras de datos y algoritmos</dc:title>
</cp:coreProperties>
</file>