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272DE-1CCF-4CF1-92A8-A7A360A705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008000" y="5078160"/>
            <a:ext cx="554040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008000" y="5078160"/>
            <a:ext cx="554040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6D1-676D-493B-90B7-BD197699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B70-91B0-4B69-935D-C9B6AB25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35A-05F6-4210-976E-0AFEEFD8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856-D5C6-4DF8-B11D-058B3204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ADB-119F-4690-8FC5-806F8DD8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954-AE82-4DBC-AC57-1B73879C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517-FBF7-405E-8F29-F3E72EF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F82-FF0F-4B82-925C-02B64781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6C4-D266-4904-A725-C67582D7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6F8-153C-481C-8C42-BB8280B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02A-79F3-43B8-A67A-B269169E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218-A3DF-40F7-B8F4-EF3DD518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D8BE2-1FF3-428B-9086-C39CA44C7C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dministr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s 2 veces a la sem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n Clases Aux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ucho trabajo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ar e implementar soluciones de comunicación para aplicaciones distribuidas a nivel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ocer las distintas posibilidades tecn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ocer las distintas arquitecturas clásicas de comunica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aluar su efectividad y eficiencia en disti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87160" y="1174320"/>
            <a:ext cx="907236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0. Introduction (concepts of distributed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1.  TCP/IP client &amp; server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Client programm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client (date, ech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pop3 cli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MT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2. Server programming (and their cl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client-server example with serializing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File Servers: simple whole file iterative server (not sec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whole file robust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whole file concurrent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tateless random access file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TCP/IP Chat with aware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extensible web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Parallel downloading techn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wareness in a TC/IP peer to peer environment and the latecomers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87160" y="1176120"/>
            <a:ext cx="9072360" cy="59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3. UDP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UDP client-server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"ping" program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multica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multicasting c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wareness in a multicasting 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broadcasting vs. multica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4. RMI Client-server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example will be used to show: remiregistry, concurrency automatic stub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equential file server with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utomatic teller machine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RMI-based chat with aware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5- Introduction to servlets and 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principles - parameters (from request and parameter fi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using 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implementing state with cookies/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6- J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alu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90723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P: Tema de presen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luno escoge un tema (se dara una lista de posibles pero el alumno puede proponer el su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grupos 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D: Trabaj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trabajo de largo aliento en un tema especifico que implica un desarrol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 entregas/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distributed garbage collection, latecommers in peer-to-peer architectur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 Control + 1 Examen = N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F = ND*0.5 + ND*0.3 + TP*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1:23:49Z</dcterms:created>
  <dc:creator/>
  <dc:description/>
  <dc:language>en-US</dc:language>
  <cp:lastModifiedBy/>
  <cp:revision>1</cp:revision>
  <dc:subject/>
  <dc:title/>
</cp:coreProperties>
</file>