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79F26-948D-48D1-8900-296AEB84A8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008000" y="5078160"/>
            <a:ext cx="554040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008000" y="5078160"/>
            <a:ext cx="554040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447-6A88-4C58-9A81-1EDEC064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3C7-CF7B-4A8E-8931-DA6E9E2F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43B-88AC-4A48-A5C7-1E362CD4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05D-7391-4B7D-A89B-4B5D2A73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D1F-8DC7-4F74-AA92-8EF9EA76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D95-635B-42B2-981A-B9E894C0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924-83EF-4339-9848-F2C77C2B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6B2-1C7D-45B4-882B-922AE35C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1B9-310E-4B8B-BB8D-4E6610F8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0BA-D200-4779-8D84-E065DCE8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FE2-AA2C-4DCD-AFA9-06ADE275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967-A829-4243-A76D-AE4C04E2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C6E3D-AF9E-4BD6-8C18-E6C6752966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76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dministr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7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ses 2 veces a la sem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n Clases Aux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ucho trabajo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76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7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eñar e implementar soluciones de comunicación para aplicaciones distribuidas a nivel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ocer las distintas posibilidades tecn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ocer las distintas arquitecturas clásicas de comunica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aluar su efectividad y eficiencia en disti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166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87160" y="1174320"/>
            <a:ext cx="907236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0. Introduction (concepts of distributed sys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1.  TCP/IP client &amp; server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Client programm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imple client (date, ech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pop3 cli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MTP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2. Server programming (and their cli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imple client-server example with serializing ex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File Servers: simple whole file iterative server (not sec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imple whole file robust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imple whole file concurrent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tateless random access file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TCP/IP Chat with awaren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imple extensible web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Parallel downloading techn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wareness in a TC/IP peer to peer environment and the latecomers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166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87160" y="1176120"/>
            <a:ext cx="9072360" cy="59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3. UDP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imple UDP client-server ex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"ping" program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multicas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multicasting c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wareness in a multicasting enviro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broadcasting vs. multicas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4. RMI Client-server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imple example will be used to show: remiregistry, concurrency automatic stub distrib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equential file server with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utomatic teller machine ex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RMI-based chat with awaren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5- Introduction to servlets and 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principles - parameters (from request and parameter fi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using for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implementing state with cookies/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6- J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166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alu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90723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P: Tema de present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aluno escoge un tema (se dara una lista de posibles pero el alumno puede proponer el su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grupos 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D: Trabajo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trabajo de largo aliento en un tema especifico que implica un desarrol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 entregas/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distributed garbage collection, latecommers in peer-to-peer architectur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 Control + 1 Examen = N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F = ND*0.5 + ND*0.3 + TP*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1:23:49Z</dcterms:created>
  <dc:creator/>
  <dc:description/>
  <dc:language>en-US</dc:language>
  <cp:lastModifiedBy/>
  <cp:revision>1</cp:revision>
  <dc:subject/>
  <dc:title/>
</cp:coreProperties>
</file>