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1AAF5-8F9E-428D-BDDE-A3611AA669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008000" y="5078160"/>
            <a:ext cx="554040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5892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008000" y="5078160"/>
            <a:ext cx="554040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F4B-F3C1-44EF-8037-783F9219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813-797F-4466-963E-FAF12830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071-1462-466C-86D5-516AF104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1DF-8D18-4B95-A350-FAE8BE30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7B3-D282-443A-8DE6-F61AC18F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493-5BCA-467E-B4AE-DB6C8253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558-8188-4B78-A02A-7C343310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F6A-3B1C-461A-932E-F665C60A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A229-C221-43C6-BE42-4DC813B0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EB2-297E-4F78-9695-EC5321A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B35-BAB2-4F04-A466-FB48017C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E40-B84C-45F7-A38F-888006C6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7179F-71A3-4EB4-A475-B7AD5D6590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dministr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ases 2 veces a la sem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n Clases Aux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ucho trabajo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671400"/>
            <a:ext cx="856764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5280" y="2184120"/>
            <a:ext cx="8567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ar e implementar soluciones de comunicación para aplicaciones distribuidas a nivel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ocer las distintas posibilidades tecnológ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ocer las distintas arquitecturas clásicas de comunica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aluar su efectividad y eficiencia en disti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87160" y="1174320"/>
            <a:ext cx="907236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0. Introduction (concepts of distributed syste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1.  TCP/IP client &amp; server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6560" indent="-27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Client programm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client (date, ech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pop3 cli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MTP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2. Server programming (and their cli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client-server example with serializing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File Servers: simple whole file iterative server (not sec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whole file robust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whole file concurrent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tateless random access file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TCP/IP Chat with aware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extensible web 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Parallel downloading techniq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wareness in a TC/IP peer to peer environment and the latecomers probl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87160" y="1176120"/>
            <a:ext cx="9072360" cy="59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3. UDP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simple UDP client-server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"ping" program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multica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multicasting c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wareness in a multicasting enviro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broadcasting vs. multicas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4. RMI Client-server program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imple example will be used to show: remiregistry, concurrency automatic stub distribu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 sequential file server with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Automatic teller machine examp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RMI-based chat with aware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5- Introduction to servlets and j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principles - parameters (from request and parameter fil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using 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 Unicode MS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 Unicode MS"/>
              </a:rPr>
              <a:t>implementing state with cookies/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6- J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166320"/>
            <a:ext cx="85676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alu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9072360" cy="55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P: Tema de presen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aluno escoge un tema (se dara una lista de posibles pero el alumno puede proponer el suy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grupos d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D: Trabajo de 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trabajo de largo aliento en un tema especifico que implica un desarrol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4 entregas/presen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distributed garbage collection, latecommers in peer-to-peer architectur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 Control + 1 Examen = N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F = ND*0.5 + ND*0.3 + TP*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1:23:49Z</dcterms:created>
  <dc:creator/>
  <dc:description/>
  <dc:language>en-US</dc:language>
  <cp:lastModifiedBy/>
  <cp:revision>1</cp:revision>
  <dc:subject/>
  <dc:title/>
</cp:coreProperties>
</file>