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8.wmf" ContentType="image/x-wmf"/>
  <Override PartName="/ppt/media/image24.wmf" ContentType="image/x-wmf"/>
  <Override PartName="/ppt/media/image10.wmf" ContentType="image/x-wmf"/>
  <Override PartName="/ppt/media/image25.png" ContentType="image/png"/>
  <Override PartName="/ppt/media/image2.png" ContentType="image/png"/>
  <Override PartName="/ppt/media/image11.png" ContentType="image/png"/>
  <Override PartName="/ppt/media/image16.wmf" ContentType="image/x-wmf"/>
  <Override PartName="/ppt/media/image8.png" ContentType="image/png"/>
  <Override PartName="/ppt/media/image12.wmf" ContentType="image/x-wmf"/>
  <Override PartName="/ppt/media/image7.wmf" ContentType="image/x-wmf"/>
  <Override PartName="/ppt/media/image13.png" ContentType="image/png"/>
  <Override PartName="/ppt/media/image9.png" ContentType="image/png"/>
  <Override PartName="/ppt/media/image27.png" ContentType="image/png"/>
  <Override PartName="/ppt/media/image30.wmf" ContentType="image/x-wmf"/>
  <Override PartName="/ppt/media/image31.png" ContentType="image/png"/>
  <Override PartName="/ppt/media/image6.png" ContentType="image/png"/>
  <Override PartName="/ppt/media/image14.wmf" ContentType="image/x-wmf"/>
  <Override PartName="/ppt/media/image29.png" ContentType="image/png"/>
  <Override PartName="/ppt/media/image3.png" ContentType="image/png"/>
  <Override PartName="/ppt/media/image26.png" ContentType="image/png"/>
  <Override PartName="/ppt/media/image5.png" ContentType="image/png"/>
  <Override PartName="/ppt/media/image4.wmf" ContentType="image/x-wmf"/>
  <Override PartName="/ppt/media/image1.jpeg" ContentType="image/jpeg"/>
  <Override PartName="/ppt/media/image15.png" ContentType="image/png"/>
  <Override PartName="/ppt/media/image18.wmf" ContentType="image/x-wmf"/>
  <Override PartName="/ppt/media/image20.wmf" ContentType="image/x-wmf"/>
  <Override PartName="/ppt/media/image17.png" ContentType="image/png"/>
  <Override PartName="/ppt/media/image21.png" ContentType="image/png"/>
  <Override PartName="/ppt/media/image19.png" ContentType="image/png"/>
  <Override PartName="/ppt/media/image22.wmf" ContentType="image/x-wmf"/>
  <Override PartName="/ppt/media/image2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move the slide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F58C2-07C2-4789-8008-67E9483063FA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23D3B-08E0-4DFC-A3C2-A322ADE1C1D8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6020E-0B69-45CB-8BBD-82BC5A5F1289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2C87E-E494-40BA-A31D-B1130737B4B4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E2B5C-E5AF-41AC-BF17-81978B2C96F0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C5DA7-CAF5-4B36-9FE3-3A4F93332248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CBD64-C10A-431E-B478-04BCC17C9DD0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E1339-661D-413F-B60D-46F1D117BCBB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988A9-F9F2-4701-9DC7-BEE9044ACF05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A1A97-6255-4BB4-B79F-08AEF3DC0B01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A8D00-A025-45F2-9F4E-A423CA8A5674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7B03C-E19D-461B-8082-16FDC2A3BB44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6AB22-EAB3-4401-B3DF-E1EA7BD1F743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F4B7B-0033-474A-8144-70C63675DBB5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5F110-9F1F-4424-9781-C7CBE84B9809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E0B30-DB56-4E66-8422-828991FDC934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5CF05-C29E-464B-AE69-570D3ED654A4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01C0A-F711-4490-85D8-CDB63FEA58F9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57928-E1D9-4A9D-921C-095A555DBB70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716B-C62A-4031-AB6F-D7B51B47E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5E35-DE82-4F2D-9CAC-0DAD35A97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DC58-8D4A-4836-98F1-91E9A3B68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86F7-C948-4293-9E83-54C91C1BD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99759-F528-4B87-9DC2-6410DF5DC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F4C78-54E0-4F3F-8E91-F90BDE042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E631E-4EEF-4FDD-A5C0-357C2D57C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94839-1778-47F2-9390-F5ACF429B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DCD79-A85E-45AC-8FBD-50930238D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1AF41-435B-4DCC-91EC-E90F79B34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0D742-1904-4473-BC54-C13A10C76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E34B-8318-4623-ADC8-67C48E477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1E119-2541-4C7F-8452-F31028D36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B069F-3AD5-431A-B5C7-1A3C5D09F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5A48B-4A38-4B33-A0C7-F926FF4E1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BA7C1-ECA0-4329-B676-DE4872452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46711-128A-4661-A6A5-8EF387AA2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0B365B-8D67-41F1-BCD4-B6F80B492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0D3351-A2C8-4D08-995D-D01398377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07BA9E-BBCE-4B64-9CF4-63EA1DD06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E5FC1E-685B-4A2A-8147-22B2BEFB4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5E08B1-A0FF-4A11-BACC-ED25D658B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E680-37E3-4A45-ADB9-D0E833E54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5B3E89-A6C9-48CC-A12D-A0D029E71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3A7E19-B157-4BFF-80E5-D47EB956F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D7CC8A-CF7D-4F60-A1F2-B44AFC4E9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28F358-1887-45F4-A597-37E1438E8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53D179-77DD-4792-A609-5CB70782F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F3E3DA-D31C-4442-B9CA-E3B8A1F20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8EE9C4-5F9D-421D-AF26-82A97FAEA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71DAEA-A805-4978-8A30-7D1F0CA3F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7FB17C-E9B8-4C7E-9A2B-01B28FAC2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489BB5-1EFA-4A79-87D6-3E5D67D80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0089-6526-41AE-9AFB-78B9349A1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DA3CA6-D323-48D2-AD6F-229B82E9B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7878BD-C8A5-434F-BCC9-BE9A38C0D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ADE43F-2DB7-4BB8-B875-6208A3CEA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4ED30E-D087-4B88-A805-3D383208D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0AFE46-3E3C-48FE-8712-4FB8A305A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C8E47F-5F70-4158-A42F-6AD15858B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0041B1-392E-4A74-84BF-9591B3D0E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6C8646-B1BD-4A75-888C-0A07BA42A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CEA91F-B4A9-4C93-A8D4-47A99B1CE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85A9AE-D749-4774-B403-9A16FD20B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8E35-05F2-4FFE-953F-FB48C42ED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55B181-9437-445B-B4AC-62E5C11D2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461759-DAD5-4DC4-946A-98337890F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6ECCCD-8B5E-424B-8AE9-068688756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28BD12-872A-4955-A2F3-F6D6D9EFE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4CB13E-0036-4250-B0FC-CF89AE6C5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4692CA-EE8B-45C7-9B87-EAD73D7C2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7B8533-3A5B-4B89-BD55-2D2380154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6F7024-70F6-4BE7-9ECD-96BDE50D8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907726-1626-462C-993C-1562CDFD6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8B8C02-C2B9-4691-B181-0A29088A5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6A1E-0002-47F7-B9B9-757D107B5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812081-F553-468C-8F3E-D8C6DFC89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484E36-4C4E-4599-8359-3CF1044AA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5DB5DF-A68B-4929-B70E-B83BC90D4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275261-3D97-4698-8131-BBE18126F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0B878F-8C98-49DF-94FC-BD0003583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717620-B878-4B8D-9883-284870D76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E54ADD-F6F9-4727-8A47-2E88FCB9F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BA1663-61F2-4325-AD2B-45AFB1FEF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E4AF44-5D7C-4A7A-B7CC-0BB23636F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1347CB-7C8A-49FD-BBB5-C2B2C3C99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DF27-F52E-41EA-8A31-613B13903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21BF2E-4D8C-494E-B8EC-5F69B915D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C4FACA-7773-4D31-88BC-49C9F4D2A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95ABEF-8A48-4A77-8A97-D0C4B60CC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29E65D-A953-4FAC-B782-7E8B5FE0E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D80866-1002-473A-8691-9B16AF2C5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BC22A2-D427-4E94-9C56-021B70240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6F2662-3E87-49C2-9655-E8F510799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735A3A-ACAB-4B40-A138-AF7E64702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86C1E9-3849-40F0-9DFB-C0F954B54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C31A2D-F1E5-4CCE-9539-8F56FA955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D75F-CE77-4CEA-BF20-7FD68FD75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02522E-73C2-4987-9E05-D00811827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01A7ED-93B8-4688-A990-0F0BC5384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31BB21-D95C-4F04-BDF8-9DF1FF01C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FD8545-D88D-4B65-8210-C7CA83EF0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151E56-D4BF-4B68-91B5-E654874F4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F4FF-D335-403B-99A7-6560119C6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9 Rectángulo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6 Rectángulo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9DFEE-D980-4945-BC80-0596DBF77165}" type="slidenum">
              <a:rPr b="0" lang="es-E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8 Rectángulo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10 Rectángulo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9FF8E-F789-4FD8-955D-1922B08DE517}" type="slidenum">
              <a:rPr b="0" lang="es-E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8 Rectángulo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10 Rectángulo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77CC3-79ED-4695-8CD8-5B1F8A098C85}" type="slidenum">
              <a:rPr b="0" lang="es-E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CEEF2-E6B1-402F-9E10-811F4F6B260C}" type="slidenum">
              <a:rPr b="0" lang="es-E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9 Rectángulo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6 Rectángulo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8 Rectángulo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10 Rectángulo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09D51-8242-417E-9455-C44929C8CC1C}" type="slidenum">
              <a:rPr b="0" lang="es-E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9 Rectángulo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6 Rectángulo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8 Rectángulo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10 Rectángulo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0B965-F751-4AA8-8845-4616946A903D}" type="slidenum">
              <a:rPr b="0" lang="es-E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8 Rectángulo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10 Rectángulo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3A8E3-C1A8-49DE-A77B-FE367DE5C867}" type="slidenum">
              <a:rPr b="0" lang="es-E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Rectangle 2" descr=""/>
          <p:cNvPicPr/>
          <p:nvPr/>
        </p:nvPicPr>
        <p:blipFill>
          <a:blip r:embed="rId1"/>
          <a:stretch/>
        </p:blipFill>
        <p:spPr>
          <a:xfrm>
            <a:off x="396720" y="1401840"/>
            <a:ext cx="8070840" cy="134784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685440" y="1828440"/>
            <a:ext cx="8077320" cy="150012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a50021"/>
                </a:solidFill>
                <a:latin typeface="Corbel"/>
              </a:rPr>
              <a:t>¿Qué es un buen software?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7A861-71CC-4693-B427-C0A8D9B9510F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Object 2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495440" cy="1623960"/>
          </a:xfrm>
          <a:prstGeom prst="rect">
            <a:avLst/>
          </a:prstGeom>
          <a:ln w="0">
            <a:noFill/>
          </a:ln>
        </p:spPr>
      </p:pic>
      <p:sp>
        <p:nvSpPr>
          <p:cNvPr id="363" name="Rectangle 5"/>
          <p:cNvSpPr/>
          <p:nvPr/>
        </p:nvSpPr>
        <p:spPr>
          <a:xfrm>
            <a:off x="533520" y="1752480"/>
            <a:ext cx="80769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60b5cc"/>
                </a:solidFill>
                <a:latin typeface="Arial"/>
              </a:rPr>
              <a:t>Un software es portable si puede ejecutarse en </a:t>
            </a:r>
            <a:br>
              <a:rPr sz="1800"/>
            </a:br>
            <a:r>
              <a:rPr b="0" lang="es-AR" sz="1800" spc="-1" strike="noStrike">
                <a:solidFill>
                  <a:srgbClr val="60b5cc"/>
                </a:solidFill>
                <a:latin typeface="Arial"/>
              </a:rPr>
              <a:t>distintos ambientes (hardware, sistemas operativos, etc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Rectangle 6" descr=""/>
          <p:cNvPicPr/>
          <p:nvPr/>
        </p:nvPicPr>
        <p:blipFill>
          <a:blip r:embed="rId2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/>
          </p:nvPr>
        </p:nvSpPr>
        <p:spPr>
          <a:xfrm>
            <a:off x="714240" y="2857320"/>
            <a:ext cx="7772400" cy="35002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89000"/>
          </a:bodyPr>
          <a:p>
            <a:pPr marL="389880" indent="-2836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orbel"/>
              </a:rPr>
              <a:t>Una forma de lograr portabilidad es suponer la mínima configuración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89880" indent="-2836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orbel"/>
              </a:rPr>
              <a:t>Esto penaliza los sistemas que podrían ejecutar mejor haciendo uso del ambiente disponible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89880" indent="-2836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orbel"/>
              </a:rPr>
              <a:t>Otra opción es determinar sobre la marcha las disponibilidades del ambiente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898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8DD98-B2E2-433A-9524-04D336AE94CA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Object 2" descr=""/>
          <p:cNvPicPr/>
          <p:nvPr/>
        </p:nvPicPr>
        <p:blipFill>
          <a:blip r:embed="rId1"/>
          <a:stretch/>
        </p:blipFill>
        <p:spPr>
          <a:xfrm>
            <a:off x="7732800" y="1539720"/>
            <a:ext cx="1268280" cy="1675080"/>
          </a:xfrm>
          <a:prstGeom prst="rect">
            <a:avLst/>
          </a:prstGeom>
          <a:ln w="0">
            <a:noFill/>
          </a:ln>
        </p:spPr>
      </p:pic>
      <p:sp>
        <p:nvSpPr>
          <p:cNvPr id="368" name="Text Box 10"/>
          <p:cNvSpPr/>
          <p:nvPr/>
        </p:nvSpPr>
        <p:spPr>
          <a:xfrm>
            <a:off x="746280" y="1716120"/>
            <a:ext cx="689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60b5cc"/>
                </a:solidFill>
                <a:latin typeface="Arial"/>
              </a:rPr>
              <a:t>Un sistema es interoperable si puede coexistir y cooperar con otros sistem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Rectangle 11" descr=""/>
          <p:cNvPicPr/>
          <p:nvPr/>
        </p:nvPicPr>
        <p:blipFill>
          <a:blip r:embed="rId2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/>
          </p:nvPr>
        </p:nvSpPr>
        <p:spPr>
          <a:xfrm>
            <a:off x="685800" y="3048120"/>
            <a:ext cx="7772400" cy="259056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83000"/>
          </a:bodyPr>
          <a:p>
            <a:pPr marL="363600" indent="-2646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orbel"/>
              </a:rPr>
              <a:t>Las componentes reutilizables son (deben ser) inherentemente interoperables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3600" indent="-2646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orbel"/>
              </a:rPr>
              <a:t>La estandarización de las interfaces promueve la interoperabilidad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3600" indent="-2646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Corbel"/>
              </a:rPr>
              <a:t>Los sistemas abiertos son casos típicos de sistemas interoperables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E9C8B-DDCB-4C0A-8CB3-B9442C79E11E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Object 2" descr=""/>
          <p:cNvPicPr/>
          <p:nvPr/>
        </p:nvPicPr>
        <p:blipFill>
          <a:blip r:embed="rId1"/>
          <a:stretch/>
        </p:blipFill>
        <p:spPr>
          <a:xfrm>
            <a:off x="6781680" y="396720"/>
            <a:ext cx="2057400" cy="1965600"/>
          </a:xfrm>
          <a:prstGeom prst="rect">
            <a:avLst/>
          </a:prstGeom>
          <a:ln w="0">
            <a:noFill/>
          </a:ln>
        </p:spPr>
      </p:pic>
      <p:sp>
        <p:nvSpPr>
          <p:cNvPr id="373" name="Text Box 8"/>
          <p:cNvSpPr/>
          <p:nvPr/>
        </p:nvSpPr>
        <p:spPr>
          <a:xfrm>
            <a:off x="365040" y="1792440"/>
            <a:ext cx="679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60b5cc"/>
                </a:solidFill>
                <a:latin typeface="Arial"/>
              </a:rPr>
              <a:t>La productividad es la eficiencia del proceso de desarrollo del softwa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Rectangle 9" descr=""/>
          <p:cNvPicPr/>
          <p:nvPr/>
        </p:nvPicPr>
        <p:blipFill>
          <a:blip r:embed="rId2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75" name="PlaceHolder 1"/>
          <p:cNvSpPr>
            <a:spLocks noGrp="1"/>
          </p:cNvSpPr>
          <p:nvPr>
            <p:ph/>
          </p:nvPr>
        </p:nvSpPr>
        <p:spPr>
          <a:xfrm>
            <a:off x="685800" y="2752560"/>
            <a:ext cx="7772400" cy="38196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orbel"/>
              </a:rPr>
              <a:t>La productividad de un equipo de desarrollo es generalmente menor que la suma de las productividades individuale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orbel"/>
              </a:rPr>
              <a:t>Existen métricas para medir la productividad (LOC, puntos de función, etc.)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orbel"/>
              </a:rPr>
              <a:t>La automatización y el soporte de software de desarrollo aumentan la productividad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53386-D14B-46BD-BEA1-00BA6D699193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Object 2" descr=""/>
          <p:cNvPicPr/>
          <p:nvPr/>
        </p:nvPicPr>
        <p:blipFill>
          <a:blip r:embed="rId1"/>
          <a:stretch/>
        </p:blipFill>
        <p:spPr>
          <a:xfrm>
            <a:off x="7229520" y="228600"/>
            <a:ext cx="1533600" cy="1752480"/>
          </a:xfrm>
          <a:prstGeom prst="rect">
            <a:avLst/>
          </a:prstGeom>
          <a:ln w="0">
            <a:noFill/>
          </a:ln>
        </p:spPr>
      </p:pic>
      <p:sp>
        <p:nvSpPr>
          <p:cNvPr id="378" name="Text Box 6"/>
          <p:cNvSpPr/>
          <p:nvPr/>
        </p:nvSpPr>
        <p:spPr>
          <a:xfrm>
            <a:off x="1127160" y="1828800"/>
            <a:ext cx="595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60b5cc"/>
                </a:solidFill>
                <a:latin typeface="Arial"/>
              </a:rPr>
              <a:t>El proceso de desarrollo debe obtener su producto en el tiempo plane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Rectangle 7" descr=""/>
          <p:cNvPicPr/>
          <p:nvPr/>
        </p:nvPicPr>
        <p:blipFill>
          <a:blip r:embed="rId2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80" name="PlaceHolder 1"/>
          <p:cNvSpPr>
            <a:spLocks noGrp="1"/>
          </p:cNvSpPr>
          <p:nvPr>
            <p:ph/>
          </p:nvPr>
        </p:nvSpPr>
        <p:spPr>
          <a:xfrm>
            <a:off x="714240" y="2571840"/>
            <a:ext cx="7772400" cy="40003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9000"/>
          </a:bodyPr>
          <a:p>
            <a:pPr marL="433440" indent="-3157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orbel"/>
              </a:rPr>
              <a:t>Tener el producto a tiempo da, en general, una mejor oportunidad comercial, y a veces hace que el producto sea útil o inútil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3440" indent="-3157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orbel"/>
              </a:rPr>
              <a:t>Tener un producto a tiempo sin confiabilidad o eficiencia tampoco es útil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3440" indent="-3157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orbel"/>
              </a:rPr>
              <a:t>Requiere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planificación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estimación del trabajo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22520" indent="-27000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hitos verificable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800F7-879C-4B97-86D2-77871C6C891C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2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Object 3" descr=""/>
          <p:cNvPicPr/>
          <p:nvPr/>
        </p:nvPicPr>
        <p:blipFill>
          <a:blip r:embed="rId1"/>
          <a:stretch/>
        </p:blipFill>
        <p:spPr>
          <a:xfrm>
            <a:off x="7162920" y="457200"/>
            <a:ext cx="1274760" cy="1370160"/>
          </a:xfrm>
          <a:prstGeom prst="rect">
            <a:avLst/>
          </a:prstGeom>
          <a:ln w="0">
            <a:noFill/>
          </a:ln>
        </p:spPr>
      </p:pic>
      <p:sp>
        <p:nvSpPr>
          <p:cNvPr id="384" name="Text Box 7"/>
          <p:cNvSpPr/>
          <p:nvPr/>
        </p:nvSpPr>
        <p:spPr>
          <a:xfrm>
            <a:off x="365040" y="1944720"/>
            <a:ext cx="786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60b5cc"/>
                </a:solidFill>
                <a:latin typeface="Arial"/>
              </a:rPr>
              <a:t>Un proceso de desarrollo de software es visible si todos sus pasos están claramente documentados, y se puede saber su estado de avance en cada momen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Rectangle 12" descr=""/>
          <p:cNvPicPr/>
          <p:nvPr/>
        </p:nvPicPr>
        <p:blipFill>
          <a:blip r:embed="rId2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86" name="PlaceHolder 1"/>
          <p:cNvSpPr>
            <a:spLocks noGrp="1"/>
          </p:cNvSpPr>
          <p:nvPr>
            <p:ph/>
          </p:nvPr>
        </p:nvSpPr>
        <p:spPr>
          <a:xfrm>
            <a:off x="714240" y="3071880"/>
            <a:ext cx="7772400" cy="32860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orbel"/>
              </a:rPr>
              <a:t>Diseño, testing, codificación e integración pueden suceder simultáneamente, pero deben coordinarse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orbel"/>
              </a:rPr>
              <a:t>La visibilidad ayuda a evaluar el impacto de las decisione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orbel"/>
              </a:rPr>
              <a:t>También es esencial cuando existe rotación en el personal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6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9C2B2-B5A3-4284-8063-1F244339AB42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5"/>
          <p:cNvSpPr/>
          <p:nvPr/>
        </p:nvSpPr>
        <p:spPr>
          <a:xfrm>
            <a:off x="380880" y="1752480"/>
            <a:ext cx="8382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800" spc="-1" strike="noStrike">
                <a:solidFill>
                  <a:srgbClr val="60b5cc"/>
                </a:solidFill>
                <a:latin typeface="Arial"/>
              </a:rPr>
              <a:t>Medida de la relación entre las partes de una compon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Rectangle 6" descr=""/>
          <p:cNvPicPr/>
          <p:nvPr/>
        </p:nvPicPr>
        <p:blipFill>
          <a:blip r:embed="rId1"/>
          <a:stretch/>
        </p:blipFill>
        <p:spPr>
          <a:xfrm>
            <a:off x="189000" y="146160"/>
            <a:ext cx="8504280" cy="1261800"/>
          </a:xfrm>
          <a:prstGeom prst="rect">
            <a:avLst/>
          </a:prstGeom>
          <a:ln w="0">
            <a:noFill/>
          </a:ln>
        </p:spPr>
      </p:pic>
      <p:sp>
        <p:nvSpPr>
          <p:cNvPr id="390" name="PlaceHolder 1"/>
          <p:cNvSpPr>
            <a:spLocks noGrp="1"/>
          </p:cNvSpPr>
          <p:nvPr>
            <p:ph/>
          </p:nvPr>
        </p:nvSpPr>
        <p:spPr>
          <a:xfrm>
            <a:off x="685440" y="25909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Corbel"/>
              </a:rPr>
              <a:t>Coincidental: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Corbel"/>
              </a:rPr>
              <a:t>no relacionados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Corbel"/>
              </a:rPr>
              <a:t>Lógica: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Corbel"/>
              </a:rPr>
              <a:t>funciones similares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Corbel"/>
              </a:rPr>
              <a:t>Temporal: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Corbel"/>
              </a:rPr>
              <a:t>ejecución simultánea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Corbel"/>
              </a:rPr>
              <a:t>Procedural: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Corbel"/>
              </a:rPr>
              <a:t>secuencia de control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Corbel"/>
              </a:rPr>
              <a:t>Comunicacional: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Corbel"/>
              </a:rPr>
              <a:t>comparten el input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648320" y="259092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Corbel"/>
              </a:rPr>
              <a:t>Secuencial: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Corbel"/>
              </a:rPr>
              <a:t>output de uno es input del otro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Corbel"/>
              </a:rPr>
              <a:t>Funcional: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Corbel"/>
              </a:rPr>
              <a:t>todas las partes son necesarias para la función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Corbel"/>
              </a:rPr>
              <a:t>Objeto: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Corbel"/>
              </a:rPr>
              <a:t>todas las acciones actúan sobre los mismos datos del objeto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B0A98-CA1A-40DF-9E03-6EE61DCF6306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Rectangle 2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94" name="PlaceHolder 1"/>
          <p:cNvSpPr>
            <a:spLocks noGrp="1"/>
          </p:cNvSpPr>
          <p:nvPr>
            <p:ph/>
          </p:nvPr>
        </p:nvSpPr>
        <p:spPr>
          <a:xfrm>
            <a:off x="685440" y="3200040"/>
            <a:ext cx="4876920" cy="28717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spcBef>
                <a:spcPts val="1749"/>
              </a:spcBef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Corbel"/>
              </a:rPr>
              <a:t>Sistemas muy acoplado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Corbel"/>
              </a:rPr>
              <a:t>comparten variables o información de control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spcBef>
                <a:spcPts val="1749"/>
              </a:spcBef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Corbel"/>
              </a:rPr>
              <a:t>Sistemas desacoplado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Corbel"/>
              </a:rPr>
              <a:t>interfaces definidas con listas de parámetros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395" name="Group 4"/>
          <p:cNvGrpSpPr/>
          <p:nvPr/>
        </p:nvGrpSpPr>
        <p:grpSpPr>
          <a:xfrm>
            <a:off x="6400800" y="1066680"/>
            <a:ext cx="2189160" cy="1810800"/>
            <a:chOff x="6400800" y="1066680"/>
            <a:chExt cx="2189160" cy="1810800"/>
          </a:xfrm>
        </p:grpSpPr>
        <p:sp>
          <p:nvSpPr>
            <p:cNvPr id="396" name="Rectangle 5"/>
            <p:cNvSpPr/>
            <p:nvPr/>
          </p:nvSpPr>
          <p:spPr>
            <a:xfrm>
              <a:off x="6400800" y="1066680"/>
              <a:ext cx="2136600" cy="1224000"/>
            </a:xfrm>
            <a:prstGeom prst="rect">
              <a:avLst/>
            </a:prstGeom>
            <a:solidFill>
              <a:srgbClr val="6800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d4d4d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Line 6"/>
            <p:cNvSpPr/>
            <p:nvPr/>
          </p:nvSpPr>
          <p:spPr>
            <a:xfrm>
              <a:off x="7504200" y="1066680"/>
              <a:ext cx="0" cy="12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Line 7"/>
            <p:cNvSpPr/>
            <p:nvPr/>
          </p:nvSpPr>
          <p:spPr>
            <a:xfrm>
              <a:off x="6400800" y="1677960"/>
              <a:ext cx="2136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Rectangle 8"/>
            <p:cNvSpPr/>
            <p:nvPr/>
          </p:nvSpPr>
          <p:spPr>
            <a:xfrm>
              <a:off x="7365960" y="1542960"/>
              <a:ext cx="276120" cy="747720"/>
            </a:xfrm>
            <a:prstGeom prst="rect">
              <a:avLst/>
            </a:prstGeom>
            <a:solidFill>
              <a:srgbClr val="f0ad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Text Box 9"/>
            <p:cNvSpPr/>
            <p:nvPr/>
          </p:nvSpPr>
          <p:spPr>
            <a:xfrm>
              <a:off x="6449040" y="1225440"/>
              <a:ext cx="990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UY" sz="1400" spc="-1" strike="noStrike">
                  <a:solidFill>
                    <a:srgbClr val="000000"/>
                  </a:solidFill>
                  <a:latin typeface="Arial"/>
                </a:rPr>
                <a:t>Módulo 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Text Box 10"/>
            <p:cNvSpPr/>
            <p:nvPr/>
          </p:nvSpPr>
          <p:spPr>
            <a:xfrm>
              <a:off x="7547400" y="1270080"/>
              <a:ext cx="990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UY" sz="1400" spc="-1" strike="noStrike">
                  <a:solidFill>
                    <a:srgbClr val="000000"/>
                  </a:solidFill>
                  <a:latin typeface="Arial"/>
                </a:rPr>
                <a:t>Módulo 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Text Box 11"/>
            <p:cNvSpPr/>
            <p:nvPr/>
          </p:nvSpPr>
          <p:spPr>
            <a:xfrm>
              <a:off x="6449040" y="1882800"/>
              <a:ext cx="990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UY" sz="1400" spc="-1" strike="noStrike">
                  <a:solidFill>
                    <a:srgbClr val="000000"/>
                  </a:solidFill>
                  <a:latin typeface="Arial"/>
                </a:rPr>
                <a:t>Módulo 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Text Box 12"/>
            <p:cNvSpPr/>
            <p:nvPr/>
          </p:nvSpPr>
          <p:spPr>
            <a:xfrm>
              <a:off x="7599960" y="1828800"/>
              <a:ext cx="990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UY" sz="1400" spc="-1" strike="noStrike">
                  <a:solidFill>
                    <a:srgbClr val="000000"/>
                  </a:solidFill>
                  <a:latin typeface="Arial"/>
                </a:rPr>
                <a:t>Módulo 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Text Box 13"/>
            <p:cNvSpPr/>
            <p:nvPr/>
          </p:nvSpPr>
          <p:spPr>
            <a:xfrm>
              <a:off x="6901200" y="2357280"/>
              <a:ext cx="12931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UY" sz="1400" spc="-1" strike="noStrike">
                  <a:solidFill>
                    <a:srgbClr val="000000"/>
                  </a:solidFill>
                  <a:latin typeface="Arial"/>
                </a:rPr>
                <a:t>Área de dat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UY" sz="1400" spc="-1" strike="noStrike">
                  <a:solidFill>
                    <a:srgbClr val="000000"/>
                  </a:solidFill>
                  <a:latin typeface="Arial"/>
                </a:rPr>
                <a:t>compartid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Group 14"/>
          <p:cNvGrpSpPr/>
          <p:nvPr/>
        </p:nvGrpSpPr>
        <p:grpSpPr>
          <a:xfrm>
            <a:off x="5410080" y="3429000"/>
            <a:ext cx="3353040" cy="2897640"/>
            <a:chOff x="5410080" y="3429000"/>
            <a:chExt cx="3353040" cy="2897640"/>
          </a:xfrm>
        </p:grpSpPr>
        <p:sp>
          <p:nvSpPr>
            <p:cNvPr id="406" name="Rectangle 15"/>
            <p:cNvSpPr/>
            <p:nvPr/>
          </p:nvSpPr>
          <p:spPr>
            <a:xfrm>
              <a:off x="6477120" y="3429000"/>
              <a:ext cx="1218960" cy="609480"/>
            </a:xfrm>
            <a:prstGeom prst="rect">
              <a:avLst/>
            </a:prstGeom>
            <a:solidFill>
              <a:srgbClr val="6800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d4d4d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Line 16"/>
            <p:cNvSpPr/>
            <p:nvPr/>
          </p:nvSpPr>
          <p:spPr>
            <a:xfrm>
              <a:off x="6477120" y="37335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Text Box 17"/>
            <p:cNvSpPr/>
            <p:nvPr/>
          </p:nvSpPr>
          <p:spPr>
            <a:xfrm>
              <a:off x="6609240" y="3429000"/>
              <a:ext cx="990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UY" sz="1400" spc="-1" strike="noStrike">
                  <a:solidFill>
                    <a:srgbClr val="000000"/>
                  </a:solidFill>
                  <a:latin typeface="Arial"/>
                </a:rPr>
                <a:t>Módulo 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Text Box 18"/>
            <p:cNvSpPr/>
            <p:nvPr/>
          </p:nvSpPr>
          <p:spPr>
            <a:xfrm>
              <a:off x="6581520" y="3733560"/>
              <a:ext cx="1110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UY" sz="1400" spc="-1" strike="noStrike">
                  <a:solidFill>
                    <a:srgbClr val="000000"/>
                  </a:solidFill>
                  <a:latin typeface="Arial"/>
                </a:rPr>
                <a:t>Datos de 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Rectangle 19"/>
            <p:cNvSpPr/>
            <p:nvPr/>
          </p:nvSpPr>
          <p:spPr>
            <a:xfrm>
              <a:off x="5410080" y="4495680"/>
              <a:ext cx="1219320" cy="609480"/>
            </a:xfrm>
            <a:prstGeom prst="rect">
              <a:avLst/>
            </a:prstGeom>
            <a:solidFill>
              <a:srgbClr val="6800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d4d4d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20"/>
            <p:cNvSpPr/>
            <p:nvPr/>
          </p:nvSpPr>
          <p:spPr>
            <a:xfrm>
              <a:off x="5410080" y="480060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Text Box 21"/>
            <p:cNvSpPr/>
            <p:nvPr/>
          </p:nvSpPr>
          <p:spPr>
            <a:xfrm>
              <a:off x="5537520" y="4495680"/>
              <a:ext cx="990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UY" sz="1400" spc="-1" strike="noStrike">
                  <a:solidFill>
                    <a:srgbClr val="000000"/>
                  </a:solidFill>
                  <a:latin typeface="Arial"/>
                </a:rPr>
                <a:t>Módulo 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Text Box 22"/>
            <p:cNvSpPr/>
            <p:nvPr/>
          </p:nvSpPr>
          <p:spPr>
            <a:xfrm>
              <a:off x="5510160" y="4800600"/>
              <a:ext cx="1110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UY" sz="1400" spc="-1" strike="noStrike">
                  <a:solidFill>
                    <a:srgbClr val="000000"/>
                  </a:solidFill>
                  <a:latin typeface="Arial"/>
                </a:rPr>
                <a:t>Datos de 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Rectangle 23"/>
            <p:cNvSpPr/>
            <p:nvPr/>
          </p:nvSpPr>
          <p:spPr>
            <a:xfrm>
              <a:off x="7543800" y="4495680"/>
              <a:ext cx="1219320" cy="609480"/>
            </a:xfrm>
            <a:prstGeom prst="rect">
              <a:avLst/>
            </a:prstGeom>
            <a:solidFill>
              <a:srgbClr val="6800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d4d4d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Line 24"/>
            <p:cNvSpPr/>
            <p:nvPr/>
          </p:nvSpPr>
          <p:spPr>
            <a:xfrm>
              <a:off x="7543800" y="480060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Text Box 25"/>
            <p:cNvSpPr/>
            <p:nvPr/>
          </p:nvSpPr>
          <p:spPr>
            <a:xfrm>
              <a:off x="7675920" y="4495680"/>
              <a:ext cx="990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UY" sz="1400" spc="-1" strike="noStrike">
                  <a:solidFill>
                    <a:srgbClr val="000000"/>
                  </a:solidFill>
                  <a:latin typeface="Arial"/>
                </a:rPr>
                <a:t>Módulo 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Text Box 26"/>
            <p:cNvSpPr/>
            <p:nvPr/>
          </p:nvSpPr>
          <p:spPr>
            <a:xfrm>
              <a:off x="7648200" y="4800600"/>
              <a:ext cx="1110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UY" sz="1400" spc="-1" strike="noStrike">
                  <a:solidFill>
                    <a:srgbClr val="000000"/>
                  </a:solidFill>
                  <a:latin typeface="Arial"/>
                </a:rPr>
                <a:t>Datos de 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Rectangle 27"/>
            <p:cNvSpPr/>
            <p:nvPr/>
          </p:nvSpPr>
          <p:spPr>
            <a:xfrm>
              <a:off x="5410080" y="5715000"/>
              <a:ext cx="1219320" cy="609480"/>
            </a:xfrm>
            <a:prstGeom prst="rect">
              <a:avLst/>
            </a:prstGeom>
            <a:solidFill>
              <a:srgbClr val="6800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d4d4d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Line 28"/>
            <p:cNvSpPr/>
            <p:nvPr/>
          </p:nvSpPr>
          <p:spPr>
            <a:xfrm>
              <a:off x="5410080" y="60195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Text Box 29"/>
            <p:cNvSpPr/>
            <p:nvPr/>
          </p:nvSpPr>
          <p:spPr>
            <a:xfrm>
              <a:off x="5542560" y="5715000"/>
              <a:ext cx="990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UY" sz="1400" spc="-1" strike="noStrike">
                  <a:solidFill>
                    <a:srgbClr val="000000"/>
                  </a:solidFill>
                  <a:latin typeface="Arial"/>
                </a:rPr>
                <a:t>Módulo 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Text Box 30"/>
            <p:cNvSpPr/>
            <p:nvPr/>
          </p:nvSpPr>
          <p:spPr>
            <a:xfrm>
              <a:off x="5514840" y="6019560"/>
              <a:ext cx="1110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UY" sz="1400" spc="-1" strike="noStrike">
                  <a:solidFill>
                    <a:srgbClr val="000000"/>
                  </a:solidFill>
                  <a:latin typeface="Arial"/>
                </a:rPr>
                <a:t>Datos de 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22" name="AutoShape 31"/>
            <p:cNvCxnSpPr>
              <a:stCxn id="406" idx="2"/>
              <a:endCxn id="410" idx="0"/>
            </p:cNvCxnSpPr>
            <p:nvPr/>
          </p:nvCxnSpPr>
          <p:spPr>
            <a:xfrm flipH="1">
              <a:off x="6019200" y="4038480"/>
              <a:ext cx="1067400" cy="457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23" name="AutoShape 32"/>
            <p:cNvCxnSpPr>
              <a:stCxn id="409" idx="2"/>
              <a:endCxn id="414" idx="0"/>
            </p:cNvCxnSpPr>
            <p:nvPr/>
          </p:nvCxnSpPr>
          <p:spPr>
            <a:xfrm>
              <a:off x="7137360" y="4038480"/>
              <a:ext cx="1016640" cy="457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24" name="AutoShape 33"/>
            <p:cNvCxnSpPr>
              <a:stCxn id="410" idx="2"/>
              <a:endCxn id="418" idx="0"/>
            </p:cNvCxnSpPr>
            <p:nvPr/>
          </p:nvCxnSpPr>
          <p:spPr>
            <a:xfrm>
              <a:off x="6019560" y="5105160"/>
              <a:ext cx="1080" cy="610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5639040" cy="7621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64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60b5cc"/>
                </a:solidFill>
                <a:latin typeface="Corbel"/>
              </a:rPr>
              <a:t>Medida de la interdependencia de distintas componentes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7B46B-A804-43E1-B1B5-1EDEA66D0599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Object 2" descr=""/>
          <p:cNvPicPr/>
          <p:nvPr/>
        </p:nvPicPr>
        <p:blipFill>
          <a:blip r:embed="rId1"/>
          <a:stretch/>
        </p:blipFill>
        <p:spPr>
          <a:xfrm>
            <a:off x="6553080" y="2514600"/>
            <a:ext cx="1069920" cy="2301840"/>
          </a:xfrm>
          <a:prstGeom prst="rect">
            <a:avLst/>
          </a:prstGeom>
          <a:ln w="0">
            <a:noFill/>
          </a:ln>
        </p:spPr>
      </p:pic>
      <p:grpSp>
        <p:nvGrpSpPr>
          <p:cNvPr id="428" name="Group 3"/>
          <p:cNvGrpSpPr/>
          <p:nvPr/>
        </p:nvGrpSpPr>
        <p:grpSpPr>
          <a:xfrm>
            <a:off x="6629400" y="762120"/>
            <a:ext cx="2209680" cy="1904400"/>
            <a:chOff x="6629400" y="762120"/>
            <a:chExt cx="2209680" cy="1904400"/>
          </a:xfrm>
        </p:grpSpPr>
        <p:sp>
          <p:nvSpPr>
            <p:cNvPr id="429" name="Rectangle 4"/>
            <p:cNvSpPr/>
            <p:nvPr/>
          </p:nvSpPr>
          <p:spPr>
            <a:xfrm>
              <a:off x="6629400" y="1066680"/>
              <a:ext cx="304560" cy="304560"/>
            </a:xfrm>
            <a:prstGeom prst="rect">
              <a:avLst/>
            </a:prstGeom>
            <a:solidFill>
              <a:srgbClr val="60b5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Rectangle 5"/>
            <p:cNvSpPr/>
            <p:nvPr/>
          </p:nvSpPr>
          <p:spPr>
            <a:xfrm>
              <a:off x="8534160" y="1218960"/>
              <a:ext cx="304920" cy="304560"/>
            </a:xfrm>
            <a:prstGeom prst="rect">
              <a:avLst/>
            </a:prstGeom>
            <a:solidFill>
              <a:srgbClr val="60b5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Rectangle 6"/>
            <p:cNvSpPr/>
            <p:nvPr/>
          </p:nvSpPr>
          <p:spPr>
            <a:xfrm>
              <a:off x="6781680" y="2133360"/>
              <a:ext cx="304920" cy="304560"/>
            </a:xfrm>
            <a:prstGeom prst="rect">
              <a:avLst/>
            </a:prstGeom>
            <a:solidFill>
              <a:srgbClr val="60b5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Rectangle 7"/>
            <p:cNvSpPr/>
            <p:nvPr/>
          </p:nvSpPr>
          <p:spPr>
            <a:xfrm>
              <a:off x="8381880" y="2361960"/>
              <a:ext cx="304920" cy="304560"/>
            </a:xfrm>
            <a:prstGeom prst="rect">
              <a:avLst/>
            </a:prstGeom>
            <a:solidFill>
              <a:srgbClr val="60b5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Rectangle 8"/>
            <p:cNvSpPr/>
            <p:nvPr/>
          </p:nvSpPr>
          <p:spPr>
            <a:xfrm>
              <a:off x="7238880" y="1676160"/>
              <a:ext cx="304920" cy="304560"/>
            </a:xfrm>
            <a:prstGeom prst="rect">
              <a:avLst/>
            </a:prstGeom>
            <a:solidFill>
              <a:srgbClr val="60b5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Rectangle 9"/>
            <p:cNvSpPr/>
            <p:nvPr/>
          </p:nvSpPr>
          <p:spPr>
            <a:xfrm>
              <a:off x="8153280" y="762120"/>
              <a:ext cx="304920" cy="304560"/>
            </a:xfrm>
            <a:prstGeom prst="rect">
              <a:avLst/>
            </a:prstGeom>
            <a:solidFill>
              <a:srgbClr val="60b5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35" name="AutoShape 10"/>
            <p:cNvCxnSpPr>
              <a:stCxn id="429" idx="0"/>
              <a:endCxn id="434" idx="1"/>
            </p:cNvCxnSpPr>
            <p:nvPr/>
          </p:nvCxnSpPr>
          <p:spPr>
            <a:xfrm flipH="1" flipV="1" rot="5400000">
              <a:off x="7391160" y="304200"/>
              <a:ext cx="152640" cy="137232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36" name="AutoShape 11"/>
            <p:cNvCxnSpPr>
              <a:stCxn id="429" idx="2"/>
              <a:endCxn id="431" idx="0"/>
            </p:cNvCxnSpPr>
            <p:nvPr/>
          </p:nvCxnSpPr>
          <p:spPr>
            <a:xfrm flipH="1" rot="16200000">
              <a:off x="6476040" y="1675800"/>
              <a:ext cx="762120" cy="1530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37" name="AutoShape 12"/>
            <p:cNvCxnSpPr>
              <a:stCxn id="429" idx="3"/>
              <a:endCxn id="432" idx="0"/>
            </p:cNvCxnSpPr>
            <p:nvPr/>
          </p:nvCxnSpPr>
          <p:spPr>
            <a:xfrm>
              <a:off x="6933600" y="1218960"/>
              <a:ext cx="1600920" cy="114300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38" name="AutoShape 13"/>
            <p:cNvCxnSpPr>
              <a:stCxn id="433" idx="0"/>
              <a:endCxn id="430" idx="2"/>
            </p:cNvCxnSpPr>
            <p:nvPr/>
          </p:nvCxnSpPr>
          <p:spPr>
            <a:xfrm flipH="1" flipV="1" rot="5400000">
              <a:off x="7962480" y="951480"/>
              <a:ext cx="152640" cy="1296360"/>
            </a:xfrm>
            <a:prstGeom prst="curvedConnector5">
              <a:avLst>
                <a:gd name="adj1" fmla="val 49881"/>
                <a:gd name="adj2" fmla="val 50000"/>
                <a:gd name="adj3" fmla="val 49881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39" name="AutoShape 14"/>
            <p:cNvCxnSpPr>
              <a:stCxn id="431" idx="3"/>
              <a:endCxn id="432" idx="1"/>
            </p:cNvCxnSpPr>
            <p:nvPr/>
          </p:nvCxnSpPr>
          <p:spPr>
            <a:xfrm>
              <a:off x="7086600" y="2286000"/>
              <a:ext cx="1296000" cy="228960"/>
            </a:xfrm>
            <a:prstGeom prst="curvedConnector5">
              <a:avLst>
                <a:gd name="adj1" fmla="val 49986"/>
                <a:gd name="adj2" fmla="val 49921"/>
                <a:gd name="adj3" fmla="val 49986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40" name="AutoShape 15"/>
            <p:cNvCxnSpPr>
              <a:stCxn id="433" idx="1"/>
              <a:endCxn id="429" idx="3"/>
            </p:cNvCxnSpPr>
            <p:nvPr/>
          </p:nvCxnSpPr>
          <p:spPr>
            <a:xfrm rot="10800000">
              <a:off x="6933240" y="1218240"/>
              <a:ext cx="305640" cy="6102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41" name="AutoShape 16"/>
            <p:cNvCxnSpPr>
              <a:stCxn id="433" idx="3"/>
              <a:endCxn id="432" idx="1"/>
            </p:cNvCxnSpPr>
            <p:nvPr/>
          </p:nvCxnSpPr>
          <p:spPr>
            <a:xfrm>
              <a:off x="7543800" y="1828800"/>
              <a:ext cx="838800" cy="686160"/>
            </a:xfrm>
            <a:prstGeom prst="curvedConnector5">
              <a:avLst>
                <a:gd name="adj1" fmla="val 49978"/>
                <a:gd name="adj2" fmla="val 49973"/>
                <a:gd name="adj3" fmla="val 49978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42" name="AutoShape 17"/>
            <p:cNvCxnSpPr>
              <a:stCxn id="434" idx="2"/>
              <a:endCxn id="431" idx="3"/>
            </p:cNvCxnSpPr>
            <p:nvPr/>
          </p:nvCxnSpPr>
          <p:spPr>
            <a:xfrm rot="5400000">
              <a:off x="7085880" y="1066680"/>
              <a:ext cx="1219680" cy="121968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443" name="Rectangle 20"/>
          <p:cNvSpPr/>
          <p:nvPr/>
        </p:nvSpPr>
        <p:spPr>
          <a:xfrm>
            <a:off x="838080" y="1828800"/>
            <a:ext cx="56390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800" spc="-1" strike="noStrike">
                <a:solidFill>
                  <a:srgbClr val="60b5cc"/>
                </a:solidFill>
                <a:latin typeface="Arial"/>
              </a:rPr>
              <a:t>Un sistema es comprensible si es fácil comprender cómo funcio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4" name="Rectangle 21" descr=""/>
          <p:cNvPicPr/>
          <p:nvPr/>
        </p:nvPicPr>
        <p:blipFill>
          <a:blip r:embed="rId2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/>
          </p:nvPr>
        </p:nvSpPr>
        <p:spPr>
          <a:xfrm>
            <a:off x="428760" y="264276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Corbel"/>
              </a:rPr>
              <a:t>Características que afectan la </a:t>
            </a:r>
            <a:br>
              <a:rPr sz="2400"/>
            </a:br>
            <a:r>
              <a:rPr b="0" lang="es-UY" sz="2400" spc="-1" strike="noStrike">
                <a:solidFill>
                  <a:srgbClr val="000000"/>
                </a:solidFill>
                <a:latin typeface="Corbel"/>
              </a:rPr>
              <a:t>comprensibilidad del sistema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Corbel"/>
              </a:rPr>
              <a:t>cohesión y acoplamiento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Corbel"/>
              </a:rPr>
              <a:t>nombre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Corbel"/>
              </a:rPr>
              <a:t>documentación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Corbel"/>
              </a:rPr>
              <a:t>complejidad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Corbel"/>
              </a:rPr>
              <a:t>Si un sistema es comprensible, es también más mantenible y verificable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Corbel"/>
              </a:rPr>
              <a:t>Desde el punto de vista del usuario, ser comprensible es ser amigable y robusto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6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5E5D4-B402-4B21-916E-F6845BF827E8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Object 2" descr=""/>
          <p:cNvPicPr/>
          <p:nvPr/>
        </p:nvPicPr>
        <p:blipFill>
          <a:blip r:embed="rId1"/>
          <a:stretch/>
        </p:blipFill>
        <p:spPr>
          <a:xfrm>
            <a:off x="7086600" y="380880"/>
            <a:ext cx="1486080" cy="1501920"/>
          </a:xfrm>
          <a:prstGeom prst="rect">
            <a:avLst/>
          </a:prstGeom>
          <a:ln w="0">
            <a:noFill/>
          </a:ln>
        </p:spPr>
      </p:pic>
      <p:pic>
        <p:nvPicPr>
          <p:cNvPr id="448" name="Rectangle 3" descr=""/>
          <p:cNvPicPr/>
          <p:nvPr/>
        </p:nvPicPr>
        <p:blipFill>
          <a:blip r:embed="rId2"/>
          <a:stretch/>
        </p:blipFill>
        <p:spPr>
          <a:xfrm>
            <a:off x="189000" y="146160"/>
            <a:ext cx="8504280" cy="1261800"/>
          </a:xfrm>
          <a:prstGeom prst="rect">
            <a:avLst/>
          </a:prstGeom>
          <a:ln w="0">
            <a:noFill/>
          </a:ln>
        </p:spPr>
      </p:pic>
      <p:sp>
        <p:nvSpPr>
          <p:cNvPr id="449" name="PlaceHolder 1"/>
          <p:cNvSpPr>
            <a:spLocks noGrp="1"/>
          </p:cNvSpPr>
          <p:nvPr>
            <p:ph/>
          </p:nvPr>
        </p:nvSpPr>
        <p:spPr>
          <a:xfrm>
            <a:off x="468000" y="2514600"/>
            <a:ext cx="4027320" cy="41148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Corbel"/>
              </a:rPr>
              <a:t>Tipos de mantenimiento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Corbel"/>
              </a:rPr>
              <a:t>correctivo (aprox. 20%)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Corbel"/>
              </a:rPr>
              <a:t>adaptativo (aprox. 20%)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Corbel"/>
              </a:rPr>
              <a:t>perfectivo (más de 50%)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Corbel"/>
              </a:rPr>
              <a:t>Software Mantenible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Corbel"/>
              </a:rPr>
              <a:t>reparable: que permite corregir defectos,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Corbel"/>
              </a:rPr>
              <a:t>evolucionable: facilita la introducción de nuevas funcionalidades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355640" y="2514600"/>
            <a:ext cx="4496040" cy="41148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8000"/>
          </a:bodyPr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000000"/>
                </a:solidFill>
                <a:latin typeface="Corbel"/>
              </a:rPr>
              <a:t>Condiciones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15320" indent="-26712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Corbel"/>
              </a:rPr>
              <a:t>número de componentes,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15320" indent="-26712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Corbel"/>
              </a:rPr>
              <a:t>acoplamiento,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15320" indent="-26712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Corbel"/>
              </a:rPr>
              <a:t>documentación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2" marL="975240" indent="-223920"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800" spc="-1" strike="noStrike">
                <a:solidFill>
                  <a:srgbClr val="000000"/>
                </a:solidFill>
                <a:latin typeface="Corbel"/>
              </a:rPr>
              <a:t>completa,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975240" indent="-223920"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800" spc="-1" strike="noStrike">
                <a:solidFill>
                  <a:srgbClr val="000000"/>
                </a:solidFill>
                <a:latin typeface="Corbel"/>
              </a:rPr>
              <a:t>comprensible,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2" marL="975240" indent="-223920">
              <a:spcBef>
                <a:spcPts val="45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800" spc="-1" strike="noStrike">
                <a:solidFill>
                  <a:srgbClr val="000000"/>
                </a:solidFill>
                <a:latin typeface="Corbel"/>
              </a:rPr>
              <a:t>al día,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1" marL="715320" indent="-26712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Corbel"/>
              </a:rPr>
              <a:t>uso de componentes estándar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La evolucionabilidad decrece con cada versión del software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1" name="Rectangle 6"/>
          <p:cNvSpPr/>
          <p:nvPr/>
        </p:nvSpPr>
        <p:spPr>
          <a:xfrm>
            <a:off x="609480" y="1905120"/>
            <a:ext cx="67057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800" spc="-1" strike="noStrike">
                <a:solidFill>
                  <a:srgbClr val="60b5cc"/>
                </a:solidFill>
                <a:latin typeface="Arial"/>
              </a:rPr>
              <a:t>Un sistema es mantenible si es fácil modificarl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6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52F86-6BC5-4681-A3AA-0213260A6F8A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Rectangle 2" descr=""/>
          <p:cNvPicPr/>
          <p:nvPr/>
        </p:nvPicPr>
        <p:blipFill>
          <a:blip r:embed="rId1"/>
          <a:stretch/>
        </p:blipFill>
        <p:spPr>
          <a:xfrm>
            <a:off x="189000" y="146160"/>
            <a:ext cx="8504280" cy="1261800"/>
          </a:xfrm>
          <a:prstGeom prst="rect">
            <a:avLst/>
          </a:prstGeom>
          <a:ln w="0">
            <a:noFill/>
          </a:ln>
        </p:spPr>
      </p:pic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1752480" y="1981080"/>
            <a:ext cx="2819520" cy="41148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Corbel"/>
              </a:rPr>
              <a:t>Correcto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Corbel"/>
              </a:rPr>
              <a:t>Confiable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Corbel"/>
              </a:rPr>
              <a:t>Robusto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Corbel"/>
              </a:rPr>
              <a:t>Eficiente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Corbel"/>
              </a:rPr>
              <a:t>Amigable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Corbel"/>
              </a:rPr>
              <a:t>Verificable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Corbel"/>
              </a:rPr>
              <a:t>Reusable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Corbel"/>
              </a:rPr>
              <a:t>Portable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2819160" cy="41148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6000"/>
          </a:bodyPr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Corbel"/>
              </a:rPr>
              <a:t>Interoperable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Corbel"/>
              </a:rPr>
              <a:t>Productivo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Corbel"/>
              </a:rPr>
              <a:t>A Tiempo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Corbel"/>
              </a:rPr>
              <a:t>Visible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Corbel"/>
              </a:rPr>
              <a:t>Coheso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Corbel"/>
              </a:rPr>
              <a:t>Desacoplado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Corbel"/>
              </a:rPr>
              <a:t>Comprensible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Corbel"/>
              </a:rPr>
              <a:t>Mantenible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204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6" name="Object 2" descr=""/>
          <p:cNvPicPr/>
          <p:nvPr/>
        </p:nvPicPr>
        <p:blipFill>
          <a:blip r:embed="rId2"/>
          <a:stretch/>
        </p:blipFill>
        <p:spPr>
          <a:xfrm>
            <a:off x="7696080" y="4343400"/>
            <a:ext cx="1127160" cy="15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63154-D53E-4255-99EE-BFAE210D9386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Rectangle 2" descr=""/>
          <p:cNvPicPr/>
          <p:nvPr/>
        </p:nvPicPr>
        <p:blipFill>
          <a:blip r:embed="rId1"/>
          <a:stretch/>
        </p:blipFill>
        <p:spPr>
          <a:xfrm>
            <a:off x="414360" y="450720"/>
            <a:ext cx="8053200" cy="1158840"/>
          </a:xfrm>
          <a:prstGeom prst="rect">
            <a:avLst/>
          </a:prstGeom>
          <a:ln w="0">
            <a:noFill/>
          </a:ln>
        </p:spPr>
      </p:pic>
      <p:sp>
        <p:nvSpPr>
          <p:cNvPr id="319" name="PlaceHolder 1"/>
          <p:cNvSpPr>
            <a:spLocks noGrp="1"/>
          </p:cNvSpPr>
          <p:nvPr>
            <p:ph/>
          </p:nvPr>
        </p:nvSpPr>
        <p:spPr>
          <a:xfrm>
            <a:off x="571680" y="2819520"/>
            <a:ext cx="6215040" cy="36576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5000"/>
          </a:bodyPr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orbel"/>
              </a:rPr>
              <a:t>La definición supone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93360" indent="-25920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la existencia de un especificación de requisito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93360" indent="-25920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la posibilidad de determinar sin ambigüedad la correspondencia entre la especificación y el diseño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orbel"/>
              </a:rPr>
              <a:t>La correctitud del software puede comprobarse probándolo o mediante análisi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0" name="Oval 4"/>
          <p:cNvSpPr/>
          <p:nvPr/>
        </p:nvSpPr>
        <p:spPr>
          <a:xfrm>
            <a:off x="7010280" y="990720"/>
            <a:ext cx="1752840" cy="17524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Especificación 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Requisi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utoShape 5"/>
          <p:cNvSpPr/>
          <p:nvPr/>
        </p:nvSpPr>
        <p:spPr>
          <a:xfrm>
            <a:off x="7696080" y="2819520"/>
            <a:ext cx="381240" cy="1295280"/>
          </a:xfrm>
          <a:prstGeom prst="upDownArrow">
            <a:avLst>
              <a:gd name="adj1" fmla="val 50000"/>
              <a:gd name="adj2" fmla="val 67636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Oval 6"/>
          <p:cNvSpPr/>
          <p:nvPr/>
        </p:nvSpPr>
        <p:spPr>
          <a:xfrm>
            <a:off x="7010280" y="4191120"/>
            <a:ext cx="1752840" cy="1752480"/>
          </a:xfrm>
          <a:prstGeom prst="ellips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7"/>
          <p:cNvSpPr/>
          <p:nvPr/>
        </p:nvSpPr>
        <p:spPr>
          <a:xfrm>
            <a:off x="533520" y="1828800"/>
            <a:ext cx="64767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60b5cc"/>
                </a:solidFill>
                <a:latin typeface="Arial"/>
              </a:rPr>
              <a:t>Un software es correcto si se comporta de acuerdo con su especific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648F9-89F7-4995-AFCE-BCA75CBC15F8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5"/>
          <p:cNvSpPr/>
          <p:nvPr/>
        </p:nvSpPr>
        <p:spPr>
          <a:xfrm>
            <a:off x="685800" y="1752480"/>
            <a:ext cx="60958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60b5cc"/>
                </a:solidFill>
                <a:latin typeface="Arial"/>
              </a:rPr>
              <a:t>El software se comporta de acuerdo con lo esperado por el usuar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" name="Group 6"/>
          <p:cNvGrpSpPr/>
          <p:nvPr/>
        </p:nvGrpSpPr>
        <p:grpSpPr>
          <a:xfrm>
            <a:off x="6629400" y="533520"/>
            <a:ext cx="2286000" cy="2286000"/>
            <a:chOff x="6629400" y="533520"/>
            <a:chExt cx="2286000" cy="2286000"/>
          </a:xfrm>
        </p:grpSpPr>
        <p:sp>
          <p:nvSpPr>
            <p:cNvPr id="327" name="Oval 7"/>
            <p:cNvSpPr/>
            <p:nvPr/>
          </p:nvSpPr>
          <p:spPr>
            <a:xfrm>
              <a:off x="6629400" y="533520"/>
              <a:ext cx="2286000" cy="2286000"/>
            </a:xfrm>
            <a:prstGeom prst="ellipse">
              <a:avLst/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Oval 8"/>
            <p:cNvSpPr/>
            <p:nvPr/>
          </p:nvSpPr>
          <p:spPr>
            <a:xfrm>
              <a:off x="7086600" y="914400"/>
              <a:ext cx="1371600" cy="1447920"/>
            </a:xfrm>
            <a:prstGeom prst="ellipse">
              <a:avLst/>
            </a:prstGeom>
            <a:solidFill>
              <a:srgbClr val="49683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2000" spc="-1" strike="noStrike">
                  <a:solidFill>
                    <a:srgbClr val="ffffcc"/>
                  </a:solidFill>
                  <a:latin typeface="Arial"/>
                </a:rPr>
                <a:t>Correct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Text Box 9"/>
            <p:cNvSpPr/>
            <p:nvPr/>
          </p:nvSpPr>
          <p:spPr>
            <a:xfrm>
              <a:off x="7164000" y="2332080"/>
              <a:ext cx="125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2000" spc="-1" strike="noStrike">
                  <a:solidFill>
                    <a:srgbClr val="000000"/>
                  </a:solidFill>
                  <a:latin typeface="Arial"/>
                </a:rPr>
                <a:t>Confiab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Text Box 10"/>
          <p:cNvSpPr/>
          <p:nvPr/>
        </p:nvSpPr>
        <p:spPr>
          <a:xfrm>
            <a:off x="2037600" y="6173640"/>
            <a:ext cx="663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buClr>
                <a:srgbClr val="cc00cc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cc00cc"/>
                </a:solidFill>
                <a:latin typeface="Tahoma"/>
              </a:rPr>
              <a:t>Esta es una señal de la inmadurez del áre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Rectangle 13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32" name="PlaceHolder 1"/>
          <p:cNvSpPr>
            <a:spLocks noGrp="1"/>
          </p:cNvSpPr>
          <p:nvPr>
            <p:ph/>
          </p:nvPr>
        </p:nvSpPr>
        <p:spPr>
          <a:xfrm>
            <a:off x="285480" y="2643120"/>
            <a:ext cx="8381880" cy="35719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orbel"/>
              </a:rPr>
              <a:t>A diferencia de la corrección, la confiabilidad </a:t>
            </a:r>
            <a:br>
              <a:rPr sz="2800"/>
            </a:br>
            <a:r>
              <a:rPr b="0" lang="es-AR" sz="2800" spc="-1" strike="noStrike">
                <a:solidFill>
                  <a:srgbClr val="000000"/>
                </a:solidFill>
                <a:latin typeface="Corbel"/>
              </a:rPr>
              <a:t>es algo relativo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orbel"/>
              </a:rPr>
              <a:t>El mercado puede admitir algunos errores en el software siempre que en general se comporte en forma esperable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orbel"/>
              </a:rPr>
              <a:t>No sólo no damos garantías de corrección del software, sino que varios productos incluyen un “disclaimer”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5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A120C-6AD0-42BD-9689-308974E59A2F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Object 2" descr=""/>
          <p:cNvPicPr/>
          <p:nvPr/>
        </p:nvPicPr>
        <p:blipFill>
          <a:blip r:embed="rId1"/>
          <a:stretch/>
        </p:blipFill>
        <p:spPr>
          <a:xfrm>
            <a:off x="7467480" y="76320"/>
            <a:ext cx="1506600" cy="2819160"/>
          </a:xfrm>
          <a:prstGeom prst="rect">
            <a:avLst/>
          </a:prstGeom>
          <a:ln w="0">
            <a:noFill/>
          </a:ln>
        </p:spPr>
      </p:pic>
      <p:sp>
        <p:nvSpPr>
          <p:cNvPr id="335" name="Rectangle 5"/>
          <p:cNvSpPr/>
          <p:nvPr/>
        </p:nvSpPr>
        <p:spPr>
          <a:xfrm>
            <a:off x="304920" y="17524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60b5cc"/>
                </a:solidFill>
                <a:latin typeface="Arial"/>
              </a:rPr>
              <a:t>Un software es robusto si se comporta en forma razonable aún en situaciones no anticipad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Rectangle 6" descr=""/>
          <p:cNvPicPr/>
          <p:nvPr/>
        </p:nvPicPr>
        <p:blipFill>
          <a:blip r:embed="rId2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1"/>
          <p:cNvSpPr>
            <a:spLocks noGrp="1"/>
          </p:cNvSpPr>
          <p:nvPr>
            <p:ph/>
          </p:nvPr>
        </p:nvSpPr>
        <p:spPr>
          <a:xfrm>
            <a:off x="357120" y="2500200"/>
            <a:ext cx="7786800" cy="3786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88000"/>
          </a:bodyPr>
          <a:p>
            <a:pPr marL="385200" indent="-280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orbel"/>
              </a:rPr>
              <a:t>Datos de entrada incorrectos o fallas de hardware son las situaciones más frecuente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85200" indent="-280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orbel"/>
              </a:rPr>
              <a:t>La cantidad de código que se dedica a hacer el software robusto depende de la experiencia de los usuarios o lo crítico de su misión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85200" indent="-280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Corbel"/>
              </a:rPr>
              <a:t>Si algo se especifica como requisito, cumplirlo es cuestión de corrección; si no está en los requisitos es cuestión de robustez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6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EE11D-7B3A-49DF-B73A-69DDE393CFB4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5"/>
          <p:cNvSpPr/>
          <p:nvPr/>
        </p:nvSpPr>
        <p:spPr>
          <a:xfrm>
            <a:off x="685800" y="1752480"/>
            <a:ext cx="8153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60b5cc"/>
                </a:solidFill>
                <a:latin typeface="Arial"/>
              </a:rPr>
              <a:t>Un sistema de software es eficiente si usa sus recursos en forma económ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Rectangle 6" descr=""/>
          <p:cNvPicPr/>
          <p:nvPr/>
        </p:nvPicPr>
        <p:blipFill>
          <a:blip r:embed="rId1"/>
          <a:stretch/>
        </p:blipFill>
        <p:spPr>
          <a:xfrm>
            <a:off x="189000" y="146160"/>
            <a:ext cx="8504280" cy="1261800"/>
          </a:xfrm>
          <a:prstGeom prst="rect">
            <a:avLst/>
          </a:prstGeom>
          <a:ln w="0">
            <a:noFill/>
          </a:ln>
        </p:spPr>
      </p:pic>
      <p:sp>
        <p:nvSpPr>
          <p:cNvPr id="341" name="PlaceHolder 1"/>
          <p:cNvSpPr>
            <a:spLocks noGrp="1"/>
          </p:cNvSpPr>
          <p:nvPr>
            <p:ph/>
          </p:nvPr>
        </p:nvSpPr>
        <p:spPr>
          <a:xfrm>
            <a:off x="250560" y="2720880"/>
            <a:ext cx="4027320" cy="41148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Muy lento </a:t>
            </a:r>
            <a:r>
              <a:rPr b="0" lang="es-AR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 baja la productividad de los usuarios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Usa mucho disco </a:t>
            </a:r>
            <a:r>
              <a:rPr b="0" lang="es-AR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 puede ser muy caro ejecutarlo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Usa mucha memoria </a:t>
            </a:r>
            <a:r>
              <a:rPr b="0" lang="es-AR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 puede afectar la performance de otros sistemas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356000" y="2492280"/>
            <a:ext cx="4464000" cy="41148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8000"/>
          </a:bodyPr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Los criterios de eficiencia varían con la tecnología y el tiempo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Métodos de evaluación de performance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15320" indent="-26712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Corbel"/>
              </a:rPr>
              <a:t>monitoreo,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15320" indent="-26712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Corbel"/>
              </a:rPr>
              <a:t>análisis,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15320" indent="-26712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Corbel"/>
              </a:rPr>
              <a:t>simulación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29120" indent="-3124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No es bueno evaluar la performance sólo después que el producto esta listo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3" name="Object 2" descr=""/>
          <p:cNvPicPr/>
          <p:nvPr/>
        </p:nvPicPr>
        <p:blipFill>
          <a:blip r:embed="rId2"/>
          <a:stretch/>
        </p:blipFill>
        <p:spPr>
          <a:xfrm>
            <a:off x="7010280" y="228600"/>
            <a:ext cx="1676520" cy="164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6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AFAA7-BF9E-4F38-9505-5D931F356452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5"/>
          <p:cNvSpPr/>
          <p:nvPr/>
        </p:nvSpPr>
        <p:spPr>
          <a:xfrm>
            <a:off x="304920" y="1676520"/>
            <a:ext cx="60195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60b5cc"/>
                </a:solidFill>
                <a:latin typeface="Arial"/>
              </a:rPr>
              <a:t>Un software es amigable si sus usuarios lo encuentran fácil de utiliz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Rectangle 7" descr=""/>
          <p:cNvPicPr/>
          <p:nvPr/>
        </p:nvPicPr>
        <p:blipFill>
          <a:blip r:embed="rId1"/>
          <a:stretch/>
        </p:blipFill>
        <p:spPr>
          <a:xfrm>
            <a:off x="189000" y="146160"/>
            <a:ext cx="8504280" cy="126180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1"/>
          <p:cNvSpPr>
            <a:spLocks noGrp="1"/>
          </p:cNvSpPr>
          <p:nvPr>
            <p:ph/>
          </p:nvPr>
        </p:nvSpPr>
        <p:spPr>
          <a:xfrm>
            <a:off x="395280" y="2819520"/>
            <a:ext cx="4100400" cy="41148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La interfaz con el usuario es parte esencial del ser amigable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Depende de los usuarios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Corbel"/>
              </a:rPr>
              <a:t>novicios: mejor largos mensajes explicativos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Corbel"/>
              </a:rPr>
              <a:t>expertos: aprecian los atajos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648320" y="2819520"/>
            <a:ext cx="4171680" cy="41148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Los sistemas insertos son amigables si son fáciles de configurar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La consistencia de las interfaces es un factor determinante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También la performance y la confiabilidad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9" name="Object 2" descr=""/>
          <p:cNvPicPr/>
          <p:nvPr/>
        </p:nvPicPr>
        <p:blipFill>
          <a:blip r:embed="rId2"/>
          <a:stretch/>
        </p:blipFill>
        <p:spPr>
          <a:xfrm>
            <a:off x="5715000" y="380880"/>
            <a:ext cx="3138480" cy="133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6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4D9BC-5660-4138-A1B6-233977A366F5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5"/>
          <p:cNvSpPr/>
          <p:nvPr/>
        </p:nvSpPr>
        <p:spPr>
          <a:xfrm>
            <a:off x="838080" y="1752480"/>
            <a:ext cx="7086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60b5cc"/>
                </a:solidFill>
                <a:latin typeface="Arial"/>
              </a:rPr>
              <a:t>El software es verificable si sus propiedades pueden ser comprobad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Rectangle 6" descr=""/>
          <p:cNvPicPr/>
          <p:nvPr/>
        </p:nvPicPr>
        <p:blipFill>
          <a:blip r:embed="rId1"/>
          <a:stretch/>
        </p:blipFill>
        <p:spPr>
          <a:xfrm>
            <a:off x="189000" y="146160"/>
            <a:ext cx="8504280" cy="1261800"/>
          </a:xfrm>
          <a:prstGeom prst="rect">
            <a:avLst/>
          </a:prstGeom>
          <a:ln w="0">
            <a:noFill/>
          </a:ln>
        </p:spPr>
      </p:pic>
      <p:sp>
        <p:nvSpPr>
          <p:cNvPr id="353" name="PlaceHolder 1"/>
          <p:cNvSpPr>
            <a:spLocks noGrp="1"/>
          </p:cNvSpPr>
          <p:nvPr>
            <p:ph/>
          </p:nvPr>
        </p:nvSpPr>
        <p:spPr>
          <a:xfrm>
            <a:off x="685440" y="2971800"/>
            <a:ext cx="3809880" cy="31212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La corrección y la performance pueden verificarse fácilmente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La verificación puede hacerse mediante análisis o tesiting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648320" y="2971800"/>
            <a:ext cx="4100400" cy="31212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Más verificable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Corbel"/>
              </a:rPr>
              <a:t>monitores en el código,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Corbel"/>
              </a:rPr>
              <a:t>diseño modular,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Corbel"/>
              </a:rPr>
              <a:t>disciplina en la codificación,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9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Corbel"/>
              </a:rPr>
              <a:t>lenguaje de programación adecuado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6 Marcador de número de diapositiva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4B46C-59EC-42E4-BA04-C4EFAD19F8FA}" type="slidenum">
              <a:rPr b="0" lang="es-CL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Object 2" descr=""/>
          <p:cNvPicPr/>
          <p:nvPr/>
        </p:nvPicPr>
        <p:blipFill>
          <a:blip r:embed="rId1"/>
          <a:stretch/>
        </p:blipFill>
        <p:spPr>
          <a:xfrm>
            <a:off x="7367760" y="1538280"/>
            <a:ext cx="1528560" cy="1461960"/>
          </a:xfrm>
          <a:prstGeom prst="rect">
            <a:avLst/>
          </a:prstGeom>
          <a:ln w="0">
            <a:noFill/>
          </a:ln>
        </p:spPr>
      </p:pic>
      <p:sp>
        <p:nvSpPr>
          <p:cNvPr id="357" name="Rectangle 6"/>
          <p:cNvSpPr/>
          <p:nvPr/>
        </p:nvSpPr>
        <p:spPr>
          <a:xfrm>
            <a:off x="914400" y="1752480"/>
            <a:ext cx="6324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60b5cc"/>
                </a:solidFill>
                <a:latin typeface="Arial"/>
              </a:rPr>
              <a:t>Software ya construido se usa con pocos o ningún camb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Rectangle 7" descr=""/>
          <p:cNvPicPr/>
          <p:nvPr/>
        </p:nvPicPr>
        <p:blipFill>
          <a:blip r:embed="rId2"/>
          <a:stretch/>
        </p:blipFill>
        <p:spPr>
          <a:xfrm>
            <a:off x="189000" y="146160"/>
            <a:ext cx="8504280" cy="1261800"/>
          </a:xfrm>
          <a:prstGeom prst="rect">
            <a:avLst/>
          </a:prstGeom>
          <a:ln w="0">
            <a:noFill/>
          </a:ln>
        </p:spPr>
      </p:pic>
      <p:sp>
        <p:nvSpPr>
          <p:cNvPr id="359" name="PlaceHolder 1"/>
          <p:cNvSpPr>
            <a:spLocks noGrp="1"/>
          </p:cNvSpPr>
          <p:nvPr>
            <p:ph/>
          </p:nvPr>
        </p:nvSpPr>
        <p:spPr>
          <a:xfrm>
            <a:off x="250560" y="2707920"/>
            <a:ext cx="4244760" cy="381636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 fontScale="95000"/>
          </a:bodyPr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La reutilización es más apropiada para componentes que para sistemas completos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Las bibliotecas científicas FORTRAN son los ejemplos más antiguos. Java APIs son ejemplos más nuevos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Los servicios web son un caso actual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648320" y="2852280"/>
            <a:ext cx="4316400" cy="3429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0000"/>
          </a:bodyPr>
          <a:p>
            <a:pPr marL="394200" indent="-2869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El reuso es una cualidad difícil (¿imposible?) de conseguir a posteriori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94200" indent="-2869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La orientación a objetos tiene el potencial para mejorar la reutilización y la evolución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94200" indent="-2869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rbel"/>
              </a:rPr>
              <a:t>También los patrones de arquitectura y el desarrollo de familias de productos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8T15:49:29Z</dcterms:created>
  <dc:creator>DCC</dc:creator>
  <dc:description/>
  <dc:language>en-US</dc:language>
  <cp:lastModifiedBy>DCC</cp:lastModifiedBy>
  <dcterms:modified xsi:type="dcterms:W3CDTF">2009-07-30T18:28:56Z</dcterms:modified>
  <cp:revision>8</cp:revision>
  <dc:subject/>
  <dc:title>CC31B – Desarrollo de Software de Aplicación</dc:title>
</cp:coreProperties>
</file>