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4.wmf" ContentType="image/x-wmf"/>
  <Override PartName="/ppt/media/image1.jpeg" ContentType="image/jpeg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EA04-7E82-4969-8989-98D6AC77A6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CC7-9653-440D-89EF-B41AA9D6E2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E450-3AFA-4380-9A7E-24329C913CF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9CF-7A31-482E-A1B8-2FA893B9CEC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A76-DDEC-4B53-91F0-2CCE1534C39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E6C-E44B-45C6-9CE8-92F06BA4F14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DCBF-3535-4C3D-9AB0-3BE9DD10246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BA1D-8E24-4069-9B27-7F649F91901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16F2-0A6D-451D-91D6-508C7A83D8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919-C7DE-4754-A52A-6C6E763F60E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B167-7733-4EA2-9996-9EED2977E92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F30B-AA74-4D37-8764-45D1538C03C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FFBC-B4FF-49BF-B858-074186E535B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D4F2-1D57-4018-BF20-B75747C9C0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262A-2367-4C59-978F-53C86748833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A8A0-1400-4835-B059-F41E2733996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876-998D-495F-8D86-EA13840F908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9CA-A71C-49FD-870E-6CEC273B4B1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4DA4-9ECC-466D-82FE-4655BB8CC75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B9F-36A9-4F59-AB68-83D2A6B5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5EC-2D5C-431B-A203-7BF0C9EF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F87-3796-4E59-9D7D-E31FD79D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7E1-EA3C-4849-80D0-8EBB6517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19F0-BE3B-4789-983B-D5AA2CF0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11A1-B1D9-49D6-98C3-36B6956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6AB1-3B1C-47D5-AC70-6D7EE36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436-6296-441F-85A5-15A3F89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3D8D-CCF0-451D-AC7E-7097AF73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1CA-09A9-4072-85ED-84A08CE0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B99D-D59E-459D-9140-4EAE65C2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7DE-B9D7-42E6-871A-8E37307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DADA-72B7-4E37-9FD0-2F3348C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5F66-1111-47D4-99BC-3BF8B6D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E3A8-0703-4264-9B9B-1C5CC340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03A4-7592-40BD-9A54-12D28D74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9475-CB7C-483C-89C2-FBAFC1C5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C7D8-CDA4-4251-81F2-92C4820F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1582-B7D5-477E-B455-66F3E2E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3633-5B25-4C69-A5F2-E36BADF7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0AE3-B38A-4234-9DCC-8142745B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D343-48CD-480A-9125-C0F815E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C47-4A2C-4D80-954E-9B6F8AA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F1A8-30E9-4570-98FD-4EC51586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1449-DA66-4231-BF98-B4B9D6F8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6BAF-8C04-49C9-BAD1-39007C3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2D95-A661-460F-BDAC-2C8917C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86B8-68CE-4154-8456-5C6771A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8782-ED38-417C-AD9B-282AE882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C05C-6971-4080-985E-88346ED2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DD20-38A4-44C3-8D59-1D248D4F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61A6-7DE9-4CB7-865B-741DB496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D0C4-D5C5-4658-8124-7AA9D792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C78-4801-41AF-97FF-BC68F6A4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3CB7-0E22-4743-8F9E-E261A095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87B8-8021-4721-BD14-6DFD1326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69EE-9328-4BD3-BE48-DEECA3C2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4FF10-40A5-423E-90BA-7F6E3B1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C96C-31F8-424B-823A-1C74D0F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FD90C-44D6-4A90-B3A5-0BD7A5D7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E4D5-EB00-4D15-8CF7-BD45299F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87B0-D26B-41B7-8571-40B1FF12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949C-253E-4B60-9D24-A323B29B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5E60-E0FB-41C9-A3AF-8F25BA4B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F71-25E9-443F-B740-ADFC3A4E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65DF9-4089-4214-878F-60707838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ECDE-8775-48C2-B8A8-2A20723F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6EEC-4747-48E6-8492-7AA505A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1AA3-68A1-48DC-8A26-F60F1D3D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9141-A371-4147-B9D8-E7C5931B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7687-75CE-444D-B74B-F8F749DF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3753-8BFA-4207-9B24-24E496B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AFBB-4A4F-42A9-B042-5339D56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8977-8C72-494A-9D4A-932C83B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F1AB1-D4E0-4B01-816E-AB255CD2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725-E9DB-4593-897C-35EFF363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585D3-8C46-4D54-A29E-7CE85613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94EA-70E5-4DDF-A8D8-FCBD20AE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66572-EF8F-4997-B655-72E5FB07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4FBC-68C4-4510-846A-BDB9D540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468E-7B0C-4123-8C66-869B238B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CA22-6010-432B-B3B3-1C5B58F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9F16A-0E3F-4C4E-869A-C2FFB15B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5A7F-013C-42E2-BCCD-FD8E141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03546-2E9C-4260-A92F-2F58E87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1085-4E2A-4D84-93BB-F1D987E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FB4-B71F-4888-9D75-2A75153F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EFEAB-68F2-4720-ABD8-A92183EF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1767-1660-443D-A307-45B21137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F5266-63F1-4529-846B-F86F902D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43ED-AA24-4FEB-9DC1-47534E05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D908-E2A7-4CD9-B8D4-7AD4E005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77716-273F-4A07-8221-67336FAE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227EC-D288-49BB-A93C-BEB4A3B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9B303-D367-4596-A493-BFCCCF23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F15AF-C7E4-4E16-B1E1-C28E19CE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1A2FD-67F3-4874-AF71-CBCF4DEC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061-BE54-440E-B981-50656A8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AC5B7-6675-4A7A-B8F5-296C341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96A6F-AC3D-4C63-A285-1D33A70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CA31-3F41-43EF-A812-C0D5E10A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C5C68-9165-48DF-B6B9-A44D8DAA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9BAFF-F712-481B-A2DE-E3DD8867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4C4-5F96-41F4-919A-D27BDAB5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D1E1-DE01-4D72-8E87-0722F64FE00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9467-53EF-40CC-89AF-9646B954DBC7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E2B-F645-43AF-9E17-E92F5309B4E4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3CD-0095-4D91-A905-E74FDE46BA3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3E5F-B5A1-42EA-9A38-F0DF2CD8AF5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91A4-90BD-4967-BC7F-9A2F6D72523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E80C-3C04-45ED-8FB2-0EFEFADD453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Corbel"/>
              </a:rPr>
              <a:t>¿Qué es un buen softwar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4BF4-BB4C-4968-91F0-104CBBD98A7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Object 2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portable si puede ejecutarse en </a:t>
            </a:r>
            <a:br>
              <a:rPr sz="1800"/>
            </a:b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distintos ambientes (hardware, sistemas operativos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14240" y="2857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Una forma de lograr portabilidad es suponer la mínima configurac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91DB-3650-4B6E-A2C5-BC1F70521E5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ject 2" descr=""/>
          <p:cNvPicPr/>
          <p:nvPr/>
        </p:nvPicPr>
        <p:blipFill>
          <a:blip r:embed="rId1"/>
          <a:stretch/>
        </p:blipFill>
        <p:spPr>
          <a:xfrm>
            <a:off x="7732800" y="1539720"/>
            <a:ext cx="1268280" cy="16750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0"/>
          <p:cNvSpPr/>
          <p:nvPr/>
        </p:nvSpPr>
        <p:spPr>
          <a:xfrm>
            <a:off x="746280" y="1716120"/>
            <a:ext cx="68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es interoperable si puede coexistir y cooperar con otro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1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3000"/>
          </a:bodyPr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97D5-2B72-43DF-97D6-B0CA903433B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2" descr=""/>
          <p:cNvPicPr/>
          <p:nvPr/>
        </p:nvPicPr>
        <p:blipFill>
          <a:blip r:embed="rId1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365040" y="1792440"/>
            <a:ext cx="67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La productividad es la eficiencia del proceso de desarrollo del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9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9BB3-D913-4964-A616-9F2A8932AF0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ject 2" descr=""/>
          <p:cNvPicPr/>
          <p:nvPr/>
        </p:nvPicPr>
        <p:blipFill>
          <a:blip r:embed="rId1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127160" y="1828800"/>
            <a:ext cx="59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0b5cc"/>
                </a:solidFill>
                <a:latin typeface="Arial"/>
              </a:rPr>
              <a:t>El proceso de desarrollo debe obtener su producto en el tiemp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una mejor oportunidad comercial, y a veces 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87B8-3776-4740-84D6-F997EEA640E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3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7"/>
          <p:cNvSpPr/>
          <p:nvPr/>
        </p:nvSpPr>
        <p:spPr>
          <a:xfrm>
            <a:off x="365040" y="19447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5A7A-CBDD-41FD-82C1-C0AD4B0F08E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Medida de la relación entre las partes de una compo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CD9-40D1-42F1-87F8-8847E7D9C80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6400800" y="1066680"/>
            <a:ext cx="2189160" cy="1810800"/>
            <a:chOff x="6400800" y="1066680"/>
            <a:chExt cx="2189160" cy="1810800"/>
          </a:xfrm>
        </p:grpSpPr>
        <p:sp>
          <p:nvSpPr>
            <p:cNvPr id="396" name="Rectangle 5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8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9"/>
            <p:cNvSpPr/>
            <p:nvPr/>
          </p:nvSpPr>
          <p:spPr>
            <a:xfrm>
              <a:off x="6449040" y="122544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7547400" y="12700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6449040" y="1882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7599960" y="1828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6901200" y="2357280"/>
              <a:ext cx="129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406" name="Rectangle 15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6609240" y="3429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6581520" y="3733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55375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551016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759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64820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7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5542560" y="5715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0"/>
            <p:cNvSpPr/>
            <p:nvPr/>
          </p:nvSpPr>
          <p:spPr>
            <a:xfrm>
              <a:off x="5514840" y="6019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AutoShape 31"/>
            <p:cNvCxnSpPr>
              <a:stCxn id="406" idx="2"/>
              <a:endCxn id="410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32"/>
            <p:cNvCxnSpPr>
              <a:stCxn id="409" idx="2"/>
              <a:endCxn id="414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33"/>
            <p:cNvCxnSpPr>
              <a:stCxn id="410" idx="2"/>
              <a:endCxn id="418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60b5cc"/>
                </a:solidFill>
                <a:latin typeface="Corbel"/>
              </a:rPr>
              <a:t>Medida de la interdependencia de distintas componen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9EE-7CC4-4897-B2EC-33C1104FB8A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2" descr=""/>
          <p:cNvPicPr/>
          <p:nvPr/>
        </p:nvPicPr>
        <p:blipFill>
          <a:blip r:embed="rId1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3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429" name="Rectangle 4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7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9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AutoShape 10"/>
            <p:cNvCxnSpPr>
              <a:stCxn id="429" idx="0"/>
              <a:endCxn id="434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AutoShape 11"/>
            <p:cNvCxnSpPr>
              <a:stCxn id="429" idx="2"/>
              <a:endCxn id="431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AutoShape 12"/>
            <p:cNvCxnSpPr>
              <a:stCxn id="429" idx="3"/>
              <a:endCxn id="432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AutoShape 13"/>
            <p:cNvCxnSpPr>
              <a:stCxn id="433" idx="0"/>
              <a:endCxn id="430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9" name="AutoShape 14"/>
            <p:cNvCxnSpPr>
              <a:stCxn id="431" idx="3"/>
              <a:endCxn id="432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0" name="AutoShape 15"/>
            <p:cNvCxnSpPr>
              <a:stCxn id="433" idx="1"/>
              <a:endCxn id="429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1" name="AutoShape 16"/>
            <p:cNvCxnSpPr>
              <a:stCxn id="433" idx="3"/>
              <a:endCxn id="432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AutoShape 17"/>
            <p:cNvCxnSpPr>
              <a:stCxn id="434" idx="2"/>
              <a:endCxn id="431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43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comprensible si es fácil comprender cómo func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2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78F5-3511-46B4-B4D4-4669EE22475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Object 2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mantenible si es fácil modific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BEC4-2204-4AD9-BA93-E1027FB3337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ject 2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F1A-31A1-4297-88E2-0E5B68D1778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2819520"/>
            <a:ext cx="621504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correcto si se comporta de acuerdo con su espec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2F3-2A7B-4024-BD2A-F2C90A76C8B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se comporta de acuerdo con lo esperado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327" name="Oval 7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0"/>
          <p:cNvSpPr/>
          <p:nvPr/>
        </p:nvSpPr>
        <p:spPr>
          <a:xfrm>
            <a:off x="203760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Rectangle 1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38188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confiabilidad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E17C-96D4-49E9-A52C-E6CFD8188F0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ject 2" descr=""/>
          <p:cNvPicPr/>
          <p:nvPr/>
        </p:nvPicPr>
        <p:blipFill>
          <a:blip r:embed="rId1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57120" y="2500200"/>
            <a:ext cx="7786800" cy="378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de hardware son las situaciones más frecu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2EC-C4F2-4113-9D2A-CB64A5FA2D1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de software es eficiente si usa sus recursos en form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Object 2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F2E4-0791-4C1C-B6E5-332BD64A400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amigable si sus usuarios lo encuentran fácil de uti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Object 2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3641-49A9-4431-9014-4BF8A8A46D1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es verificable si sus propiedades pueden ser comprob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C534-65F1-4C56-8816-35A1B3E3BB1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ject 2" descr=""/>
          <p:cNvPicPr/>
          <p:nvPr/>
        </p:nvPicPr>
        <p:blipFill>
          <a:blip r:embed="rId1"/>
          <a:stretch/>
        </p:blipFill>
        <p:spPr>
          <a:xfrm>
            <a:off x="7367760" y="1538280"/>
            <a:ext cx="1528560" cy="14619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Software ya construido se usa con pocos o ningún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30T18:28:56Z</dcterms:modified>
  <cp:revision>8</cp:revision>
  <dc:subject/>
  <dc:title>CC31B – Desarrollo de Software de Aplicación</dc:title>
</cp:coreProperties>
</file>