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4.wmf" ContentType="image/x-wmf"/>
  <Override PartName="/ppt/media/image1.jpeg" ContentType="image/jpe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554-9CDC-4B2E-92FE-4089EC7E4D5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7CA0-8D03-46B4-951F-DB2E2CBD5A8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57D-5E2E-44B5-9081-63A3003D35D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0D22-0C5B-4B91-AAEB-592B0D4D00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CD83-80F7-40B0-A78D-DD4FAA06937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03EA-43F6-44F5-A5F1-70F8925E698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642-D74C-4975-9EC1-C0D09CDC6FD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E71-0A95-40DC-9947-1807E15314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909-CACE-428F-9C1A-1C7983C706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9688-CF4A-41F2-870D-D8A28C24B4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B7B3-9711-4F3C-B38B-6EC203E2459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24DB-2E10-43F7-AA44-E27FC7B1BE2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3FDF-1284-47FB-A4F7-A00673F0C3B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4DC-E3D6-491D-A817-882447C178D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3B2-70AA-4F97-A57A-5F2DA8C2DF8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409-305E-476C-9F32-CA3DE261FDD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356-2626-4B91-ABB3-FB77B9DF39D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FDCC-6047-4534-9C43-FD038A8E852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ABD-BC65-47DA-84D1-80C04CE2F51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FAF-4344-401E-B9E3-C97E891E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6D6-6032-435E-BFD1-3A9DF553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EB7-F7E6-410C-903A-94A9C3FE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316-5D5E-4BB5-9D37-0EFC3A1F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4B95-A3B8-43A3-95A8-90F491DD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574-D777-4881-9487-E6EEE0F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3F9E-870F-4C33-BA9A-B62106BD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BC5C-5C48-4604-95C8-98FD116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EFC-CF42-44AC-A106-9D8256ED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A3F0-B061-4225-B91B-CE2F1E6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C005-48EB-40B6-8642-F14BEB0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10D-0F24-4812-8287-17E9D6EB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A3F1-ECE7-45CA-BED6-8251C94A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C2E-07D3-4B57-A95D-88E61CE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ABFA-611F-4A92-8B7D-6D0B0E23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0BF8-B390-45F4-8F3A-AE5CECC7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B642-42C7-4EE2-8812-3F4F5125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72B3-4C9B-4D3A-B54A-546BBA30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54FA-5E40-4BA8-80E4-0BAD6B11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BBE2-992C-412E-9D23-18A59B05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786C-1548-4696-B9DC-700B054E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F10E-59C7-49D2-8816-48FFDA2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52E-63A8-42E1-8491-54A2F2B7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E646-49D8-4840-A753-8962270B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7BE1-6E14-404E-ABB4-C17D619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8840-1529-4C31-AAFA-48064FC3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6AC3-95DA-43BB-BA99-990F00C0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5973-A416-4F4E-83D9-927BA945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E1A9-330E-4585-8464-A1E48D13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88A9-F83B-4B82-9823-FBAD4553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3A5B-A501-458F-8B2E-98A5A724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FC28-10A6-4AEA-8F29-B56C435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0BDB-2266-459E-84C0-94FE4E2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141-7522-48D4-BAAB-4EB42159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FFB3-58FE-4D8D-B7A0-79DF9C8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7C1C-EF47-4D37-A727-720DE3D7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84AD-E7BE-458E-97C2-008B808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6C71-7EAA-47E1-BB20-3AC9981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40FA6-E75C-4DDF-81F3-23B7A41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A350-ADAB-44E3-8040-D3D5973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44BB-B16A-4F05-ACC1-2FC1C0D8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F043-2040-42B4-8BA9-08917701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5D73-DB4D-4F8B-9C67-68D80E53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DDDE-4FF3-4F45-BACD-BEEC8D1B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1BE-8CC0-497D-ACA4-0A7E391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41A3C-72FF-4954-96B7-9229D489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14F3-8820-4182-A915-01D347A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226FB-6FC1-432E-9A36-AF543B31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8141-61D3-4533-A3DB-D03F8FD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A33D-40DF-43DE-8E80-567CE35C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A78A-BBBB-475F-BC77-157B8D2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902F-8B4D-4F01-97EC-BD737768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2D9E-2866-4530-A4B9-998D8DD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8DAC-BFB7-4A6C-AB41-B34F93E5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446A-49FA-4407-8E9A-2DA0BABA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D2B-43BA-401F-B0FB-4D418C79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9157-F524-4B17-9F6D-59747657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4A38-7BC7-49AB-BA31-783B48CE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886A-51DF-41EB-87EE-E4D2C32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2EEF5-FAF0-406C-90B9-CA65F3F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1C2D-F40A-4CBF-8286-487F5EB1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BDD8-2BE1-49AA-B5F8-0C851C8D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1521-E72A-4EC8-A784-B7BCE5E6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5C8B-4B3B-4FF2-9A3D-7FF9EEC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A895-BE40-46CF-8CFA-CE09538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5C0B-2991-4782-84F0-5CA37DA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2FC-8A89-45C0-8E84-58C0855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4603-3844-43CA-B20F-8AF05C3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BF415-22AA-489D-8494-3D9DF511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37A4-1F51-49BE-8990-BC5DBE77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5FAA-0B99-4A84-80A7-BD605AB8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8337-8C47-4ED6-AFBF-F844D239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8928-3493-40E8-B138-800BFDE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8B752-7010-4AD2-A1D5-C3E7E213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CD77D-D1E7-48A5-BB3F-3E0A8FC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C6EF-520D-4D15-B1CB-4906993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21C9-0B87-409E-B3C7-961C98A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498-302F-43DC-9EDB-7E1075E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1440-5FDA-4044-83F8-DF89DB9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FE855-FCDF-451E-9C56-E3506F5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5247-0F55-4239-838D-FAC4A2A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599AE-B163-484F-B5F3-225422D3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349B-BDAC-48D2-B2E0-4DA7BABC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D1B-7897-4F9F-AF18-84A6BA0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544A-A6E2-4972-8DF7-92D0F36B259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1EFC-7D57-4E01-BB6A-C7BACF3B1FA2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6DE4-9F64-45F2-8C72-3D134BE12A39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D8E7-1D19-4D4B-847F-4B136DE4044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3594-9DBA-4BB4-8986-628DF28AFA1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24A-EE40-43B3-AE57-68900A63F84F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02A1-A9AE-4C96-8885-9534A2E19F9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Corbel"/>
              </a:rPr>
              <a:t>¿Qué es un buen softwar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B2DA-735F-47E2-9B54-CB2AC5A70C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2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portable si puede ejecutarse en </a:t>
            </a:r>
            <a:br>
              <a:rPr sz="1800"/>
            </a:b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distintos ambientes (hardware, sistemas operativos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14240" y="2857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Una forma de lograr portabilidad es suponer la mínima configur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17A2-1132-4EA4-881B-0FBC2DB0632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ject 2" descr=""/>
          <p:cNvPicPr/>
          <p:nvPr/>
        </p:nvPicPr>
        <p:blipFill>
          <a:blip r:embed="rId1"/>
          <a:stretch/>
        </p:blipFill>
        <p:spPr>
          <a:xfrm>
            <a:off x="7732800" y="1539720"/>
            <a:ext cx="1268280" cy="1675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0"/>
          <p:cNvSpPr/>
          <p:nvPr/>
        </p:nvSpPr>
        <p:spPr>
          <a:xfrm>
            <a:off x="746280" y="1716120"/>
            <a:ext cx="68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es interoperable si puede coexistir y cooperar con o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1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3000"/>
          </a:bodyPr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27F6-D434-45CA-89E9-C0C903C99DB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" descr=""/>
          <p:cNvPicPr/>
          <p:nvPr/>
        </p:nvPicPr>
        <p:blipFill>
          <a:blip r:embed="rId1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365040" y="179244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La productividad es la eficiencia del proceso de desarrollo del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8AE4-C658-4D15-8743-B0714FE8D76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ject 2" descr=""/>
          <p:cNvPicPr/>
          <p:nvPr/>
        </p:nvPicPr>
        <p:blipFill>
          <a:blip r:embed="rId1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127160" y="1828800"/>
            <a:ext cx="59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0b5cc"/>
                </a:solidFill>
                <a:latin typeface="Arial"/>
              </a:rPr>
              <a:t>El proceso de desarrollo debe obtener su producto en el tiemp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una mejor oportunidad comercial, y a veces 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908-2883-424C-9537-5B2B345AD64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3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365040" y="19447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63C-A377-4E0F-9F95-B8BC3F11B49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Medida de la relación entre las partes de una compo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318-7122-4493-8F9E-8DFAF7F32BC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6400800" y="1066680"/>
            <a:ext cx="2189160" cy="1810800"/>
            <a:chOff x="6400800" y="1066680"/>
            <a:chExt cx="2189160" cy="1810800"/>
          </a:xfrm>
        </p:grpSpPr>
        <p:sp>
          <p:nvSpPr>
            <p:cNvPr id="396" name="Rectangle 5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6449040" y="12254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547400" y="12700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6449040" y="1882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7599960" y="1828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6901200" y="2357280"/>
              <a:ext cx="129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406" name="Rectangle 15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6609240" y="3429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6581520" y="3733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55375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551016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759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64820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5542560" y="5715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5514840" y="6019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AutoShape 31"/>
            <p:cNvCxnSpPr>
              <a:stCxn id="406" idx="2"/>
              <a:endCxn id="410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32"/>
            <p:cNvCxnSpPr>
              <a:stCxn id="409" idx="2"/>
              <a:endCxn id="414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33"/>
            <p:cNvCxnSpPr>
              <a:stCxn id="410" idx="2"/>
              <a:endCxn id="418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60b5cc"/>
                </a:solidFill>
                <a:latin typeface="Corbel"/>
              </a:rPr>
              <a:t>Medida de la interdependencia de distintas componen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BD73-2775-4132-8F23-883B0AFAFE5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2" descr=""/>
          <p:cNvPicPr/>
          <p:nvPr/>
        </p:nvPicPr>
        <p:blipFill>
          <a:blip r:embed="rId1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3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429" name="Rectangle 4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AutoShape 10"/>
            <p:cNvCxnSpPr>
              <a:stCxn id="429" idx="0"/>
              <a:endCxn id="434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AutoShape 11"/>
            <p:cNvCxnSpPr>
              <a:stCxn id="429" idx="2"/>
              <a:endCxn id="431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AutoShape 12"/>
            <p:cNvCxnSpPr>
              <a:stCxn id="429" idx="3"/>
              <a:endCxn id="432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AutoShape 13"/>
            <p:cNvCxnSpPr>
              <a:stCxn id="433" idx="0"/>
              <a:endCxn id="430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AutoShape 14"/>
            <p:cNvCxnSpPr>
              <a:stCxn id="431" idx="3"/>
              <a:endCxn id="432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AutoShape 15"/>
            <p:cNvCxnSpPr>
              <a:stCxn id="433" idx="1"/>
              <a:endCxn id="429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AutoShape 16"/>
            <p:cNvCxnSpPr>
              <a:stCxn id="433" idx="3"/>
              <a:endCxn id="432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17"/>
            <p:cNvCxnSpPr>
              <a:stCxn id="434" idx="2"/>
              <a:endCxn id="431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3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comprensible si es fácil comprender cómo fun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2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C107-0CC8-4B84-91D4-45955BAA9ED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Object 2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mantenible si es fácil modific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402-ED1D-4A63-AC54-819730CFD44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ject 2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A34-05DD-4EED-8A09-7E778B287CD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correcto si se comporta de acuerdo con su espec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E1A1-FE0F-4DCC-94F0-AD8459678CD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se comporta de acuerdo con lo esperado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327" name="Oval 7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203760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Rectangle 1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F86-5C3B-4AE8-B797-956A791CF2E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ject 2" descr=""/>
          <p:cNvPicPr/>
          <p:nvPr/>
        </p:nvPicPr>
        <p:blipFill>
          <a:blip r:embed="rId1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57120" y="2500200"/>
            <a:ext cx="7786800" cy="378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de hardware son las situaciones más 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FE8-3B59-4CC0-939D-E9118582544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de software es eficiente si usa sus recursos en form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58AB-E4BD-43C7-A36D-DA0315F5256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amigable si sus usuarios lo encuentran fácil de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Object 2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EEE1-A873-40F3-9EA8-F84CE90B9FD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es verificable si sus propiedades pueden ser comprob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427-5F14-4A5A-B380-67CBA3B2A3B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ject 2" descr=""/>
          <p:cNvPicPr/>
          <p:nvPr/>
        </p:nvPicPr>
        <p:blipFill>
          <a:blip r:embed="rId1"/>
          <a:stretch/>
        </p:blipFill>
        <p:spPr>
          <a:xfrm>
            <a:off x="7367760" y="1538280"/>
            <a:ext cx="1528560" cy="14619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Software ya construido se usa con pocos o ningún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30T18:28:56Z</dcterms:modified>
  <cp:revision>8</cp:revision>
  <dc:subject/>
  <dc:title>CC31B – Desarrollo de Software de Aplicación</dc:title>
</cp:coreProperties>
</file>