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4.wmf" ContentType="image/x-wmf"/>
  <Override PartName="/ppt/media/image1.jpeg" ContentType="image/jpeg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0F6A-DBFC-4F77-9C81-30A63839FF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BDB-44C5-4DA4-902D-FC782860A1B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D94-7DC5-4116-83A6-EC747BEFF5C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926B-7874-4F92-94EB-7CF90BCAD8C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9555-D008-482A-8034-D20F08065F0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9EA5-BFC6-4073-895A-93A51D4DEAB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0E98-FCC7-408C-B153-86195C23C61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8BFA-F5F6-4C42-863D-50BC394C4AB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C8FB-CB56-4AB8-AF3B-FFFACB13A34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128-E331-4F86-90B1-14B84426DE1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B1F-4FB0-4388-90A3-5129ADCC54E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6343-C6ED-4637-96AA-5B71B1891AA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ED2E-67DB-4D8B-8838-F0FC5ED1A59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D70B-6873-40D1-8EC5-19CF9E8F179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5B7B-BFC5-421E-96D1-7BEFE8CDCE6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94C0-C1C3-4132-AB6F-92D4BFCFFB8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DB8D-13F3-4781-9F58-3501D01E231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D7BB-AAF2-43BE-83F0-41DE7DE8919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21D7-F53D-40ED-90BE-CB023B0CAFB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D1E-CD92-4678-A947-CD54BC32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649-6618-4590-A2FD-6D0B584A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8A9-06AC-4BBB-B843-30447E41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089-0D78-4734-A505-21C6D105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3B35-3847-4958-9F21-1C9DF14A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6A47-DE53-4A92-B2EF-74C274E0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C418-6507-4F16-AACD-7FBC0EAF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E43-7EE3-4259-9F4A-F3E7E9E8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7284-1AC3-427A-9471-670B8370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1F51-51F0-4542-B2B9-A558FED1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F61C-3D92-4BCA-835F-4FE2304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47C-5647-4277-BBA9-02046D30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6EEA-D3A2-4537-A0FE-8BC6F752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A8F7-CF2C-4FDF-BFF6-D35DF2F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A789-BD9F-42B4-AD1D-039C2CD3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11D3-BDE3-4C9D-9294-E92A1383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4CDF-F0FD-44E8-86CC-3ADC1D0E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AE9E-F374-4870-980B-B995A1E1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BFDF-DCCA-42CD-86D4-5BEF31AC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0E9A-D67D-41F6-8509-F6D237DD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126B-F645-4014-9502-F3B22C32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3FAC-1C51-43E4-99F1-1BC3B0D3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40B-DAC9-46AD-B403-F0E2F160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6B71-006D-472B-AE65-97639A7B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1011-E9A8-42E0-9EEC-8F10F841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34BFA-B7FA-42EB-8F32-1D5B448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22B4-48DE-41C5-9B20-94F6F424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C985-303F-4402-B7B1-3C67DF0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C829-D456-4AE9-91B9-8FBA9A21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2620-CA5E-4BD8-9B8F-BA7AB41E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3DD8-75B5-4C8B-9EB6-814C1D95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5F90-6476-45A7-9A62-4F14473D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29B1-063B-468F-AAE4-13F35E4C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39D-AF05-4B9A-940E-DBCBCEF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5F88-DF02-4FDA-A0BA-DAA7D4B0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D74E-676D-41D2-B928-E16414A7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55E1-38C9-4EC7-86EC-9F7AC29D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B8625-563B-4586-BD96-3A3B989E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81C8E-7ECA-4B84-950E-9F9D87D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79F5-D6CC-4087-8690-26026FE6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81A0-5B02-4C84-BCA1-F21B9B15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23E1-7177-4CB3-81EC-024BC0D7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3DC1-3467-435B-93E4-0E5CBF9E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1E3C-A541-4979-9EA4-36E47AC0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C83-6E46-4746-AD82-21A4309B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A7ED-9B88-4163-A9D1-C36587FA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A007-B8CF-42B1-A410-42DE2ADC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C47E-CF4E-4DBA-8F68-938A70FF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63618-44CB-48D2-96D1-85963BF4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F3CF-928A-407E-8F93-D36524A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6693-3453-4EAC-B038-E4638D3B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179DA-B6DF-4452-923C-C229ECA1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19C7-43D8-4045-985D-5B2B099A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30291-0B4D-4678-9584-47147E1C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A9B3-EF20-41F0-8652-41BACB23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272-E3B6-41A3-BA54-4B460713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FCED-6EF8-4C52-A074-CAECA6A2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593D2-E3F7-4969-A1EB-CB4BD630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0DF8A-28DD-4CB1-8CDF-F56AD3F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BC5D-73EB-4A5C-B5CF-138B1793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2537C-76FD-425E-A701-CBEA070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BC9B-7314-4A5E-978C-51BE087A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76A4-2969-4C1B-9D54-C56ABEB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F3445-B9F0-427A-ADF3-2D43FDB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B4B3-AA3D-4BE3-AE3A-A2FA4E7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5B27D-07C6-44F7-A9FB-9F91291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C6A-20F9-444B-8604-C6599A7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B0F36-BCB9-4FC1-8EB7-8EA149B0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1B8C6-F552-42D4-999F-D2A1B740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D087-D546-4E45-B9D8-B214465F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3129D-CE3E-4437-A725-BC76B10D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E1C2-4040-4848-A56F-6D3B44A4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3B71D-199E-4BF7-B198-D0D71B87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AD775-47C1-4028-BAC8-2184C6A2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445AC-7F77-4B5B-BDCC-0C1F2241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5308F-6FB6-446A-B732-34272A6E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115CC-6F10-4376-8304-6FFB06F6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A1C-3688-40DC-B18F-E285FEB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1CA71-8C79-49E4-BFA7-9EFF658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B495-8D13-4E5D-AB46-8F63BA8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7C78-ED47-46E9-AB16-A6F55EF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C92A-6548-478E-BE37-ED8D5A5F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8C481-B06E-45FE-BDB6-96C2575E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A73-F862-45CF-998D-06CE365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FF76-FE3E-41DF-8524-FC9507C6787E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EA5-8DFA-49C4-B96A-ED7F7F18533C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AB5E-9AD6-48C1-8222-D90B9EECCA9E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ED1B-B4B2-4B45-8B0F-D3E5BA955620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7169-63A4-4F10-BB13-8E5387D2A08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A72B-0BB2-4CEE-BF76-2B886076C6D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D067-D316-4D5E-AF5D-349D29A8A31F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Corbel"/>
              </a:rPr>
              <a:t>¿Qué es un buen softwar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82DF-EE61-4EAE-901F-F7C2D682F87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Object 2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portable si puede ejecutarse en </a:t>
            </a:r>
            <a:br>
              <a:rPr sz="1800"/>
            </a:b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distintos ambientes (hardware, sistemas operativos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14240" y="28573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Una forma de lograr portabilidad es suponer la mínima configurac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345-D90A-46CA-AF28-EE924204FEF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ject 2" descr=""/>
          <p:cNvPicPr/>
          <p:nvPr/>
        </p:nvPicPr>
        <p:blipFill>
          <a:blip r:embed="rId1"/>
          <a:stretch/>
        </p:blipFill>
        <p:spPr>
          <a:xfrm>
            <a:off x="7732800" y="1539720"/>
            <a:ext cx="1268280" cy="16750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0"/>
          <p:cNvSpPr/>
          <p:nvPr/>
        </p:nvSpPr>
        <p:spPr>
          <a:xfrm>
            <a:off x="746280" y="1716120"/>
            <a:ext cx="68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es interoperable si puede coexistir y cooperar con otro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1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3000"/>
          </a:bodyPr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87D8-FDA9-4D63-9B2D-64AAD407E6E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2" descr=""/>
          <p:cNvPicPr/>
          <p:nvPr/>
        </p:nvPicPr>
        <p:blipFill>
          <a:blip r:embed="rId1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365040" y="1792440"/>
            <a:ext cx="67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La productividad es la eficiencia del proceso de desarrollo del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9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7FA5-2B49-4479-85BD-24D228A230E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Object 2" descr=""/>
          <p:cNvPicPr/>
          <p:nvPr/>
        </p:nvPicPr>
        <p:blipFill>
          <a:blip r:embed="rId1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127160" y="1828800"/>
            <a:ext cx="595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0b5cc"/>
                </a:solidFill>
                <a:latin typeface="Arial"/>
              </a:rPr>
              <a:t>El proceso de desarrollo debe obtener su producto en el tiemp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una mejor oportunidad comercial, y a veces 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DEFA-AE72-459B-B4ED-B74BB47EF05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3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7"/>
          <p:cNvSpPr/>
          <p:nvPr/>
        </p:nvSpPr>
        <p:spPr>
          <a:xfrm>
            <a:off x="365040" y="19447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3BEB-1ABA-4392-9891-83BF9FE19BF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Medida de la relación entre las partes de una compo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ED1D-B788-4883-AB71-8E1DDE4ED0E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6400800" y="1066680"/>
            <a:ext cx="2189160" cy="1810800"/>
            <a:chOff x="6400800" y="1066680"/>
            <a:chExt cx="2189160" cy="1810800"/>
          </a:xfrm>
        </p:grpSpPr>
        <p:sp>
          <p:nvSpPr>
            <p:cNvPr id="396" name="Rectangle 5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8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9"/>
            <p:cNvSpPr/>
            <p:nvPr/>
          </p:nvSpPr>
          <p:spPr>
            <a:xfrm>
              <a:off x="6449040" y="122544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7547400" y="12700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1"/>
            <p:cNvSpPr/>
            <p:nvPr/>
          </p:nvSpPr>
          <p:spPr>
            <a:xfrm>
              <a:off x="6449040" y="1882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"/>
            <p:cNvSpPr/>
            <p:nvPr/>
          </p:nvSpPr>
          <p:spPr>
            <a:xfrm>
              <a:off x="7599960" y="1828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3"/>
            <p:cNvSpPr/>
            <p:nvPr/>
          </p:nvSpPr>
          <p:spPr>
            <a:xfrm>
              <a:off x="6901200" y="2357280"/>
              <a:ext cx="129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4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406" name="Rectangle 15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6609240" y="3429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6581520" y="3733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55375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551016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759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64820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7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9"/>
            <p:cNvSpPr/>
            <p:nvPr/>
          </p:nvSpPr>
          <p:spPr>
            <a:xfrm>
              <a:off x="5542560" y="5715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0"/>
            <p:cNvSpPr/>
            <p:nvPr/>
          </p:nvSpPr>
          <p:spPr>
            <a:xfrm>
              <a:off x="5514840" y="6019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AutoShape 31"/>
            <p:cNvCxnSpPr>
              <a:stCxn id="406" idx="2"/>
              <a:endCxn id="410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32"/>
            <p:cNvCxnSpPr>
              <a:stCxn id="409" idx="2"/>
              <a:endCxn id="414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33"/>
            <p:cNvCxnSpPr>
              <a:stCxn id="410" idx="2"/>
              <a:endCxn id="418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60b5cc"/>
                </a:solidFill>
                <a:latin typeface="Corbel"/>
              </a:rPr>
              <a:t>Medida de la interdependencia de distintas component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749B-2D53-4FCA-87B6-6C17FA10A28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2" descr=""/>
          <p:cNvPicPr/>
          <p:nvPr/>
        </p:nvPicPr>
        <p:blipFill>
          <a:blip r:embed="rId1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3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429" name="Rectangle 4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7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8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9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AutoShape 10"/>
            <p:cNvCxnSpPr>
              <a:stCxn id="429" idx="0"/>
              <a:endCxn id="434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AutoShape 11"/>
            <p:cNvCxnSpPr>
              <a:stCxn id="429" idx="2"/>
              <a:endCxn id="431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AutoShape 12"/>
            <p:cNvCxnSpPr>
              <a:stCxn id="429" idx="3"/>
              <a:endCxn id="432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AutoShape 13"/>
            <p:cNvCxnSpPr>
              <a:stCxn id="433" idx="0"/>
              <a:endCxn id="430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9" name="AutoShape 14"/>
            <p:cNvCxnSpPr>
              <a:stCxn id="431" idx="3"/>
              <a:endCxn id="432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0" name="AutoShape 15"/>
            <p:cNvCxnSpPr>
              <a:stCxn id="433" idx="1"/>
              <a:endCxn id="429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1" name="AutoShape 16"/>
            <p:cNvCxnSpPr>
              <a:stCxn id="433" idx="3"/>
              <a:endCxn id="432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AutoShape 17"/>
            <p:cNvCxnSpPr>
              <a:stCxn id="434" idx="2"/>
              <a:endCxn id="431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43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comprensible si es fácil comprender cómo func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2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</a:t>
            </a:r>
            <a:br>
              <a:rPr sz="2400"/>
            </a:b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27C5-CB71-4D0C-B15A-6AEA6258027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Object 2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mantenible si es fácil modific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1D49-CCCA-472C-825B-EE8A44D8336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ject 2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3954-90CD-4F70-A120-5688C07D0C4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680" y="2819520"/>
            <a:ext cx="621504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correcto si se comporta de acuerdo con su espec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C2D6-A96B-4874-AFA7-C7534494923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se comporta de acuerdo con lo esperado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327" name="Oval 7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9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0"/>
          <p:cNvSpPr/>
          <p:nvPr/>
        </p:nvSpPr>
        <p:spPr>
          <a:xfrm>
            <a:off x="203760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Rectangle 13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38188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confiabilidad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3992-48BD-4814-9BBD-8B3556826D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ject 2" descr=""/>
          <p:cNvPicPr/>
          <p:nvPr/>
        </p:nvPicPr>
        <p:blipFill>
          <a:blip r:embed="rId1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57120" y="2500200"/>
            <a:ext cx="7786800" cy="378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de hardware son las situaciones más frecu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583A-FCA9-49C0-BD64-9CCDA7EF8B7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de software es eficiente si usa sus recursos en forma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Object 2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BEA5-8824-44A6-9DB4-994C957F708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amigable si sus usuarios lo encuentran fácil de uti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Object 2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06D-7626-493F-9D2A-32B1A290E17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es verificable si sus propiedades pueden ser comprob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CD03-37FA-46CC-A49F-27B20ED4C04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ject 2" descr=""/>
          <p:cNvPicPr/>
          <p:nvPr/>
        </p:nvPicPr>
        <p:blipFill>
          <a:blip r:embed="rId1"/>
          <a:stretch/>
        </p:blipFill>
        <p:spPr>
          <a:xfrm>
            <a:off x="7367760" y="1538280"/>
            <a:ext cx="1528560" cy="14619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Software ya construido se usa con pocos o ningún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DCC</cp:lastModifiedBy>
  <dcterms:modified xsi:type="dcterms:W3CDTF">2009-07-30T18:28:56Z</dcterms:modified>
  <cp:revision>8</cp:revision>
  <dc:subject/>
  <dc:title>CC31B – Desarrollo de Software de Aplicación</dc:title>
</cp:coreProperties>
</file>