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7.wmf" ContentType="image/x-wmf"/>
  <Override PartName="/ppt/media/image1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4.wmf" ContentType="image/x-wmf"/>
  <Override PartName="/ppt/media/image1.jpeg" ContentType="image/jpeg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F7B8-0086-44C4-AF0E-9B801DCC22C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D26E-1B10-4F12-B5D5-9366C0FCAAE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0E2F-46FD-4CB6-8EFF-843432F6523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0DE2-7D04-42EA-B44A-6F8D65F3280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168A-DC22-43F1-A84F-356F88D9638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C0DD-0309-4C7B-AB06-65200446D84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F854-2DC3-488B-9C01-72D6090E9F0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5F46-59B9-4158-AD59-FF6451495A2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7F6C-9EE9-4564-9BB8-82327EFB71E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D858-4337-49C9-94C6-CE6E86498EC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7C9B-E1B6-4830-8C40-83D4B665979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AC1E-67E2-427A-9A83-561FDD0D9F5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42BE-13F6-4228-AA1E-8FCDD3C2F7F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3B84-0B8B-48BF-A03F-B3AF44408F1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39A8-4857-45CD-8D6F-215096DB49C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E6D7-73CA-4342-A462-9D3E2A8D6B2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C913-4A5B-4607-BFA4-F3EEDCFA33A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4E05-9AE0-4265-A7CE-B9CF495FF48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9145-DE91-4FC2-941C-5FB5D11B214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B49-1357-4907-8282-53353FB3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568-091F-45E9-B82A-064EF9F6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532-F373-42BF-B2D5-72D74D94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9AD-510A-43FA-B4C4-18B88CFB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6AF1-FAB4-4C5C-A704-D3D3F55B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C12B-35B9-4D45-9AB1-EAAA7B9D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E787-02A2-43FA-8676-66830F1F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36D6-E4FA-46D9-8B4D-FC77C24E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3A91-51FF-4CF5-A30B-0367E2F0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2EF6-B3AC-48E0-965D-7BFD4219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F9E5-8562-4A65-8C7A-C6750C25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ED1-75C5-44EA-B6E7-897553F2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8E6A-16C2-4187-ACE0-53D2CC1C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0C33-9F75-4F7C-BC01-F11F9118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41D4-EA6D-4F0B-B0AB-51329EA3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4FA7-1655-4B28-AB41-4A52A023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20FD-1EAC-4181-9FA4-B3E1AD9F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5975-988E-4D5C-B740-8A90FF4E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EE20-9744-480A-8FD7-5AB5FAF1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45BD-D735-40CE-A49D-B44DED40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0271-3B5E-48ED-9854-1A79EC5A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0AA1-B747-4F21-883C-A0209BAE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3D9-3E77-4608-993F-7FB0DCE1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8248-22B9-42B2-91A1-3D0CA2AC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C338-DAB5-4B66-8301-1935D74D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42B0D-0323-4F9E-855E-BFA795B0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CCA7-501C-4C59-8AEC-16AEDA32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902B3-8709-4218-9042-A8F859E5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4C9A-E83A-4210-8B5C-B30A7ED3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5B96E-A069-42FD-85DE-6F77082F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DBEDB-0CB8-4CF2-9F7B-D32CC19D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EE412-5437-4E52-B801-E1F779D7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CBBAA-B53A-4290-B76C-0EED6079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AEA-E70F-47CD-821A-A3293B0D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DAED5-638F-4BCB-93D3-B840E8A0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DB373-C8D7-43AF-A68C-BCB73ED5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FEDA-A767-4184-9223-75EE66FA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72C96-D4D7-47E1-8CA4-B1702D4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4759-DF6D-4B61-9806-BA50238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C340-9D13-4F0B-8006-5C178B05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16FB-8B48-430C-9CDE-58EF649D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4E57-4115-4022-A374-D40B96A3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6DC58-2B17-429C-99B3-D8785A2E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BF17D-D75E-4F7F-9603-ED292768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360-6B68-45D8-908D-4286FF74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3840F-D6C8-4906-9B47-41E9A25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D598-4680-479C-BFB6-3DBDB44B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759A1-A38A-4FE7-8293-F8D0350D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D176E-EEE8-4FAE-A5DF-CDF7FBE0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06AD4-5D0C-43E1-B0B2-FFF79FCB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CD454-98F5-4565-9A30-464822DD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1D4FB-DEE3-48F3-8AEF-6E1AC6B1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13897-4CEE-403A-A40E-52D362BE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92C73-A97F-4B0C-BF37-7BA4D03D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45A40-F127-4F12-ACA5-72BE7B5B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E9D-D0C8-4F48-939D-A186A0C0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3C164-8C9F-45D2-8D0F-AF6D3C59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333A5-9A0E-4979-AFC3-EDB8E535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6B1D7-A726-4F50-9B3E-F6E0FDF6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C5A0B-20BE-4C92-AF15-1458F1F8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6974C-85E8-4B95-938A-5E14707E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D04FB-D94A-4A64-A780-75962270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7B707-ECAA-42CD-8CDA-49D9D09B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3FD3B-B827-47E8-AC4E-6C7599E0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E822-926D-4CE5-8579-1008CF28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0C0B6-0AF8-4DCF-8090-F75D5EF3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A1A-3FFD-4010-B64A-3823600F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D1684-ED95-400C-B734-7589CE61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F5137-EA78-450B-AE11-5E1685DB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B327-6C61-41E9-8193-B9C8BE65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CE049-61D7-4673-858D-8A5C06C7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B5A88-86CD-4522-9208-A8C0E037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28CCE-CFC8-49F5-BE06-B072FA26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BD5BD-5B76-47E3-A9BF-93B48ED4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C58C0-E5C9-464F-A940-80475223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20AE6-9BC8-4EF5-9692-80229CDD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251DE-E4EB-4C74-8AD1-8818E825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207-AFF2-407F-865A-171AD0BE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1A76F-79B6-4894-AB19-2FCA58D4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5C24B-4F6D-4137-8DAF-6A2312A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7CBA5-9487-40AD-9798-124F8105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CBDB6-D6BA-46B6-BC62-6023F477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D8393-29D8-4E76-A3EA-D242F4BC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F9E-F216-409D-93F7-06209CAB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4CC7-61B5-40F1-B9D2-17AF6E41DE9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CA2E-A662-4907-BA81-B635FC43D312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CEE4-1C8A-4035-B3F9-31826FCCE86D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BFB1-1FED-49F2-8F57-8BE415966AA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0C0D-6CB7-4A1E-B558-BC6163FC36E9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C7D6-E23D-4100-9243-4340137BFA7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BD61-9D96-42A3-89AC-36694355F774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1401840"/>
            <a:ext cx="8070840" cy="1347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Corbel"/>
              </a:rPr>
              <a:t>¿Qué es un buen software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AB4E-BF4B-45A1-9479-00D5C5668F9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Object 2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portable si puede ejecutarse en </a:t>
            </a:r>
            <a:br>
              <a:rPr sz="1800"/>
            </a:b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distintos ambientes (hardware, sistemas operativos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14240" y="28573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Una forma de lograr portabilidad es suponer la mínima configurac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Esto penaliza los sistemas que podrían ejecutar mejor haciendo uso del ambiente disponibl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Otra opción es determinar sobre la marcha las disponibilidades del ambien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0575-9D95-4DC9-93CB-B0456277106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ject 2" descr=""/>
          <p:cNvPicPr/>
          <p:nvPr/>
        </p:nvPicPr>
        <p:blipFill>
          <a:blip r:embed="rId1"/>
          <a:stretch/>
        </p:blipFill>
        <p:spPr>
          <a:xfrm>
            <a:off x="7732800" y="1539720"/>
            <a:ext cx="1268280" cy="16750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0"/>
          <p:cNvSpPr/>
          <p:nvPr/>
        </p:nvSpPr>
        <p:spPr>
          <a:xfrm>
            <a:off x="746280" y="1716120"/>
            <a:ext cx="68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istema es interoperable si puede coexistir y cooperar con otros sis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1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3000"/>
          </a:bodyPr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s componentes reutilizables son (deben ser) inherentemente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 estandarización de las interfaces promueve la interopera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os sistemas abiertos son casos típicos de sistemas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8184-90EC-4270-AA8F-79BE526C684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ject 2" descr=""/>
          <p:cNvPicPr/>
          <p:nvPr/>
        </p:nvPicPr>
        <p:blipFill>
          <a:blip r:embed="rId1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8"/>
          <p:cNvSpPr/>
          <p:nvPr/>
        </p:nvSpPr>
        <p:spPr>
          <a:xfrm>
            <a:off x="365040" y="1792440"/>
            <a:ext cx="67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La productividad es la eficiencia del proceso de desarrollo del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9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275256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productividad de un equipo de desarrollo es generalmente menor que la suma de las productividades individu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xisten métricas para medir la productividad (LOC, puntos de función, etc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automatización y el soporte de software de desarrollo aumen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7829-440E-4344-8C4D-3EF35CE01F1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Object 2" descr=""/>
          <p:cNvPicPr/>
          <p:nvPr/>
        </p:nvPicPr>
        <p:blipFill>
          <a:blip r:embed="rId1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1127160" y="1828800"/>
            <a:ext cx="595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0b5cc"/>
                </a:solidFill>
                <a:latin typeface="Arial"/>
              </a:rPr>
              <a:t>El proceso de desarrollo debe obtener su producto en el tiempo plan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7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14240" y="25718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el producto a tiempo da, en general, una mejor oportunidad comercial, y a veces hace que el producto sea útil o in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un producto a tiempo sin confiabilidad o eficiencia tampoco es 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Requier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stimación del trabaj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hitos verificab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4738-B7CC-4946-B437-5546AE86BA9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Object 3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7"/>
          <p:cNvSpPr/>
          <p:nvPr/>
        </p:nvSpPr>
        <p:spPr>
          <a:xfrm>
            <a:off x="365040" y="19447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1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14240" y="3071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iseño, testing, codificación e integración pueden suceder simultáneamente, pero deben coordin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visibilidad ayuda a evaluar el impacto de las decisio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ambién es esencial cuando existe rotación en el person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4A22-04B0-41FD-9717-88743794EC2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Medida de la relación entre las partes de una compo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incident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 relacionad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Lógica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funciones simi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empo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jecución simultán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Procedu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secuencia de contro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unica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arten el inpu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ecuenci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output de uno es input del otr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Fun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partes son necesarias para la fun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acciones actúan sobre los mismos datos del objet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A19A-6C8E-417A-B810-FFDA02CDCFA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871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muy 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arten variables o información de contro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des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interfaces definidas con listas de parámetr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6400800" y="1066680"/>
            <a:ext cx="2189160" cy="1810800"/>
            <a:chOff x="6400800" y="1066680"/>
            <a:chExt cx="2189160" cy="1810800"/>
          </a:xfrm>
        </p:grpSpPr>
        <p:sp>
          <p:nvSpPr>
            <p:cNvPr id="396" name="Rectangle 5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7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8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9"/>
            <p:cNvSpPr/>
            <p:nvPr/>
          </p:nvSpPr>
          <p:spPr>
            <a:xfrm>
              <a:off x="6449040" y="122544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7547400" y="12700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1"/>
            <p:cNvSpPr/>
            <p:nvPr/>
          </p:nvSpPr>
          <p:spPr>
            <a:xfrm>
              <a:off x="6449040" y="18828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2"/>
            <p:cNvSpPr/>
            <p:nvPr/>
          </p:nvSpPr>
          <p:spPr>
            <a:xfrm>
              <a:off x="7599960" y="18288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3"/>
            <p:cNvSpPr/>
            <p:nvPr/>
          </p:nvSpPr>
          <p:spPr>
            <a:xfrm>
              <a:off x="6901200" y="2357280"/>
              <a:ext cx="129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Arial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Arial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4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406" name="Rectangle 15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6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6609240" y="34290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6581520" y="373356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9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5537520" y="44956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5510160" y="48006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75920" y="44956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7648200" y="48006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7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9"/>
            <p:cNvSpPr/>
            <p:nvPr/>
          </p:nvSpPr>
          <p:spPr>
            <a:xfrm>
              <a:off x="5542560" y="57150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0"/>
            <p:cNvSpPr/>
            <p:nvPr/>
          </p:nvSpPr>
          <p:spPr>
            <a:xfrm>
              <a:off x="5514840" y="601956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AutoShape 31"/>
            <p:cNvCxnSpPr>
              <a:stCxn id="406" idx="2"/>
              <a:endCxn id="410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3" name="AutoShape 32"/>
            <p:cNvCxnSpPr>
              <a:stCxn id="409" idx="2"/>
              <a:endCxn id="414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33"/>
            <p:cNvCxnSpPr>
              <a:stCxn id="410" idx="2"/>
              <a:endCxn id="418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6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60b5cc"/>
                </a:solidFill>
                <a:latin typeface="Corbel"/>
              </a:rPr>
              <a:t>Medida de la interdependencia de distintas component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EFFF-CDAF-4390-9515-9D41FB3E020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2" descr=""/>
          <p:cNvPicPr/>
          <p:nvPr/>
        </p:nvPicPr>
        <p:blipFill>
          <a:blip r:embed="rId1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3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429" name="Rectangle 4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5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7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8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9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5" name="AutoShape 10"/>
            <p:cNvCxnSpPr>
              <a:stCxn id="429" idx="0"/>
              <a:endCxn id="434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AutoShape 11"/>
            <p:cNvCxnSpPr>
              <a:stCxn id="429" idx="2"/>
              <a:endCxn id="431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7" name="AutoShape 12"/>
            <p:cNvCxnSpPr>
              <a:stCxn id="429" idx="3"/>
              <a:endCxn id="432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8" name="AutoShape 13"/>
            <p:cNvCxnSpPr>
              <a:stCxn id="433" idx="0"/>
              <a:endCxn id="430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9" name="AutoShape 14"/>
            <p:cNvCxnSpPr>
              <a:stCxn id="431" idx="3"/>
              <a:endCxn id="432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0" name="AutoShape 15"/>
            <p:cNvCxnSpPr>
              <a:stCxn id="433" idx="1"/>
              <a:endCxn id="429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1" name="AutoShape 16"/>
            <p:cNvCxnSpPr>
              <a:stCxn id="433" idx="3"/>
              <a:endCxn id="432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2" name="AutoShape 17"/>
            <p:cNvCxnSpPr>
              <a:stCxn id="434" idx="2"/>
              <a:endCxn id="431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43" name="Rectangle 20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Un sistema es comprensible si es fácil comprender cómo func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Rectangle 2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28760" y="26427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aracterísticas que afectan la </a:t>
            </a:r>
            <a:br>
              <a:rPr sz="2400"/>
            </a:b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rensibilidad del sistem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BA60-1FAA-4864-9853-3F9233D56D8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Object 2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pic>
        <p:nvPicPr>
          <p:cNvPr id="448" name="Rectangle 3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Un sistema es mantenible si es fácil modific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0598-23D9-4F64-AD58-6D417B826E1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rrec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nfi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obus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ficient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mig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erific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ort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Interoper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roductiv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 Tiemp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i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hes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Desacoplad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mpre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Manten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Object 2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BF00-0B40-4454-9EB3-F9E153407CD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680" y="2819520"/>
            <a:ext cx="6215040" cy="3657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definición supon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xistencia de un especificación de requisi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posibilidad de determinar sin ambigüedad la correspondencia entre la especificación y el diseñ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orrectitud del software puede comprobarse probándolo o mediante análi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correcto si se comporta de acuerdo con su espec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854E-E08E-4AF3-B7CC-8AC391D0480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El software se comporta de acuerdo con lo esperado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327" name="Oval 7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8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9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10"/>
          <p:cNvSpPr/>
          <p:nvPr/>
        </p:nvSpPr>
        <p:spPr>
          <a:xfrm>
            <a:off x="203760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Rectangle 13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38188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A diferencia de la corrección, la confiabilidad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algo relativ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l mercado puede admitir algunos errores en el software siempre que en general se comporte en forma esper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No sólo no damos garantías de corrección del software, sino que varios productos incluyen un “disclaimer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6179-7B39-4065-9A9B-4D847EA6BAD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ject 2" descr=""/>
          <p:cNvPicPr/>
          <p:nvPr/>
        </p:nvPicPr>
        <p:blipFill>
          <a:blip r:embed="rId1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57120" y="2500200"/>
            <a:ext cx="7786800" cy="3786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atos de entrada incorrectos o fallas de hardware son las situaciones más frecu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antidad de código que se dedica a hacer el software robusto depende de la experiencia de los usuarios o lo crítico de su mis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Si algo se especifica como requisito, cumplirlo es cuestión de corrección; si no está en los requisitos es cuestión de robustez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C7F3-4892-4D94-A16B-61506C75A42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istema de software es eficiente si usa sus recursos en forma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50560" y="27208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356000" y="24922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Object 2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70F6-BB09-4904-8DD1-6E75B409E57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amigable si sus usuarios lo encuentran fácil de utili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95280" y="281952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interfaz con el usuario es parte esencial del ser amig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28195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Object 2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5BFA-148D-4B6E-843C-D46A246B15A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El software es verificable si sus propiedades pueden ser comprob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C241-E5DE-4967-8FF2-39FD588395B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Object 2" descr=""/>
          <p:cNvPicPr/>
          <p:nvPr/>
        </p:nvPicPr>
        <p:blipFill>
          <a:blip r:embed="rId1"/>
          <a:stretch/>
        </p:blipFill>
        <p:spPr>
          <a:xfrm>
            <a:off x="7367760" y="1538280"/>
            <a:ext cx="1528560" cy="146196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Software ya construido se usa con pocos o ningún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250560" y="270792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s bibliotecas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ervicios web son un caso actu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8320" y="2852280"/>
            <a:ext cx="4316400" cy="34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l reuso es una cualidad difícil 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DCC</cp:lastModifiedBy>
  <dcterms:modified xsi:type="dcterms:W3CDTF">2009-07-30T18:28:56Z</dcterms:modified>
  <cp:revision>8</cp:revision>
  <dc:subject/>
  <dc:title>CC31B – Desarrollo de Software de Aplicación</dc:title>
</cp:coreProperties>
</file>