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6E6E-A7F9-4AB3-8859-4C58A4F8F7D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3838-3416-40F5-9FAC-0E173626418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4D3C-BC67-489A-9E47-A3FAB8513BC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3378-AE71-4864-B775-452DF414373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A49B-5670-48DC-89D1-3E0B8A86205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A0FF-79C8-4181-9E6A-1DD29F8EBFF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835F-F8A0-41EF-8F33-4BB8D8D8207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4DE3-0FD1-413B-9253-02CB4A0B52C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754F-339C-4A42-A863-D563FC254B8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2844-D008-45A5-B8E3-3E0177E9247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5C5C-FABA-4418-92D1-F3AB2326CBA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F6D5-46CB-48CE-8B0F-2999E5A6B8F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2B6C-F182-40FD-8171-8D34A8884C4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8803-99F5-4F83-A85F-B2E3F1D9F87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0FC9-9508-4969-BE68-59D41319382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1E56-DE5C-4F70-AFC9-820C738835B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5150-6C20-417B-9AAD-9CE61A6EFE8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E738-31D5-42AD-A83C-2F26073E8B5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52B2-6C9E-47BB-9D78-58BD4000990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B121-457F-4DA1-BFE8-44EA8C66209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F518-53C8-4ADC-891F-C95FFD1B455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B27B-3BEA-4DCA-A024-0CC1ACC171D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4398-ECDA-4309-A31A-992F74B91C2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1DD0-BBE1-4FBB-9090-DCAA4452368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B44-2E1A-44A7-8921-37E8BA18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5052-0A7C-486F-A3A6-A7DD7C32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AD4-0092-40C1-AB56-74AA05B8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B70-7104-4AB6-A11F-8ECA0B95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78BC-4FFC-4ADC-8456-00296EDC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9653-CAD7-4328-B555-F7176667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CF1E-464E-4C87-B872-97FEEEEB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4AC8-801E-43B1-9063-D5B11A84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9433-3BF7-4A3B-9AA3-886AC22C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D7CB-A22E-4967-9BA3-C98F2B8D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3F10-1B14-4817-9E57-C7AD0516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AD1-969A-4CB9-B344-EB33808C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C209-A08A-40D2-9F55-F48672DD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CAC7-157B-4433-B88B-E91ACA6E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4098-9679-4CEB-9E10-0172EA19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FFCE-D76D-4698-9A6F-FE4D7AC8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DFE0-C8C6-44AE-8508-E24251B9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06ECD-0534-4992-9427-23BB8001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F7891-25D6-46B4-B80E-1FEA8C77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44BB1-27CD-4B5D-ACCD-0E7BFF16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472B3-AE9F-4F2B-8380-6A654F11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10A77-A000-4BB1-ACD1-D75DDCD2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2E2-DD4B-41E6-95F0-8840EF0B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84085-A26F-433A-95E2-9CECFC25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AD5DB-7FB5-478E-BC21-457EA5E3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4625F-7A56-47C6-A686-34566439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DB22B-BE96-4E97-9132-8D63E95A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F97D-77C8-466D-AD32-4E10B30B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232D8-3E5F-40AB-A73C-878493B2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CE396-62F0-4BBD-9376-85E88A9F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5FC62-FC04-48B5-B0DA-DC876948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5081D-FBEE-499E-8762-DFE88C3F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BE1FF-17CA-41EA-9060-BB29C953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16D-89E0-4F48-87CB-A2767A7E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1FE81-A9C6-41F9-AAE3-1BA6F9F8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E592C-FAD2-4F7B-BE0A-C3025333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335EF-AB6F-42F7-B2FA-56A5A4D0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B4D19-1293-4DFF-8903-2E4AB5E6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6F9F7-571A-4BA9-BCCE-C5E6C7F0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C8656-7BAE-4ACB-A934-0E0F2502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57554-2C59-4C51-A9DC-2BFD8853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0A81B-98AB-4102-AD42-904538B3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3A967-198B-4B88-9210-25FA81C1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BF07C-6136-4FC7-8D60-5A79F5B0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928-860E-416B-99C6-78B5D04D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AA968-9048-44F5-941B-68B909F2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25CF3-9482-4251-BA7A-A5B1ECB2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F2B0A-943A-42DF-BD6A-4F422A88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F1ED9-7372-490D-92DF-7411EBBB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87B87-34BD-4763-8C19-822FA418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59FDE-6A0A-4162-B61D-A3EA74D3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EE925-F1A1-42CD-B88A-3D270E95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1CE18-BD1D-4A13-BD8E-1F446104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2D3D8-8262-4900-B85A-70695CB3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D5B26-C329-4908-AB6D-0DD86AD1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284A-E1F7-4F0C-8BC3-118B8C39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784DD-4B02-4604-B8D6-FF0527CD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836AD-53D0-4DBF-B74A-54C70D4B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E552B-3A95-4A0F-8F9E-DD744640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FD567-0DCA-489B-AF94-9CBDF221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3BFDA-8944-413A-AA73-327A0949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D0CDE-83B2-4481-9F27-DE92BF73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76614-CE46-4D83-A067-F4F9C575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CD170-75D2-4EC9-A360-1D379536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B4B2F-DABC-40A6-AB4C-F07D1919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A6F8C-0371-4C81-AF12-0AAE9DD5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EC5-ED2F-4326-A054-B5DB3A09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EF2FE-FF39-4D3F-B3A7-8AA9DE9A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38DA4-8FA0-46B5-963C-8822590B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B61E9-92E0-467B-9108-8FED88B5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66FF6-DC96-443D-A40A-88B62148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D2027-386A-4D2F-BB7E-FE1B1951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8C267-E5A1-4F8F-9DD8-66B1DE87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BC91B-353C-47BE-BAC5-D100F49C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60442-DA08-4F99-8965-294BB3AD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71D09-F7B3-4347-B0D6-FD32C0B9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FBA66-BD2D-4199-9A8A-73DB5C5F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F92-0ECF-4C6B-A76A-44258045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6F8FD-FD37-42C3-8C1E-30CFD94E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3E43F-1EF7-4D3F-833B-ED31C04F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9CDA4-4B2F-4888-81EB-E55B4B74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B5712-F971-4B95-8EFA-3E8D27CB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4C2F5-D0F5-4EF8-B668-7655A726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DC4BA-F113-4A19-A484-9F72D354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31D87-8713-4976-83C1-1E4E6E1D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C63D5-9573-4712-8460-B3B605DE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0D876-EF3E-4011-9B77-683BC079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11705-7378-4E52-8585-0B81AA83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DDD-D6B8-462C-8EF5-E552F45C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27575-613C-4B6A-B525-F79FAC65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7DCF7-2957-4673-8CA7-94A81038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B5703-A29B-4704-971F-6E0B84A4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0784F-D19E-4533-B07F-1D235543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3EC56-1235-47D9-9756-7310192E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5FA0D-3F4F-4CF3-B0E2-2F20AF0D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9D397-7DE9-4404-BA8D-D569E492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68AD-0123-4FAF-B5D6-21B4C7CE11CA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7853-8593-4BCE-BA04-329089FF1F4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5F55-A125-4CD6-8762-352E030F858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204E-68D3-4976-8953-83CD7FD477C4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E2DA-3958-4396-BF0C-EFCDE6EEF696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1BF3-85BD-4B53-8CD7-BFB17DE20B6A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47E3-826A-4FBF-AB00-C5A121AE18D7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40CD-D781-4731-9F1E-DDA824D72041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rbel"/>
              </a:rPr>
              <a:t>Otoño 2009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3 CuadroTexto"/>
          <p:cNvSpPr/>
          <p:nvPr/>
        </p:nvSpPr>
        <p:spPr>
          <a:xfrm>
            <a:off x="2500200" y="5643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 Bastarric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@dcc.uchile.c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0D38-795F-433A-A158-0F19C1BC192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2" descr="BS00580_"/>
          <p:cNvPicPr/>
          <p:nvPr/>
        </p:nvPicPr>
        <p:blipFill>
          <a:blip r:embed="rId1"/>
          <a:stretch/>
        </p:blipFill>
        <p:spPr>
          <a:xfrm>
            <a:off x="6705720" y="1600200"/>
            <a:ext cx="2514600" cy="2119320"/>
          </a:xfrm>
          <a:prstGeom prst="rect">
            <a:avLst/>
          </a:prstGeom>
          <a:ln w="0">
            <a:noFill/>
          </a:ln>
        </p:spPr>
      </p:pic>
      <p:pic>
        <p:nvPicPr>
          <p:cNvPr id="382" name="Rectangle 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a ciencia de la computación se ocupa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e las teorías y métodos subyacentes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 las computadoras y los sistemas de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a ingeniería de software se refiere a los problemas prácticos de producir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Los ingenieros de software requieren conocimiento de ciencias de la computación para realizar su labor, pero su objetivo es pragmátic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6CDE-9504-47E9-B36B-DF2E27C8AEC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es así como se desarrolla habitualmente la práctica profesional? y ¿por qué sería conveniente que así fuer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A4A4-F433-4FA1-83A1-515830FA260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trucción de un software con múltiples versiones  por múltiples personas. [Parnas87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C53D-97BE-49C7-AAB1-430DDF98858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392" name="Rectangle 5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31B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51A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61A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5" name="AutoShape 8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6" name="AutoShape 9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0" name="Line 13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1" name="Line 14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403" name="Rectangle 1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S trata de organizar un buen proceso de desarrollo para lograr un buen product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FB09-28B3-4327-A2DA-75C273DE865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3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408" name="AutoShape 4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0" name="AutoShape 6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1" name="AutoShape 7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2" name="AutoShape 8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3" name="AutoShape 9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4" name="AutoShape 10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6" name="Text Box 12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20" name="Group 28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421" name="Oval 17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22" name="Group 19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423" name="Text Box 20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cxnSp>
            <p:nvCxnSpPr>
              <p:cNvPr id="424" name="AutoShape 21"/>
              <p:cNvCxnSpPr>
                <a:stCxn id="423" idx="2"/>
                <a:endCxn id="421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25" name="Group 29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426" name="Oval 16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428" name="Text Box 23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cxnSp>
            <p:nvCxnSpPr>
              <p:cNvPr id="429" name="AutoShape 24"/>
              <p:cNvCxnSpPr>
                <a:stCxn id="428" idx="0"/>
                <a:endCxn id="426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30" name="Group 30"/>
          <p:cNvGrpSpPr/>
          <p:nvPr/>
        </p:nvGrpSpPr>
        <p:grpSpPr>
          <a:xfrm>
            <a:off x="5724360" y="3429000"/>
            <a:ext cx="2969640" cy="1764000"/>
            <a:chOff x="5724360" y="3429000"/>
            <a:chExt cx="2969640" cy="1764000"/>
          </a:xfrm>
        </p:grpSpPr>
        <p:sp>
          <p:nvSpPr>
            <p:cNvPr id="431" name="Oval 18"/>
            <p:cNvSpPr/>
            <p:nvPr/>
          </p:nvSpPr>
          <p:spPr>
            <a:xfrm>
              <a:off x="5724360" y="3429000"/>
              <a:ext cx="722520" cy="57816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32" name="Group 25"/>
            <p:cNvGrpSpPr/>
            <p:nvPr/>
          </p:nvGrpSpPr>
          <p:grpSpPr>
            <a:xfrm>
              <a:off x="6340680" y="3935880"/>
              <a:ext cx="2353320" cy="1257120"/>
              <a:chOff x="6340680" y="3935880"/>
              <a:chExt cx="2353320" cy="1257120"/>
            </a:xfrm>
          </p:grpSpPr>
          <p:sp>
            <p:nvSpPr>
              <p:cNvPr id="433" name="Text Box 26"/>
              <p:cNvSpPr/>
              <p:nvPr/>
            </p:nvSpPr>
            <p:spPr>
              <a:xfrm>
                <a:off x="6607080" y="4368960"/>
                <a:ext cx="208692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algoritmos, estructuras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 datos, 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cxnSp>
            <p:nvCxnSpPr>
              <p:cNvPr id="434" name="AutoShape 27"/>
              <p:cNvCxnSpPr>
                <a:stCxn id="433" idx="0"/>
                <a:endCxn id="431" idx="5"/>
              </p:cNvCxnSpPr>
              <p:nvPr/>
            </p:nvCxnSpPr>
            <p:spPr>
              <a:xfrm flipH="1" flipV="1">
                <a:off x="6340680" y="3935880"/>
                <a:ext cx="1310040" cy="43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97F4-05BE-4862-BAE2-345CAC117BF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195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programadores escribían programa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incipio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xpertos desarrollaron grandes proye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Fine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parecen los grandes sistemas comerciales de softwar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l trabajo va más allá de la program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crea el término “ingeniería de software”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DF47-788A-4F31-A14E-A83ECBBD948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43" name="Object 2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7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Arquitecturas orientadas a servici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s basados en componen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Grid compu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 dirigidos por model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DC1A-E911-4AF0-928A-09C6F18D923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gramació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n solo programador escribe todo el progra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small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os programadores aprecian el sistema comple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 requiere más tiempo para comunicación que para cod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ambios de personal afec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1" name="Object 2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60C3-F28B-461B-B99C-E433C62C442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¿Para qué la Ingeniería de Softwa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construir grandes sistemas de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definir claramente los problema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large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dministración, organización, herramientas, teorías, metodologías y técnicas como base para resolver los problemas computacion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3DEC-6A6B-40C6-9245-A4EFD596561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átedra: Martes/4 y Jueves/4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uxiliar: Viernes/2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Dos controles de lecturas, dos controles de materia y un examen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A463-6928-4BC7-8643-9AF5062DCFA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4B82-FAE3-447E-A74F-784C913A1AB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341280" y="29844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0F42-89D2-4E39-913C-5378666E515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72" name="Group 10"/>
          <p:cNvGrpSpPr/>
          <p:nvPr/>
        </p:nvGrpSpPr>
        <p:grpSpPr>
          <a:xfrm>
            <a:off x="685800" y="5973840"/>
            <a:ext cx="7803000" cy="327240"/>
            <a:chOff x="685800" y="5973840"/>
            <a:chExt cx="7803000" cy="327240"/>
          </a:xfrm>
        </p:grpSpPr>
        <p:sp>
          <p:nvSpPr>
            <p:cNvPr id="473" name="Text Box 5"/>
            <p:cNvSpPr/>
            <p:nvPr/>
          </p:nvSpPr>
          <p:spPr>
            <a:xfrm>
              <a:off x="197748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74" name="AutoShape 6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475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desafío es desarrollar software de alta calidad 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8" name="14 Grupo" descr=""/>
          <p:cNvPicPr/>
          <p:nvPr/>
        </p:nvPicPr>
        <p:blipFill>
          <a:blip r:embed="rId2"/>
          <a:stretch/>
        </p:blipFill>
        <p:spPr>
          <a:xfrm>
            <a:off x="6907320" y="139680"/>
            <a:ext cx="18586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4C15-1D9C-4843-8F81-7CF79974442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0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6DBE-CA5D-4523-B45E-D48AD555F0B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Rectangle 5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4A61-FB10-4DB7-820B-64AFD84E77E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6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490" name="Rectangle 3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491" name="AutoShape 4"/>
            <p:cNvCxnSpPr>
              <a:stCxn id="492" idx="3"/>
              <a:endCxn id="493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4" name="AutoShape 5"/>
            <p:cNvCxnSpPr>
              <a:stCxn id="493" idx="3"/>
              <a:endCxn id="495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6" name="AutoShape 6"/>
            <p:cNvCxnSpPr>
              <a:stCxn id="490" idx="3"/>
              <a:endCxn id="497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8" name="AutoShape 7"/>
            <p:cNvCxnSpPr>
              <a:stCxn id="497" idx="3"/>
              <a:endCxn id="492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9" name="AutoShape 8"/>
            <p:cNvCxnSpPr>
              <a:endCxn id="490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Line 9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1" name="Line 10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2" name="Line 11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95" name="Rectangle 15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1AC9-303F-4AEA-9F7C-DE1E751996D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Los grupos de trabajo deberá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tener tres persona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cidirse antes del martes 5 de agosto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mandarme un mail informándome la conformación de los grupo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quien para el martes 4 no tenga grupo será asignado arbitrari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4A9F-AA1F-41E9-B091-DB891F2E9BE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role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es de lectura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 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0"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 5.5 de promedio en tareas </a:t>
            </a:r>
            <a:r>
              <a:rPr b="1" lang="es-CL" sz="3200" spc="-1" strike="noStrike">
                <a:solidFill>
                  <a:srgbClr val="000000"/>
                </a:solidFill>
                <a:latin typeface="Corbe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 5.5 en controles se puede eximi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3DBB-828F-4474-8769-72A1976567C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de Ingeniería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incipios y Cualidades del Software y su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Modelos de ciclo de vida del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Etapas del ciclo de vida del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spec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iseñ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verificación y valid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ceso de Desarroll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5192-FF3C-4C02-AFBB-C27E9C00A63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0b5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44D0-E24A-42CC-AE80-E29402E9877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14200" y="1856880"/>
            <a:ext cx="8786880" cy="4464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tecnolog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ciencia para la resolución de problemas práctic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ingenier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tecnología en presencia de recursos limitad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Pero, ¿qué es la ciencia y cuándo estamos aplicando la cienci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Cuerpo de doctrina metódicamente formado y ordenado, que constituye una rama particular del sab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Modelos de la realidad cuyo comportamiento es explicable y que permiten predecir el comportamiento de situaciones simila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94E7-24BD-4E24-A848-D652CFDEBA1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Entonces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para la construcción de software en presencia de recursos limit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qué es el software? y ¿qué ciencia se aplica en su construcció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9FEC-47B0-477B-AD12-C3DD368E8CC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8401320" cy="4857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ejecutables, de instalación, de re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requisitos, diseño, pruebas, código fuente, manuales de usuario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 de la aplicación, parámetros de 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DCC</cp:lastModifiedBy>
  <dcterms:modified xsi:type="dcterms:W3CDTF">2009-07-28T16:22:27Z</dcterms:modified>
  <cp:revision>4</cp:revision>
  <dc:subject/>
  <dc:title>CC31B – Desarrollo de Software de Aplicación</dc:title>
</cp:coreProperties>
</file>